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AD3-DCAF-44AA-BFDB-92D6406B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DAC-5D8A-4C5F-80C7-8DFE537F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C09-FB40-42F2-8BF9-8D035AA3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06E-5A1E-467E-A455-66A5E4B5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FFD-76E5-4419-80FE-EBCB3B31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7D3-98D6-4673-928B-ACD9A3FA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5D2-DEF2-4D4D-96A8-6E5BE04F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5B2-AC0D-421A-9E44-516F3C6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F75-3143-4018-AD40-96932962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B0B-1137-444E-B322-242C3909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44C-C221-41F0-B190-069BC62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BC0-C388-4FE3-BA61-09629CE1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6DF6-1109-4873-AFBF-846C15ED1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68616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«Письмо должно быть осмысленно 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для ребёнка, должно быть вызвано естественной  потребностью, надобностью, включено в жизненную , необходимую для ребёнка задачу. Только тогда мы можем быть уверены, что оно будет развиваться у ребёнка не как привычки руки и пальцев.»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                                                                                                Выготский Л.С.</a:t>
            </a:r>
            <a:br>
              <a:rPr sz="20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Методические рекомендации для родител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3640" y="67816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3073320" cy="2228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336920"/>
            <a:ext cx="2590920" cy="2200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428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Симптомы гиперактив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ыгает руками или ногами, крути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ожет усидеть на месте, когда это требуе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резмерно разговорч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сится или лезет куда – либо, когда это не разрешае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рудом может тихо игр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«заведён», «как будто внутри мото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6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Симптомы импульсив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аливает от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резмерно разговорч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рудом дожидается своей очере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рывает друг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шивается в чужой разгов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 гиперактивных детей эти симпто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постоян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54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Нарушения концентрации внимания является причиной трудностей в выполнении всех учебных заданий, в том числе письма и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вольствие, удовлетворение являются важным фактором организации психической деятельности ребёнка, оказывают на него стимулирующее вли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же всего гиперактивные дети выполняют задания, которые кажутся им скучными, трудными и не подкрепляются поощр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ремя занятий им сложно порой справится с заданием не потому, что они не способны их выполнить, а потому, что испытывают трудности в организации свое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69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Monotype Corsiva"/>
              </a:rPr>
              <a:t>Как помочь гиперактивному ребёнку осво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Monotype Corsiva"/>
              </a:rPr>
              <a:t>письмо и чт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сните со специалистами, действительно ли ребёнок гиперакти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итесь общаться со своим непосед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опускайте грубость, унижение, зл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  Не разговаривайте раздражённо, если вас отвлекает ребёнок между делом, просто извинит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  Ваша речь должна быть чёткой, неторопливой, а задание ясным и однозна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  Не начинайте говорить, пока не убедитесь, что ребёнок слушает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6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Для привлечения внимания используйте систему жестов, дополнительн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Обязательна работа «глаза в глаза», зрительный контакт помогает сосредото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Избегайте слов «Неправильно», «Не так», целесообразнее говорить «Попробуем сделать еще раз», «Уже лучше, я знаю, что у тебя всё получит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Не акцентируйте внимание ребёнка на неудаче,    он должен быть уверен, что успех возмо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 Необходимы подбадривание и поддержка по ходу выполнения, это придаёт им уверенность и стимулирует продолжени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Monotype Corsiva"/>
              </a:rPr>
              <a:t>Работа родителей с ребёнком, имеющим школьные проблем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щь родителей не должна ограничиваться только контролем за выполнением домашних заданий. Родители должны знать, как нужно организовать занятие, как взаимодействовать с ребён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Они должны соблюдать основные правила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пешное продвижение возможно лишь в том случае, если трудность и сложность заданий не увеличиваются, а уменьш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ать необходимо регулярно и ежедневно, но никогда по воскресеньям и на канику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инать занятия следует с 10 -15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инать занятия с игровых упра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аниматься, если ребёнок очень устал, утомлён или произошли какие – то особые собы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занятия должны быть включены задания, которые ребёнок обязательно сможет выполнить, или достаточно лёгкие, не вызывающие серьёзного напряжения. Это позволит ему настроится на успех, а родителям – использовать принцип положительного подкрепления: «Видишь, как хорошо всё получилось!», «У тебя сегодня хорошо всё получается», - и т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время длительных занятий через 15 минут обязательно должны быть паузы, упражнения на расслаб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54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Monotype Corsiva"/>
              </a:rPr>
              <a:t>Успех такой работы во многом зависит от того, сможет ли ребёнок поверить в свой успех, но сначала в это должны поверить взрослые, учитель и род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Причины трудност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7" name="_s7181"/>
            <p:cNvCxnSpPr>
              <a:stCxn id="48" idx="0"/>
              <a:endCxn id="49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0"/>
            <p:cNvCxnSpPr>
              <a:stCxn id="51" idx="0"/>
              <a:endCxn id="49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7179"/>
            <p:cNvCxnSpPr>
              <a:stCxn id="53" idx="0"/>
              <a:endCxn id="49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9" name="_s7175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3333ff"/>
                  </a:solidFill>
                  <a:latin typeface="Arial"/>
                </a:rPr>
                <a:t>Факторы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7176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неш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экзогенны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7177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меш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комплексные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7178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эндогенны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Monotype Corsiva"/>
              </a:rPr>
              <a:t>Внешние фак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лог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окульту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кольные факторы р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ст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интенсивность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неадекватность требований и м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Monotype Corsiva"/>
              </a:rPr>
              <a:t>Смешанные фак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вичная неграмо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ункциональная неграмо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ые группы р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асто болеющи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длитель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иперактив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воруки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ти из социально неблагополучных сем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Monotype Corsiva"/>
              </a:rPr>
              <a:t>Внутренние факторы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не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ушения пре- и постнатальн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ушения нейросенсорн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исфункции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сформированность коры голов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зрастная несформированность познавательн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Monotype Corsiva"/>
              </a:rPr>
              <a:t>Трудности обучения письму и чтению медлительных дет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лительный ребёнок – это особенность организации  высшей нервной деятельности, определяющие темп и скорость движений, письма,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ропить, подгонять такого ребёнка не   только бесполезно, но и вред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рицательно сказывается ограничение времени на отдых, поскольку не успевает сделать задания на у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йственна трудность быстрого     переключения на новый вид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школьные нагрузки утомительны. После школы лучше быть дома в спокойной обстановке. Продлёнка – не для медлительных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ая трудность «что и как писать» возникает в силу того, что они просто не могут успеть воспринять информацию, успеть переключиться с друг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ы не имеем права требовать от ребёнка читать намного быстрее, чем он мо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26478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Monotype Corsiva"/>
              </a:rPr>
              <a:t>Трудности обучения письму и чтению гиперактивных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активность – это повышенная, чрезмерная активность детей, которая сочетается с трудностями концентрации внимания и импульс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того, чтобы родители имели представление о том, какие нарушения поведения ребёнка характеризуют как невнимательность, гиперактивность и импульсивность, приведём классическое описание этих симп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7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3333ff"/>
                </a:solidFill>
                <a:latin typeface="Monotype Corsiva"/>
              </a:rPr>
              <a:t>Симптомы невнима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достаточно внимателен к дета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трудом удерживает вним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бы не слушает говорящ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может довести дело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трудом организует свою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гает выполнения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яет предм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лекается на внешние раздражи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ё заб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17T12:01:5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