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D6B-560B-4DEC-8219-8FEBB11D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ED5-A3F2-4850-809F-FADDF1DA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ECA-4476-4147-8991-EE0DDB2E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E92-1837-4D11-BF10-0F12392E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7171-9631-40A0-8F7E-6B2FF551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95A8-AB3E-4162-9EDD-84205A62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72EB-CF09-4BAF-9812-B2372174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69EA-6D91-47CF-9CB9-5F98964C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A832-66B1-407C-80FD-C27BCF76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6CE0-AC3C-4A31-B71C-B8B4B39E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E455-8673-4D22-B42B-DCE64D8F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861-50B2-486B-AA1F-FF299477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C621-00CB-47ED-92C6-EAD660A5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EFF7-5229-4163-9A55-7AC30C1A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9FF6-B193-417F-ACBD-5FC3D11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E586-3D30-49E0-8C9C-07AEBF60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92E2-E63A-49F5-B484-C6DDC2E6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254-A3BC-42E1-BDC9-70FEBD65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C37-EB2F-452E-8D57-874D2DA5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C33-D53D-4C93-8AE2-BDC4CC4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00B-A1B2-413B-846F-B56B5261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CF4-494C-4991-B8E6-6554D1E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043-14BB-4223-9D8C-400030D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9F9-496B-462F-905A-23072EE5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CC0E-0AD5-4BBB-B80F-E05E238A31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9810-CE39-4D28-A85C-DF4E46176A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8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рок математики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Сложение и вычитание в пределах 20. Закрепление»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 класс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МК: «Школа 2100»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5013360"/>
            <a:ext cx="6032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втор: Евсейцева Светлана Геннадьевн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МОБУ Талаканской СОШ №6, п. Талакан, Амурской обла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и уравн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+5=15             Х+7=17           19-Х=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реш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Х+5=15        Х+7=17       19-Х=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Х=15–5        Х=17-7        Х=19-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Х=10           Х=10           Х=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19928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-3+4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4+2-0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-8-0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6+2+1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+5-1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8-2-3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-5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10-5+0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-4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3573360"/>
            <a:ext cx="5184720" cy="1079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     4      6      8        9        1       3       5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4221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2400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2764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357336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решкова В.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1164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35280" y="1484280"/>
            <a:ext cx="86364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2276640"/>
            <a:ext cx="863640" cy="129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5280" y="3573360"/>
            <a:ext cx="86364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3573360"/>
            <a:ext cx="792000" cy="719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1097640" y="3518640"/>
            <a:ext cx="719280" cy="828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92720" y="1341360"/>
            <a:ext cx="863640" cy="79236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2133720"/>
            <a:ext cx="86364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92720" y="2852640"/>
            <a:ext cx="863640" cy="1297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4482360" y="3374280"/>
            <a:ext cx="719280" cy="82872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3429000"/>
            <a:ext cx="792000" cy="71928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7280" y="260280"/>
            <a:ext cx="853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http://space4you.narod.ru/first.h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2492280"/>
            <a:ext cx="4911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урнал «Огонёк», год неизвес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49320"/>
            <a:ext cx="939636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32000" y="2708280"/>
            <a:ext cx="6476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84360" y="2708280"/>
            <a:ext cx="7207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80000" y="2708280"/>
            <a:ext cx="6476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859280" y="2708280"/>
            <a:ext cx="6476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888" t="794" r="0" b="5279"/>
          <a:stretch/>
        </p:blipFill>
        <p:spPr>
          <a:xfrm>
            <a:off x="539640" y="260280"/>
            <a:ext cx="81360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920" y="2133720"/>
            <a:ext cx="698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гарин Ю.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581" t="19317" r="0" b="0"/>
          <a:stretch/>
        </p:blipFill>
        <p:spPr>
          <a:xfrm>
            <a:off x="611280" y="189000"/>
            <a:ext cx="7921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332000" y="907920"/>
            <a:ext cx="6264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+5+3=13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+3+2=1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-0-5=9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-4+3=7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-2+4=14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елка и Стрел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207" t="2612" r="5479" b="2584"/>
          <a:stretch/>
        </p:blipFill>
        <p:spPr>
          <a:xfrm>
            <a:off x="395280" y="1052640"/>
            <a:ext cx="8353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космосе побывало 5 собак, а мышей на 4 больш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олько всего собак и мышей было в космос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хема задач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.                             4               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.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27082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2781360"/>
            <a:ext cx="25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7082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2565360"/>
            <a:ext cx="2519280" cy="168480"/>
          </a:xfrm>
          <a:custGeom>
            <a:avLst/>
            <a:gdLst/>
            <a:ahLst/>
            <a:rect l="l" t="t" r="r" b="b"/>
            <a:pathLst>
              <a:path w="1587" h="106">
                <a:moveTo>
                  <a:pt x="0" y="106"/>
                </a:moveTo>
                <a:cubicBezTo>
                  <a:pt x="26" y="68"/>
                  <a:pt x="53" y="30"/>
                  <a:pt x="181" y="15"/>
                </a:cubicBezTo>
                <a:cubicBezTo>
                  <a:pt x="309" y="0"/>
                  <a:pt x="582" y="15"/>
                  <a:pt x="771" y="15"/>
                </a:cubicBezTo>
                <a:cubicBezTo>
                  <a:pt x="960" y="15"/>
                  <a:pt x="1179" y="0"/>
                  <a:pt x="1315" y="15"/>
                </a:cubicBezTo>
                <a:cubicBezTo>
                  <a:pt x="1451" y="30"/>
                  <a:pt x="1542" y="91"/>
                  <a:pt x="1587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357720"/>
            <a:ext cx="403236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3357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36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3213000"/>
            <a:ext cx="1511280" cy="168480"/>
          </a:xfrm>
          <a:custGeom>
            <a:avLst/>
            <a:gdLst/>
            <a:ahLst/>
            <a:rect l="l" t="t" r="r" b="b"/>
            <a:pathLst>
              <a:path w="952" h="106">
                <a:moveTo>
                  <a:pt x="0" y="106"/>
                </a:moveTo>
                <a:cubicBezTo>
                  <a:pt x="8" y="68"/>
                  <a:pt x="16" y="30"/>
                  <a:pt x="91" y="15"/>
                </a:cubicBezTo>
                <a:cubicBezTo>
                  <a:pt x="166" y="0"/>
                  <a:pt x="340" y="15"/>
                  <a:pt x="453" y="15"/>
                </a:cubicBezTo>
                <a:cubicBezTo>
                  <a:pt x="566" y="15"/>
                  <a:pt x="688" y="0"/>
                  <a:pt x="771" y="15"/>
                </a:cubicBezTo>
                <a:cubicBezTo>
                  <a:pt x="854" y="30"/>
                  <a:pt x="922" y="91"/>
                  <a:pt x="952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3357720"/>
            <a:ext cx="4032360" cy="239400"/>
          </a:xfrm>
          <a:custGeom>
            <a:avLst/>
            <a:gdLst/>
            <a:ahLst/>
            <a:rect l="l" t="t" r="r" b="b"/>
            <a:pathLst>
              <a:path w="2540" h="151">
                <a:moveTo>
                  <a:pt x="0" y="0"/>
                </a:moveTo>
                <a:cubicBezTo>
                  <a:pt x="72" y="33"/>
                  <a:pt x="144" y="67"/>
                  <a:pt x="409" y="90"/>
                </a:cubicBezTo>
                <a:cubicBezTo>
                  <a:pt x="674" y="113"/>
                  <a:pt x="1271" y="128"/>
                  <a:pt x="1588" y="136"/>
                </a:cubicBezTo>
                <a:cubicBezTo>
                  <a:pt x="1905" y="144"/>
                  <a:pt x="2155" y="151"/>
                  <a:pt x="2314" y="136"/>
                </a:cubicBezTo>
                <a:cubicBezTo>
                  <a:pt x="2473" y="121"/>
                  <a:pt x="2502" y="60"/>
                  <a:pt x="2540" y="4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03880" y="1833480"/>
            <a:ext cx="612720" cy="2424240"/>
          </a:xfrm>
          <a:custGeom>
            <a:avLst/>
            <a:gdLst/>
            <a:ahLst/>
            <a:rect l="l" t="t" r="r" b="b"/>
            <a:pathLst>
              <a:path w="386" h="1527">
                <a:moveTo>
                  <a:pt x="61" y="7"/>
                </a:moveTo>
                <a:cubicBezTo>
                  <a:pt x="94" y="3"/>
                  <a:pt x="128" y="0"/>
                  <a:pt x="151" y="98"/>
                </a:cubicBezTo>
                <a:cubicBezTo>
                  <a:pt x="174" y="196"/>
                  <a:pt x="159" y="506"/>
                  <a:pt x="197" y="597"/>
                </a:cubicBezTo>
                <a:cubicBezTo>
                  <a:pt x="235" y="688"/>
                  <a:pt x="386" y="627"/>
                  <a:pt x="378" y="642"/>
                </a:cubicBezTo>
                <a:cubicBezTo>
                  <a:pt x="370" y="657"/>
                  <a:pt x="189" y="619"/>
                  <a:pt x="151" y="687"/>
                </a:cubicBezTo>
                <a:cubicBezTo>
                  <a:pt x="113" y="755"/>
                  <a:pt x="151" y="921"/>
                  <a:pt x="151" y="1050"/>
                </a:cubicBezTo>
                <a:cubicBezTo>
                  <a:pt x="151" y="1179"/>
                  <a:pt x="174" y="1391"/>
                  <a:pt x="151" y="1459"/>
                </a:cubicBezTo>
                <a:cubicBezTo>
                  <a:pt x="128" y="1527"/>
                  <a:pt x="30" y="1459"/>
                  <a:pt x="15" y="1459"/>
                </a:cubicBezTo>
                <a:cubicBezTo>
                  <a:pt x="0" y="1459"/>
                  <a:pt x="30" y="1459"/>
                  <a:pt x="61" y="14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9:47:37Z</dcterms:created>
  <dc:creator>User_Mk</dc:creator>
  <dc:description/>
  <dc:language>en-US</dc:language>
  <cp:lastModifiedBy>1</cp:lastModifiedBy>
  <dcterms:modified xsi:type="dcterms:W3CDTF">2012-10-20T09:23:18Z</dcterms:modified>
  <cp:revision>11</cp:revision>
  <dc:subject/>
  <dc:title>Слайд 1</dc:title>
</cp:coreProperties>
</file>