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png" ContentType="image/pn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29E-A385-4FC3-8EC5-70F22290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8DA-73F8-4E4E-A3BD-AED03A8F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69D0-E789-4232-971F-2744D110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7944-6685-4418-9EA8-1C5402AE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FF5E-89A6-4A38-BD15-FBF45F5F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8986-B035-4F71-88BD-72C8EC2C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421-BAC3-4963-8DBA-0691EA23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FDAB-30FD-4D7D-802D-A4D1FBEC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E1CF-EF55-48E9-9E1C-C094C916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23DA-14D1-4CBB-ABED-190A765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45C6-367C-4953-84EA-DACB317A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855-85E4-4EC3-BC2E-AC814F9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392E-EBD7-4C58-9687-4883D765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28F4-A604-492B-93DC-85ED4B0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4F82-673B-4934-A8EB-D555DA8E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CB4-FF97-4F08-AD68-9D1ECB4C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F61D-29DD-4AF8-87E7-AD8AF083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32802-15C9-4B9A-9B01-2FD304FD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3BF2B-32C8-4CEA-B0BF-9EF1497A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8C69-0098-4E11-8232-C6AC6F8A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C7E40-0F2E-4664-AE83-0EC74E52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EA4E4-AF0B-4808-9D19-F1927438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05D-5B2B-4561-9324-27962610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468E-73F6-486E-BDF2-D3680362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A0BB4-0A40-4B13-B71F-95BC86B7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9930-9967-4997-92E1-05FD54F5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6504-7B30-45D6-A07C-772F276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3FFDC-752B-4714-BD3D-9BE53368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969F-31FE-4510-91CF-FF22EFC8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8D9A-E4A1-46C1-9753-844656234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5D6-E402-4222-B278-F621A6D8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12A-AD9B-4527-B0F5-ADE5A16F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0FE-61CC-47E8-9A4D-C3DF90A4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27B-2A99-4CEA-96A1-59CA0E5D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6D07-CF41-403B-ADDB-ECA3A43F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42D-CCB8-49D5-816C-351EDD0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4735-6C72-477E-83FF-189669E44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D782-89D4-4719-BAB3-9186D3B050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9AF5-A9AD-438F-9696-8309ABD3F7C2}" type="slidenum">
              <a:rPr b="0" lang="ru-RU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80"/>
                </a:solidFill>
                <a:latin typeface="Arial"/>
              </a:rPr>
              <a:t>Урок по русскому языку в 6 классе по тем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«Что за ПРЕлесть эти ПРИставки!.»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учитель: Бусс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Нина Ивановн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МБОУ «СОШ №37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Г.Выбо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еще кот"/>
          <p:cNvPicPr/>
          <p:nvPr/>
        </p:nvPicPr>
        <p:blipFill>
          <a:blip r:embed="rId1"/>
          <a:stretch/>
        </p:blipFill>
        <p:spPr>
          <a:xfrm>
            <a:off x="324000" y="3284640"/>
            <a:ext cx="251928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Замените словосочетания словом с приставкой </a:t>
            </a:r>
            <a:r>
              <a:rPr b="1" i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ПР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Очень скверный, оч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гадкий, очень неприят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очень хорошен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40328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404640"/>
            <a:ext cx="8229600" cy="5794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дых наш - физкультминутка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имай свои мест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 присели, два - привстали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ки кверху все подняли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ли, встали, сели, встал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нькой- встанькой словно стали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потом пустились вскачь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ловно мой упругий мяч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Спишите, выделите приставки в тех словах, где они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413000"/>
            <a:ext cx="80280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ать пр..станища, найти пр..бежище, пр..одолеть  все пр..грады и пр..пятствия, пр..небрегать советами, пр..градить дорогу, пр..сечь ненужные разговоры, дать пр..сягу, сделать пр..вивку, вступить в пр..рекания, пр..мирить спорящих, пр..мерить пальто, пр..сутствовать на собрании, пр..одолеть страх, пр..выкнуть к условия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250" autoRev="1" fill="remov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8" dur="250" autoRev="1" fill="remov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9" dur="250" autoRev="1" fill="remov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«Проверь себ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кать 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ища, найти пр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жищ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одолеть  все пр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.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грады и 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пятств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брегать советами, 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градить дорог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сечь ненужные разговоры, д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ягу, сделать пр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вку, вступить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кания, 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мирить спорящи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мерить пальто, 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сутствовать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рании, 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одолеть страх, пр.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выкнуть к условиям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6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C:\Documents and Settings\1\Рабочий стол\Фото\84d0d29e6c40cbb5683c3d1cce783572.gif"/>
          <p:cNvPicPr/>
          <p:nvPr/>
        </p:nvPicPr>
        <p:blipFill>
          <a:blip r:embed="rId2"/>
          <a:stretch/>
        </p:blipFill>
        <p:spPr>
          <a:xfrm rot="21195000">
            <a:off x="250920" y="260280"/>
            <a:ext cx="1481040" cy="154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0" y="333360"/>
            <a:ext cx="85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амооценка настроения в конце рабо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1116000" y="2492280"/>
            <a:ext cx="7343640" cy="12178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1042920" y="3860640"/>
            <a:ext cx="7921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А           Б         В          Г        Д            Е       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ff"/>
                </a:solidFill>
                <a:latin typeface="Times New Roman"/>
              </a:rPr>
              <a:t>Ваше настроение, с которым Вы закончили работу над задани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j0318056"/>
          <p:cNvPicPr/>
          <p:nvPr/>
        </p:nvPicPr>
        <p:blipFill>
          <a:blip r:embed="rId4"/>
          <a:stretch/>
        </p:blipFill>
        <p:spPr>
          <a:xfrm flipH="1" rot="19038000">
            <a:off x="6803640" y="5660280"/>
            <a:ext cx="824040" cy="514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j0283572"/>
          <p:cNvPicPr/>
          <p:nvPr/>
        </p:nvPicPr>
        <p:blipFill>
          <a:blip r:embed="rId5"/>
          <a:stretch/>
        </p:blipFill>
        <p:spPr>
          <a:xfrm rot="18243600">
            <a:off x="5459760" y="5780520"/>
            <a:ext cx="814320" cy="57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  <p:sndAc>
      <p:stSnd>
        <p:snd r:embed="rId6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  <p:sndAc>
      <p:stSnd>
        <p:snd r:embed="rId1" name="chimes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1587600"/>
                <a:tab algn="l" pos="2705040"/>
                <a:tab algn="ctr" pos="3102120"/>
                <a:tab algn="l" pos="3746520"/>
                <a:tab algn="l" pos="527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Tahoma"/>
              </a:rPr>
              <a:t>Самооценка настроения в начале работы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847200" cy="981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1258920" y="2722680"/>
            <a:ext cx="6815160" cy="1420560"/>
          </a:xfrm>
          <a:prstGeom prst="rect">
            <a:avLst/>
          </a:prstGeom>
          <a:ln w="0">
            <a:noFill/>
          </a:ln>
        </p:spPr>
      </p:pic>
    </p:spTree>
  </p:cSld>
  <p:transition spd="med">
    <p:fad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Объясните смысл пословиц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Объект 2" descr=""/>
          <p:cNvPicPr/>
          <p:nvPr/>
        </p:nvPicPr>
        <p:blipFill>
          <a:blip r:embed="rId1"/>
          <a:stretch/>
        </p:blipFill>
        <p:spPr>
          <a:xfrm>
            <a:off x="55440" y="1414440"/>
            <a:ext cx="8631360" cy="471168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830E-3498-4564-8BB4-DD1AB3ADAF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Arial"/>
              </a:rPr>
              <a:t>Гласные в приставках ПРЕ – и ПРИ -</a:t>
            </a:r>
            <a:r>
              <a:rPr b="1" i="1" lang="ru-RU" sz="4000" spc="-1" strike="noStrike" u="sng">
                <a:solidFill>
                  <a:srgbClr val="7030a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Выпишите только те слова, которые не имеют </a:t>
            </a:r>
            <a:r>
              <a:rPr b="1" lang="ru-RU" sz="2800" spc="-1" strike="noStrike" u="sng">
                <a:solidFill>
                  <a:srgbClr val="800080"/>
                </a:solidFill>
                <a:uFillTx/>
                <a:latin typeface="Arial"/>
              </a:rPr>
              <a:t>значения приближения</a:t>
            </a:r>
            <a:r>
              <a:rPr b="0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, выделите приставки, запомните их напис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риобрел, приехать, притеч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ризнать, прискака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рикатиться, присмире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ридум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Определите, какое из данных значений слов неправильно. Выпишите эти слова, запомните их напис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97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1)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риколол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– присоединил булав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2)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рилежание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– присоединение к лежа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3) 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ридрался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– присоединился  драк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4)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рипаял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 – присоединил паяльником. 5)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риключение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– присоединение к клю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6).</a:t>
            </a:r>
            <a:r>
              <a:rPr b="1" i="1" lang="ru-RU" sz="2800" spc="-1" strike="noStrike" u="sng">
                <a:solidFill>
                  <a:srgbClr val="009900"/>
                </a:solidFill>
                <a:uFillTx/>
                <a:latin typeface="Arial"/>
              </a:rPr>
              <a:t>Приголубил </a:t>
            </a: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– присоединил к голуб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Замените данные словосочетания одним словом, запишите, определите значение пристав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(Присоединить) с помощью веревки, с помощью молотка и гвоздей, с помощью иголки с ниткой, с помощью клея, с помощью винтов и шуру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Участок при школе, край при море, крапива при дороге, постройка при станции, огород при усадьбе, поселок при го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Из данных отрывков выпишите только те слова с приставкой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РИ</a:t>
            </a:r>
            <a:r>
              <a:rPr b="0" i="1" lang="ru-RU" sz="2800" spc="-1" strike="noStrike" u="sng">
                <a:solidFill>
                  <a:srgbClr val="7030a0"/>
                </a:solidFill>
                <a:uFillTx/>
                <a:latin typeface="Arial"/>
              </a:rPr>
              <a:t>- ,которые обозначают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иближение</a:t>
            </a:r>
            <a:r>
              <a:rPr b="0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или </a:t>
            </a:r>
            <a:r>
              <a:rPr b="1" i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присоедин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2781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коро ночь, Иван, начне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И тебе стеречь придетс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Втихомолку примеч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а смотри же, не зев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До восхода, слышь, зар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летят сюда Жар – птиц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Тут надел он свой кафта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пояской подвяза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умылся, причесал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нут свой сбоку прицеп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ловно утица поплы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(П.Ерш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 u="sng">
                <a:solidFill>
                  <a:srgbClr val="7030a0"/>
                </a:solidFill>
                <a:uFillTx/>
                <a:latin typeface="Arial"/>
              </a:rPr>
              <a:t>Замените словосочетания словом с приставкой</a:t>
            </a:r>
            <a:r>
              <a:rPr b="1" i="1" lang="ru-RU" sz="35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3500" spc="-1" strike="noStrike">
                <a:solidFill>
                  <a:srgbClr val="ff3300"/>
                </a:solidFill>
                <a:latin typeface="Arial"/>
              </a:rPr>
              <a:t>ПРИ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Немного поднял, не совс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открыл, немного хром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слегка коснулся, ненадол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лег, ненадолго затормози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660066"/>
                </a:solidFill>
                <a:latin typeface="Arial"/>
              </a:rPr>
              <a:t>не совсем заглуш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0:49:43Z</dcterms:created>
  <dc:creator>Люба</dc:creator>
  <dc:description/>
  <dc:language>en-US</dc:language>
  <cp:lastModifiedBy>user</cp:lastModifiedBy>
  <dcterms:modified xsi:type="dcterms:W3CDTF">2013-12-01T18:59:10Z</dcterms:modified>
  <cp:revision>26</cp:revision>
  <dc:subject/>
  <dc:title>Слайд 1</dc:title>
</cp:coreProperties>
</file>