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D20-131E-4C9C-89A0-D8B3BA77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D1C-A3CD-4D17-8B32-73CB5085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E84-F633-4DC4-83C9-AC8361AC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19C-6B19-448A-920D-605084B2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3C24-EBF6-40B2-90C8-A28F4AB8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FE44-00E5-4949-83AA-7218DB03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5982-9389-48D7-A041-4C2970EC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6539-DF54-417A-BADE-6BC39BF7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3B14-42DD-488D-98D6-18A1DD91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1A96-8664-4D31-89E6-3BE72C1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6E28-B092-438B-9746-8688288E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A43-1CE2-43D0-889A-6E1A2E98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F77F-F037-48AB-8583-48C213B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E977-24A2-4540-A7E0-619497E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773F-C81E-4015-8881-BB2A92CE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B704-6731-4A30-A40F-0318C4B9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973C-7FCB-4619-B30C-865C1D00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075-1FD5-4AD8-BF48-653EB382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760-7652-4551-8309-4911FAA5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91E-11BE-4F76-9B4A-793F9679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DB3-514C-4A55-9C05-A33DDA4F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5D6-BA08-414E-BC53-958E271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7A7-DEAB-46AC-BE69-5D101C4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5AF-A1B0-42CD-BED5-0C99209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240C-2432-42A8-9B2C-F8C5007396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2AE7-6446-4C22-A46B-7A398ED6DE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Способы выражения сказуемого. Часть 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СЛОЖНОЙ ФОРМОЙ БУДУЩЕГО ВРЕМЕН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ь вечер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дет игр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егодня 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ду чит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сю н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дешь участвов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 конкур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дем поддержив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ФИНИТИВОМ (НФГ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цариц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охота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плечам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жимать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мигива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глаз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щелкива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ерстам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ГЛАГОЛЬНОЙ ФОРМОЙ МЕЖДОМЕТ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 двери кто-т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вя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 коль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т мужу подвели коня... Он холк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ва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 в стремя н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ыг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 окна – и был та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ГЛАГОЛЬНЫМ ФРАЗЕОЛОГИЧЕСКИМ ОБОРОТОМ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ветухин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спуска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 Лизы. (смотре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бята весь ден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ли баклуш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(бездельнича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ъявил соглас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нять меня завтра. (согласил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держали побед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 этом состязании. (победи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ссийские спортсмен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няли участ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 олимпиаде. (участвова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ПРЯГАЕМОЙ ФОРМОЙ ГЛАГОЛА..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..в сочетании  с частицами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, ЗНА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 СЕБЕ, ТАК И, КАК, КАК БУДТО, СЛО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мясь скукой, Григорий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шёл был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уман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будто расходитс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ОВТОРЯЮЩИМИСЯ ГЛАГОЛАМ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с частицами 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НЕ, ТАК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орят, споря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а проку м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епан – он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дарит так удари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итать не читает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а книгу берё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ители теб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дут не дождутс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СОЧЕТАНИЕМ ДВУХ РАЗНЫХ ГЛАГОЛОВ..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..в одинаковой спрягаемой форме, пер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которых обозначает ДЕЙСТВИЕ, а вт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ывает на его Ц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йду сним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бельё с верё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 ты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зьми и спрос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ям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итай ещё!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(в отдельных презентациях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ы выражения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ОСТАВНОГО ГЛАГОЛЬНОГО СКАЗУЕМ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ы выражения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ОСТАВНОГО ИМЕННОГО СКАЗУЕМ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слеслов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Жела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у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на экзамен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ebe92cb4e5e3"/>
          <p:cNvPicPr/>
          <p:nvPr/>
        </p:nvPicPr>
        <p:blipFill>
          <a:blip r:embed="rId1"/>
          <a:stretch/>
        </p:blipFill>
        <p:spPr>
          <a:xfrm>
            <a:off x="5076720" y="1700280"/>
            <a:ext cx="3497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ислов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презентация поможет вам подготовить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ю тестовых задан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как они сформулированы в т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3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Выпишите грамматическую основу предложения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6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Укажите количество грамматических основ в предложении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то такое «грамматическая основа предложения»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сновная часть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щая из его главных член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одлежаще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казуем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 —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го из н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«сказуемое»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главный чл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ложения, который грамматически зависит от подлежа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означает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действие, состояние, призн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сущие подлежащ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вечает на вопросы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ЧТО ДЕЛАЕТ ПРЕДМЕТ? ЧТО С НИМ ПРОИСХОДИТ? КАКОВ ОН? ЧТО ОН ТАКОЕ? КТО ОН ТАКОЙ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сказуемог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912960" y="2060640"/>
            <a:ext cx="7703280" cy="3991680"/>
            <a:chOff x="912960" y="2060640"/>
            <a:chExt cx="7703280" cy="3991680"/>
          </a:xfrm>
        </p:grpSpPr>
        <p:cxnSp>
          <p:nvCxnSpPr>
            <p:cNvPr id="107" name="_s1028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3840120" y="4130280"/>
              <a:ext cx="499680" cy="1348920"/>
            </a:xfrm>
            <a:prstGeom prst="bentConnector3">
              <a:avLst>
                <a:gd name="adj1" fmla="val 22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29"/>
            <p:cNvCxnSpPr>
              <a:stCxn id="111" idx="0"/>
              <a:endCxn id="112" idx="2"/>
            </p:cNvCxnSpPr>
            <p:nvPr/>
          </p:nvCxnSpPr>
          <p:spPr>
            <a:xfrm flipV="1">
              <a:off x="7461000" y="4555080"/>
              <a:ext cx="2880" cy="49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09" idx="2"/>
            </p:cNvCxnSpPr>
            <p:nvPr/>
          </p:nvCxnSpPr>
          <p:spPr>
            <a:xfrm flipH="1" flipV="1" rot="5400000">
              <a:off x="2492280" y="4130640"/>
              <a:ext cx="499680" cy="1348560"/>
            </a:xfrm>
            <a:prstGeom prst="bentConnector3">
              <a:avLst>
                <a:gd name="adj1" fmla="val 22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31"/>
            <p:cNvCxnSpPr>
              <a:stCxn id="112" idx="0"/>
              <a:endCxn id="116" idx="2"/>
            </p:cNvCxnSpPr>
            <p:nvPr/>
          </p:nvCxnSpPr>
          <p:spPr>
            <a:xfrm flipV="1" rot="16200000">
              <a:off x="6199560" y="2296440"/>
              <a:ext cx="499680" cy="2022840"/>
            </a:xfrm>
            <a:prstGeom prst="bentConnector3">
              <a:avLst>
                <a:gd name="adj1" fmla="val 22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32"/>
            <p:cNvCxnSpPr>
              <a:stCxn id="109" idx="0"/>
              <a:endCxn id="116" idx="2"/>
            </p:cNvCxnSpPr>
            <p:nvPr/>
          </p:nvCxnSpPr>
          <p:spPr>
            <a:xfrm flipH="1" flipV="1" rot="5400000">
              <a:off x="4177080" y="2296440"/>
              <a:ext cx="499680" cy="2022840"/>
            </a:xfrm>
            <a:prstGeom prst="bentConnector3">
              <a:avLst>
                <a:gd name="adj1" fmla="val 22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_s1033"/>
            <p:cNvSpPr/>
            <p:nvPr/>
          </p:nvSpPr>
          <p:spPr>
            <a:xfrm>
              <a:off x="4282920" y="2060640"/>
              <a:ext cx="2310840" cy="997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КАЗУЕМ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2260800" y="3557520"/>
              <a:ext cx="2310840" cy="997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ЛАГОЛЬ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6305400" y="3557520"/>
              <a:ext cx="2310840" cy="997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МЕН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6"/>
            <p:cNvSpPr/>
            <p:nvPr/>
          </p:nvSpPr>
          <p:spPr>
            <a:xfrm>
              <a:off x="912960" y="5054400"/>
              <a:ext cx="2310840" cy="997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ОСТ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Г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6305400" y="5054400"/>
              <a:ext cx="2310840" cy="997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СТАВ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И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>
              <a:off x="3609000" y="5054400"/>
              <a:ext cx="2310840" cy="9979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СТАВ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Г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нной презентации рассматри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ль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ы выра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РОСТ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ГЛАГОЛЬНОГО СКАЗУЕМ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Г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 какие вопросы отвечает простое глагольное сказуемое (ПГС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елает предм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делал предм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делать предм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 ним делае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 ним сделалос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ем может быть выражено ПГС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ом в форме одного из накло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й формой будуще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инитивом (неопределённой формой глаго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ьной формой междоме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ьным фразеологическим обор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ягаемой формой глагола с частиц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яющимися глаго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етанием двух разных глаг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ГЛАГОЛОМ В ФОРМЕ 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ОДНОГО ИЗ НАКЛОНЕНИ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ва месяц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ш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 непрерывном ожидании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усь! Чего же т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очеш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т ме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портивной секции в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нировались б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более регуля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ьмит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 собой в поход туристскую карту-сх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4:55:59Z</dcterms:created>
  <dc:creator>Marina</dc:creator>
  <dc:description/>
  <dc:language>en-US</dc:language>
  <cp:lastModifiedBy>SMART</cp:lastModifiedBy>
  <dcterms:modified xsi:type="dcterms:W3CDTF">2012-12-19T15:24:07Z</dcterms:modified>
  <cp:revision>3</cp:revision>
  <dc:subject/>
  <dc:title>Главные члены предложения. Сказуемое.</dc:title>
</cp:coreProperties>
</file>