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AB1-2BF8-49A7-89A1-A8F943A0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7D5-C808-458D-8B91-28AC98A6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4B9-D3B5-4AE4-A591-9F8A7F4A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0F0-0231-4C3A-95A5-0BB94AAF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8498-B86A-4D43-B998-6ACC1E34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FADE-D664-4309-BFA7-599F468F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8D12-034A-4E0A-8D24-D1B6D657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9A00-6AB1-45E2-B1CD-E79DF0D0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DBB4-5930-46CB-B511-3B42B426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95CD-D16E-4D5A-86FC-30B8C1A1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34A6-837D-4A50-B582-4E565674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83D-329F-4DB8-B384-2656D47F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3224-B74E-47B1-AFD0-394DB460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F279-DA6D-4140-833A-B3C5C303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1F35-56E8-4C15-B8DF-9DE7685A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A59C-3D1D-445F-8D5C-A2A19E8C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26A1-2C38-4A7C-80C1-5093F9D1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E8B-E25C-41F5-8C99-B4CB0424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8E6-7155-48A9-B433-6206B363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E9A-F858-4E11-A541-CAFC5A0D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D3E-4374-4D30-8581-619B57DD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523-559D-4492-90B4-A1D16B5A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EF1-E887-4153-BC34-A06C5897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9E8-44BF-460C-9659-0A82CD22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372B-E567-457C-8EAA-5C29194597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1F26-413A-4455-BA7F-84510C79FD68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66"/>
                </a:solidFill>
                <a:latin typeface="Arial"/>
              </a:rPr>
              <a:t>Члены предложения и способы их выражения. </a:t>
            </a:r>
            <a:r>
              <a:rPr b="1" lang="ru-RU" sz="4000" spc="-1" strike="noStrike">
                <a:solidFill>
                  <a:srgbClr val="336666"/>
                </a:solidFill>
                <a:latin typeface="Arial"/>
              </a:rPr>
              <a:t>Подлежащ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51280" y="3733560"/>
            <a:ext cx="47592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ЧИСЛИТЕЛЬНЫ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ся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делится на д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ь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во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 клубах п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о двадца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держали строй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НЕОПРЕДЕЛЁННОЙ ФОРМОЙ ГЛАГОЛ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1904760"/>
            <a:ext cx="75628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Любить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- значит жить жизнью того, кого любиш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ботать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для науки - это и есть личное счасть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остичь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совершенства в своей работе - большое счастье.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НАРЕЧИЕ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нечно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сначала"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потом"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очень усло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втр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будет лучше, чем сегодня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ПРЕДЛОГО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В течение"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может быть предлогом и существительным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СОЮЗО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если бы"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отнесённое им к прошедшему, к невозможному, сбылось.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МЕЖДОМЕТИЕ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6920" y="1905120"/>
            <a:ext cx="734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ти вс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-х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а-х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пенье, трусливые разговоры - мерзость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СЛОВОСОЧЕТАНИЕ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489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и сосед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ехотя вст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сколько друзе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знали ему ц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шло с тех пор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но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дин из домов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ыл выше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ждый из ва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олучит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ец с матер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шли впереди вс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ступи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ье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лезная дорог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оединила города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ЦЕЛЫМ ПРЕДЛОЖЕНИЕ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Береги честь смолоду"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- пословица, взятая Пушкиным как эпиграф к "Капитанской дочке"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Послеслов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6920" y="1916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сё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буде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хорош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111"/>
          <p:cNvPicPr/>
          <p:nvPr/>
        </p:nvPicPr>
        <p:blipFill>
          <a:blip r:embed="rId1"/>
          <a:stretch/>
        </p:blipFill>
        <p:spPr>
          <a:xfrm>
            <a:off x="4788000" y="1773360"/>
            <a:ext cx="38750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Источник информаци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Все правила русского языка"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 редакцией И.О.Родина, Т.М.Пимено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Т "Астрель" Москва 2007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Предислов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991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презентация поможет вам подготови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выполнению экзаменационных заданий В9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12. Вот как они сформулированы в тес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3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пишите грамматическую основу предложения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6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Укажите количество грамматических основ в предложении 5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66"/>
                </a:solidFill>
                <a:latin typeface="Arial"/>
              </a:rPr>
              <a:t>Что такое «грамматическая основа предложения»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90512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сновная часть предло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щая из его главных член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"/>
              </a:rPr>
              <a:t>подлежаще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336666"/>
                </a:solidFill>
                <a:latin typeface="Arial"/>
              </a:rPr>
              <a:t>сказуем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 —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го из н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Что такое «подлежащее»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6920" y="1905120"/>
            <a:ext cx="73472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лежащее - это </a:t>
            </a:r>
            <a:r>
              <a:rPr b="0" lang="ru-RU" sz="3000" spc="-1" strike="noStrike">
                <a:solidFill>
                  <a:srgbClr val="336666"/>
                </a:solidFill>
                <a:latin typeface="Arial"/>
              </a:rPr>
              <a:t>главный член п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дложения, который грамматически связан со сказуем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лежащее обозначает </a:t>
            </a:r>
            <a:r>
              <a:rPr b="0" lang="ru-RU" sz="3000" spc="-1" strike="noStrike">
                <a:solidFill>
                  <a:srgbClr val="336666"/>
                </a:solidFill>
                <a:latin typeface="Arial"/>
              </a:rPr>
              <a:t>предме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это может быть собственно предмет, лицо, явление, событие, отвлечённое понятие и т.д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лежащее отвечает на вопросы </a:t>
            </a:r>
            <a:r>
              <a:rPr b="0" lang="ru-RU" sz="3000" spc="-1" strike="noStrike">
                <a:solidFill>
                  <a:srgbClr val="336666"/>
                </a:solidFill>
                <a:latin typeface="Arial"/>
              </a:rPr>
              <a:t>КТО? ЧТО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Чем может быть выражено подлежащее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280" y="2205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итель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стоимени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лагатель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части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ислитель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пределённой формой глаго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6360" y="2205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речи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лог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ю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ждомети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овосочетани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лым предложени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СУЩЕСТВИТЕЛЬНЫ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внодуши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- это парал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уши, преждевременная смерт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растёт вместе с куль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МЕСТОИМЕНИЕ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1905120"/>
            <a:ext cx="72025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омню чудное мгновень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-т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не давало мне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были наконец-то в сб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был редкий час затишья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ПРИЛАГАТЕЛЬНЫ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1905120"/>
            <a:ext cx="741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 ним стали подходить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ком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епо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остановился, потом повернул на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льшо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идится на расстоянии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ПРИЧАСТИЕ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8920" y="190512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нцующи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теснились и толкали друг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тавшиес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 доме долго не могли ус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писанно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навсегда останется людям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7:10:27Z</dcterms:created>
  <dc:creator>Marina</dc:creator>
  <dc:description/>
  <dc:language>en-US</dc:language>
  <cp:lastModifiedBy>SMART</cp:lastModifiedBy>
  <dcterms:modified xsi:type="dcterms:W3CDTF">2012-12-19T15:20:27Z</dcterms:modified>
  <cp:revision>4</cp:revision>
  <dc:subject/>
  <dc:title>Члены предложения и способы их выражения. Подлежащее.</dc:title>
</cp:coreProperties>
</file>