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1CF7-0ED9-4AB9-A866-434047BF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048-E278-4A43-815C-6D3FEA9A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3F2-53C3-4FD8-821A-E9D83EE9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C24-2BFC-4B1D-BC32-44B9FDB1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28E3-64A2-41AE-A8EE-3F84627A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D84F-E4C9-42BA-9653-6BEF9590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D446-0E12-45E2-8D61-29068DB7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46DD-923B-4880-802A-520A553C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E77C-1020-4F7E-B8E8-4D2B656D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D22B-5ED2-4713-A369-EB763359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27F2-E652-47EE-AA4F-1604725E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E79-2780-4DEB-AE1E-225BD551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D0A0-FF10-44EA-8487-9CA7F8F6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B84C-D5D5-4FA0-B5C7-83CC455A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BD0B-2B4B-4EC8-A80F-EF321E21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9709-8F03-4E7C-8D59-33EFCD88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F075-D042-4216-B892-B2D66487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7D2-176D-4AF1-AA84-54311AD8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4811-EBF5-4F30-99E6-D5854970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0A33-A6D8-41B7-A45A-D19293F0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7A45-C9CB-471C-B116-D0B693DC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31A-98FD-4096-988E-2F3F34BD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E374-622B-44F9-864D-CF745A11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BC8-F89D-4B7B-BD7D-27D596A3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8853-B05D-4B4A-A036-9A1EBBA05C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970C-0536-4C8A-9F59-DC5CAA3B5A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Способы выражения сказуемого. Часть 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ем может быть выражена именная часть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СУЩЕСТВИТЕЛЬНЫ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И.п.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венном паде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стот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т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еобходимо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екрас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ед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ыл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роткий синеглазый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арик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авд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дой остаётс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а молва себе 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л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н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весельч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сь сад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в цв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ем может быть выражена именная часть?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ПРИЛАГАТЕЛЬНЫ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раткой или полной форме, иногда в сравнительной степ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Ёлк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ала похож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а дорогую куклу в розовых круже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год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ыла чудесна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уч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делалис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как б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ньш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зрач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ем может быть выражена именная часть?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ПРИЧАСТИЕ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ым или крат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та встреч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ыла непредвиденн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ми т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ыла любим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для милог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раним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Цель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стигну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конче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мой труд многолет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ем может быть выражена именная часть?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МЕСТОИМ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там 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а он – чуж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ишнёвый сад теперь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ем может быть выражена именная часть?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ЧИСЛИТЕЛЬ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лоников на комод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ыло сем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ва да тр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удет п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ем может быть выражена именная часть?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НАРЕЧ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й туфли 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впору буд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ы 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не вправе требоват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от ребёнка невозможного только потому, что вам хочется, чтобы он добился успеха, так и не выпавшего на вашу до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ем может быть выражена именная часть?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МЕЖДОМЕТ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ё новая причёска – просто 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ем может быть выражена именная часть?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НЕДЕЛИМЫМ СЛОВОСОЧЕТ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н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ыл высокого ро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ар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ыла с заплаканными глаз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этом деле двоюродная племянниц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ыла сбоку припё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ем может быть выражена именная часть?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конец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СРАВНИТЕЛЬНЫМ ОБОРО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союзами КАК, СЛОВНО, БУДТО, КАК БУДТО, 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рогое лицо ег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ыло как из чуг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ем может быть выражено осложнённое СИС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81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ён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ИС состоит и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ягаемого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инитива (нф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н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ли нфг выступают глаголы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БЫТЬ, СТ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же –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ОСТАВАТЬСЯ, СЧИТАТЬСЯ, НАЗЫ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ётушк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гла быть справедли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н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умел оставаться верным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воему сло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нимание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нной презентации рассматрив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ольк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ы 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СОСТАВ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ИМЕННОГО СКАЗУЕМО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бобщим! </a:t>
            </a:r>
            <a:br>
              <a:rPr sz="38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Чем может быть выражена именная часть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итель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лагатель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аст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им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итель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еч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омет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елимым словосочет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льным оборо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итай ещё!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(в отдельных презентациях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ы выражения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ПРОСТОГО ГЛАГОЛЬНОГО СКАЗУЕ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ы выражения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СОСТАВНОГО ГЛАГОЛЬНОГО СКАЗУЕ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слеслов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Вс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буд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хорош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0a0e56c365516d176b237665307cb423"/>
          <p:cNvPicPr/>
          <p:nvPr/>
        </p:nvPicPr>
        <p:blipFill>
          <a:blip r:embed="rId1"/>
          <a:stretch/>
        </p:blipFill>
        <p:spPr>
          <a:xfrm>
            <a:off x="5003640" y="2133720"/>
            <a:ext cx="35658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сточник информации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«Все правила русского язы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редакци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О.Родина, Т.М.Пимен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Т "Астрель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сква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 какие вопросы отвечает Составное Именное Сказуемое?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такое предм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ов о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з каких частей состоит СИС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4" name="Organization Chart 6"/>
          <p:cNvGrpSpPr/>
          <p:nvPr/>
        </p:nvGrpSpPr>
        <p:grpSpPr>
          <a:xfrm>
            <a:off x="912960" y="1589040"/>
            <a:ext cx="7703280" cy="4462560"/>
            <a:chOff x="912960" y="1589040"/>
            <a:chExt cx="7703280" cy="4462560"/>
          </a:xfrm>
        </p:grpSpPr>
        <p:cxnSp>
          <p:nvCxnSpPr>
            <p:cNvPr id="105" name="_s1028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354280" y="2782080"/>
              <a:ext cx="893160" cy="2075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29"/>
            <p:cNvCxnSpPr>
              <a:stCxn id="109" idx="0"/>
              <a:endCxn id="107" idx="2"/>
            </p:cNvCxnSpPr>
            <p:nvPr/>
          </p:nvCxnSpPr>
          <p:spPr>
            <a:xfrm flipH="1" flipV="1" rot="5400000">
              <a:off x="3280680" y="2782800"/>
              <a:ext cx="893160" cy="20739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1030"/>
            <p:cNvSpPr/>
            <p:nvPr/>
          </p:nvSpPr>
          <p:spPr>
            <a:xfrm>
              <a:off x="2986200" y="1589040"/>
              <a:ext cx="3555360" cy="1784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Составное именно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сказуем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1"/>
            <p:cNvSpPr/>
            <p:nvPr/>
          </p:nvSpPr>
          <p:spPr>
            <a:xfrm>
              <a:off x="912960" y="4266720"/>
              <a:ext cx="3555360" cy="1784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Глагол-связка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соединяет подлежащ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о сказуемым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>
              <a:off x="5060880" y="4266720"/>
              <a:ext cx="3555360" cy="1784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Именная часть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передаёт смыс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казуемого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ем может быть выражен глагол-связка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Глаголом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БЫ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только в прошедшем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ущем времена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римечание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настоящем времени связка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нуле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рез два дня м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ыл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уж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руз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ободный человек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нулевая связ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римечание 2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ка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ЕС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оя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ени употребляются ред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ясность слов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ть признак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еясности мыс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ем может быть выражен глагол-связка?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римечание 3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огда при нулевой связ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отребляются слова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ВОТ, Э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льные союзы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КАК, КАК БУДТ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БУДТО, СЛОВНО, 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олодость 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о врем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адежд и свер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этом платье т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снегурочк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ем может быть выражен глагол-связка?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Глаголами 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стать, становиться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казаться, считаться, являться, называться, служить, слыть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н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али пасмурны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да в бухт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залась покрыт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слоем тёмного оливкового ма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Цветущая верб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лужи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верным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знако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хода вес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ем может быть выражен глагол-связка?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Глаголами, обозначающим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ижение, перемещение, состоя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ходить, приехать, возвратиться, вернуться, сидеть, жить, проснуть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сь день он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одила задумчива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ра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рнулс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домой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мур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лчалив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бобщим! </a:t>
            </a:r>
            <a:br>
              <a:rPr sz="38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Чем может быть выражен глагол-связка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голами 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быть, 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голами 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стать, становиться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казаться, считаться, являться, называться, служить, слыть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голами, обозначающим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ижение, перемещение, состоя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ходить, приехать, возвратиться, вернуться, сидеть, жить, проснуть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Запомните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настоящем времени глагол-связка обыч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сутству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нулевая связ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6:34:04Z</dcterms:created>
  <dc:creator>Marina</dc:creator>
  <dc:description/>
  <dc:language>en-US</dc:language>
  <cp:lastModifiedBy>SMART</cp:lastModifiedBy>
  <dcterms:modified xsi:type="dcterms:W3CDTF">2012-12-19T15:25:41Z</dcterms:modified>
  <cp:revision>3</cp:revision>
  <dc:subject/>
  <dc:title>Способы выражения сказуемого. Часть 3</dc:title>
</cp:coreProperties>
</file>