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98E-E28C-46FA-9AD2-7726604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2D7-E056-4981-AACA-4CE91DD1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A48-30BE-4A64-AE37-B2CE9D7B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AB8-11C5-42FA-9F41-786AA188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174-FB8F-474E-BEBF-E3B05C55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624C-F8D9-4721-BF77-AB131E3A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6C6-B100-467E-A21F-6C07237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7697-AE41-497E-9F90-1BB419D2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CDE-6096-4C13-A2D7-D6ADF26C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2CE-C600-4CD1-8A6B-992D53E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83A7-5484-4902-AF78-FA330F4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A56-5EE8-4634-886F-A4BEF15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7EE7-BCD4-4886-8C12-3695C6A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177-1A70-4A01-BB93-C54BA49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A910-A427-4B85-B507-D4F5227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595-BD0F-45BF-B7B9-97467D6C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B695-E924-4258-AD72-7A9A682E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839-5DDD-45A1-8D78-A2094F75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AD8-6D1A-4287-B018-D897F38E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928-53B2-4969-B194-22182DC8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FC7-DD0E-41E8-A4EA-34B25A7E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BCD-9C2E-4D8B-BAF6-8D1EA8F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F7E-1BC5-46AF-9F9D-5C7C5F7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C42-0EBA-4A80-9B52-12AF677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F77D-19CE-4137-909D-F1FBF1D377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C94-3B6C-4AD5-BECE-6DD66DBD02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пособы выражения сказуемого. Часть 2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вспомогательная часть СГС?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. при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 значением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НЕОБХОДИМОСТИ, ЖЕЛАТЕЛЬНОСТИ,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д, горазд, должен, намерен, готов, способен, во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в сочетании 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ом-связ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й в наст. времени может быть опущ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л готов помчатьс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уда уго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собен справитьс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 проблемой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бя м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ушать рад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вспомогательная часть СГС?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(конец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зеологическим оборо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лагольного характ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рели желанием попас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 концерт любимого артиста. (желали попа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гда нфг не входит в состав СГС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пом. гл. и нфг называют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ЫХ действия одного и того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а или действия РАЗНЫХ субъектов, то нф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ХОДИТ в состав сказуемого, а выступает в р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степен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бя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шл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музей посмотреть новую экспозицию.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пришли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(с какой целью?)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 посмотреть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– обстоятельство ц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ед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просил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нас помочь при перевозке мебели.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(попросила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(о чём?)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 помочь –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дополнение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итай ещё!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(в отдельных презентациях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ОСТОГО ГЛАГОЛЬНОГО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ОСТАВНОГО ИМЕННОГО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леслов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У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экзаме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читает"/>
          <p:cNvPicPr/>
          <p:nvPr/>
        </p:nvPicPr>
        <p:blipFill>
          <a:blip r:embed="rId1"/>
          <a:stretch/>
        </p:blipFill>
        <p:spPr>
          <a:xfrm>
            <a:off x="5003640" y="1628640"/>
            <a:ext cx="32814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чник информаци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«Все правила русского язы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ред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О.Родина, Т.М.Пиме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 "Астр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презентации рассматри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оль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СОСТА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ЛАГОЛЬНОГО СКАЗУЕМ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Г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 какие вопросы отвечает Составное Глагольное Сказуемо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делает предм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делал предм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удет делать предм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 ним дел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 ним сделало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ем может быть выражено СГС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й формой ВСПОМОГАТЕЛЬНОГО ГЛАГОЛА и инфинитивом (НФ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й формой ВСПОМОГАТЕЛЬНОГО ГЛАГОЛА и фразеологическим обор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ИМ ПРИЛАГАТЕЛЬНЫМ, глаголом-связкой БЫТЬ и инфинитивом (НФ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АЗЕОЛОГИЧЕСКИМ ОБОРОТОМ глаголь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й формой ВСПОМОГАТЕЛЬНОГО ГЛАГОЛА и ДВУМЯ инфинитивами (НФ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ИЧ. ФОРМА ВСПОМ. ГЛ. + НФГ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наюсь, 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жела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 ним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наком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ет преуспе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том, к чему приложит все силы своей д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устой снег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л вали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плошной лави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ИЧ. ФОРМА ВСПОМ. ГЛ. + ФРАЗ. ОБОРО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руг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нялись перемывать косточ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сем знакомым по по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ИЧ. ФОРМА ВСПОМ. ГЛ. +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 НФГ + НФГ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оба НФГ обознач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расчленён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йств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аем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убъек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телос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тольк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алитьс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как можно ско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мог броситься 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вспомогательная часть СГС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77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 значением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НАЧ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ОДОЛЖЕНИЯ, КО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ть, начать, продолж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бираться, приняться, перест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ч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рител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ли расхо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стёр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должал пы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ем может быть выражена вспомогательная часть СГС?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 значением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ЖЕЛАНИЯ, СТРЕМЛЕНИЯ, НАМЕРЕНИЯ, СТАРАНИЯ, ВОЗМОЖ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елать, стремиться, хотеть, мочь, уметь, дум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тел напис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исьмо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може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успеш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д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экзамены только лентя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8:03:12Z</dcterms:created>
  <dc:creator>Marina</dc:creator>
  <dc:description/>
  <dc:language>en-US</dc:language>
  <cp:lastModifiedBy>SMART</cp:lastModifiedBy>
  <dcterms:modified xsi:type="dcterms:W3CDTF">2012-12-19T15:25:13Z</dcterms:modified>
  <cp:revision>3</cp:revision>
  <dc:subject/>
  <dc:title>Способы выражения сказуемого. Часть 2</dc:title>
</cp:coreProperties>
</file>