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24B-D759-4F69-8E78-009F301B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901-1C12-4B62-AE59-D1E6733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FD9-94ED-4DAF-8A5D-31705D40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4E0-D54E-440B-8A9B-65F50796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E73-DB64-4977-A3EC-4CE5FB13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E96-A565-4E47-A816-66373E1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861-3255-49CA-B3F3-1F0FA0B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F40-E593-484C-8D3E-BF7D0F56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9DB-E38D-444E-9B15-1E7BF54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07F-DE67-427A-A25F-AD03E5C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8AB4-715F-4DDA-A489-922411C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138-A89D-470D-B729-04CCD48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752-B75A-4C57-9944-D9CF145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70C6-BEF8-4676-B59E-F18554A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79E5-175D-4594-91B1-2E61F87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A2C-0CE2-4C6A-8A7C-1CDEAD9C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3D59-4E4F-44B3-8EFD-C017341C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BCE5-60EA-465C-807D-F4AE52D3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3C12-E762-408D-8F99-8B38A42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57AE-F5F9-4166-9A54-D10194B4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176D-D778-4D6F-A659-F24176E7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1904-04B1-47F7-B6C2-F6D0FB9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247-BEA9-4E7E-A59A-771A9170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0F11-ACE5-40A5-BD1C-C92D254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267D-A53D-4CC8-8C4E-266BD30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9108-720D-4B0E-8E55-E51448F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EB43-B768-47F2-AFD9-1E2EB54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2BEA-AF44-41A0-A261-86835E1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35FF-B364-4D39-8209-D47D81AC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B293-D305-4B32-B75F-71B1F808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CC7-E571-4357-A0E3-1F6E37D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AD2-5D0A-47D4-8F76-C15E0911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898-4A6F-4583-85F5-AACD6CB1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135-76AE-498C-9D11-9132386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FDD-29CE-4F01-B7CF-3E64D68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BB6-14CF-4CEF-9D61-162916D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0E2-744B-4E8F-8761-55553085B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DF08-6749-4568-8F06-F7F2411687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641-6647-4565-B561-D59A310E56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 живут растения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кружающий мир 1 класс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урузова И.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23812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268800" cy="2287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4884480" cy="327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5292720" y="3716280"/>
            <a:ext cx="29131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0" t="0" r="12815" b="12795"/>
          <a:stretch/>
        </p:blipFill>
        <p:spPr>
          <a:xfrm>
            <a:off x="468360" y="260280"/>
            <a:ext cx="8467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527280" cy="3370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5796000" y="3048120"/>
            <a:ext cx="316872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7372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564000" y="2816280"/>
            <a:ext cx="508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3408120" cy="25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638880" cy="295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227640" y="3141720"/>
            <a:ext cx="2729160" cy="3263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2448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4500720" y="836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ивая растения с помощью лейки, воду лейте непосредственно в цветочный горшок до тех пор, пока она не появится в подд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743280" cy="63039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4500720" y="296712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ивая кактус, старайтесь направить носик лейки на почву, чтобы смочить её, но оставить сухим рас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6659640" y="4753080"/>
            <a:ext cx="2484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обходимо комнатным растениям для жиз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736720" cy="251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2495520" cy="245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8418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30320" y="61920"/>
            <a:ext cx="8850240" cy="6607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Растен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оздух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Тепл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ве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07:32Z</dcterms:created>
  <dc:creator>hp</dc:creator>
  <dc:description/>
  <dc:language>en-US</dc:language>
  <cp:lastModifiedBy>1</cp:lastModifiedBy>
  <dcterms:modified xsi:type="dcterms:W3CDTF">2013-03-30T19:30:52Z</dcterms:modified>
  <cp:revision>17</cp:revision>
  <dc:subject/>
  <dc:title>Слайд 1</dc:title>
</cp:coreProperties>
</file>