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14.wmf" ContentType="image/x-wmf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29.jpeg" ContentType="image/jpeg"/>
  <Override PartName="/ppt/media/image30.png" ContentType="image/png"/>
  <Override PartName="/ppt/media/applause.wav" ContentType="audio/x-wav"/>
  <Override PartName="/ppt/media/image5.png" ContentType="image/png"/>
  <Override PartName="/ppt/media/image2.png" ContentType="image/png"/>
  <Override PartName="/ppt/media/image25.png" ContentType="image/png"/>
  <Override PartName="/ppt/media/image4.wmf" ContentType="image/x-wmf"/>
  <Override PartName="/ppt/media/image13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28.jpeg" ContentType="image/jpeg"/>
  <Override PartName="/ppt/media/image16.gif" ContentType="image/gif"/>
  <Override PartName="/ppt/media/image19.png" ContentType="image/png"/>
  <Override PartName="/ppt/media/image21.png" ContentType="image/png"/>
  <Override PartName="/ppt/media/image17.gif" ContentType="image/gif"/>
  <Override PartName="/ppt/media/image2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2FD-EDCB-42A6-9DC1-A270FA1B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E874-A09E-4F0F-AC69-A29789E0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ED8-75F8-4CC9-8D70-B0B42F97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1C8-0A49-4BDF-9789-8722308E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8E9-276C-4C01-87FE-554BC9D8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57F-740F-461C-9BFE-A0D14D08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28C5-BFF9-44AF-B7F0-3357A07A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9BD2-F32A-47F7-B0BC-C4B98873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D2B-10A5-4CEF-953B-B5E4200B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D56-F590-440C-887D-D33167D8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CC5-9546-416E-9BC7-450FC129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1BC-5561-4812-80A7-7A8442C1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9F13-7FF9-440E-B4B2-5481860C8D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1" descr=""/>
          <p:cNvPicPr/>
          <p:nvPr/>
        </p:nvPicPr>
        <p:blipFill>
          <a:blip r:embed="rId2"/>
          <a:stretch/>
        </p:blipFill>
        <p:spPr>
          <a:xfrm>
            <a:off x="712800" y="2225520"/>
            <a:ext cx="8004240" cy="26085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3"/>
          <a:stretch/>
        </p:blipFill>
        <p:spPr>
          <a:xfrm>
            <a:off x="3203640" y="981000"/>
            <a:ext cx="203652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Группа 21"/>
          <p:cNvGrpSpPr/>
          <p:nvPr/>
        </p:nvGrpSpPr>
        <p:grpSpPr>
          <a:xfrm>
            <a:off x="-2357280" y="-571680"/>
            <a:ext cx="13215960" cy="7929720"/>
            <a:chOff x="-2357280" y="-571680"/>
            <a:chExt cx="13215960" cy="7929720"/>
          </a:xfrm>
        </p:grpSpPr>
        <p:sp>
          <p:nvSpPr>
            <p:cNvPr id="273" name="Прямоугольник 1"/>
            <p:cNvSpPr/>
            <p:nvPr/>
          </p:nvSpPr>
          <p:spPr>
            <a:xfrm>
              <a:off x="285840" y="207144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Прямоугольник 2"/>
            <p:cNvSpPr/>
            <p:nvPr/>
          </p:nvSpPr>
          <p:spPr>
            <a:xfrm>
              <a:off x="2928960" y="207144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Прямоугольник 3"/>
            <p:cNvSpPr/>
            <p:nvPr/>
          </p:nvSpPr>
          <p:spPr>
            <a:xfrm>
              <a:off x="5572440" y="207144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оугольник 4"/>
            <p:cNvSpPr/>
            <p:nvPr/>
          </p:nvSpPr>
          <p:spPr>
            <a:xfrm>
              <a:off x="8215560" y="207144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Прямоугольник 5"/>
            <p:cNvSpPr/>
            <p:nvPr/>
          </p:nvSpPr>
          <p:spPr>
            <a:xfrm>
              <a:off x="-2357280" y="207144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рямоугольник 6"/>
            <p:cNvSpPr/>
            <p:nvPr/>
          </p:nvSpPr>
          <p:spPr>
            <a:xfrm>
              <a:off x="285840" y="-57168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рямоугольник 7"/>
            <p:cNvSpPr/>
            <p:nvPr/>
          </p:nvSpPr>
          <p:spPr>
            <a:xfrm>
              <a:off x="2928960" y="-57168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Прямоугольник 8"/>
            <p:cNvSpPr/>
            <p:nvPr/>
          </p:nvSpPr>
          <p:spPr>
            <a:xfrm>
              <a:off x="5572440" y="-57168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Прямоугольник 9"/>
            <p:cNvSpPr/>
            <p:nvPr/>
          </p:nvSpPr>
          <p:spPr>
            <a:xfrm>
              <a:off x="8215560" y="-57168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Прямоугольник 10"/>
            <p:cNvSpPr/>
            <p:nvPr/>
          </p:nvSpPr>
          <p:spPr>
            <a:xfrm>
              <a:off x="-2357280" y="-57168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Прямоугольник 11"/>
            <p:cNvSpPr/>
            <p:nvPr/>
          </p:nvSpPr>
          <p:spPr>
            <a:xfrm>
              <a:off x="285840" y="471492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Прямоугольник 12"/>
            <p:cNvSpPr/>
            <p:nvPr/>
          </p:nvSpPr>
          <p:spPr>
            <a:xfrm>
              <a:off x="2928960" y="471492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Прямоугольник 13"/>
            <p:cNvSpPr/>
            <p:nvPr/>
          </p:nvSpPr>
          <p:spPr>
            <a:xfrm>
              <a:off x="5572440" y="471492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Прямоугольник 14"/>
            <p:cNvSpPr/>
            <p:nvPr/>
          </p:nvSpPr>
          <p:spPr>
            <a:xfrm>
              <a:off x="8215560" y="471492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Прямоугольник 15"/>
            <p:cNvSpPr/>
            <p:nvPr/>
          </p:nvSpPr>
          <p:spPr>
            <a:xfrm>
              <a:off x="-2357280" y="471492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3"/>
          <p:cNvSpPr/>
          <p:nvPr/>
        </p:nvSpPr>
        <p:spPr>
          <a:xfrm flipV="1">
            <a:off x="1473120" y="2071800"/>
            <a:ext cx="1438200" cy="1193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"/>
          <p:cNvSpPr/>
          <p:nvPr/>
        </p:nvSpPr>
        <p:spPr>
          <a:xfrm flipH="1">
            <a:off x="1428840" y="2071800"/>
            <a:ext cx="1482480" cy="2643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Группа 22"/>
          <p:cNvGrpSpPr/>
          <p:nvPr/>
        </p:nvGrpSpPr>
        <p:grpSpPr>
          <a:xfrm>
            <a:off x="4087440" y="1952640"/>
            <a:ext cx="1580040" cy="2720880"/>
            <a:chOff x="4087440" y="1952640"/>
            <a:chExt cx="1580040" cy="2720880"/>
          </a:xfrm>
        </p:grpSpPr>
        <p:sp>
          <p:nvSpPr>
            <p:cNvPr id="291" name="Arc 3"/>
            <p:cNvSpPr/>
            <p:nvPr/>
          </p:nvSpPr>
          <p:spPr>
            <a:xfrm rot="901200">
              <a:off x="4335120" y="2101320"/>
              <a:ext cx="1252800" cy="779400"/>
            </a:xfrm>
            <a:custGeom>
              <a:avLst/>
              <a:gdLst>
                <a:gd name="textAreaLeft" fmla="*/ 0 w 1252800"/>
                <a:gd name="textAreaRight" fmla="*/ 1253160 w 125280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fill="none" w="43055" h="27179">
                  <a:moveTo>
                    <a:pt x="-1" y="19103"/>
                  </a:moveTo>
                  <a:cubicBezTo>
                    <a:pt x="1266" y="8213"/>
                    <a:pt x="10491" y="-1"/>
                    <a:pt x="21455" y="0"/>
                  </a:cubicBezTo>
                  <a:cubicBezTo>
                    <a:pt x="33384" y="0"/>
                    <a:pt x="43055" y="9670"/>
                    <a:pt x="43055" y="21600"/>
                  </a:cubicBezTo>
                  <a:cubicBezTo>
                    <a:pt x="43055" y="23483"/>
                    <a:pt x="42808" y="25359"/>
                    <a:pt x="42322" y="27179"/>
                  </a:cubicBezTo>
                </a:path>
                <a:path stroke="0" w="43055" h="27179">
                  <a:moveTo>
                    <a:pt x="-1" y="19103"/>
                  </a:moveTo>
                  <a:cubicBezTo>
                    <a:pt x="1266" y="8213"/>
                    <a:pt x="10491" y="-1"/>
                    <a:pt x="21455" y="0"/>
                  </a:cubicBezTo>
                  <a:cubicBezTo>
                    <a:pt x="33384" y="0"/>
                    <a:pt x="43055" y="9670"/>
                    <a:pt x="43055" y="21600"/>
                  </a:cubicBezTo>
                  <a:cubicBezTo>
                    <a:pt x="43055" y="23483"/>
                    <a:pt x="42808" y="25359"/>
                    <a:pt x="42322" y="27179"/>
                  </a:cubicBezTo>
                  <a:lnTo>
                    <a:pt x="21455" y="21600"/>
                  </a:lnTo>
                  <a:lnTo>
                    <a:pt x="-1" y="19103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5"/>
            <p:cNvSpPr/>
            <p:nvPr/>
          </p:nvSpPr>
          <p:spPr>
            <a:xfrm flipH="1">
              <a:off x="4087440" y="3016080"/>
              <a:ext cx="1355400" cy="1657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4111200" y="4417200"/>
              <a:ext cx="1437480" cy="255240"/>
            </a:xfrm>
            <a:custGeom>
              <a:avLst/>
              <a:gdLst>
                <a:gd name="textAreaLeft" fmla="*/ 0 w 1437480"/>
                <a:gd name="textAreaRight" fmla="*/ 1437840 w 143748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1680" h="248">
                  <a:moveTo>
                    <a:pt x="0" y="240"/>
                  </a:moveTo>
                  <a:cubicBezTo>
                    <a:pt x="256" y="144"/>
                    <a:pt x="512" y="48"/>
                    <a:pt x="720" y="48"/>
                  </a:cubicBezTo>
                  <a:cubicBezTo>
                    <a:pt x="928" y="48"/>
                    <a:pt x="1088" y="248"/>
                    <a:pt x="1248" y="240"/>
                  </a:cubicBezTo>
                  <a:cubicBezTo>
                    <a:pt x="1408" y="232"/>
                    <a:pt x="1608" y="40"/>
                    <a:pt x="1680" y="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Arc 3"/>
          <p:cNvSpPr/>
          <p:nvPr/>
        </p:nvSpPr>
        <p:spPr>
          <a:xfrm flipH="1" rot="876600">
            <a:off x="7059240" y="2143080"/>
            <a:ext cx="1082520" cy="1103040"/>
          </a:xfrm>
          <a:custGeom>
            <a:avLst/>
            <a:gdLst>
              <a:gd name="textAreaLeft" fmla="*/ -360 w 1082520"/>
              <a:gd name="textAreaRight" fmla="*/ 1082520 w 1082520"/>
              <a:gd name="textAreaTop" fmla="*/ 0 h 1103040"/>
              <a:gd name="textAreaBottom" fmla="*/ 1103400 h 1103040"/>
            </a:gdLst>
            <a:ahLst/>
            <a:rect l="textAreaLeft" t="textAreaTop" r="textAreaRight" b="textAreaBottom"/>
            <a:pathLst>
              <a:path fill="none" w="42175" h="43116">
                <a:moveTo>
                  <a:pt x="19695" y="43115"/>
                </a:moveTo>
                <a:cubicBezTo>
                  <a:pt x="8547" y="42128"/>
                  <a:pt x="0" y="3279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0996" y="-1"/>
                  <a:pt x="39314" y="6074"/>
                  <a:pt x="42174" y="15025"/>
                </a:cubicBezTo>
              </a:path>
              <a:path stroke="0" w="42175" h="43116">
                <a:moveTo>
                  <a:pt x="19695" y="43115"/>
                </a:moveTo>
                <a:cubicBezTo>
                  <a:pt x="8547" y="42128"/>
                  <a:pt x="0" y="3279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0996" y="-1"/>
                  <a:pt x="39314" y="6074"/>
                  <a:pt x="42174" y="15025"/>
                </a:cubicBezTo>
                <a:lnTo>
                  <a:pt x="21600" y="21600"/>
                </a:lnTo>
                <a:lnTo>
                  <a:pt x="19695" y="43115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rc 4"/>
          <p:cNvSpPr/>
          <p:nvPr/>
        </p:nvSpPr>
        <p:spPr>
          <a:xfrm>
            <a:off x="6858000" y="3268800"/>
            <a:ext cx="1285920" cy="1365120"/>
          </a:xfrm>
          <a:custGeom>
            <a:avLst/>
            <a:gdLst>
              <a:gd name="textAreaLeft" fmla="*/ 0 w 1285920"/>
              <a:gd name="textAreaRight" fmla="*/ 1286280 w 1285920"/>
              <a:gd name="textAreaTop" fmla="*/ 0 h 1365120"/>
              <a:gd name="textAreaBottom" fmla="*/ 1365480 h 1365120"/>
            </a:gdLst>
            <a:ahLst/>
            <a:rect l="textAreaLeft" t="textAreaTop" r="textAreaRight" b="textAreaBottom"/>
            <a:pathLst>
              <a:path fill="none" w="41211" h="43200">
                <a:moveTo>
                  <a:pt x="19612" y="0"/>
                </a:moveTo>
                <a:cubicBezTo>
                  <a:pt x="31541" y="1"/>
                  <a:pt x="41211" y="9671"/>
                  <a:pt x="41211" y="21600"/>
                </a:cubicBezTo>
                <a:cubicBezTo>
                  <a:pt x="41211" y="33529"/>
                  <a:pt x="31540" y="43200"/>
                  <a:pt x="19611" y="43200"/>
                </a:cubicBezTo>
                <a:cubicBezTo>
                  <a:pt x="11186" y="43200"/>
                  <a:pt x="3530" y="38301"/>
                  <a:pt x="-1" y="30653"/>
                </a:cubicBezTo>
              </a:path>
              <a:path stroke="0" w="41211" h="43200">
                <a:moveTo>
                  <a:pt x="19612" y="0"/>
                </a:moveTo>
                <a:cubicBezTo>
                  <a:pt x="31541" y="1"/>
                  <a:pt x="41211" y="9671"/>
                  <a:pt x="41211" y="21600"/>
                </a:cubicBezTo>
                <a:cubicBezTo>
                  <a:pt x="41211" y="33529"/>
                  <a:pt x="31540" y="43200"/>
                  <a:pt x="19611" y="43200"/>
                </a:cubicBezTo>
                <a:cubicBezTo>
                  <a:pt x="11186" y="43200"/>
                  <a:pt x="3530" y="38301"/>
                  <a:pt x="-1" y="30653"/>
                </a:cubicBezTo>
                <a:lnTo>
                  <a:pt x="19611" y="21600"/>
                </a:lnTo>
                <a:lnTo>
                  <a:pt x="19612" y="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9"/>
          <p:cNvSpPr/>
          <p:nvPr/>
        </p:nvSpPr>
        <p:spPr>
          <a:xfrm>
            <a:off x="357120" y="142884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бведите красным карандашом самое маленьк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0"/>
          <p:cNvSpPr/>
          <p:nvPr/>
        </p:nvSpPr>
        <p:spPr>
          <a:xfrm>
            <a:off x="285840" y="514368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бведите синим карандашом самое больш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Прямоугольник 21" descr=""/>
          <p:cNvPicPr/>
          <p:nvPr/>
        </p:nvPicPr>
        <p:blipFill>
          <a:blip r:embed="rId2"/>
          <a:stretch/>
        </p:blipFill>
        <p:spPr>
          <a:xfrm>
            <a:off x="963720" y="2438280"/>
            <a:ext cx="74246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404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Работа в па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2916360" y="2492280"/>
            <a:ext cx="36576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4044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Мои наблюдения и 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Прямоугольник 21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8248680" cy="169380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3" descr=""/>
          <p:cNvPicPr/>
          <p:nvPr/>
        </p:nvPicPr>
        <p:blipFill>
          <a:blip r:embed="rId3"/>
          <a:stretch/>
        </p:blipFill>
        <p:spPr>
          <a:xfrm>
            <a:off x="1547640" y="1773360"/>
            <a:ext cx="62852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404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Цели нашего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6920" y="2133360"/>
            <a:ext cx="706788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учиться писать цифру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знать состав числа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знать как на числовом отрезке получить число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8" descr="E:\Картинки\Векторная графика\Ландшафты\64.wmf"/>
          <p:cNvPicPr/>
          <p:nvPr/>
        </p:nvPicPr>
        <p:blipFill>
          <a:blip r:embed="rId1"/>
          <a:stretch/>
        </p:blipFill>
        <p:spPr>
          <a:xfrm>
            <a:off x="0" y="-154080"/>
            <a:ext cx="9144000" cy="704052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7"/>
          <p:cNvGrpSpPr/>
          <p:nvPr/>
        </p:nvGrpSpPr>
        <p:grpSpPr>
          <a:xfrm>
            <a:off x="-1857240" y="3143160"/>
            <a:ext cx="1823760" cy="3252960"/>
            <a:chOff x="-1857240" y="3143160"/>
            <a:chExt cx="1823760" cy="3252960"/>
          </a:xfrm>
        </p:grpSpPr>
        <p:sp>
          <p:nvSpPr>
            <p:cNvPr id="45" name="AutoShape 6"/>
            <p:cNvSpPr/>
            <p:nvPr/>
          </p:nvSpPr>
          <p:spPr>
            <a:xfrm>
              <a:off x="-1857240" y="3143160"/>
              <a:ext cx="1823760" cy="325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8"/>
            <p:cNvSpPr/>
            <p:nvPr/>
          </p:nvSpPr>
          <p:spPr>
            <a:xfrm>
              <a:off x="-1846440" y="3147840"/>
              <a:ext cx="1806120" cy="3243240"/>
            </a:xfrm>
            <a:custGeom>
              <a:avLst/>
              <a:gdLst>
                <a:gd name="textAreaLeft" fmla="*/ 0 w 1806120"/>
                <a:gd name="textAreaRight" fmla="*/ 1806480 w 1806120"/>
                <a:gd name="textAreaTop" fmla="*/ 0 h 3243240"/>
                <a:gd name="textAreaBottom" fmla="*/ 3243600 h 3243240"/>
              </a:gdLst>
              <a:ahLst/>
              <a:rect l="textAreaLeft" t="textAreaTop" r="textAreaRight" b="textAreaBottom"/>
              <a:pathLst>
                <a:path w="1863" h="3344">
                  <a:moveTo>
                    <a:pt x="1149" y="4"/>
                  </a:moveTo>
                  <a:lnTo>
                    <a:pt x="1158" y="4"/>
                  </a:lnTo>
                  <a:lnTo>
                    <a:pt x="1172" y="2"/>
                  </a:lnTo>
                  <a:lnTo>
                    <a:pt x="1192" y="2"/>
                  </a:lnTo>
                  <a:lnTo>
                    <a:pt x="1213" y="0"/>
                  </a:lnTo>
                  <a:lnTo>
                    <a:pt x="1234" y="0"/>
                  </a:lnTo>
                  <a:lnTo>
                    <a:pt x="1254" y="0"/>
                  </a:lnTo>
                  <a:lnTo>
                    <a:pt x="1271" y="2"/>
                  </a:lnTo>
                  <a:lnTo>
                    <a:pt x="1284" y="4"/>
                  </a:lnTo>
                  <a:lnTo>
                    <a:pt x="1296" y="9"/>
                  </a:lnTo>
                  <a:lnTo>
                    <a:pt x="1312" y="16"/>
                  </a:lnTo>
                  <a:lnTo>
                    <a:pt x="1331" y="25"/>
                  </a:lnTo>
                  <a:lnTo>
                    <a:pt x="1353" y="34"/>
                  </a:lnTo>
                  <a:lnTo>
                    <a:pt x="1370" y="41"/>
                  </a:lnTo>
                  <a:lnTo>
                    <a:pt x="1388" y="48"/>
                  </a:lnTo>
                  <a:lnTo>
                    <a:pt x="1398" y="53"/>
                  </a:lnTo>
                  <a:lnTo>
                    <a:pt x="1402" y="55"/>
                  </a:lnTo>
                  <a:lnTo>
                    <a:pt x="1405" y="55"/>
                  </a:lnTo>
                  <a:lnTo>
                    <a:pt x="1416" y="59"/>
                  </a:lnTo>
                  <a:lnTo>
                    <a:pt x="1432" y="60"/>
                  </a:lnTo>
                  <a:lnTo>
                    <a:pt x="1451" y="66"/>
                  </a:lnTo>
                  <a:lnTo>
                    <a:pt x="1473" y="73"/>
                  </a:lnTo>
                  <a:lnTo>
                    <a:pt x="1492" y="80"/>
                  </a:lnTo>
                  <a:lnTo>
                    <a:pt x="1511" y="89"/>
                  </a:lnTo>
                  <a:lnTo>
                    <a:pt x="1527" y="99"/>
                  </a:lnTo>
                  <a:lnTo>
                    <a:pt x="1540" y="113"/>
                  </a:lnTo>
                  <a:lnTo>
                    <a:pt x="1554" y="131"/>
                  </a:lnTo>
                  <a:lnTo>
                    <a:pt x="1568" y="152"/>
                  </a:lnTo>
                  <a:lnTo>
                    <a:pt x="1582" y="174"/>
                  </a:lnTo>
                  <a:lnTo>
                    <a:pt x="1594" y="195"/>
                  </a:lnTo>
                  <a:lnTo>
                    <a:pt x="1605" y="216"/>
                  </a:lnTo>
                  <a:lnTo>
                    <a:pt x="1612" y="234"/>
                  </a:lnTo>
                  <a:lnTo>
                    <a:pt x="1616" y="248"/>
                  </a:lnTo>
                  <a:lnTo>
                    <a:pt x="1621" y="262"/>
                  </a:lnTo>
                  <a:lnTo>
                    <a:pt x="1632" y="283"/>
                  </a:lnTo>
                  <a:lnTo>
                    <a:pt x="1647" y="308"/>
                  </a:lnTo>
                  <a:lnTo>
                    <a:pt x="1663" y="334"/>
                  </a:lnTo>
                  <a:lnTo>
                    <a:pt x="1679" y="359"/>
                  </a:lnTo>
                  <a:lnTo>
                    <a:pt x="1695" y="382"/>
                  </a:lnTo>
                  <a:lnTo>
                    <a:pt x="1706" y="402"/>
                  </a:lnTo>
                  <a:lnTo>
                    <a:pt x="1711" y="412"/>
                  </a:lnTo>
                  <a:lnTo>
                    <a:pt x="1708" y="435"/>
                  </a:lnTo>
                  <a:lnTo>
                    <a:pt x="1693" y="469"/>
                  </a:lnTo>
                  <a:lnTo>
                    <a:pt x="1677" y="499"/>
                  </a:lnTo>
                  <a:lnTo>
                    <a:pt x="1670" y="511"/>
                  </a:lnTo>
                  <a:lnTo>
                    <a:pt x="1640" y="577"/>
                  </a:lnTo>
                  <a:lnTo>
                    <a:pt x="1572" y="637"/>
                  </a:lnTo>
                  <a:lnTo>
                    <a:pt x="1572" y="640"/>
                  </a:lnTo>
                  <a:lnTo>
                    <a:pt x="1572" y="649"/>
                  </a:lnTo>
                  <a:lnTo>
                    <a:pt x="1570" y="662"/>
                  </a:lnTo>
                  <a:lnTo>
                    <a:pt x="1561" y="676"/>
                  </a:lnTo>
                  <a:lnTo>
                    <a:pt x="1556" y="690"/>
                  </a:lnTo>
                  <a:lnTo>
                    <a:pt x="1556" y="704"/>
                  </a:lnTo>
                  <a:lnTo>
                    <a:pt x="1559" y="713"/>
                  </a:lnTo>
                  <a:lnTo>
                    <a:pt x="1561" y="716"/>
                  </a:lnTo>
                  <a:lnTo>
                    <a:pt x="1531" y="720"/>
                  </a:lnTo>
                  <a:lnTo>
                    <a:pt x="1531" y="725"/>
                  </a:lnTo>
                  <a:lnTo>
                    <a:pt x="1533" y="741"/>
                  </a:lnTo>
                  <a:lnTo>
                    <a:pt x="1533" y="761"/>
                  </a:lnTo>
                  <a:lnTo>
                    <a:pt x="1531" y="780"/>
                  </a:lnTo>
                  <a:lnTo>
                    <a:pt x="1527" y="796"/>
                  </a:lnTo>
                  <a:lnTo>
                    <a:pt x="1520" y="810"/>
                  </a:lnTo>
                  <a:lnTo>
                    <a:pt x="1510" y="821"/>
                  </a:lnTo>
                  <a:lnTo>
                    <a:pt x="1497" y="835"/>
                  </a:lnTo>
                  <a:lnTo>
                    <a:pt x="1490" y="842"/>
                  </a:lnTo>
                  <a:lnTo>
                    <a:pt x="1481" y="851"/>
                  </a:lnTo>
                  <a:lnTo>
                    <a:pt x="1473" y="858"/>
                  </a:lnTo>
                  <a:lnTo>
                    <a:pt x="1462" y="867"/>
                  </a:lnTo>
                  <a:lnTo>
                    <a:pt x="1453" y="874"/>
                  </a:lnTo>
                  <a:lnTo>
                    <a:pt x="1443" y="881"/>
                  </a:lnTo>
                  <a:lnTo>
                    <a:pt x="1432" y="888"/>
                  </a:lnTo>
                  <a:lnTo>
                    <a:pt x="1423" y="895"/>
                  </a:lnTo>
                  <a:lnTo>
                    <a:pt x="1413" y="900"/>
                  </a:lnTo>
                  <a:lnTo>
                    <a:pt x="1397" y="906"/>
                  </a:lnTo>
                  <a:lnTo>
                    <a:pt x="1381" y="911"/>
                  </a:lnTo>
                  <a:lnTo>
                    <a:pt x="1363" y="914"/>
                  </a:lnTo>
                  <a:lnTo>
                    <a:pt x="1347" y="920"/>
                  </a:lnTo>
                  <a:lnTo>
                    <a:pt x="1335" y="921"/>
                  </a:lnTo>
                  <a:lnTo>
                    <a:pt x="1326" y="925"/>
                  </a:lnTo>
                  <a:lnTo>
                    <a:pt x="1322" y="925"/>
                  </a:lnTo>
                  <a:lnTo>
                    <a:pt x="1319" y="944"/>
                  </a:lnTo>
                  <a:lnTo>
                    <a:pt x="1321" y="944"/>
                  </a:lnTo>
                  <a:lnTo>
                    <a:pt x="1326" y="944"/>
                  </a:lnTo>
                  <a:lnTo>
                    <a:pt x="1335" y="944"/>
                  </a:lnTo>
                  <a:lnTo>
                    <a:pt x="1344" y="946"/>
                  </a:lnTo>
                  <a:lnTo>
                    <a:pt x="1356" y="946"/>
                  </a:lnTo>
                  <a:lnTo>
                    <a:pt x="1367" y="950"/>
                  </a:lnTo>
                  <a:lnTo>
                    <a:pt x="1377" y="952"/>
                  </a:lnTo>
                  <a:lnTo>
                    <a:pt x="1388" y="955"/>
                  </a:lnTo>
                  <a:lnTo>
                    <a:pt x="1398" y="960"/>
                  </a:lnTo>
                  <a:lnTo>
                    <a:pt x="1411" y="971"/>
                  </a:lnTo>
                  <a:lnTo>
                    <a:pt x="1423" y="983"/>
                  </a:lnTo>
                  <a:lnTo>
                    <a:pt x="1436" y="1001"/>
                  </a:lnTo>
                  <a:lnTo>
                    <a:pt x="1448" y="1019"/>
                  </a:lnTo>
                  <a:lnTo>
                    <a:pt x="1457" y="1040"/>
                  </a:lnTo>
                  <a:lnTo>
                    <a:pt x="1462" y="1061"/>
                  </a:lnTo>
                  <a:lnTo>
                    <a:pt x="1462" y="1084"/>
                  </a:lnTo>
                  <a:lnTo>
                    <a:pt x="1462" y="1109"/>
                  </a:lnTo>
                  <a:lnTo>
                    <a:pt x="1469" y="1135"/>
                  </a:lnTo>
                  <a:lnTo>
                    <a:pt x="1476" y="1162"/>
                  </a:lnTo>
                  <a:lnTo>
                    <a:pt x="1487" y="1188"/>
                  </a:lnTo>
                  <a:lnTo>
                    <a:pt x="1497" y="1213"/>
                  </a:lnTo>
                  <a:lnTo>
                    <a:pt x="1508" y="1231"/>
                  </a:lnTo>
                  <a:lnTo>
                    <a:pt x="1515" y="1243"/>
                  </a:lnTo>
                  <a:lnTo>
                    <a:pt x="1517" y="1249"/>
                  </a:lnTo>
                  <a:lnTo>
                    <a:pt x="1519" y="1250"/>
                  </a:lnTo>
                  <a:lnTo>
                    <a:pt x="1526" y="1254"/>
                  </a:lnTo>
                  <a:lnTo>
                    <a:pt x="1536" y="1259"/>
                  </a:lnTo>
                  <a:lnTo>
                    <a:pt x="1549" y="1264"/>
                  </a:lnTo>
                  <a:lnTo>
                    <a:pt x="1559" y="1273"/>
                  </a:lnTo>
                  <a:lnTo>
                    <a:pt x="1572" y="1282"/>
                  </a:lnTo>
                  <a:lnTo>
                    <a:pt x="1580" y="1289"/>
                  </a:lnTo>
                  <a:lnTo>
                    <a:pt x="1586" y="1298"/>
                  </a:lnTo>
                  <a:lnTo>
                    <a:pt x="1591" y="1303"/>
                  </a:lnTo>
                  <a:lnTo>
                    <a:pt x="1600" y="1303"/>
                  </a:lnTo>
                  <a:lnTo>
                    <a:pt x="1610" y="1298"/>
                  </a:lnTo>
                  <a:lnTo>
                    <a:pt x="1621" y="1293"/>
                  </a:lnTo>
                  <a:lnTo>
                    <a:pt x="1632" y="1284"/>
                  </a:lnTo>
                  <a:lnTo>
                    <a:pt x="1640" y="1275"/>
                  </a:lnTo>
                  <a:lnTo>
                    <a:pt x="1647" y="1266"/>
                  </a:lnTo>
                  <a:lnTo>
                    <a:pt x="1651" y="1257"/>
                  </a:lnTo>
                  <a:lnTo>
                    <a:pt x="1655" y="1250"/>
                  </a:lnTo>
                  <a:lnTo>
                    <a:pt x="1660" y="1240"/>
                  </a:lnTo>
                  <a:lnTo>
                    <a:pt x="1665" y="1231"/>
                  </a:lnTo>
                  <a:lnTo>
                    <a:pt x="1674" y="1222"/>
                  </a:lnTo>
                  <a:lnTo>
                    <a:pt x="1681" y="1213"/>
                  </a:lnTo>
                  <a:lnTo>
                    <a:pt x="1690" y="1206"/>
                  </a:lnTo>
                  <a:lnTo>
                    <a:pt x="1699" y="1201"/>
                  </a:lnTo>
                  <a:lnTo>
                    <a:pt x="1706" y="1197"/>
                  </a:lnTo>
                  <a:lnTo>
                    <a:pt x="1720" y="1196"/>
                  </a:lnTo>
                  <a:lnTo>
                    <a:pt x="1730" y="1194"/>
                  </a:lnTo>
                  <a:lnTo>
                    <a:pt x="1738" y="1199"/>
                  </a:lnTo>
                  <a:lnTo>
                    <a:pt x="1741" y="1213"/>
                  </a:lnTo>
                  <a:lnTo>
                    <a:pt x="1738" y="1234"/>
                  </a:lnTo>
                  <a:lnTo>
                    <a:pt x="1730" y="1254"/>
                  </a:lnTo>
                  <a:lnTo>
                    <a:pt x="1723" y="1270"/>
                  </a:lnTo>
                  <a:lnTo>
                    <a:pt x="1720" y="1277"/>
                  </a:lnTo>
                  <a:lnTo>
                    <a:pt x="1722" y="1275"/>
                  </a:lnTo>
                  <a:lnTo>
                    <a:pt x="1727" y="1272"/>
                  </a:lnTo>
                  <a:lnTo>
                    <a:pt x="1734" y="1264"/>
                  </a:lnTo>
                  <a:lnTo>
                    <a:pt x="1743" y="1257"/>
                  </a:lnTo>
                  <a:lnTo>
                    <a:pt x="1752" y="1252"/>
                  </a:lnTo>
                  <a:lnTo>
                    <a:pt x="1760" y="1247"/>
                  </a:lnTo>
                  <a:lnTo>
                    <a:pt x="1768" y="1243"/>
                  </a:lnTo>
                  <a:lnTo>
                    <a:pt x="1775" y="1243"/>
                  </a:lnTo>
                  <a:lnTo>
                    <a:pt x="1785" y="1249"/>
                  </a:lnTo>
                  <a:lnTo>
                    <a:pt x="1792" y="1254"/>
                  </a:lnTo>
                  <a:lnTo>
                    <a:pt x="1798" y="1264"/>
                  </a:lnTo>
                  <a:lnTo>
                    <a:pt x="1799" y="1277"/>
                  </a:lnTo>
                  <a:lnTo>
                    <a:pt x="1794" y="1296"/>
                  </a:lnTo>
                  <a:lnTo>
                    <a:pt x="1783" y="1319"/>
                  </a:lnTo>
                  <a:lnTo>
                    <a:pt x="1771" y="1339"/>
                  </a:lnTo>
                  <a:lnTo>
                    <a:pt x="1766" y="1348"/>
                  </a:lnTo>
                  <a:lnTo>
                    <a:pt x="1849" y="1342"/>
                  </a:lnTo>
                  <a:lnTo>
                    <a:pt x="1852" y="1344"/>
                  </a:lnTo>
                  <a:lnTo>
                    <a:pt x="1858" y="1351"/>
                  </a:lnTo>
                  <a:lnTo>
                    <a:pt x="1863" y="1363"/>
                  </a:lnTo>
                  <a:lnTo>
                    <a:pt x="1859" y="1378"/>
                  </a:lnTo>
                  <a:lnTo>
                    <a:pt x="1854" y="1385"/>
                  </a:lnTo>
                  <a:lnTo>
                    <a:pt x="1847" y="1390"/>
                  </a:lnTo>
                  <a:lnTo>
                    <a:pt x="1838" y="1395"/>
                  </a:lnTo>
                  <a:lnTo>
                    <a:pt x="1829" y="1401"/>
                  </a:lnTo>
                  <a:lnTo>
                    <a:pt x="1819" y="1406"/>
                  </a:lnTo>
                  <a:lnTo>
                    <a:pt x="1810" y="1409"/>
                  </a:lnTo>
                  <a:lnTo>
                    <a:pt x="1803" y="1413"/>
                  </a:lnTo>
                  <a:lnTo>
                    <a:pt x="1796" y="1417"/>
                  </a:lnTo>
                  <a:lnTo>
                    <a:pt x="1785" y="1424"/>
                  </a:lnTo>
                  <a:lnTo>
                    <a:pt x="1776" y="1429"/>
                  </a:lnTo>
                  <a:lnTo>
                    <a:pt x="1773" y="1436"/>
                  </a:lnTo>
                  <a:lnTo>
                    <a:pt x="1775" y="1447"/>
                  </a:lnTo>
                  <a:lnTo>
                    <a:pt x="1785" y="1461"/>
                  </a:lnTo>
                  <a:lnTo>
                    <a:pt x="1798" y="1475"/>
                  </a:lnTo>
                  <a:lnTo>
                    <a:pt x="1812" y="1485"/>
                  </a:lnTo>
                  <a:lnTo>
                    <a:pt x="1824" y="1491"/>
                  </a:lnTo>
                  <a:lnTo>
                    <a:pt x="1833" y="1498"/>
                  </a:lnTo>
                  <a:lnTo>
                    <a:pt x="1835" y="1510"/>
                  </a:lnTo>
                  <a:lnTo>
                    <a:pt x="1835" y="1521"/>
                  </a:lnTo>
                  <a:lnTo>
                    <a:pt x="1835" y="1526"/>
                  </a:lnTo>
                  <a:lnTo>
                    <a:pt x="1833" y="1526"/>
                  </a:lnTo>
                  <a:lnTo>
                    <a:pt x="1829" y="1528"/>
                  </a:lnTo>
                  <a:lnTo>
                    <a:pt x="1824" y="1530"/>
                  </a:lnTo>
                  <a:lnTo>
                    <a:pt x="1817" y="1531"/>
                  </a:lnTo>
                  <a:lnTo>
                    <a:pt x="1808" y="1533"/>
                  </a:lnTo>
                  <a:lnTo>
                    <a:pt x="1799" y="1535"/>
                  </a:lnTo>
                  <a:lnTo>
                    <a:pt x="1789" y="1537"/>
                  </a:lnTo>
                  <a:lnTo>
                    <a:pt x="1780" y="1537"/>
                  </a:lnTo>
                  <a:lnTo>
                    <a:pt x="1771" y="1537"/>
                  </a:lnTo>
                  <a:lnTo>
                    <a:pt x="1762" y="1540"/>
                  </a:lnTo>
                  <a:lnTo>
                    <a:pt x="1755" y="1544"/>
                  </a:lnTo>
                  <a:lnTo>
                    <a:pt x="1748" y="1547"/>
                  </a:lnTo>
                  <a:lnTo>
                    <a:pt x="1739" y="1553"/>
                  </a:lnTo>
                  <a:lnTo>
                    <a:pt x="1730" y="1560"/>
                  </a:lnTo>
                  <a:lnTo>
                    <a:pt x="1722" y="1565"/>
                  </a:lnTo>
                  <a:lnTo>
                    <a:pt x="1711" y="1570"/>
                  </a:lnTo>
                  <a:lnTo>
                    <a:pt x="1692" y="1581"/>
                  </a:lnTo>
                  <a:lnTo>
                    <a:pt x="1677" y="1592"/>
                  </a:lnTo>
                  <a:lnTo>
                    <a:pt x="1669" y="1599"/>
                  </a:lnTo>
                  <a:lnTo>
                    <a:pt x="1665" y="1600"/>
                  </a:lnTo>
                  <a:lnTo>
                    <a:pt x="1586" y="1622"/>
                  </a:lnTo>
                  <a:lnTo>
                    <a:pt x="1584" y="1623"/>
                  </a:lnTo>
                  <a:lnTo>
                    <a:pt x="1577" y="1627"/>
                  </a:lnTo>
                  <a:lnTo>
                    <a:pt x="1566" y="1630"/>
                  </a:lnTo>
                  <a:lnTo>
                    <a:pt x="1552" y="1636"/>
                  </a:lnTo>
                  <a:lnTo>
                    <a:pt x="1538" y="1643"/>
                  </a:lnTo>
                  <a:lnTo>
                    <a:pt x="1522" y="1648"/>
                  </a:lnTo>
                  <a:lnTo>
                    <a:pt x="1506" y="1652"/>
                  </a:lnTo>
                  <a:lnTo>
                    <a:pt x="1492" y="1655"/>
                  </a:lnTo>
                  <a:lnTo>
                    <a:pt x="1474" y="1652"/>
                  </a:lnTo>
                  <a:lnTo>
                    <a:pt x="1451" y="1638"/>
                  </a:lnTo>
                  <a:lnTo>
                    <a:pt x="1425" y="1616"/>
                  </a:lnTo>
                  <a:lnTo>
                    <a:pt x="1395" y="1590"/>
                  </a:lnTo>
                  <a:lnTo>
                    <a:pt x="1368" y="1561"/>
                  </a:lnTo>
                  <a:lnTo>
                    <a:pt x="1345" y="1533"/>
                  </a:lnTo>
                  <a:lnTo>
                    <a:pt x="1328" y="1507"/>
                  </a:lnTo>
                  <a:lnTo>
                    <a:pt x="1319" y="1487"/>
                  </a:lnTo>
                  <a:lnTo>
                    <a:pt x="1308" y="1471"/>
                  </a:lnTo>
                  <a:lnTo>
                    <a:pt x="1296" y="1485"/>
                  </a:lnTo>
                  <a:lnTo>
                    <a:pt x="1285" y="1512"/>
                  </a:lnTo>
                  <a:lnTo>
                    <a:pt x="1278" y="1537"/>
                  </a:lnTo>
                  <a:lnTo>
                    <a:pt x="1273" y="1549"/>
                  </a:lnTo>
                  <a:lnTo>
                    <a:pt x="1264" y="1565"/>
                  </a:lnTo>
                  <a:lnTo>
                    <a:pt x="1252" y="1586"/>
                  </a:lnTo>
                  <a:lnTo>
                    <a:pt x="1238" y="1609"/>
                  </a:lnTo>
                  <a:lnTo>
                    <a:pt x="1222" y="1634"/>
                  </a:lnTo>
                  <a:lnTo>
                    <a:pt x="1208" y="1659"/>
                  </a:lnTo>
                  <a:lnTo>
                    <a:pt x="1194" y="1683"/>
                  </a:lnTo>
                  <a:lnTo>
                    <a:pt x="1185" y="1705"/>
                  </a:lnTo>
                  <a:lnTo>
                    <a:pt x="1167" y="1749"/>
                  </a:lnTo>
                  <a:lnTo>
                    <a:pt x="1151" y="1795"/>
                  </a:lnTo>
                  <a:lnTo>
                    <a:pt x="1139" y="1828"/>
                  </a:lnTo>
                  <a:lnTo>
                    <a:pt x="1133" y="1843"/>
                  </a:lnTo>
                  <a:lnTo>
                    <a:pt x="1130" y="1846"/>
                  </a:lnTo>
                  <a:lnTo>
                    <a:pt x="1121" y="1857"/>
                  </a:lnTo>
                  <a:lnTo>
                    <a:pt x="1112" y="1876"/>
                  </a:lnTo>
                  <a:lnTo>
                    <a:pt x="1109" y="1903"/>
                  </a:lnTo>
                  <a:lnTo>
                    <a:pt x="1105" y="1936"/>
                  </a:lnTo>
                  <a:lnTo>
                    <a:pt x="1096" y="2002"/>
                  </a:lnTo>
                  <a:lnTo>
                    <a:pt x="1082" y="2088"/>
                  </a:lnTo>
                  <a:lnTo>
                    <a:pt x="1066" y="2186"/>
                  </a:lnTo>
                  <a:lnTo>
                    <a:pt x="1050" y="2281"/>
                  </a:lnTo>
                  <a:lnTo>
                    <a:pt x="1036" y="2362"/>
                  </a:lnTo>
                  <a:lnTo>
                    <a:pt x="1026" y="2423"/>
                  </a:lnTo>
                  <a:lnTo>
                    <a:pt x="1020" y="2449"/>
                  </a:lnTo>
                  <a:lnTo>
                    <a:pt x="1008" y="2472"/>
                  </a:lnTo>
                  <a:lnTo>
                    <a:pt x="980" y="2525"/>
                  </a:lnTo>
                  <a:lnTo>
                    <a:pt x="939" y="2596"/>
                  </a:lnTo>
                  <a:lnTo>
                    <a:pt x="892" y="2679"/>
                  </a:lnTo>
                  <a:lnTo>
                    <a:pt x="844" y="2762"/>
                  </a:lnTo>
                  <a:lnTo>
                    <a:pt x="801" y="2836"/>
                  </a:lnTo>
                  <a:lnTo>
                    <a:pt x="768" y="2891"/>
                  </a:lnTo>
                  <a:lnTo>
                    <a:pt x="748" y="2921"/>
                  </a:lnTo>
                  <a:lnTo>
                    <a:pt x="738" y="2937"/>
                  </a:lnTo>
                  <a:lnTo>
                    <a:pt x="722" y="2960"/>
                  </a:lnTo>
                  <a:lnTo>
                    <a:pt x="706" y="2985"/>
                  </a:lnTo>
                  <a:lnTo>
                    <a:pt x="690" y="3010"/>
                  </a:lnTo>
                  <a:lnTo>
                    <a:pt x="674" y="3033"/>
                  </a:lnTo>
                  <a:lnTo>
                    <a:pt x="662" y="3054"/>
                  </a:lnTo>
                  <a:lnTo>
                    <a:pt x="653" y="3066"/>
                  </a:lnTo>
                  <a:lnTo>
                    <a:pt x="650" y="3071"/>
                  </a:lnTo>
                  <a:lnTo>
                    <a:pt x="646" y="3075"/>
                  </a:lnTo>
                  <a:lnTo>
                    <a:pt x="641" y="3086"/>
                  </a:lnTo>
                  <a:lnTo>
                    <a:pt x="639" y="3098"/>
                  </a:lnTo>
                  <a:lnTo>
                    <a:pt x="650" y="3110"/>
                  </a:lnTo>
                  <a:lnTo>
                    <a:pt x="658" y="3116"/>
                  </a:lnTo>
                  <a:lnTo>
                    <a:pt x="665" y="3117"/>
                  </a:lnTo>
                  <a:lnTo>
                    <a:pt x="673" y="3119"/>
                  </a:lnTo>
                  <a:lnTo>
                    <a:pt x="680" y="3119"/>
                  </a:lnTo>
                  <a:lnTo>
                    <a:pt x="687" y="3117"/>
                  </a:lnTo>
                  <a:lnTo>
                    <a:pt x="695" y="3117"/>
                  </a:lnTo>
                  <a:lnTo>
                    <a:pt x="703" y="3116"/>
                  </a:lnTo>
                  <a:lnTo>
                    <a:pt x="713" y="3116"/>
                  </a:lnTo>
                  <a:lnTo>
                    <a:pt x="724" y="3116"/>
                  </a:lnTo>
                  <a:lnTo>
                    <a:pt x="734" y="3114"/>
                  </a:lnTo>
                  <a:lnTo>
                    <a:pt x="743" y="3114"/>
                  </a:lnTo>
                  <a:lnTo>
                    <a:pt x="752" y="3114"/>
                  </a:lnTo>
                  <a:lnTo>
                    <a:pt x="759" y="3116"/>
                  </a:lnTo>
                  <a:lnTo>
                    <a:pt x="764" y="3117"/>
                  </a:lnTo>
                  <a:lnTo>
                    <a:pt x="770" y="3123"/>
                  </a:lnTo>
                  <a:lnTo>
                    <a:pt x="773" y="3132"/>
                  </a:lnTo>
                  <a:lnTo>
                    <a:pt x="778" y="3151"/>
                  </a:lnTo>
                  <a:lnTo>
                    <a:pt x="777" y="3167"/>
                  </a:lnTo>
                  <a:lnTo>
                    <a:pt x="775" y="3179"/>
                  </a:lnTo>
                  <a:lnTo>
                    <a:pt x="773" y="3185"/>
                  </a:lnTo>
                  <a:lnTo>
                    <a:pt x="777" y="3185"/>
                  </a:lnTo>
                  <a:lnTo>
                    <a:pt x="784" y="3185"/>
                  </a:lnTo>
                  <a:lnTo>
                    <a:pt x="794" y="3188"/>
                  </a:lnTo>
                  <a:lnTo>
                    <a:pt x="803" y="3195"/>
                  </a:lnTo>
                  <a:lnTo>
                    <a:pt x="810" y="3208"/>
                  </a:lnTo>
                  <a:lnTo>
                    <a:pt x="814" y="3222"/>
                  </a:lnTo>
                  <a:lnTo>
                    <a:pt x="817" y="3232"/>
                  </a:lnTo>
                  <a:lnTo>
                    <a:pt x="817" y="3236"/>
                  </a:lnTo>
                  <a:lnTo>
                    <a:pt x="817" y="3239"/>
                  </a:lnTo>
                  <a:lnTo>
                    <a:pt x="816" y="3246"/>
                  </a:lnTo>
                  <a:lnTo>
                    <a:pt x="816" y="3259"/>
                  </a:lnTo>
                  <a:lnTo>
                    <a:pt x="817" y="3269"/>
                  </a:lnTo>
                  <a:lnTo>
                    <a:pt x="819" y="3280"/>
                  </a:lnTo>
                  <a:lnTo>
                    <a:pt x="819" y="3289"/>
                  </a:lnTo>
                  <a:lnTo>
                    <a:pt x="817" y="3299"/>
                  </a:lnTo>
                  <a:lnTo>
                    <a:pt x="814" y="3310"/>
                  </a:lnTo>
                  <a:lnTo>
                    <a:pt x="809" y="3322"/>
                  </a:lnTo>
                  <a:lnTo>
                    <a:pt x="798" y="3335"/>
                  </a:lnTo>
                  <a:lnTo>
                    <a:pt x="784" y="3342"/>
                  </a:lnTo>
                  <a:lnTo>
                    <a:pt x="764" y="3344"/>
                  </a:lnTo>
                  <a:lnTo>
                    <a:pt x="754" y="3342"/>
                  </a:lnTo>
                  <a:lnTo>
                    <a:pt x="743" y="3340"/>
                  </a:lnTo>
                  <a:lnTo>
                    <a:pt x="734" y="3338"/>
                  </a:lnTo>
                  <a:lnTo>
                    <a:pt x="724" y="3337"/>
                  </a:lnTo>
                  <a:lnTo>
                    <a:pt x="715" y="3335"/>
                  </a:lnTo>
                  <a:lnTo>
                    <a:pt x="704" y="3335"/>
                  </a:lnTo>
                  <a:lnTo>
                    <a:pt x="695" y="3337"/>
                  </a:lnTo>
                  <a:lnTo>
                    <a:pt x="685" y="3340"/>
                  </a:lnTo>
                  <a:lnTo>
                    <a:pt x="674" y="3342"/>
                  </a:lnTo>
                  <a:lnTo>
                    <a:pt x="664" y="3344"/>
                  </a:lnTo>
                  <a:lnTo>
                    <a:pt x="653" y="3342"/>
                  </a:lnTo>
                  <a:lnTo>
                    <a:pt x="642" y="3340"/>
                  </a:lnTo>
                  <a:lnTo>
                    <a:pt x="630" y="3338"/>
                  </a:lnTo>
                  <a:lnTo>
                    <a:pt x="614" y="3337"/>
                  </a:lnTo>
                  <a:lnTo>
                    <a:pt x="597" y="3335"/>
                  </a:lnTo>
                  <a:lnTo>
                    <a:pt x="575" y="3335"/>
                  </a:lnTo>
                  <a:lnTo>
                    <a:pt x="552" y="3335"/>
                  </a:lnTo>
                  <a:lnTo>
                    <a:pt x="535" y="3337"/>
                  </a:lnTo>
                  <a:lnTo>
                    <a:pt x="519" y="3337"/>
                  </a:lnTo>
                  <a:lnTo>
                    <a:pt x="506" y="3338"/>
                  </a:lnTo>
                  <a:lnTo>
                    <a:pt x="494" y="3340"/>
                  </a:lnTo>
                  <a:lnTo>
                    <a:pt x="482" y="3340"/>
                  </a:lnTo>
                  <a:lnTo>
                    <a:pt x="469" y="3340"/>
                  </a:lnTo>
                  <a:lnTo>
                    <a:pt x="455" y="3340"/>
                  </a:lnTo>
                  <a:lnTo>
                    <a:pt x="441" y="3338"/>
                  </a:lnTo>
                  <a:lnTo>
                    <a:pt x="427" y="3335"/>
                  </a:lnTo>
                  <a:lnTo>
                    <a:pt x="413" y="3330"/>
                  </a:lnTo>
                  <a:lnTo>
                    <a:pt x="401" y="3322"/>
                  </a:lnTo>
                  <a:lnTo>
                    <a:pt x="390" y="3314"/>
                  </a:lnTo>
                  <a:lnTo>
                    <a:pt x="381" y="3303"/>
                  </a:lnTo>
                  <a:lnTo>
                    <a:pt x="374" y="3287"/>
                  </a:lnTo>
                  <a:lnTo>
                    <a:pt x="370" y="3269"/>
                  </a:lnTo>
                  <a:lnTo>
                    <a:pt x="370" y="3229"/>
                  </a:lnTo>
                  <a:lnTo>
                    <a:pt x="379" y="3190"/>
                  </a:lnTo>
                  <a:lnTo>
                    <a:pt x="393" y="3158"/>
                  </a:lnTo>
                  <a:lnTo>
                    <a:pt x="416" y="3135"/>
                  </a:lnTo>
                  <a:lnTo>
                    <a:pt x="436" y="3100"/>
                  </a:lnTo>
                  <a:lnTo>
                    <a:pt x="445" y="3038"/>
                  </a:lnTo>
                  <a:lnTo>
                    <a:pt x="446" y="2981"/>
                  </a:lnTo>
                  <a:lnTo>
                    <a:pt x="446" y="2956"/>
                  </a:lnTo>
                  <a:lnTo>
                    <a:pt x="450" y="2817"/>
                  </a:lnTo>
                  <a:lnTo>
                    <a:pt x="446" y="2815"/>
                  </a:lnTo>
                  <a:lnTo>
                    <a:pt x="438" y="2813"/>
                  </a:lnTo>
                  <a:lnTo>
                    <a:pt x="425" y="2813"/>
                  </a:lnTo>
                  <a:lnTo>
                    <a:pt x="411" y="2817"/>
                  </a:lnTo>
                  <a:lnTo>
                    <a:pt x="404" y="2820"/>
                  </a:lnTo>
                  <a:lnTo>
                    <a:pt x="397" y="2824"/>
                  </a:lnTo>
                  <a:lnTo>
                    <a:pt x="390" y="2827"/>
                  </a:lnTo>
                  <a:lnTo>
                    <a:pt x="383" y="2829"/>
                  </a:lnTo>
                  <a:lnTo>
                    <a:pt x="374" y="2831"/>
                  </a:lnTo>
                  <a:lnTo>
                    <a:pt x="365" y="2829"/>
                  </a:lnTo>
                  <a:lnTo>
                    <a:pt x="356" y="2827"/>
                  </a:lnTo>
                  <a:lnTo>
                    <a:pt x="346" y="2822"/>
                  </a:lnTo>
                  <a:lnTo>
                    <a:pt x="337" y="2817"/>
                  </a:lnTo>
                  <a:lnTo>
                    <a:pt x="330" y="2808"/>
                  </a:lnTo>
                  <a:lnTo>
                    <a:pt x="325" y="2801"/>
                  </a:lnTo>
                  <a:lnTo>
                    <a:pt x="321" y="2792"/>
                  </a:lnTo>
                  <a:lnTo>
                    <a:pt x="316" y="2785"/>
                  </a:lnTo>
                  <a:lnTo>
                    <a:pt x="310" y="2781"/>
                  </a:lnTo>
                  <a:lnTo>
                    <a:pt x="302" y="2778"/>
                  </a:lnTo>
                  <a:lnTo>
                    <a:pt x="291" y="2778"/>
                  </a:lnTo>
                  <a:lnTo>
                    <a:pt x="279" y="2780"/>
                  </a:lnTo>
                  <a:lnTo>
                    <a:pt x="268" y="2780"/>
                  </a:lnTo>
                  <a:lnTo>
                    <a:pt x="259" y="2778"/>
                  </a:lnTo>
                  <a:lnTo>
                    <a:pt x="250" y="2776"/>
                  </a:lnTo>
                  <a:lnTo>
                    <a:pt x="245" y="2771"/>
                  </a:lnTo>
                  <a:lnTo>
                    <a:pt x="240" y="2764"/>
                  </a:lnTo>
                  <a:lnTo>
                    <a:pt x="238" y="2755"/>
                  </a:lnTo>
                  <a:lnTo>
                    <a:pt x="236" y="2743"/>
                  </a:lnTo>
                  <a:lnTo>
                    <a:pt x="240" y="2705"/>
                  </a:lnTo>
                  <a:lnTo>
                    <a:pt x="250" y="2658"/>
                  </a:lnTo>
                  <a:lnTo>
                    <a:pt x="259" y="2617"/>
                  </a:lnTo>
                  <a:lnTo>
                    <a:pt x="263" y="2599"/>
                  </a:lnTo>
                  <a:lnTo>
                    <a:pt x="259" y="2596"/>
                  </a:lnTo>
                  <a:lnTo>
                    <a:pt x="249" y="2589"/>
                  </a:lnTo>
                  <a:lnTo>
                    <a:pt x="235" y="2575"/>
                  </a:lnTo>
                  <a:lnTo>
                    <a:pt x="222" y="2559"/>
                  </a:lnTo>
                  <a:lnTo>
                    <a:pt x="219" y="2546"/>
                  </a:lnTo>
                  <a:lnTo>
                    <a:pt x="217" y="2530"/>
                  </a:lnTo>
                  <a:lnTo>
                    <a:pt x="219" y="2509"/>
                  </a:lnTo>
                  <a:lnTo>
                    <a:pt x="224" y="2488"/>
                  </a:lnTo>
                  <a:lnTo>
                    <a:pt x="231" y="2469"/>
                  </a:lnTo>
                  <a:lnTo>
                    <a:pt x="240" y="2451"/>
                  </a:lnTo>
                  <a:lnTo>
                    <a:pt x="250" y="2437"/>
                  </a:lnTo>
                  <a:lnTo>
                    <a:pt x="263" y="2430"/>
                  </a:lnTo>
                  <a:lnTo>
                    <a:pt x="277" y="2426"/>
                  </a:lnTo>
                  <a:lnTo>
                    <a:pt x="295" y="2421"/>
                  </a:lnTo>
                  <a:lnTo>
                    <a:pt x="314" y="2415"/>
                  </a:lnTo>
                  <a:lnTo>
                    <a:pt x="332" y="2410"/>
                  </a:lnTo>
                  <a:lnTo>
                    <a:pt x="349" y="2407"/>
                  </a:lnTo>
                  <a:lnTo>
                    <a:pt x="363" y="2403"/>
                  </a:lnTo>
                  <a:lnTo>
                    <a:pt x="372" y="2400"/>
                  </a:lnTo>
                  <a:lnTo>
                    <a:pt x="376" y="2400"/>
                  </a:lnTo>
                  <a:lnTo>
                    <a:pt x="411" y="2331"/>
                  </a:lnTo>
                  <a:lnTo>
                    <a:pt x="413" y="2327"/>
                  </a:lnTo>
                  <a:lnTo>
                    <a:pt x="422" y="2316"/>
                  </a:lnTo>
                  <a:lnTo>
                    <a:pt x="431" y="2301"/>
                  </a:lnTo>
                  <a:lnTo>
                    <a:pt x="445" y="2283"/>
                  </a:lnTo>
                  <a:lnTo>
                    <a:pt x="459" y="2263"/>
                  </a:lnTo>
                  <a:lnTo>
                    <a:pt x="473" y="2246"/>
                  </a:lnTo>
                  <a:lnTo>
                    <a:pt x="485" y="2232"/>
                  </a:lnTo>
                  <a:lnTo>
                    <a:pt x="496" y="2221"/>
                  </a:lnTo>
                  <a:lnTo>
                    <a:pt x="499" y="2212"/>
                  </a:lnTo>
                  <a:lnTo>
                    <a:pt x="494" y="2198"/>
                  </a:lnTo>
                  <a:lnTo>
                    <a:pt x="484" y="2182"/>
                  </a:lnTo>
                  <a:lnTo>
                    <a:pt x="466" y="2164"/>
                  </a:lnTo>
                  <a:lnTo>
                    <a:pt x="446" y="2147"/>
                  </a:lnTo>
                  <a:lnTo>
                    <a:pt x="427" y="2127"/>
                  </a:lnTo>
                  <a:lnTo>
                    <a:pt x="409" y="2111"/>
                  </a:lnTo>
                  <a:lnTo>
                    <a:pt x="395" y="2097"/>
                  </a:lnTo>
                  <a:lnTo>
                    <a:pt x="381" y="2078"/>
                  </a:lnTo>
                  <a:lnTo>
                    <a:pt x="362" y="2048"/>
                  </a:lnTo>
                  <a:lnTo>
                    <a:pt x="340" y="2009"/>
                  </a:lnTo>
                  <a:lnTo>
                    <a:pt x="321" y="1963"/>
                  </a:lnTo>
                  <a:lnTo>
                    <a:pt x="309" y="1915"/>
                  </a:lnTo>
                  <a:lnTo>
                    <a:pt x="305" y="1866"/>
                  </a:lnTo>
                  <a:lnTo>
                    <a:pt x="318" y="1820"/>
                  </a:lnTo>
                  <a:lnTo>
                    <a:pt x="346" y="1775"/>
                  </a:lnTo>
                  <a:lnTo>
                    <a:pt x="379" y="1735"/>
                  </a:lnTo>
                  <a:lnTo>
                    <a:pt x="406" y="1699"/>
                  </a:lnTo>
                  <a:lnTo>
                    <a:pt x="425" y="1666"/>
                  </a:lnTo>
                  <a:lnTo>
                    <a:pt x="438" y="1638"/>
                  </a:lnTo>
                  <a:lnTo>
                    <a:pt x="445" y="1613"/>
                  </a:lnTo>
                  <a:lnTo>
                    <a:pt x="448" y="1595"/>
                  </a:lnTo>
                  <a:lnTo>
                    <a:pt x="450" y="1584"/>
                  </a:lnTo>
                  <a:lnTo>
                    <a:pt x="450" y="1581"/>
                  </a:lnTo>
                  <a:lnTo>
                    <a:pt x="452" y="1579"/>
                  </a:lnTo>
                  <a:lnTo>
                    <a:pt x="457" y="1574"/>
                  </a:lnTo>
                  <a:lnTo>
                    <a:pt x="464" y="1567"/>
                  </a:lnTo>
                  <a:lnTo>
                    <a:pt x="473" y="1558"/>
                  </a:lnTo>
                  <a:lnTo>
                    <a:pt x="482" y="1551"/>
                  </a:lnTo>
                  <a:lnTo>
                    <a:pt x="491" y="1544"/>
                  </a:lnTo>
                  <a:lnTo>
                    <a:pt x="498" y="1539"/>
                  </a:lnTo>
                  <a:lnTo>
                    <a:pt x="505" y="1537"/>
                  </a:lnTo>
                  <a:lnTo>
                    <a:pt x="515" y="1530"/>
                  </a:lnTo>
                  <a:lnTo>
                    <a:pt x="526" y="1516"/>
                  </a:lnTo>
                  <a:lnTo>
                    <a:pt x="533" y="1503"/>
                  </a:lnTo>
                  <a:lnTo>
                    <a:pt x="535" y="1496"/>
                  </a:lnTo>
                  <a:lnTo>
                    <a:pt x="537" y="1494"/>
                  </a:lnTo>
                  <a:lnTo>
                    <a:pt x="540" y="1493"/>
                  </a:lnTo>
                  <a:lnTo>
                    <a:pt x="545" y="1487"/>
                  </a:lnTo>
                  <a:lnTo>
                    <a:pt x="554" y="1482"/>
                  </a:lnTo>
                  <a:lnTo>
                    <a:pt x="565" y="1475"/>
                  </a:lnTo>
                  <a:lnTo>
                    <a:pt x="575" y="1464"/>
                  </a:lnTo>
                  <a:lnTo>
                    <a:pt x="588" y="1454"/>
                  </a:lnTo>
                  <a:lnTo>
                    <a:pt x="600" y="1441"/>
                  </a:lnTo>
                  <a:lnTo>
                    <a:pt x="620" y="1406"/>
                  </a:lnTo>
                  <a:lnTo>
                    <a:pt x="628" y="1356"/>
                  </a:lnTo>
                  <a:lnTo>
                    <a:pt x="630" y="1309"/>
                  </a:lnTo>
                  <a:lnTo>
                    <a:pt x="630" y="1273"/>
                  </a:lnTo>
                  <a:lnTo>
                    <a:pt x="630" y="1241"/>
                  </a:lnTo>
                  <a:lnTo>
                    <a:pt x="632" y="1208"/>
                  </a:lnTo>
                  <a:lnTo>
                    <a:pt x="634" y="1180"/>
                  </a:lnTo>
                  <a:lnTo>
                    <a:pt x="634" y="1169"/>
                  </a:lnTo>
                  <a:lnTo>
                    <a:pt x="491" y="1194"/>
                  </a:lnTo>
                  <a:lnTo>
                    <a:pt x="485" y="1201"/>
                  </a:lnTo>
                  <a:lnTo>
                    <a:pt x="475" y="1217"/>
                  </a:lnTo>
                  <a:lnTo>
                    <a:pt x="462" y="1240"/>
                  </a:lnTo>
                  <a:lnTo>
                    <a:pt x="455" y="1263"/>
                  </a:lnTo>
                  <a:lnTo>
                    <a:pt x="454" y="1287"/>
                  </a:lnTo>
                  <a:lnTo>
                    <a:pt x="454" y="1314"/>
                  </a:lnTo>
                  <a:lnTo>
                    <a:pt x="452" y="1342"/>
                  </a:lnTo>
                  <a:lnTo>
                    <a:pt x="450" y="1372"/>
                  </a:lnTo>
                  <a:lnTo>
                    <a:pt x="441" y="1402"/>
                  </a:lnTo>
                  <a:lnTo>
                    <a:pt x="423" y="1432"/>
                  </a:lnTo>
                  <a:lnTo>
                    <a:pt x="408" y="1454"/>
                  </a:lnTo>
                  <a:lnTo>
                    <a:pt x="401" y="1462"/>
                  </a:lnTo>
                  <a:lnTo>
                    <a:pt x="397" y="1466"/>
                  </a:lnTo>
                  <a:lnTo>
                    <a:pt x="386" y="1475"/>
                  </a:lnTo>
                  <a:lnTo>
                    <a:pt x="376" y="1491"/>
                  </a:lnTo>
                  <a:lnTo>
                    <a:pt x="367" y="1516"/>
                  </a:lnTo>
                  <a:lnTo>
                    <a:pt x="362" y="1544"/>
                  </a:lnTo>
                  <a:lnTo>
                    <a:pt x="358" y="1565"/>
                  </a:lnTo>
                  <a:lnTo>
                    <a:pt x="355" y="1584"/>
                  </a:lnTo>
                  <a:lnTo>
                    <a:pt x="346" y="1600"/>
                  </a:lnTo>
                  <a:lnTo>
                    <a:pt x="339" y="1609"/>
                  </a:lnTo>
                  <a:lnTo>
                    <a:pt x="326" y="1618"/>
                  </a:lnTo>
                  <a:lnTo>
                    <a:pt x="312" y="1627"/>
                  </a:lnTo>
                  <a:lnTo>
                    <a:pt x="296" y="1636"/>
                  </a:lnTo>
                  <a:lnTo>
                    <a:pt x="282" y="1645"/>
                  </a:lnTo>
                  <a:lnTo>
                    <a:pt x="266" y="1652"/>
                  </a:lnTo>
                  <a:lnTo>
                    <a:pt x="256" y="1657"/>
                  </a:lnTo>
                  <a:lnTo>
                    <a:pt x="247" y="1661"/>
                  </a:lnTo>
                  <a:lnTo>
                    <a:pt x="240" y="1666"/>
                  </a:lnTo>
                  <a:lnTo>
                    <a:pt x="233" y="1678"/>
                  </a:lnTo>
                  <a:lnTo>
                    <a:pt x="222" y="1692"/>
                  </a:lnTo>
                  <a:lnTo>
                    <a:pt x="212" y="1710"/>
                  </a:lnTo>
                  <a:lnTo>
                    <a:pt x="199" y="1728"/>
                  </a:lnTo>
                  <a:lnTo>
                    <a:pt x="189" y="1745"/>
                  </a:lnTo>
                  <a:lnTo>
                    <a:pt x="178" y="1758"/>
                  </a:lnTo>
                  <a:lnTo>
                    <a:pt x="167" y="1765"/>
                  </a:lnTo>
                  <a:lnTo>
                    <a:pt x="157" y="1767"/>
                  </a:lnTo>
                  <a:lnTo>
                    <a:pt x="146" y="1765"/>
                  </a:lnTo>
                  <a:lnTo>
                    <a:pt x="136" y="1761"/>
                  </a:lnTo>
                  <a:lnTo>
                    <a:pt x="127" y="1756"/>
                  </a:lnTo>
                  <a:lnTo>
                    <a:pt x="118" y="1751"/>
                  </a:lnTo>
                  <a:lnTo>
                    <a:pt x="111" y="1745"/>
                  </a:lnTo>
                  <a:lnTo>
                    <a:pt x="106" y="1742"/>
                  </a:lnTo>
                  <a:lnTo>
                    <a:pt x="104" y="1740"/>
                  </a:lnTo>
                  <a:lnTo>
                    <a:pt x="100" y="1740"/>
                  </a:lnTo>
                  <a:lnTo>
                    <a:pt x="90" y="1740"/>
                  </a:lnTo>
                  <a:lnTo>
                    <a:pt x="76" y="1738"/>
                  </a:lnTo>
                  <a:lnTo>
                    <a:pt x="63" y="1729"/>
                  </a:lnTo>
                  <a:lnTo>
                    <a:pt x="54" y="1715"/>
                  </a:lnTo>
                  <a:lnTo>
                    <a:pt x="51" y="1699"/>
                  </a:lnTo>
                  <a:lnTo>
                    <a:pt x="49" y="1685"/>
                  </a:lnTo>
                  <a:lnTo>
                    <a:pt x="49" y="1680"/>
                  </a:lnTo>
                  <a:lnTo>
                    <a:pt x="14" y="1661"/>
                  </a:lnTo>
                  <a:lnTo>
                    <a:pt x="19" y="1625"/>
                  </a:lnTo>
                  <a:lnTo>
                    <a:pt x="14" y="1623"/>
                  </a:lnTo>
                  <a:lnTo>
                    <a:pt x="7" y="1616"/>
                  </a:lnTo>
                  <a:lnTo>
                    <a:pt x="0" y="1606"/>
                  </a:lnTo>
                  <a:lnTo>
                    <a:pt x="3" y="1592"/>
                  </a:lnTo>
                  <a:lnTo>
                    <a:pt x="12" y="1584"/>
                  </a:lnTo>
                  <a:lnTo>
                    <a:pt x="23" y="1576"/>
                  </a:lnTo>
                  <a:lnTo>
                    <a:pt x="37" y="1569"/>
                  </a:lnTo>
                  <a:lnTo>
                    <a:pt x="51" y="1563"/>
                  </a:lnTo>
                  <a:lnTo>
                    <a:pt x="67" y="1556"/>
                  </a:lnTo>
                  <a:lnTo>
                    <a:pt x="81" y="1553"/>
                  </a:lnTo>
                  <a:lnTo>
                    <a:pt x="93" y="1547"/>
                  </a:lnTo>
                  <a:lnTo>
                    <a:pt x="104" y="1546"/>
                  </a:lnTo>
                  <a:lnTo>
                    <a:pt x="114" y="1531"/>
                  </a:lnTo>
                  <a:lnTo>
                    <a:pt x="121" y="1500"/>
                  </a:lnTo>
                  <a:lnTo>
                    <a:pt x="127" y="1466"/>
                  </a:lnTo>
                  <a:lnTo>
                    <a:pt x="137" y="1441"/>
                  </a:lnTo>
                  <a:lnTo>
                    <a:pt x="146" y="1434"/>
                  </a:lnTo>
                  <a:lnTo>
                    <a:pt x="155" y="1425"/>
                  </a:lnTo>
                  <a:lnTo>
                    <a:pt x="167" y="1417"/>
                  </a:lnTo>
                  <a:lnTo>
                    <a:pt x="178" y="1409"/>
                  </a:lnTo>
                  <a:lnTo>
                    <a:pt x="187" y="1402"/>
                  </a:lnTo>
                  <a:lnTo>
                    <a:pt x="196" y="1397"/>
                  </a:lnTo>
                  <a:lnTo>
                    <a:pt x="201" y="1394"/>
                  </a:lnTo>
                  <a:lnTo>
                    <a:pt x="203" y="1392"/>
                  </a:lnTo>
                  <a:lnTo>
                    <a:pt x="212" y="1312"/>
                  </a:lnTo>
                  <a:lnTo>
                    <a:pt x="215" y="1289"/>
                  </a:lnTo>
                  <a:lnTo>
                    <a:pt x="224" y="1234"/>
                  </a:lnTo>
                  <a:lnTo>
                    <a:pt x="238" y="1174"/>
                  </a:lnTo>
                  <a:lnTo>
                    <a:pt x="252" y="1134"/>
                  </a:lnTo>
                  <a:lnTo>
                    <a:pt x="261" y="1119"/>
                  </a:lnTo>
                  <a:lnTo>
                    <a:pt x="273" y="1098"/>
                  </a:lnTo>
                  <a:lnTo>
                    <a:pt x="289" y="1075"/>
                  </a:lnTo>
                  <a:lnTo>
                    <a:pt x="312" y="1047"/>
                  </a:lnTo>
                  <a:lnTo>
                    <a:pt x="340" y="1019"/>
                  </a:lnTo>
                  <a:lnTo>
                    <a:pt x="374" y="990"/>
                  </a:lnTo>
                  <a:lnTo>
                    <a:pt x="416" y="964"/>
                  </a:lnTo>
                  <a:lnTo>
                    <a:pt x="466" y="939"/>
                  </a:lnTo>
                  <a:lnTo>
                    <a:pt x="492" y="927"/>
                  </a:lnTo>
                  <a:lnTo>
                    <a:pt x="521" y="914"/>
                  </a:lnTo>
                  <a:lnTo>
                    <a:pt x="547" y="898"/>
                  </a:lnTo>
                  <a:lnTo>
                    <a:pt x="574" y="884"/>
                  </a:lnTo>
                  <a:lnTo>
                    <a:pt x="602" y="868"/>
                  </a:lnTo>
                  <a:lnTo>
                    <a:pt x="628" y="853"/>
                  </a:lnTo>
                  <a:lnTo>
                    <a:pt x="655" y="837"/>
                  </a:lnTo>
                  <a:lnTo>
                    <a:pt x="680" y="821"/>
                  </a:lnTo>
                  <a:lnTo>
                    <a:pt x="704" y="807"/>
                  </a:lnTo>
                  <a:lnTo>
                    <a:pt x="729" y="792"/>
                  </a:lnTo>
                  <a:lnTo>
                    <a:pt x="752" y="780"/>
                  </a:lnTo>
                  <a:lnTo>
                    <a:pt x="775" y="769"/>
                  </a:lnTo>
                  <a:lnTo>
                    <a:pt x="796" y="761"/>
                  </a:lnTo>
                  <a:lnTo>
                    <a:pt x="817" y="755"/>
                  </a:lnTo>
                  <a:lnTo>
                    <a:pt x="835" y="750"/>
                  </a:lnTo>
                  <a:lnTo>
                    <a:pt x="853" y="750"/>
                  </a:lnTo>
                  <a:lnTo>
                    <a:pt x="884" y="752"/>
                  </a:lnTo>
                  <a:lnTo>
                    <a:pt x="909" y="755"/>
                  </a:lnTo>
                  <a:lnTo>
                    <a:pt x="932" y="761"/>
                  </a:lnTo>
                  <a:lnTo>
                    <a:pt x="948" y="764"/>
                  </a:lnTo>
                  <a:lnTo>
                    <a:pt x="960" y="768"/>
                  </a:lnTo>
                  <a:lnTo>
                    <a:pt x="969" y="771"/>
                  </a:lnTo>
                  <a:lnTo>
                    <a:pt x="975" y="775"/>
                  </a:lnTo>
                  <a:lnTo>
                    <a:pt x="976" y="775"/>
                  </a:lnTo>
                  <a:lnTo>
                    <a:pt x="973" y="741"/>
                  </a:lnTo>
                  <a:lnTo>
                    <a:pt x="1001" y="725"/>
                  </a:lnTo>
                  <a:lnTo>
                    <a:pt x="999" y="725"/>
                  </a:lnTo>
                  <a:lnTo>
                    <a:pt x="992" y="725"/>
                  </a:lnTo>
                  <a:lnTo>
                    <a:pt x="983" y="725"/>
                  </a:lnTo>
                  <a:lnTo>
                    <a:pt x="973" y="725"/>
                  </a:lnTo>
                  <a:lnTo>
                    <a:pt x="960" y="723"/>
                  </a:lnTo>
                  <a:lnTo>
                    <a:pt x="948" y="723"/>
                  </a:lnTo>
                  <a:lnTo>
                    <a:pt x="934" y="722"/>
                  </a:lnTo>
                  <a:lnTo>
                    <a:pt x="923" y="720"/>
                  </a:lnTo>
                  <a:lnTo>
                    <a:pt x="913" y="716"/>
                  </a:lnTo>
                  <a:lnTo>
                    <a:pt x="902" y="708"/>
                  </a:lnTo>
                  <a:lnTo>
                    <a:pt x="893" y="695"/>
                  </a:lnTo>
                  <a:lnTo>
                    <a:pt x="884" y="683"/>
                  </a:lnTo>
                  <a:lnTo>
                    <a:pt x="877" y="669"/>
                  </a:lnTo>
                  <a:lnTo>
                    <a:pt x="870" y="654"/>
                  </a:lnTo>
                  <a:lnTo>
                    <a:pt x="867" y="644"/>
                  </a:lnTo>
                  <a:lnTo>
                    <a:pt x="863" y="637"/>
                  </a:lnTo>
                  <a:lnTo>
                    <a:pt x="860" y="630"/>
                  </a:lnTo>
                  <a:lnTo>
                    <a:pt x="854" y="623"/>
                  </a:lnTo>
                  <a:lnTo>
                    <a:pt x="846" y="612"/>
                  </a:lnTo>
                  <a:lnTo>
                    <a:pt x="837" y="601"/>
                  </a:lnTo>
                  <a:lnTo>
                    <a:pt x="828" y="591"/>
                  </a:lnTo>
                  <a:lnTo>
                    <a:pt x="821" y="578"/>
                  </a:lnTo>
                  <a:lnTo>
                    <a:pt x="814" y="564"/>
                  </a:lnTo>
                  <a:lnTo>
                    <a:pt x="809" y="552"/>
                  </a:lnTo>
                  <a:lnTo>
                    <a:pt x="803" y="517"/>
                  </a:lnTo>
                  <a:lnTo>
                    <a:pt x="801" y="471"/>
                  </a:lnTo>
                  <a:lnTo>
                    <a:pt x="807" y="430"/>
                  </a:lnTo>
                  <a:lnTo>
                    <a:pt x="817" y="407"/>
                  </a:lnTo>
                  <a:lnTo>
                    <a:pt x="830" y="389"/>
                  </a:lnTo>
                  <a:lnTo>
                    <a:pt x="833" y="357"/>
                  </a:lnTo>
                  <a:lnTo>
                    <a:pt x="837" y="320"/>
                  </a:lnTo>
                  <a:lnTo>
                    <a:pt x="839" y="288"/>
                  </a:lnTo>
                  <a:lnTo>
                    <a:pt x="842" y="274"/>
                  </a:lnTo>
                  <a:lnTo>
                    <a:pt x="849" y="257"/>
                  </a:lnTo>
                  <a:lnTo>
                    <a:pt x="860" y="237"/>
                  </a:lnTo>
                  <a:lnTo>
                    <a:pt x="870" y="218"/>
                  </a:lnTo>
                  <a:lnTo>
                    <a:pt x="883" y="200"/>
                  </a:lnTo>
                  <a:lnTo>
                    <a:pt x="895" y="184"/>
                  </a:lnTo>
                  <a:lnTo>
                    <a:pt x="907" y="172"/>
                  </a:lnTo>
                  <a:lnTo>
                    <a:pt x="918" y="163"/>
                  </a:lnTo>
                  <a:lnTo>
                    <a:pt x="927" y="156"/>
                  </a:lnTo>
                  <a:lnTo>
                    <a:pt x="934" y="149"/>
                  </a:lnTo>
                  <a:lnTo>
                    <a:pt x="943" y="140"/>
                  </a:lnTo>
                  <a:lnTo>
                    <a:pt x="950" y="131"/>
                  </a:lnTo>
                  <a:lnTo>
                    <a:pt x="960" y="124"/>
                  </a:lnTo>
                  <a:lnTo>
                    <a:pt x="971" y="115"/>
                  </a:lnTo>
                  <a:lnTo>
                    <a:pt x="985" y="110"/>
                  </a:lnTo>
                  <a:lnTo>
                    <a:pt x="1001" y="105"/>
                  </a:lnTo>
                  <a:lnTo>
                    <a:pt x="1019" y="99"/>
                  </a:lnTo>
                  <a:lnTo>
                    <a:pt x="1033" y="94"/>
                  </a:lnTo>
                  <a:lnTo>
                    <a:pt x="1043" y="87"/>
                  </a:lnTo>
                  <a:lnTo>
                    <a:pt x="1054" y="80"/>
                  </a:lnTo>
                  <a:lnTo>
                    <a:pt x="1063" y="71"/>
                  </a:lnTo>
                  <a:lnTo>
                    <a:pt x="1072" y="62"/>
                  </a:lnTo>
                  <a:lnTo>
                    <a:pt x="1081" y="53"/>
                  </a:lnTo>
                  <a:lnTo>
                    <a:pt x="1089" y="45"/>
                  </a:lnTo>
                  <a:lnTo>
                    <a:pt x="1098" y="36"/>
                  </a:lnTo>
                  <a:lnTo>
                    <a:pt x="1109" y="27"/>
                  </a:lnTo>
                  <a:lnTo>
                    <a:pt x="1119" y="22"/>
                  </a:lnTo>
                  <a:lnTo>
                    <a:pt x="1128" y="14"/>
                  </a:lnTo>
                  <a:lnTo>
                    <a:pt x="1137" y="11"/>
                  </a:lnTo>
                  <a:lnTo>
                    <a:pt x="1144" y="7"/>
                  </a:lnTo>
                  <a:lnTo>
                    <a:pt x="1148" y="4"/>
                  </a:lnTo>
                  <a:lnTo>
                    <a:pt x="11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9"/>
            <p:cNvSpPr/>
            <p:nvPr/>
          </p:nvSpPr>
          <p:spPr>
            <a:xfrm>
              <a:off x="-1054080" y="3172320"/>
              <a:ext cx="832680" cy="765000"/>
            </a:xfrm>
            <a:custGeom>
              <a:avLst/>
              <a:gdLst>
                <a:gd name="textAreaLeft" fmla="*/ 0 w 832680"/>
                <a:gd name="textAreaRight" fmla="*/ 833040 w 83268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859" h="789">
                  <a:moveTo>
                    <a:pt x="555" y="34"/>
                  </a:moveTo>
                  <a:lnTo>
                    <a:pt x="557" y="35"/>
                  </a:lnTo>
                  <a:lnTo>
                    <a:pt x="562" y="37"/>
                  </a:lnTo>
                  <a:lnTo>
                    <a:pt x="571" y="41"/>
                  </a:lnTo>
                  <a:lnTo>
                    <a:pt x="580" y="44"/>
                  </a:lnTo>
                  <a:lnTo>
                    <a:pt x="590" y="48"/>
                  </a:lnTo>
                  <a:lnTo>
                    <a:pt x="603" y="51"/>
                  </a:lnTo>
                  <a:lnTo>
                    <a:pt x="611" y="53"/>
                  </a:lnTo>
                  <a:lnTo>
                    <a:pt x="620" y="55"/>
                  </a:lnTo>
                  <a:lnTo>
                    <a:pt x="629" y="57"/>
                  </a:lnTo>
                  <a:lnTo>
                    <a:pt x="641" y="58"/>
                  </a:lnTo>
                  <a:lnTo>
                    <a:pt x="654" y="64"/>
                  </a:lnTo>
                  <a:lnTo>
                    <a:pt x="668" y="69"/>
                  </a:lnTo>
                  <a:lnTo>
                    <a:pt x="682" y="76"/>
                  </a:lnTo>
                  <a:lnTo>
                    <a:pt x="694" y="83"/>
                  </a:lnTo>
                  <a:lnTo>
                    <a:pt x="705" y="92"/>
                  </a:lnTo>
                  <a:lnTo>
                    <a:pt x="710" y="99"/>
                  </a:lnTo>
                  <a:lnTo>
                    <a:pt x="716" y="110"/>
                  </a:lnTo>
                  <a:lnTo>
                    <a:pt x="723" y="126"/>
                  </a:lnTo>
                  <a:lnTo>
                    <a:pt x="733" y="143"/>
                  </a:lnTo>
                  <a:lnTo>
                    <a:pt x="742" y="164"/>
                  </a:lnTo>
                  <a:lnTo>
                    <a:pt x="753" y="182"/>
                  </a:lnTo>
                  <a:lnTo>
                    <a:pt x="762" y="198"/>
                  </a:lnTo>
                  <a:lnTo>
                    <a:pt x="767" y="210"/>
                  </a:lnTo>
                  <a:lnTo>
                    <a:pt x="769" y="214"/>
                  </a:lnTo>
                  <a:lnTo>
                    <a:pt x="772" y="226"/>
                  </a:lnTo>
                  <a:lnTo>
                    <a:pt x="783" y="253"/>
                  </a:lnTo>
                  <a:lnTo>
                    <a:pt x="797" y="281"/>
                  </a:lnTo>
                  <a:lnTo>
                    <a:pt x="809" y="297"/>
                  </a:lnTo>
                  <a:lnTo>
                    <a:pt x="822" y="311"/>
                  </a:lnTo>
                  <a:lnTo>
                    <a:pt x="834" y="334"/>
                  </a:lnTo>
                  <a:lnTo>
                    <a:pt x="846" y="357"/>
                  </a:lnTo>
                  <a:lnTo>
                    <a:pt x="853" y="377"/>
                  </a:lnTo>
                  <a:lnTo>
                    <a:pt x="857" y="396"/>
                  </a:lnTo>
                  <a:lnTo>
                    <a:pt x="859" y="417"/>
                  </a:lnTo>
                  <a:lnTo>
                    <a:pt x="857" y="439"/>
                  </a:lnTo>
                  <a:lnTo>
                    <a:pt x="848" y="456"/>
                  </a:lnTo>
                  <a:lnTo>
                    <a:pt x="841" y="467"/>
                  </a:lnTo>
                  <a:lnTo>
                    <a:pt x="834" y="479"/>
                  </a:lnTo>
                  <a:lnTo>
                    <a:pt x="825" y="495"/>
                  </a:lnTo>
                  <a:lnTo>
                    <a:pt x="816" y="511"/>
                  </a:lnTo>
                  <a:lnTo>
                    <a:pt x="806" y="525"/>
                  </a:lnTo>
                  <a:lnTo>
                    <a:pt x="797" y="539"/>
                  </a:lnTo>
                  <a:lnTo>
                    <a:pt x="788" y="550"/>
                  </a:lnTo>
                  <a:lnTo>
                    <a:pt x="779" y="557"/>
                  </a:lnTo>
                  <a:lnTo>
                    <a:pt x="767" y="553"/>
                  </a:lnTo>
                  <a:lnTo>
                    <a:pt x="755" y="536"/>
                  </a:lnTo>
                  <a:lnTo>
                    <a:pt x="742" y="520"/>
                  </a:lnTo>
                  <a:lnTo>
                    <a:pt x="730" y="516"/>
                  </a:lnTo>
                  <a:lnTo>
                    <a:pt x="716" y="529"/>
                  </a:lnTo>
                  <a:lnTo>
                    <a:pt x="707" y="543"/>
                  </a:lnTo>
                  <a:lnTo>
                    <a:pt x="703" y="559"/>
                  </a:lnTo>
                  <a:lnTo>
                    <a:pt x="710" y="566"/>
                  </a:lnTo>
                  <a:lnTo>
                    <a:pt x="719" y="573"/>
                  </a:lnTo>
                  <a:lnTo>
                    <a:pt x="721" y="582"/>
                  </a:lnTo>
                  <a:lnTo>
                    <a:pt x="719" y="592"/>
                  </a:lnTo>
                  <a:lnTo>
                    <a:pt x="710" y="601"/>
                  </a:lnTo>
                  <a:lnTo>
                    <a:pt x="703" y="605"/>
                  </a:lnTo>
                  <a:lnTo>
                    <a:pt x="694" y="605"/>
                  </a:lnTo>
                  <a:lnTo>
                    <a:pt x="684" y="605"/>
                  </a:lnTo>
                  <a:lnTo>
                    <a:pt x="672" y="605"/>
                  </a:lnTo>
                  <a:lnTo>
                    <a:pt x="661" y="603"/>
                  </a:lnTo>
                  <a:lnTo>
                    <a:pt x="649" y="601"/>
                  </a:lnTo>
                  <a:lnTo>
                    <a:pt x="640" y="598"/>
                  </a:lnTo>
                  <a:lnTo>
                    <a:pt x="631" y="596"/>
                  </a:lnTo>
                  <a:lnTo>
                    <a:pt x="624" y="592"/>
                  </a:lnTo>
                  <a:lnTo>
                    <a:pt x="617" y="587"/>
                  </a:lnTo>
                  <a:lnTo>
                    <a:pt x="610" y="582"/>
                  </a:lnTo>
                  <a:lnTo>
                    <a:pt x="603" y="573"/>
                  </a:lnTo>
                  <a:lnTo>
                    <a:pt x="596" y="566"/>
                  </a:lnTo>
                  <a:lnTo>
                    <a:pt x="590" y="561"/>
                  </a:lnTo>
                  <a:lnTo>
                    <a:pt x="583" y="555"/>
                  </a:lnTo>
                  <a:lnTo>
                    <a:pt x="576" y="552"/>
                  </a:lnTo>
                  <a:lnTo>
                    <a:pt x="566" y="553"/>
                  </a:lnTo>
                  <a:lnTo>
                    <a:pt x="553" y="561"/>
                  </a:lnTo>
                  <a:lnTo>
                    <a:pt x="539" y="573"/>
                  </a:lnTo>
                  <a:lnTo>
                    <a:pt x="523" y="587"/>
                  </a:lnTo>
                  <a:lnTo>
                    <a:pt x="509" y="605"/>
                  </a:lnTo>
                  <a:lnTo>
                    <a:pt x="497" y="622"/>
                  </a:lnTo>
                  <a:lnTo>
                    <a:pt x="490" y="638"/>
                  </a:lnTo>
                  <a:lnTo>
                    <a:pt x="486" y="651"/>
                  </a:lnTo>
                  <a:lnTo>
                    <a:pt x="488" y="672"/>
                  </a:lnTo>
                  <a:lnTo>
                    <a:pt x="495" y="690"/>
                  </a:lnTo>
                  <a:lnTo>
                    <a:pt x="500" y="702"/>
                  </a:lnTo>
                  <a:lnTo>
                    <a:pt x="502" y="706"/>
                  </a:lnTo>
                  <a:lnTo>
                    <a:pt x="536" y="721"/>
                  </a:lnTo>
                  <a:lnTo>
                    <a:pt x="536" y="723"/>
                  </a:lnTo>
                  <a:lnTo>
                    <a:pt x="537" y="728"/>
                  </a:lnTo>
                  <a:lnTo>
                    <a:pt x="536" y="736"/>
                  </a:lnTo>
                  <a:lnTo>
                    <a:pt x="530" y="746"/>
                  </a:lnTo>
                  <a:lnTo>
                    <a:pt x="527" y="751"/>
                  </a:lnTo>
                  <a:lnTo>
                    <a:pt x="521" y="755"/>
                  </a:lnTo>
                  <a:lnTo>
                    <a:pt x="516" y="759"/>
                  </a:lnTo>
                  <a:lnTo>
                    <a:pt x="511" y="762"/>
                  </a:lnTo>
                  <a:lnTo>
                    <a:pt x="504" y="764"/>
                  </a:lnTo>
                  <a:lnTo>
                    <a:pt x="495" y="767"/>
                  </a:lnTo>
                  <a:lnTo>
                    <a:pt x="486" y="769"/>
                  </a:lnTo>
                  <a:lnTo>
                    <a:pt x="475" y="771"/>
                  </a:lnTo>
                  <a:lnTo>
                    <a:pt x="465" y="771"/>
                  </a:lnTo>
                  <a:lnTo>
                    <a:pt x="456" y="771"/>
                  </a:lnTo>
                  <a:lnTo>
                    <a:pt x="445" y="769"/>
                  </a:lnTo>
                  <a:lnTo>
                    <a:pt x="437" y="766"/>
                  </a:lnTo>
                  <a:lnTo>
                    <a:pt x="426" y="766"/>
                  </a:lnTo>
                  <a:lnTo>
                    <a:pt x="417" y="764"/>
                  </a:lnTo>
                  <a:lnTo>
                    <a:pt x="407" y="766"/>
                  </a:lnTo>
                  <a:lnTo>
                    <a:pt x="396" y="771"/>
                  </a:lnTo>
                  <a:lnTo>
                    <a:pt x="385" y="776"/>
                  </a:lnTo>
                  <a:lnTo>
                    <a:pt x="377" y="782"/>
                  </a:lnTo>
                  <a:lnTo>
                    <a:pt x="366" y="785"/>
                  </a:lnTo>
                  <a:lnTo>
                    <a:pt x="357" y="789"/>
                  </a:lnTo>
                  <a:lnTo>
                    <a:pt x="347" y="789"/>
                  </a:lnTo>
                  <a:lnTo>
                    <a:pt x="336" y="787"/>
                  </a:lnTo>
                  <a:lnTo>
                    <a:pt x="325" y="783"/>
                  </a:lnTo>
                  <a:lnTo>
                    <a:pt x="313" y="774"/>
                  </a:lnTo>
                  <a:lnTo>
                    <a:pt x="301" y="766"/>
                  </a:lnTo>
                  <a:lnTo>
                    <a:pt x="294" y="759"/>
                  </a:lnTo>
                  <a:lnTo>
                    <a:pt x="286" y="751"/>
                  </a:lnTo>
                  <a:lnTo>
                    <a:pt x="281" y="746"/>
                  </a:lnTo>
                  <a:lnTo>
                    <a:pt x="276" y="741"/>
                  </a:lnTo>
                  <a:lnTo>
                    <a:pt x="271" y="737"/>
                  </a:lnTo>
                  <a:lnTo>
                    <a:pt x="264" y="736"/>
                  </a:lnTo>
                  <a:lnTo>
                    <a:pt x="253" y="736"/>
                  </a:lnTo>
                  <a:lnTo>
                    <a:pt x="242" y="734"/>
                  </a:lnTo>
                  <a:lnTo>
                    <a:pt x="232" y="730"/>
                  </a:lnTo>
                  <a:lnTo>
                    <a:pt x="223" y="725"/>
                  </a:lnTo>
                  <a:lnTo>
                    <a:pt x="216" y="718"/>
                  </a:lnTo>
                  <a:lnTo>
                    <a:pt x="211" y="709"/>
                  </a:lnTo>
                  <a:lnTo>
                    <a:pt x="207" y="700"/>
                  </a:lnTo>
                  <a:lnTo>
                    <a:pt x="207" y="690"/>
                  </a:lnTo>
                  <a:lnTo>
                    <a:pt x="209" y="681"/>
                  </a:lnTo>
                  <a:lnTo>
                    <a:pt x="209" y="674"/>
                  </a:lnTo>
                  <a:lnTo>
                    <a:pt x="202" y="668"/>
                  </a:lnTo>
                  <a:lnTo>
                    <a:pt x="191" y="665"/>
                  </a:lnTo>
                  <a:lnTo>
                    <a:pt x="177" y="665"/>
                  </a:lnTo>
                  <a:lnTo>
                    <a:pt x="161" y="665"/>
                  </a:lnTo>
                  <a:lnTo>
                    <a:pt x="145" y="665"/>
                  </a:lnTo>
                  <a:lnTo>
                    <a:pt x="131" y="667"/>
                  </a:lnTo>
                  <a:lnTo>
                    <a:pt x="120" y="667"/>
                  </a:lnTo>
                  <a:lnTo>
                    <a:pt x="112" y="663"/>
                  </a:lnTo>
                  <a:lnTo>
                    <a:pt x="103" y="654"/>
                  </a:lnTo>
                  <a:lnTo>
                    <a:pt x="96" y="640"/>
                  </a:lnTo>
                  <a:lnTo>
                    <a:pt x="87" y="622"/>
                  </a:lnTo>
                  <a:lnTo>
                    <a:pt x="78" y="603"/>
                  </a:lnTo>
                  <a:lnTo>
                    <a:pt x="67" y="585"/>
                  </a:lnTo>
                  <a:lnTo>
                    <a:pt x="55" y="568"/>
                  </a:lnTo>
                  <a:lnTo>
                    <a:pt x="41" y="552"/>
                  </a:lnTo>
                  <a:lnTo>
                    <a:pt x="29" y="539"/>
                  </a:lnTo>
                  <a:lnTo>
                    <a:pt x="18" y="525"/>
                  </a:lnTo>
                  <a:lnTo>
                    <a:pt x="9" y="509"/>
                  </a:lnTo>
                  <a:lnTo>
                    <a:pt x="2" y="493"/>
                  </a:lnTo>
                  <a:lnTo>
                    <a:pt x="0" y="477"/>
                  </a:lnTo>
                  <a:lnTo>
                    <a:pt x="2" y="462"/>
                  </a:lnTo>
                  <a:lnTo>
                    <a:pt x="9" y="446"/>
                  </a:lnTo>
                  <a:lnTo>
                    <a:pt x="22" y="431"/>
                  </a:lnTo>
                  <a:lnTo>
                    <a:pt x="41" y="403"/>
                  </a:lnTo>
                  <a:lnTo>
                    <a:pt x="48" y="370"/>
                  </a:lnTo>
                  <a:lnTo>
                    <a:pt x="48" y="332"/>
                  </a:lnTo>
                  <a:lnTo>
                    <a:pt x="52" y="297"/>
                  </a:lnTo>
                  <a:lnTo>
                    <a:pt x="55" y="279"/>
                  </a:lnTo>
                  <a:lnTo>
                    <a:pt x="60" y="258"/>
                  </a:lnTo>
                  <a:lnTo>
                    <a:pt x="66" y="237"/>
                  </a:lnTo>
                  <a:lnTo>
                    <a:pt x="73" y="216"/>
                  </a:lnTo>
                  <a:lnTo>
                    <a:pt x="82" y="196"/>
                  </a:lnTo>
                  <a:lnTo>
                    <a:pt x="92" y="179"/>
                  </a:lnTo>
                  <a:lnTo>
                    <a:pt x="103" y="164"/>
                  </a:lnTo>
                  <a:lnTo>
                    <a:pt x="115" y="154"/>
                  </a:lnTo>
                  <a:lnTo>
                    <a:pt x="128" y="145"/>
                  </a:lnTo>
                  <a:lnTo>
                    <a:pt x="142" y="136"/>
                  </a:lnTo>
                  <a:lnTo>
                    <a:pt x="154" y="126"/>
                  </a:lnTo>
                  <a:lnTo>
                    <a:pt x="166" y="115"/>
                  </a:lnTo>
                  <a:lnTo>
                    <a:pt x="177" y="106"/>
                  </a:lnTo>
                  <a:lnTo>
                    <a:pt x="189" y="97"/>
                  </a:lnTo>
                  <a:lnTo>
                    <a:pt x="200" y="92"/>
                  </a:lnTo>
                  <a:lnTo>
                    <a:pt x="209" y="88"/>
                  </a:lnTo>
                  <a:lnTo>
                    <a:pt x="218" y="88"/>
                  </a:lnTo>
                  <a:lnTo>
                    <a:pt x="225" y="87"/>
                  </a:lnTo>
                  <a:lnTo>
                    <a:pt x="233" y="87"/>
                  </a:lnTo>
                  <a:lnTo>
                    <a:pt x="241" y="87"/>
                  </a:lnTo>
                  <a:lnTo>
                    <a:pt x="249" y="85"/>
                  </a:lnTo>
                  <a:lnTo>
                    <a:pt x="260" y="81"/>
                  </a:lnTo>
                  <a:lnTo>
                    <a:pt x="272" y="76"/>
                  </a:lnTo>
                  <a:lnTo>
                    <a:pt x="288" y="69"/>
                  </a:lnTo>
                  <a:lnTo>
                    <a:pt x="302" y="58"/>
                  </a:lnTo>
                  <a:lnTo>
                    <a:pt x="313" y="48"/>
                  </a:lnTo>
                  <a:lnTo>
                    <a:pt x="320" y="37"/>
                  </a:lnTo>
                  <a:lnTo>
                    <a:pt x="327" y="27"/>
                  </a:lnTo>
                  <a:lnTo>
                    <a:pt x="332" y="18"/>
                  </a:lnTo>
                  <a:lnTo>
                    <a:pt x="339" y="9"/>
                  </a:lnTo>
                  <a:lnTo>
                    <a:pt x="350" y="4"/>
                  </a:lnTo>
                  <a:lnTo>
                    <a:pt x="362" y="0"/>
                  </a:lnTo>
                  <a:lnTo>
                    <a:pt x="382" y="0"/>
                  </a:lnTo>
                  <a:lnTo>
                    <a:pt x="408" y="4"/>
                  </a:lnTo>
                  <a:lnTo>
                    <a:pt x="440" y="9"/>
                  </a:lnTo>
                  <a:lnTo>
                    <a:pt x="474" y="14"/>
                  </a:lnTo>
                  <a:lnTo>
                    <a:pt x="504" y="21"/>
                  </a:lnTo>
                  <a:lnTo>
                    <a:pt x="530" y="28"/>
                  </a:lnTo>
                  <a:lnTo>
                    <a:pt x="548" y="32"/>
                  </a:lnTo>
                  <a:lnTo>
                    <a:pt x="55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-886320" y="3875400"/>
              <a:ext cx="296280" cy="18108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306" h="187">
                  <a:moveTo>
                    <a:pt x="0" y="9"/>
                  </a:moveTo>
                  <a:lnTo>
                    <a:pt x="2" y="7"/>
                  </a:lnTo>
                  <a:lnTo>
                    <a:pt x="6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3" y="3"/>
                  </a:lnTo>
                  <a:lnTo>
                    <a:pt x="34" y="9"/>
                  </a:lnTo>
                  <a:lnTo>
                    <a:pt x="46" y="16"/>
                  </a:lnTo>
                  <a:lnTo>
                    <a:pt x="60" y="25"/>
                  </a:lnTo>
                  <a:lnTo>
                    <a:pt x="73" y="35"/>
                  </a:lnTo>
                  <a:lnTo>
                    <a:pt x="87" y="42"/>
                  </a:lnTo>
                  <a:lnTo>
                    <a:pt x="96" y="49"/>
                  </a:lnTo>
                  <a:lnTo>
                    <a:pt x="103" y="55"/>
                  </a:lnTo>
                  <a:lnTo>
                    <a:pt x="108" y="58"/>
                  </a:lnTo>
                  <a:lnTo>
                    <a:pt x="117" y="62"/>
                  </a:lnTo>
                  <a:lnTo>
                    <a:pt x="128" y="67"/>
                  </a:lnTo>
                  <a:lnTo>
                    <a:pt x="140" y="69"/>
                  </a:lnTo>
                  <a:lnTo>
                    <a:pt x="152" y="72"/>
                  </a:lnTo>
                  <a:lnTo>
                    <a:pt x="163" y="76"/>
                  </a:lnTo>
                  <a:lnTo>
                    <a:pt x="174" y="78"/>
                  </a:lnTo>
                  <a:lnTo>
                    <a:pt x="182" y="80"/>
                  </a:lnTo>
                  <a:lnTo>
                    <a:pt x="191" y="85"/>
                  </a:lnTo>
                  <a:lnTo>
                    <a:pt x="207" y="94"/>
                  </a:lnTo>
                  <a:lnTo>
                    <a:pt x="227" y="104"/>
                  </a:lnTo>
                  <a:lnTo>
                    <a:pt x="246" y="117"/>
                  </a:lnTo>
                  <a:lnTo>
                    <a:pt x="265" y="129"/>
                  </a:lnTo>
                  <a:lnTo>
                    <a:pt x="283" y="140"/>
                  </a:lnTo>
                  <a:lnTo>
                    <a:pt x="295" y="147"/>
                  </a:lnTo>
                  <a:lnTo>
                    <a:pt x="299" y="150"/>
                  </a:lnTo>
                  <a:lnTo>
                    <a:pt x="306" y="177"/>
                  </a:lnTo>
                  <a:lnTo>
                    <a:pt x="302" y="179"/>
                  </a:lnTo>
                  <a:lnTo>
                    <a:pt x="292" y="182"/>
                  </a:lnTo>
                  <a:lnTo>
                    <a:pt x="281" y="186"/>
                  </a:lnTo>
                  <a:lnTo>
                    <a:pt x="271" y="187"/>
                  </a:lnTo>
                  <a:lnTo>
                    <a:pt x="264" y="186"/>
                  </a:lnTo>
                  <a:lnTo>
                    <a:pt x="251" y="182"/>
                  </a:lnTo>
                  <a:lnTo>
                    <a:pt x="235" y="175"/>
                  </a:lnTo>
                  <a:lnTo>
                    <a:pt x="218" y="168"/>
                  </a:lnTo>
                  <a:lnTo>
                    <a:pt x="198" y="159"/>
                  </a:lnTo>
                  <a:lnTo>
                    <a:pt x="181" y="152"/>
                  </a:lnTo>
                  <a:lnTo>
                    <a:pt x="165" y="143"/>
                  </a:lnTo>
                  <a:lnTo>
                    <a:pt x="154" y="138"/>
                  </a:lnTo>
                  <a:lnTo>
                    <a:pt x="143" y="131"/>
                  </a:lnTo>
                  <a:lnTo>
                    <a:pt x="128" y="122"/>
                  </a:lnTo>
                  <a:lnTo>
                    <a:pt x="110" y="111"/>
                  </a:lnTo>
                  <a:lnTo>
                    <a:pt x="92" y="101"/>
                  </a:lnTo>
                  <a:lnTo>
                    <a:pt x="73" y="92"/>
                  </a:lnTo>
                  <a:lnTo>
                    <a:pt x="57" y="83"/>
                  </a:lnTo>
                  <a:lnTo>
                    <a:pt x="43" y="76"/>
                  </a:lnTo>
                  <a:lnTo>
                    <a:pt x="32" y="71"/>
                  </a:lnTo>
                  <a:lnTo>
                    <a:pt x="20" y="62"/>
                  </a:lnTo>
                  <a:lnTo>
                    <a:pt x="9" y="53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dd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1"/>
            <p:cNvSpPr/>
            <p:nvPr/>
          </p:nvSpPr>
          <p:spPr>
            <a:xfrm>
              <a:off x="-1635840" y="4426200"/>
              <a:ext cx="194760" cy="12780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201" h="132">
                  <a:moveTo>
                    <a:pt x="10" y="5"/>
                  </a:moveTo>
                  <a:lnTo>
                    <a:pt x="14" y="5"/>
                  </a:lnTo>
                  <a:lnTo>
                    <a:pt x="23" y="3"/>
                  </a:lnTo>
                  <a:lnTo>
                    <a:pt x="37" y="1"/>
                  </a:lnTo>
                  <a:lnTo>
                    <a:pt x="53" y="0"/>
                  </a:lnTo>
                  <a:lnTo>
                    <a:pt x="70" y="0"/>
                  </a:lnTo>
                  <a:lnTo>
                    <a:pt x="88" y="0"/>
                  </a:lnTo>
                  <a:lnTo>
                    <a:pt x="106" y="3"/>
                  </a:lnTo>
                  <a:lnTo>
                    <a:pt x="120" y="7"/>
                  </a:lnTo>
                  <a:lnTo>
                    <a:pt x="132" y="14"/>
                  </a:lnTo>
                  <a:lnTo>
                    <a:pt x="146" y="21"/>
                  </a:lnTo>
                  <a:lnTo>
                    <a:pt x="159" y="28"/>
                  </a:lnTo>
                  <a:lnTo>
                    <a:pt x="173" y="33"/>
                  </a:lnTo>
                  <a:lnTo>
                    <a:pt x="184" y="40"/>
                  </a:lnTo>
                  <a:lnTo>
                    <a:pt x="192" y="45"/>
                  </a:lnTo>
                  <a:lnTo>
                    <a:pt x="199" y="47"/>
                  </a:lnTo>
                  <a:lnTo>
                    <a:pt x="201" y="49"/>
                  </a:lnTo>
                  <a:lnTo>
                    <a:pt x="198" y="61"/>
                  </a:lnTo>
                  <a:lnTo>
                    <a:pt x="187" y="88"/>
                  </a:lnTo>
                  <a:lnTo>
                    <a:pt x="175" y="116"/>
                  </a:lnTo>
                  <a:lnTo>
                    <a:pt x="164" y="130"/>
                  </a:lnTo>
                  <a:lnTo>
                    <a:pt x="155" y="132"/>
                  </a:lnTo>
                  <a:lnTo>
                    <a:pt x="145" y="130"/>
                  </a:lnTo>
                  <a:lnTo>
                    <a:pt x="134" y="125"/>
                  </a:lnTo>
                  <a:lnTo>
                    <a:pt x="120" y="116"/>
                  </a:lnTo>
                  <a:lnTo>
                    <a:pt x="113" y="111"/>
                  </a:lnTo>
                  <a:lnTo>
                    <a:pt x="108" y="107"/>
                  </a:lnTo>
                  <a:lnTo>
                    <a:pt x="101" y="104"/>
                  </a:lnTo>
                  <a:lnTo>
                    <a:pt x="97" y="100"/>
                  </a:lnTo>
                  <a:lnTo>
                    <a:pt x="90" y="97"/>
                  </a:lnTo>
                  <a:lnTo>
                    <a:pt x="85" y="95"/>
                  </a:lnTo>
                  <a:lnTo>
                    <a:pt x="76" y="93"/>
                  </a:lnTo>
                  <a:lnTo>
                    <a:pt x="67" y="91"/>
                  </a:lnTo>
                  <a:lnTo>
                    <a:pt x="56" y="91"/>
                  </a:lnTo>
                  <a:lnTo>
                    <a:pt x="46" y="90"/>
                  </a:lnTo>
                  <a:lnTo>
                    <a:pt x="35" y="90"/>
                  </a:lnTo>
                  <a:lnTo>
                    <a:pt x="25" y="88"/>
                  </a:lnTo>
                  <a:lnTo>
                    <a:pt x="16" y="88"/>
                  </a:lnTo>
                  <a:lnTo>
                    <a:pt x="10" y="86"/>
                  </a:lnTo>
                  <a:lnTo>
                    <a:pt x="5" y="86"/>
                  </a:lnTo>
                  <a:lnTo>
                    <a:pt x="3" y="86"/>
                  </a:lnTo>
                  <a:lnTo>
                    <a:pt x="2" y="86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3" y="61"/>
                  </a:lnTo>
                  <a:lnTo>
                    <a:pt x="7" y="44"/>
                  </a:lnTo>
                  <a:lnTo>
                    <a:pt x="10" y="24"/>
                  </a:lnTo>
                  <a:lnTo>
                    <a:pt x="10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edd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-321120" y="4505040"/>
              <a:ext cx="82440" cy="1868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85" h="193">
                  <a:moveTo>
                    <a:pt x="0" y="0"/>
                  </a:moveTo>
                  <a:lnTo>
                    <a:pt x="4" y="2"/>
                  </a:lnTo>
                  <a:lnTo>
                    <a:pt x="11" y="5"/>
                  </a:lnTo>
                  <a:lnTo>
                    <a:pt x="23" y="12"/>
                  </a:lnTo>
                  <a:lnTo>
                    <a:pt x="36" y="19"/>
                  </a:lnTo>
                  <a:lnTo>
                    <a:pt x="50" y="28"/>
                  </a:lnTo>
                  <a:lnTo>
                    <a:pt x="62" y="39"/>
                  </a:lnTo>
                  <a:lnTo>
                    <a:pt x="71" y="48"/>
                  </a:lnTo>
                  <a:lnTo>
                    <a:pt x="76" y="55"/>
                  </a:lnTo>
                  <a:lnTo>
                    <a:pt x="80" y="79"/>
                  </a:lnTo>
                  <a:lnTo>
                    <a:pt x="82" y="113"/>
                  </a:lnTo>
                  <a:lnTo>
                    <a:pt x="85" y="145"/>
                  </a:lnTo>
                  <a:lnTo>
                    <a:pt x="85" y="157"/>
                  </a:lnTo>
                  <a:lnTo>
                    <a:pt x="43" y="193"/>
                  </a:lnTo>
                  <a:lnTo>
                    <a:pt x="13" y="193"/>
                  </a:lnTo>
                  <a:lnTo>
                    <a:pt x="13" y="189"/>
                  </a:lnTo>
                  <a:lnTo>
                    <a:pt x="14" y="182"/>
                  </a:lnTo>
                  <a:lnTo>
                    <a:pt x="16" y="170"/>
                  </a:lnTo>
                  <a:lnTo>
                    <a:pt x="21" y="157"/>
                  </a:lnTo>
                  <a:lnTo>
                    <a:pt x="25" y="134"/>
                  </a:lnTo>
                  <a:lnTo>
                    <a:pt x="27" y="99"/>
                  </a:lnTo>
                  <a:lnTo>
                    <a:pt x="25" y="65"/>
                  </a:lnTo>
                  <a:lnTo>
                    <a:pt x="21" y="42"/>
                  </a:lnTo>
                  <a:lnTo>
                    <a:pt x="14" y="28"/>
                  </a:lnTo>
                  <a:lnTo>
                    <a:pt x="7" y="14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d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-1463400" y="5402880"/>
              <a:ext cx="178200" cy="23364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184" h="241">
                  <a:moveTo>
                    <a:pt x="0" y="85"/>
                  </a:moveTo>
                  <a:lnTo>
                    <a:pt x="6" y="90"/>
                  </a:lnTo>
                  <a:lnTo>
                    <a:pt x="20" y="103"/>
                  </a:lnTo>
                  <a:lnTo>
                    <a:pt x="41" y="121"/>
                  </a:lnTo>
                  <a:lnTo>
                    <a:pt x="64" y="142"/>
                  </a:lnTo>
                  <a:lnTo>
                    <a:pt x="87" y="165"/>
                  </a:lnTo>
                  <a:lnTo>
                    <a:pt x="104" y="186"/>
                  </a:lnTo>
                  <a:lnTo>
                    <a:pt x="117" y="204"/>
                  </a:lnTo>
                  <a:lnTo>
                    <a:pt x="119" y="216"/>
                  </a:lnTo>
                  <a:lnTo>
                    <a:pt x="115" y="230"/>
                  </a:lnTo>
                  <a:lnTo>
                    <a:pt x="119" y="237"/>
                  </a:lnTo>
                  <a:lnTo>
                    <a:pt x="124" y="241"/>
                  </a:lnTo>
                  <a:lnTo>
                    <a:pt x="127" y="241"/>
                  </a:lnTo>
                  <a:lnTo>
                    <a:pt x="133" y="232"/>
                  </a:lnTo>
                  <a:lnTo>
                    <a:pt x="147" y="212"/>
                  </a:lnTo>
                  <a:lnTo>
                    <a:pt x="163" y="189"/>
                  </a:lnTo>
                  <a:lnTo>
                    <a:pt x="175" y="172"/>
                  </a:lnTo>
                  <a:lnTo>
                    <a:pt x="180" y="156"/>
                  </a:lnTo>
                  <a:lnTo>
                    <a:pt x="182" y="136"/>
                  </a:lnTo>
                  <a:lnTo>
                    <a:pt x="184" y="122"/>
                  </a:lnTo>
                  <a:lnTo>
                    <a:pt x="184" y="115"/>
                  </a:lnTo>
                  <a:lnTo>
                    <a:pt x="182" y="112"/>
                  </a:lnTo>
                  <a:lnTo>
                    <a:pt x="179" y="105"/>
                  </a:lnTo>
                  <a:lnTo>
                    <a:pt x="173" y="92"/>
                  </a:lnTo>
                  <a:lnTo>
                    <a:pt x="168" y="78"/>
                  </a:lnTo>
                  <a:lnTo>
                    <a:pt x="159" y="62"/>
                  </a:lnTo>
                  <a:lnTo>
                    <a:pt x="150" y="48"/>
                  </a:lnTo>
                  <a:lnTo>
                    <a:pt x="142" y="34"/>
                  </a:lnTo>
                  <a:lnTo>
                    <a:pt x="131" y="25"/>
                  </a:lnTo>
                  <a:lnTo>
                    <a:pt x="119" y="18"/>
                  </a:lnTo>
                  <a:lnTo>
                    <a:pt x="106" y="13"/>
                  </a:lnTo>
                  <a:lnTo>
                    <a:pt x="94" y="9"/>
                  </a:lnTo>
                  <a:lnTo>
                    <a:pt x="81" y="6"/>
                  </a:lnTo>
                  <a:lnTo>
                    <a:pt x="69" y="4"/>
                  </a:lnTo>
                  <a:lnTo>
                    <a:pt x="60" y="2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0" y="76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5b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-1420560" y="6014160"/>
              <a:ext cx="200520" cy="19476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207" h="201">
                  <a:moveTo>
                    <a:pt x="27" y="0"/>
                  </a:moveTo>
                  <a:lnTo>
                    <a:pt x="29" y="1"/>
                  </a:lnTo>
                  <a:lnTo>
                    <a:pt x="36" y="9"/>
                  </a:lnTo>
                  <a:lnTo>
                    <a:pt x="45" y="17"/>
                  </a:lnTo>
                  <a:lnTo>
                    <a:pt x="57" y="28"/>
                  </a:lnTo>
                  <a:lnTo>
                    <a:pt x="69" y="40"/>
                  </a:lnTo>
                  <a:lnTo>
                    <a:pt x="82" y="51"/>
                  </a:lnTo>
                  <a:lnTo>
                    <a:pt x="94" y="58"/>
                  </a:lnTo>
                  <a:lnTo>
                    <a:pt x="106" y="63"/>
                  </a:lnTo>
                  <a:lnTo>
                    <a:pt x="117" y="67"/>
                  </a:lnTo>
                  <a:lnTo>
                    <a:pt x="131" y="69"/>
                  </a:lnTo>
                  <a:lnTo>
                    <a:pt x="145" y="70"/>
                  </a:lnTo>
                  <a:lnTo>
                    <a:pt x="161" y="72"/>
                  </a:lnTo>
                  <a:lnTo>
                    <a:pt x="173" y="74"/>
                  </a:lnTo>
                  <a:lnTo>
                    <a:pt x="188" y="74"/>
                  </a:lnTo>
                  <a:lnTo>
                    <a:pt x="196" y="72"/>
                  </a:lnTo>
                  <a:lnTo>
                    <a:pt x="203" y="70"/>
                  </a:lnTo>
                  <a:lnTo>
                    <a:pt x="207" y="72"/>
                  </a:lnTo>
                  <a:lnTo>
                    <a:pt x="203" y="86"/>
                  </a:lnTo>
                  <a:lnTo>
                    <a:pt x="196" y="102"/>
                  </a:lnTo>
                  <a:lnTo>
                    <a:pt x="191" y="113"/>
                  </a:lnTo>
                  <a:lnTo>
                    <a:pt x="189" y="123"/>
                  </a:lnTo>
                  <a:lnTo>
                    <a:pt x="189" y="138"/>
                  </a:lnTo>
                  <a:lnTo>
                    <a:pt x="191" y="150"/>
                  </a:lnTo>
                  <a:lnTo>
                    <a:pt x="191" y="155"/>
                  </a:lnTo>
                  <a:lnTo>
                    <a:pt x="200" y="178"/>
                  </a:lnTo>
                  <a:lnTo>
                    <a:pt x="196" y="180"/>
                  </a:lnTo>
                  <a:lnTo>
                    <a:pt x="188" y="187"/>
                  </a:lnTo>
                  <a:lnTo>
                    <a:pt x="172" y="194"/>
                  </a:lnTo>
                  <a:lnTo>
                    <a:pt x="151" y="201"/>
                  </a:lnTo>
                  <a:lnTo>
                    <a:pt x="142" y="201"/>
                  </a:lnTo>
                  <a:lnTo>
                    <a:pt x="124" y="200"/>
                  </a:lnTo>
                  <a:lnTo>
                    <a:pt x="103" y="198"/>
                  </a:lnTo>
                  <a:lnTo>
                    <a:pt x="80" y="194"/>
                  </a:lnTo>
                  <a:lnTo>
                    <a:pt x="55" y="191"/>
                  </a:lnTo>
                  <a:lnTo>
                    <a:pt x="34" y="187"/>
                  </a:lnTo>
                  <a:lnTo>
                    <a:pt x="16" y="184"/>
                  </a:lnTo>
                  <a:lnTo>
                    <a:pt x="7" y="178"/>
                  </a:lnTo>
                  <a:lnTo>
                    <a:pt x="0" y="168"/>
                  </a:lnTo>
                  <a:lnTo>
                    <a:pt x="4" y="154"/>
                  </a:lnTo>
                  <a:lnTo>
                    <a:pt x="13" y="131"/>
                  </a:lnTo>
                  <a:lnTo>
                    <a:pt x="23" y="97"/>
                  </a:lnTo>
                  <a:lnTo>
                    <a:pt x="30" y="58"/>
                  </a:lnTo>
                  <a:lnTo>
                    <a:pt x="30" y="28"/>
                  </a:lnTo>
                  <a:lnTo>
                    <a:pt x="29" y="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5b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-1617480" y="3897720"/>
              <a:ext cx="1293120" cy="1042560"/>
            </a:xfrm>
            <a:custGeom>
              <a:avLst/>
              <a:gdLst>
                <a:gd name="textAreaLeft" fmla="*/ 0 w 1293120"/>
                <a:gd name="textAreaRight" fmla="*/ 1293480 w 1293120"/>
                <a:gd name="textAreaTop" fmla="*/ 0 h 1042560"/>
                <a:gd name="textAreaBottom" fmla="*/ 1042920 h 1042560"/>
              </a:gdLst>
              <a:ahLst/>
              <a:rect l="textAreaLeft" t="textAreaTop" r="textAreaRight" b="textAreaBottom"/>
              <a:pathLst>
                <a:path w="1334" h="1075">
                  <a:moveTo>
                    <a:pt x="578" y="2"/>
                  </a:moveTo>
                  <a:lnTo>
                    <a:pt x="585" y="2"/>
                  </a:lnTo>
                  <a:lnTo>
                    <a:pt x="597" y="0"/>
                  </a:lnTo>
                  <a:lnTo>
                    <a:pt x="613" y="0"/>
                  </a:lnTo>
                  <a:lnTo>
                    <a:pt x="631" y="0"/>
                  </a:lnTo>
                  <a:lnTo>
                    <a:pt x="648" y="2"/>
                  </a:lnTo>
                  <a:lnTo>
                    <a:pt x="666" y="3"/>
                  </a:lnTo>
                  <a:lnTo>
                    <a:pt x="680" y="7"/>
                  </a:lnTo>
                  <a:lnTo>
                    <a:pt x="693" y="12"/>
                  </a:lnTo>
                  <a:lnTo>
                    <a:pt x="703" y="19"/>
                  </a:lnTo>
                  <a:lnTo>
                    <a:pt x="716" y="28"/>
                  </a:lnTo>
                  <a:lnTo>
                    <a:pt x="730" y="39"/>
                  </a:lnTo>
                  <a:lnTo>
                    <a:pt x="744" y="49"/>
                  </a:lnTo>
                  <a:lnTo>
                    <a:pt x="758" y="62"/>
                  </a:lnTo>
                  <a:lnTo>
                    <a:pt x="772" y="72"/>
                  </a:lnTo>
                  <a:lnTo>
                    <a:pt x="784" y="81"/>
                  </a:lnTo>
                  <a:lnTo>
                    <a:pt x="797" y="88"/>
                  </a:lnTo>
                  <a:lnTo>
                    <a:pt x="813" y="97"/>
                  </a:lnTo>
                  <a:lnTo>
                    <a:pt x="834" y="110"/>
                  </a:lnTo>
                  <a:lnTo>
                    <a:pt x="860" y="124"/>
                  </a:lnTo>
                  <a:lnTo>
                    <a:pt x="889" y="138"/>
                  </a:lnTo>
                  <a:lnTo>
                    <a:pt x="917" y="154"/>
                  </a:lnTo>
                  <a:lnTo>
                    <a:pt x="943" y="166"/>
                  </a:lnTo>
                  <a:lnTo>
                    <a:pt x="965" y="175"/>
                  </a:lnTo>
                  <a:lnTo>
                    <a:pt x="979" y="179"/>
                  </a:lnTo>
                  <a:lnTo>
                    <a:pt x="991" y="179"/>
                  </a:lnTo>
                  <a:lnTo>
                    <a:pt x="1005" y="179"/>
                  </a:lnTo>
                  <a:lnTo>
                    <a:pt x="1021" y="179"/>
                  </a:lnTo>
                  <a:lnTo>
                    <a:pt x="1037" y="179"/>
                  </a:lnTo>
                  <a:lnTo>
                    <a:pt x="1053" y="179"/>
                  </a:lnTo>
                  <a:lnTo>
                    <a:pt x="1067" y="180"/>
                  </a:lnTo>
                  <a:lnTo>
                    <a:pt x="1081" y="182"/>
                  </a:lnTo>
                  <a:lnTo>
                    <a:pt x="1092" y="187"/>
                  </a:lnTo>
                  <a:lnTo>
                    <a:pt x="1102" y="194"/>
                  </a:lnTo>
                  <a:lnTo>
                    <a:pt x="1117" y="202"/>
                  </a:lnTo>
                  <a:lnTo>
                    <a:pt x="1131" y="209"/>
                  </a:lnTo>
                  <a:lnTo>
                    <a:pt x="1147" y="217"/>
                  </a:lnTo>
                  <a:lnTo>
                    <a:pt x="1161" y="228"/>
                  </a:lnTo>
                  <a:lnTo>
                    <a:pt x="1173" y="239"/>
                  </a:lnTo>
                  <a:lnTo>
                    <a:pt x="1184" y="253"/>
                  </a:lnTo>
                  <a:lnTo>
                    <a:pt x="1191" y="267"/>
                  </a:lnTo>
                  <a:lnTo>
                    <a:pt x="1198" y="293"/>
                  </a:lnTo>
                  <a:lnTo>
                    <a:pt x="1210" y="334"/>
                  </a:lnTo>
                  <a:lnTo>
                    <a:pt x="1224" y="387"/>
                  </a:lnTo>
                  <a:lnTo>
                    <a:pt x="1238" y="442"/>
                  </a:lnTo>
                  <a:lnTo>
                    <a:pt x="1254" y="497"/>
                  </a:lnTo>
                  <a:lnTo>
                    <a:pt x="1267" y="545"/>
                  </a:lnTo>
                  <a:lnTo>
                    <a:pt x="1277" y="582"/>
                  </a:lnTo>
                  <a:lnTo>
                    <a:pt x="1284" y="599"/>
                  </a:lnTo>
                  <a:lnTo>
                    <a:pt x="1293" y="615"/>
                  </a:lnTo>
                  <a:lnTo>
                    <a:pt x="1302" y="631"/>
                  </a:lnTo>
                  <a:lnTo>
                    <a:pt x="1311" y="647"/>
                  </a:lnTo>
                  <a:lnTo>
                    <a:pt x="1321" y="665"/>
                  </a:lnTo>
                  <a:lnTo>
                    <a:pt x="1330" y="695"/>
                  </a:lnTo>
                  <a:lnTo>
                    <a:pt x="1334" y="741"/>
                  </a:lnTo>
                  <a:lnTo>
                    <a:pt x="1334" y="783"/>
                  </a:lnTo>
                  <a:lnTo>
                    <a:pt x="1327" y="811"/>
                  </a:lnTo>
                  <a:lnTo>
                    <a:pt x="1321" y="819"/>
                  </a:lnTo>
                  <a:lnTo>
                    <a:pt x="1316" y="827"/>
                  </a:lnTo>
                  <a:lnTo>
                    <a:pt x="1311" y="834"/>
                  </a:lnTo>
                  <a:lnTo>
                    <a:pt x="1305" y="842"/>
                  </a:lnTo>
                  <a:lnTo>
                    <a:pt x="1298" y="849"/>
                  </a:lnTo>
                  <a:lnTo>
                    <a:pt x="1291" y="852"/>
                  </a:lnTo>
                  <a:lnTo>
                    <a:pt x="1283" y="856"/>
                  </a:lnTo>
                  <a:lnTo>
                    <a:pt x="1274" y="857"/>
                  </a:lnTo>
                  <a:lnTo>
                    <a:pt x="1260" y="854"/>
                  </a:lnTo>
                  <a:lnTo>
                    <a:pt x="1240" y="843"/>
                  </a:lnTo>
                  <a:lnTo>
                    <a:pt x="1217" y="827"/>
                  </a:lnTo>
                  <a:lnTo>
                    <a:pt x="1192" y="810"/>
                  </a:lnTo>
                  <a:lnTo>
                    <a:pt x="1169" y="790"/>
                  </a:lnTo>
                  <a:lnTo>
                    <a:pt x="1150" y="771"/>
                  </a:lnTo>
                  <a:lnTo>
                    <a:pt x="1134" y="755"/>
                  </a:lnTo>
                  <a:lnTo>
                    <a:pt x="1129" y="743"/>
                  </a:lnTo>
                  <a:lnTo>
                    <a:pt x="1122" y="721"/>
                  </a:lnTo>
                  <a:lnTo>
                    <a:pt x="1109" y="700"/>
                  </a:lnTo>
                  <a:lnTo>
                    <a:pt x="1095" y="681"/>
                  </a:lnTo>
                  <a:lnTo>
                    <a:pt x="1088" y="659"/>
                  </a:lnTo>
                  <a:lnTo>
                    <a:pt x="1088" y="638"/>
                  </a:lnTo>
                  <a:lnTo>
                    <a:pt x="1088" y="617"/>
                  </a:lnTo>
                  <a:lnTo>
                    <a:pt x="1086" y="598"/>
                  </a:lnTo>
                  <a:lnTo>
                    <a:pt x="1079" y="585"/>
                  </a:lnTo>
                  <a:lnTo>
                    <a:pt x="1071" y="583"/>
                  </a:lnTo>
                  <a:lnTo>
                    <a:pt x="1060" y="583"/>
                  </a:lnTo>
                  <a:lnTo>
                    <a:pt x="1048" y="585"/>
                  </a:lnTo>
                  <a:lnTo>
                    <a:pt x="1033" y="589"/>
                  </a:lnTo>
                  <a:lnTo>
                    <a:pt x="1021" y="592"/>
                  </a:lnTo>
                  <a:lnTo>
                    <a:pt x="1012" y="598"/>
                  </a:lnTo>
                  <a:lnTo>
                    <a:pt x="1007" y="603"/>
                  </a:lnTo>
                  <a:lnTo>
                    <a:pt x="1005" y="606"/>
                  </a:lnTo>
                  <a:lnTo>
                    <a:pt x="1012" y="612"/>
                  </a:lnTo>
                  <a:lnTo>
                    <a:pt x="1025" y="617"/>
                  </a:lnTo>
                  <a:lnTo>
                    <a:pt x="1035" y="624"/>
                  </a:lnTo>
                  <a:lnTo>
                    <a:pt x="1046" y="633"/>
                  </a:lnTo>
                  <a:lnTo>
                    <a:pt x="1049" y="647"/>
                  </a:lnTo>
                  <a:lnTo>
                    <a:pt x="1048" y="668"/>
                  </a:lnTo>
                  <a:lnTo>
                    <a:pt x="1041" y="689"/>
                  </a:lnTo>
                  <a:lnTo>
                    <a:pt x="1032" y="705"/>
                  </a:lnTo>
                  <a:lnTo>
                    <a:pt x="1028" y="716"/>
                  </a:lnTo>
                  <a:lnTo>
                    <a:pt x="1009" y="758"/>
                  </a:lnTo>
                  <a:lnTo>
                    <a:pt x="977" y="820"/>
                  </a:lnTo>
                  <a:lnTo>
                    <a:pt x="938" y="893"/>
                  </a:lnTo>
                  <a:lnTo>
                    <a:pt x="897" y="965"/>
                  </a:lnTo>
                  <a:lnTo>
                    <a:pt x="860" y="1027"/>
                  </a:lnTo>
                  <a:lnTo>
                    <a:pt x="830" y="1068"/>
                  </a:lnTo>
                  <a:lnTo>
                    <a:pt x="814" y="1075"/>
                  </a:lnTo>
                  <a:lnTo>
                    <a:pt x="786" y="1045"/>
                  </a:lnTo>
                  <a:lnTo>
                    <a:pt x="753" y="1029"/>
                  </a:lnTo>
                  <a:lnTo>
                    <a:pt x="717" y="1022"/>
                  </a:lnTo>
                  <a:lnTo>
                    <a:pt x="682" y="1024"/>
                  </a:lnTo>
                  <a:lnTo>
                    <a:pt x="648" y="1029"/>
                  </a:lnTo>
                  <a:lnTo>
                    <a:pt x="618" y="1036"/>
                  </a:lnTo>
                  <a:lnTo>
                    <a:pt x="594" y="1041"/>
                  </a:lnTo>
                  <a:lnTo>
                    <a:pt x="578" y="1041"/>
                  </a:lnTo>
                  <a:lnTo>
                    <a:pt x="565" y="1036"/>
                  </a:lnTo>
                  <a:lnTo>
                    <a:pt x="553" y="1025"/>
                  </a:lnTo>
                  <a:lnTo>
                    <a:pt x="542" y="1013"/>
                  </a:lnTo>
                  <a:lnTo>
                    <a:pt x="530" y="995"/>
                  </a:lnTo>
                  <a:lnTo>
                    <a:pt x="520" y="978"/>
                  </a:lnTo>
                  <a:lnTo>
                    <a:pt x="507" y="960"/>
                  </a:lnTo>
                  <a:lnTo>
                    <a:pt x="495" y="942"/>
                  </a:lnTo>
                  <a:lnTo>
                    <a:pt x="481" y="925"/>
                  </a:lnTo>
                  <a:lnTo>
                    <a:pt x="470" y="918"/>
                  </a:lnTo>
                  <a:lnTo>
                    <a:pt x="451" y="910"/>
                  </a:lnTo>
                  <a:lnTo>
                    <a:pt x="428" y="907"/>
                  </a:lnTo>
                  <a:lnTo>
                    <a:pt x="405" y="902"/>
                  </a:lnTo>
                  <a:lnTo>
                    <a:pt x="380" y="895"/>
                  </a:lnTo>
                  <a:lnTo>
                    <a:pt x="361" y="888"/>
                  </a:lnTo>
                  <a:lnTo>
                    <a:pt x="346" y="879"/>
                  </a:lnTo>
                  <a:lnTo>
                    <a:pt x="343" y="865"/>
                  </a:lnTo>
                  <a:lnTo>
                    <a:pt x="343" y="822"/>
                  </a:lnTo>
                  <a:lnTo>
                    <a:pt x="341" y="792"/>
                  </a:lnTo>
                  <a:lnTo>
                    <a:pt x="334" y="769"/>
                  </a:lnTo>
                  <a:lnTo>
                    <a:pt x="322" y="748"/>
                  </a:lnTo>
                  <a:lnTo>
                    <a:pt x="318" y="741"/>
                  </a:lnTo>
                  <a:lnTo>
                    <a:pt x="320" y="734"/>
                  </a:lnTo>
                  <a:lnTo>
                    <a:pt x="323" y="727"/>
                  </a:lnTo>
                  <a:lnTo>
                    <a:pt x="331" y="720"/>
                  </a:lnTo>
                  <a:lnTo>
                    <a:pt x="338" y="712"/>
                  </a:lnTo>
                  <a:lnTo>
                    <a:pt x="348" y="705"/>
                  </a:lnTo>
                  <a:lnTo>
                    <a:pt x="359" y="698"/>
                  </a:lnTo>
                  <a:lnTo>
                    <a:pt x="369" y="689"/>
                  </a:lnTo>
                  <a:lnTo>
                    <a:pt x="380" y="679"/>
                  </a:lnTo>
                  <a:lnTo>
                    <a:pt x="391" y="667"/>
                  </a:lnTo>
                  <a:lnTo>
                    <a:pt x="401" y="654"/>
                  </a:lnTo>
                  <a:lnTo>
                    <a:pt x="410" y="640"/>
                  </a:lnTo>
                  <a:lnTo>
                    <a:pt x="419" y="626"/>
                  </a:lnTo>
                  <a:lnTo>
                    <a:pt x="424" y="613"/>
                  </a:lnTo>
                  <a:lnTo>
                    <a:pt x="428" y="603"/>
                  </a:lnTo>
                  <a:lnTo>
                    <a:pt x="428" y="592"/>
                  </a:lnTo>
                  <a:lnTo>
                    <a:pt x="424" y="553"/>
                  </a:lnTo>
                  <a:lnTo>
                    <a:pt x="422" y="491"/>
                  </a:lnTo>
                  <a:lnTo>
                    <a:pt x="421" y="430"/>
                  </a:lnTo>
                  <a:lnTo>
                    <a:pt x="422" y="398"/>
                  </a:lnTo>
                  <a:lnTo>
                    <a:pt x="428" y="380"/>
                  </a:lnTo>
                  <a:lnTo>
                    <a:pt x="435" y="354"/>
                  </a:lnTo>
                  <a:lnTo>
                    <a:pt x="444" y="327"/>
                  </a:lnTo>
                  <a:lnTo>
                    <a:pt x="451" y="304"/>
                  </a:lnTo>
                  <a:lnTo>
                    <a:pt x="459" y="278"/>
                  </a:lnTo>
                  <a:lnTo>
                    <a:pt x="470" y="240"/>
                  </a:lnTo>
                  <a:lnTo>
                    <a:pt x="481" y="209"/>
                  </a:lnTo>
                  <a:lnTo>
                    <a:pt x="484" y="194"/>
                  </a:lnTo>
                  <a:lnTo>
                    <a:pt x="431" y="187"/>
                  </a:lnTo>
                  <a:lnTo>
                    <a:pt x="428" y="191"/>
                  </a:lnTo>
                  <a:lnTo>
                    <a:pt x="422" y="200"/>
                  </a:lnTo>
                  <a:lnTo>
                    <a:pt x="419" y="209"/>
                  </a:lnTo>
                  <a:lnTo>
                    <a:pt x="422" y="217"/>
                  </a:lnTo>
                  <a:lnTo>
                    <a:pt x="429" y="226"/>
                  </a:lnTo>
                  <a:lnTo>
                    <a:pt x="435" y="237"/>
                  </a:lnTo>
                  <a:lnTo>
                    <a:pt x="440" y="244"/>
                  </a:lnTo>
                  <a:lnTo>
                    <a:pt x="442" y="247"/>
                  </a:lnTo>
                  <a:lnTo>
                    <a:pt x="405" y="354"/>
                  </a:lnTo>
                  <a:lnTo>
                    <a:pt x="403" y="357"/>
                  </a:lnTo>
                  <a:lnTo>
                    <a:pt x="398" y="366"/>
                  </a:lnTo>
                  <a:lnTo>
                    <a:pt x="391" y="375"/>
                  </a:lnTo>
                  <a:lnTo>
                    <a:pt x="378" y="380"/>
                  </a:lnTo>
                  <a:lnTo>
                    <a:pt x="369" y="382"/>
                  </a:lnTo>
                  <a:lnTo>
                    <a:pt x="354" y="384"/>
                  </a:lnTo>
                  <a:lnTo>
                    <a:pt x="334" y="385"/>
                  </a:lnTo>
                  <a:lnTo>
                    <a:pt x="313" y="387"/>
                  </a:lnTo>
                  <a:lnTo>
                    <a:pt x="292" y="391"/>
                  </a:lnTo>
                  <a:lnTo>
                    <a:pt x="274" y="391"/>
                  </a:lnTo>
                  <a:lnTo>
                    <a:pt x="258" y="391"/>
                  </a:lnTo>
                  <a:lnTo>
                    <a:pt x="249" y="391"/>
                  </a:lnTo>
                  <a:lnTo>
                    <a:pt x="244" y="391"/>
                  </a:lnTo>
                  <a:lnTo>
                    <a:pt x="237" y="392"/>
                  </a:lnTo>
                  <a:lnTo>
                    <a:pt x="228" y="398"/>
                  </a:lnTo>
                  <a:lnTo>
                    <a:pt x="221" y="403"/>
                  </a:lnTo>
                  <a:lnTo>
                    <a:pt x="212" y="408"/>
                  </a:lnTo>
                  <a:lnTo>
                    <a:pt x="205" y="415"/>
                  </a:lnTo>
                  <a:lnTo>
                    <a:pt x="200" y="421"/>
                  </a:lnTo>
                  <a:lnTo>
                    <a:pt x="196" y="426"/>
                  </a:lnTo>
                  <a:lnTo>
                    <a:pt x="193" y="449"/>
                  </a:lnTo>
                  <a:lnTo>
                    <a:pt x="191" y="483"/>
                  </a:lnTo>
                  <a:lnTo>
                    <a:pt x="189" y="516"/>
                  </a:lnTo>
                  <a:lnTo>
                    <a:pt x="189" y="530"/>
                  </a:lnTo>
                  <a:lnTo>
                    <a:pt x="184" y="559"/>
                  </a:lnTo>
                  <a:lnTo>
                    <a:pt x="182" y="559"/>
                  </a:lnTo>
                  <a:lnTo>
                    <a:pt x="175" y="555"/>
                  </a:lnTo>
                  <a:lnTo>
                    <a:pt x="165" y="552"/>
                  </a:lnTo>
                  <a:lnTo>
                    <a:pt x="154" y="548"/>
                  </a:lnTo>
                  <a:lnTo>
                    <a:pt x="142" y="545"/>
                  </a:lnTo>
                  <a:lnTo>
                    <a:pt x="131" y="541"/>
                  </a:lnTo>
                  <a:lnTo>
                    <a:pt x="120" y="537"/>
                  </a:lnTo>
                  <a:lnTo>
                    <a:pt x="113" y="536"/>
                  </a:lnTo>
                  <a:lnTo>
                    <a:pt x="108" y="534"/>
                  </a:lnTo>
                  <a:lnTo>
                    <a:pt x="101" y="530"/>
                  </a:lnTo>
                  <a:lnTo>
                    <a:pt x="94" y="527"/>
                  </a:lnTo>
                  <a:lnTo>
                    <a:pt x="85" y="523"/>
                  </a:lnTo>
                  <a:lnTo>
                    <a:pt x="76" y="522"/>
                  </a:lnTo>
                  <a:lnTo>
                    <a:pt x="66" y="518"/>
                  </a:lnTo>
                  <a:lnTo>
                    <a:pt x="57" y="518"/>
                  </a:lnTo>
                  <a:lnTo>
                    <a:pt x="48" y="520"/>
                  </a:lnTo>
                  <a:lnTo>
                    <a:pt x="30" y="525"/>
                  </a:lnTo>
                  <a:lnTo>
                    <a:pt x="16" y="527"/>
                  </a:lnTo>
                  <a:lnTo>
                    <a:pt x="4" y="530"/>
                  </a:lnTo>
                  <a:lnTo>
                    <a:pt x="0" y="530"/>
                  </a:lnTo>
                  <a:lnTo>
                    <a:pt x="2" y="522"/>
                  </a:lnTo>
                  <a:lnTo>
                    <a:pt x="6" y="499"/>
                  </a:lnTo>
                  <a:lnTo>
                    <a:pt x="11" y="474"/>
                  </a:lnTo>
                  <a:lnTo>
                    <a:pt x="14" y="453"/>
                  </a:lnTo>
                  <a:lnTo>
                    <a:pt x="18" y="431"/>
                  </a:lnTo>
                  <a:lnTo>
                    <a:pt x="25" y="405"/>
                  </a:lnTo>
                  <a:lnTo>
                    <a:pt x="32" y="378"/>
                  </a:lnTo>
                  <a:lnTo>
                    <a:pt x="41" y="357"/>
                  </a:lnTo>
                  <a:lnTo>
                    <a:pt x="46" y="348"/>
                  </a:lnTo>
                  <a:lnTo>
                    <a:pt x="55" y="334"/>
                  </a:lnTo>
                  <a:lnTo>
                    <a:pt x="67" y="320"/>
                  </a:lnTo>
                  <a:lnTo>
                    <a:pt x="82" y="302"/>
                  </a:lnTo>
                  <a:lnTo>
                    <a:pt x="97" y="285"/>
                  </a:lnTo>
                  <a:lnTo>
                    <a:pt x="115" y="269"/>
                  </a:lnTo>
                  <a:lnTo>
                    <a:pt x="134" y="253"/>
                  </a:lnTo>
                  <a:lnTo>
                    <a:pt x="154" y="239"/>
                  </a:lnTo>
                  <a:lnTo>
                    <a:pt x="177" y="224"/>
                  </a:lnTo>
                  <a:lnTo>
                    <a:pt x="203" y="207"/>
                  </a:lnTo>
                  <a:lnTo>
                    <a:pt x="232" y="189"/>
                  </a:lnTo>
                  <a:lnTo>
                    <a:pt x="263" y="170"/>
                  </a:lnTo>
                  <a:lnTo>
                    <a:pt x="293" y="150"/>
                  </a:lnTo>
                  <a:lnTo>
                    <a:pt x="322" y="134"/>
                  </a:lnTo>
                  <a:lnTo>
                    <a:pt x="348" y="120"/>
                  </a:lnTo>
                  <a:lnTo>
                    <a:pt x="371" y="111"/>
                  </a:lnTo>
                  <a:lnTo>
                    <a:pt x="396" y="102"/>
                  </a:lnTo>
                  <a:lnTo>
                    <a:pt x="426" y="88"/>
                  </a:lnTo>
                  <a:lnTo>
                    <a:pt x="459" y="69"/>
                  </a:lnTo>
                  <a:lnTo>
                    <a:pt x="495" y="51"/>
                  </a:lnTo>
                  <a:lnTo>
                    <a:pt x="527" y="32"/>
                  </a:lnTo>
                  <a:lnTo>
                    <a:pt x="553" y="16"/>
                  </a:lnTo>
                  <a:lnTo>
                    <a:pt x="571" y="5"/>
                  </a:lnTo>
                  <a:lnTo>
                    <a:pt x="578" y="2"/>
                  </a:lnTo>
                  <a:close/>
                </a:path>
              </a:pathLst>
            </a:custGeom>
            <a:solidFill>
              <a:srgbClr val="edd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6"/>
            <p:cNvSpPr/>
            <p:nvPr/>
          </p:nvSpPr>
          <p:spPr>
            <a:xfrm>
              <a:off x="-1519560" y="4632840"/>
              <a:ext cx="742680" cy="143712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1437120"/>
                <a:gd name="textAreaBottom" fmla="*/ 1437480 h 1437120"/>
              </a:gdLst>
              <a:ahLst/>
              <a:rect l="textAreaLeft" t="textAreaTop" r="textAreaRight" b="textAreaBottom"/>
              <a:pathLst>
                <a:path w="766" h="1482">
                  <a:moveTo>
                    <a:pt x="141" y="1199"/>
                  </a:moveTo>
                  <a:lnTo>
                    <a:pt x="138" y="1143"/>
                  </a:lnTo>
                  <a:lnTo>
                    <a:pt x="182" y="1060"/>
                  </a:lnTo>
                  <a:lnTo>
                    <a:pt x="247" y="999"/>
                  </a:lnTo>
                  <a:lnTo>
                    <a:pt x="254" y="985"/>
                  </a:lnTo>
                  <a:lnTo>
                    <a:pt x="268" y="953"/>
                  </a:lnTo>
                  <a:lnTo>
                    <a:pt x="283" y="920"/>
                  </a:lnTo>
                  <a:lnTo>
                    <a:pt x="291" y="900"/>
                  </a:lnTo>
                  <a:lnTo>
                    <a:pt x="297" y="886"/>
                  </a:lnTo>
                  <a:lnTo>
                    <a:pt x="302" y="865"/>
                  </a:lnTo>
                  <a:lnTo>
                    <a:pt x="305" y="838"/>
                  </a:lnTo>
                  <a:lnTo>
                    <a:pt x="304" y="814"/>
                  </a:lnTo>
                  <a:lnTo>
                    <a:pt x="297" y="778"/>
                  </a:lnTo>
                  <a:lnTo>
                    <a:pt x="288" y="729"/>
                  </a:lnTo>
                  <a:lnTo>
                    <a:pt x="277" y="685"/>
                  </a:lnTo>
                  <a:lnTo>
                    <a:pt x="261" y="662"/>
                  </a:lnTo>
                  <a:lnTo>
                    <a:pt x="249" y="656"/>
                  </a:lnTo>
                  <a:lnTo>
                    <a:pt x="233" y="648"/>
                  </a:lnTo>
                  <a:lnTo>
                    <a:pt x="214" y="637"/>
                  </a:lnTo>
                  <a:lnTo>
                    <a:pt x="192" y="623"/>
                  </a:lnTo>
                  <a:lnTo>
                    <a:pt x="173" y="610"/>
                  </a:lnTo>
                  <a:lnTo>
                    <a:pt x="155" y="600"/>
                  </a:lnTo>
                  <a:lnTo>
                    <a:pt x="141" y="591"/>
                  </a:lnTo>
                  <a:lnTo>
                    <a:pt x="132" y="586"/>
                  </a:lnTo>
                  <a:lnTo>
                    <a:pt x="124" y="579"/>
                  </a:lnTo>
                  <a:lnTo>
                    <a:pt x="108" y="566"/>
                  </a:lnTo>
                  <a:lnTo>
                    <a:pt x="88" y="549"/>
                  </a:lnTo>
                  <a:lnTo>
                    <a:pt x="67" y="527"/>
                  </a:lnTo>
                  <a:lnTo>
                    <a:pt x="46" y="503"/>
                  </a:lnTo>
                  <a:lnTo>
                    <a:pt x="30" y="476"/>
                  </a:lnTo>
                  <a:lnTo>
                    <a:pt x="18" y="450"/>
                  </a:lnTo>
                  <a:lnTo>
                    <a:pt x="12" y="423"/>
                  </a:lnTo>
                  <a:lnTo>
                    <a:pt x="7" y="382"/>
                  </a:lnTo>
                  <a:lnTo>
                    <a:pt x="0" y="354"/>
                  </a:lnTo>
                  <a:lnTo>
                    <a:pt x="0" y="328"/>
                  </a:lnTo>
                  <a:lnTo>
                    <a:pt x="19" y="290"/>
                  </a:lnTo>
                  <a:lnTo>
                    <a:pt x="32" y="273"/>
                  </a:lnTo>
                  <a:lnTo>
                    <a:pt x="48" y="250"/>
                  </a:lnTo>
                  <a:lnTo>
                    <a:pt x="65" y="223"/>
                  </a:lnTo>
                  <a:lnTo>
                    <a:pt x="83" y="195"/>
                  </a:lnTo>
                  <a:lnTo>
                    <a:pt x="99" y="168"/>
                  </a:lnTo>
                  <a:lnTo>
                    <a:pt x="113" y="144"/>
                  </a:lnTo>
                  <a:lnTo>
                    <a:pt x="122" y="126"/>
                  </a:lnTo>
                  <a:lnTo>
                    <a:pt x="125" y="117"/>
                  </a:lnTo>
                  <a:lnTo>
                    <a:pt x="127" y="98"/>
                  </a:lnTo>
                  <a:lnTo>
                    <a:pt x="132" y="68"/>
                  </a:lnTo>
                  <a:lnTo>
                    <a:pt x="141" y="41"/>
                  </a:lnTo>
                  <a:lnTo>
                    <a:pt x="152" y="27"/>
                  </a:lnTo>
                  <a:lnTo>
                    <a:pt x="201" y="0"/>
                  </a:lnTo>
                  <a:lnTo>
                    <a:pt x="200" y="8"/>
                  </a:lnTo>
                  <a:lnTo>
                    <a:pt x="196" y="27"/>
                  </a:lnTo>
                  <a:lnTo>
                    <a:pt x="201" y="46"/>
                  </a:lnTo>
                  <a:lnTo>
                    <a:pt x="217" y="61"/>
                  </a:lnTo>
                  <a:lnTo>
                    <a:pt x="238" y="71"/>
                  </a:lnTo>
                  <a:lnTo>
                    <a:pt x="258" y="87"/>
                  </a:lnTo>
                  <a:lnTo>
                    <a:pt x="274" y="107"/>
                  </a:lnTo>
                  <a:lnTo>
                    <a:pt x="286" y="130"/>
                  </a:lnTo>
                  <a:lnTo>
                    <a:pt x="297" y="151"/>
                  </a:lnTo>
                  <a:lnTo>
                    <a:pt x="305" y="168"/>
                  </a:lnTo>
                  <a:lnTo>
                    <a:pt x="309" y="181"/>
                  </a:lnTo>
                  <a:lnTo>
                    <a:pt x="311" y="186"/>
                  </a:lnTo>
                  <a:lnTo>
                    <a:pt x="316" y="188"/>
                  </a:lnTo>
                  <a:lnTo>
                    <a:pt x="330" y="193"/>
                  </a:lnTo>
                  <a:lnTo>
                    <a:pt x="350" y="202"/>
                  </a:lnTo>
                  <a:lnTo>
                    <a:pt x="374" y="213"/>
                  </a:lnTo>
                  <a:lnTo>
                    <a:pt x="399" y="223"/>
                  </a:lnTo>
                  <a:lnTo>
                    <a:pt x="420" y="234"/>
                  </a:lnTo>
                  <a:lnTo>
                    <a:pt x="440" y="246"/>
                  </a:lnTo>
                  <a:lnTo>
                    <a:pt x="450" y="255"/>
                  </a:lnTo>
                  <a:lnTo>
                    <a:pt x="459" y="262"/>
                  </a:lnTo>
                  <a:lnTo>
                    <a:pt x="473" y="267"/>
                  </a:lnTo>
                  <a:lnTo>
                    <a:pt x="491" y="273"/>
                  </a:lnTo>
                  <a:lnTo>
                    <a:pt x="510" y="276"/>
                  </a:lnTo>
                  <a:lnTo>
                    <a:pt x="530" y="278"/>
                  </a:lnTo>
                  <a:lnTo>
                    <a:pt x="549" y="278"/>
                  </a:lnTo>
                  <a:lnTo>
                    <a:pt x="565" y="278"/>
                  </a:lnTo>
                  <a:lnTo>
                    <a:pt x="579" y="276"/>
                  </a:lnTo>
                  <a:lnTo>
                    <a:pt x="592" y="276"/>
                  </a:lnTo>
                  <a:lnTo>
                    <a:pt x="606" y="280"/>
                  </a:lnTo>
                  <a:lnTo>
                    <a:pt x="622" y="285"/>
                  </a:lnTo>
                  <a:lnTo>
                    <a:pt x="638" y="292"/>
                  </a:lnTo>
                  <a:lnTo>
                    <a:pt x="653" y="299"/>
                  </a:lnTo>
                  <a:lnTo>
                    <a:pt x="668" y="306"/>
                  </a:lnTo>
                  <a:lnTo>
                    <a:pt x="682" y="313"/>
                  </a:lnTo>
                  <a:lnTo>
                    <a:pt x="692" y="317"/>
                  </a:lnTo>
                  <a:lnTo>
                    <a:pt x="703" y="319"/>
                  </a:lnTo>
                  <a:lnTo>
                    <a:pt x="715" y="317"/>
                  </a:lnTo>
                  <a:lnTo>
                    <a:pt x="728" y="313"/>
                  </a:lnTo>
                  <a:lnTo>
                    <a:pt x="740" y="310"/>
                  </a:lnTo>
                  <a:lnTo>
                    <a:pt x="751" y="306"/>
                  </a:lnTo>
                  <a:lnTo>
                    <a:pt x="759" y="301"/>
                  </a:lnTo>
                  <a:lnTo>
                    <a:pt x="765" y="299"/>
                  </a:lnTo>
                  <a:lnTo>
                    <a:pt x="766" y="297"/>
                  </a:lnTo>
                  <a:lnTo>
                    <a:pt x="763" y="308"/>
                  </a:lnTo>
                  <a:lnTo>
                    <a:pt x="756" y="331"/>
                  </a:lnTo>
                  <a:lnTo>
                    <a:pt x="747" y="361"/>
                  </a:lnTo>
                  <a:lnTo>
                    <a:pt x="744" y="386"/>
                  </a:lnTo>
                  <a:lnTo>
                    <a:pt x="740" y="414"/>
                  </a:lnTo>
                  <a:lnTo>
                    <a:pt x="731" y="474"/>
                  </a:lnTo>
                  <a:lnTo>
                    <a:pt x="719" y="552"/>
                  </a:lnTo>
                  <a:lnTo>
                    <a:pt x="705" y="640"/>
                  </a:lnTo>
                  <a:lnTo>
                    <a:pt x="691" y="729"/>
                  </a:lnTo>
                  <a:lnTo>
                    <a:pt x="676" y="807"/>
                  </a:lnTo>
                  <a:lnTo>
                    <a:pt x="668" y="861"/>
                  </a:lnTo>
                  <a:lnTo>
                    <a:pt x="664" y="886"/>
                  </a:lnTo>
                  <a:lnTo>
                    <a:pt x="660" y="895"/>
                  </a:lnTo>
                  <a:lnTo>
                    <a:pt x="650" y="915"/>
                  </a:lnTo>
                  <a:lnTo>
                    <a:pt x="632" y="943"/>
                  </a:lnTo>
                  <a:lnTo>
                    <a:pt x="613" y="980"/>
                  </a:lnTo>
                  <a:lnTo>
                    <a:pt x="588" y="1024"/>
                  </a:lnTo>
                  <a:lnTo>
                    <a:pt x="560" y="1072"/>
                  </a:lnTo>
                  <a:lnTo>
                    <a:pt x="530" y="1123"/>
                  </a:lnTo>
                  <a:lnTo>
                    <a:pt x="500" y="1174"/>
                  </a:lnTo>
                  <a:lnTo>
                    <a:pt x="470" y="1227"/>
                  </a:lnTo>
                  <a:lnTo>
                    <a:pt x="440" y="1279"/>
                  </a:lnTo>
                  <a:lnTo>
                    <a:pt x="413" y="1326"/>
                  </a:lnTo>
                  <a:lnTo>
                    <a:pt x="389" y="1369"/>
                  </a:lnTo>
                  <a:lnTo>
                    <a:pt x="367" y="1404"/>
                  </a:lnTo>
                  <a:lnTo>
                    <a:pt x="350" y="1434"/>
                  </a:lnTo>
                  <a:lnTo>
                    <a:pt x="339" y="1452"/>
                  </a:lnTo>
                  <a:lnTo>
                    <a:pt x="334" y="1461"/>
                  </a:lnTo>
                  <a:lnTo>
                    <a:pt x="327" y="1468"/>
                  </a:lnTo>
                  <a:lnTo>
                    <a:pt x="320" y="1473"/>
                  </a:lnTo>
                  <a:lnTo>
                    <a:pt x="309" y="1477"/>
                  </a:lnTo>
                  <a:lnTo>
                    <a:pt x="295" y="1480"/>
                  </a:lnTo>
                  <a:lnTo>
                    <a:pt x="286" y="1482"/>
                  </a:lnTo>
                  <a:lnTo>
                    <a:pt x="277" y="1482"/>
                  </a:lnTo>
                  <a:lnTo>
                    <a:pt x="268" y="1482"/>
                  </a:lnTo>
                  <a:lnTo>
                    <a:pt x="258" y="1480"/>
                  </a:lnTo>
                  <a:lnTo>
                    <a:pt x="249" y="1479"/>
                  </a:lnTo>
                  <a:lnTo>
                    <a:pt x="238" y="1477"/>
                  </a:lnTo>
                  <a:lnTo>
                    <a:pt x="230" y="1473"/>
                  </a:lnTo>
                  <a:lnTo>
                    <a:pt x="221" y="1470"/>
                  </a:lnTo>
                  <a:lnTo>
                    <a:pt x="210" y="1464"/>
                  </a:lnTo>
                  <a:lnTo>
                    <a:pt x="198" y="1456"/>
                  </a:lnTo>
                  <a:lnTo>
                    <a:pt x="185" y="1447"/>
                  </a:lnTo>
                  <a:lnTo>
                    <a:pt x="173" y="1436"/>
                  </a:lnTo>
                  <a:lnTo>
                    <a:pt x="161" y="1425"/>
                  </a:lnTo>
                  <a:lnTo>
                    <a:pt x="150" y="1417"/>
                  </a:lnTo>
                  <a:lnTo>
                    <a:pt x="143" y="1410"/>
                  </a:lnTo>
                  <a:lnTo>
                    <a:pt x="141" y="1408"/>
                  </a:lnTo>
                  <a:lnTo>
                    <a:pt x="129" y="1268"/>
                  </a:lnTo>
                  <a:lnTo>
                    <a:pt x="141" y="1199"/>
                  </a:lnTo>
                  <a:close/>
                </a:path>
              </a:pathLst>
            </a:custGeom>
            <a:solidFill>
              <a:srgbClr val="004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-1407960" y="5248800"/>
              <a:ext cx="156960" cy="2674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162" h="276">
                  <a:moveTo>
                    <a:pt x="56" y="0"/>
                  </a:moveTo>
                  <a:lnTo>
                    <a:pt x="139" y="50"/>
                  </a:lnTo>
                  <a:lnTo>
                    <a:pt x="143" y="66"/>
                  </a:lnTo>
                  <a:lnTo>
                    <a:pt x="152" y="101"/>
                  </a:lnTo>
                  <a:lnTo>
                    <a:pt x="160" y="142"/>
                  </a:lnTo>
                  <a:lnTo>
                    <a:pt x="162" y="170"/>
                  </a:lnTo>
                  <a:lnTo>
                    <a:pt x="159" y="195"/>
                  </a:lnTo>
                  <a:lnTo>
                    <a:pt x="153" y="230"/>
                  </a:lnTo>
                  <a:lnTo>
                    <a:pt x="148" y="262"/>
                  </a:lnTo>
                  <a:lnTo>
                    <a:pt x="146" y="276"/>
                  </a:lnTo>
                  <a:lnTo>
                    <a:pt x="143" y="267"/>
                  </a:lnTo>
                  <a:lnTo>
                    <a:pt x="136" y="244"/>
                  </a:lnTo>
                  <a:lnTo>
                    <a:pt x="123" y="219"/>
                  </a:lnTo>
                  <a:lnTo>
                    <a:pt x="113" y="196"/>
                  </a:lnTo>
                  <a:lnTo>
                    <a:pt x="104" y="188"/>
                  </a:lnTo>
                  <a:lnTo>
                    <a:pt x="90" y="177"/>
                  </a:lnTo>
                  <a:lnTo>
                    <a:pt x="72" y="166"/>
                  </a:lnTo>
                  <a:lnTo>
                    <a:pt x="51" y="158"/>
                  </a:lnTo>
                  <a:lnTo>
                    <a:pt x="32" y="149"/>
                  </a:lnTo>
                  <a:lnTo>
                    <a:pt x="16" y="142"/>
                  </a:lnTo>
                  <a:lnTo>
                    <a:pt x="3" y="138"/>
                  </a:lnTo>
                  <a:lnTo>
                    <a:pt x="0" y="136"/>
                  </a:lnTo>
                  <a:lnTo>
                    <a:pt x="2" y="135"/>
                  </a:lnTo>
                  <a:lnTo>
                    <a:pt x="7" y="131"/>
                  </a:lnTo>
                  <a:lnTo>
                    <a:pt x="14" y="126"/>
                  </a:lnTo>
                  <a:lnTo>
                    <a:pt x="23" y="119"/>
                  </a:lnTo>
                  <a:lnTo>
                    <a:pt x="32" y="112"/>
                  </a:lnTo>
                  <a:lnTo>
                    <a:pt x="40" y="104"/>
                  </a:lnTo>
                  <a:lnTo>
                    <a:pt x="47" y="97"/>
                  </a:lnTo>
                  <a:lnTo>
                    <a:pt x="53" y="90"/>
                  </a:lnTo>
                  <a:lnTo>
                    <a:pt x="62" y="74"/>
                  </a:lnTo>
                  <a:lnTo>
                    <a:pt x="69" y="55"/>
                  </a:lnTo>
                  <a:lnTo>
                    <a:pt x="74" y="41"/>
                  </a:lnTo>
                  <a:lnTo>
                    <a:pt x="76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4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-1298520" y="4712400"/>
              <a:ext cx="49320" cy="540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1" h="56">
                  <a:moveTo>
                    <a:pt x="25" y="56"/>
                  </a:moveTo>
                  <a:lnTo>
                    <a:pt x="35" y="55"/>
                  </a:lnTo>
                  <a:lnTo>
                    <a:pt x="44" y="48"/>
                  </a:lnTo>
                  <a:lnTo>
                    <a:pt x="49" y="39"/>
                  </a:lnTo>
                  <a:lnTo>
                    <a:pt x="51" y="28"/>
                  </a:lnTo>
                  <a:lnTo>
                    <a:pt x="49" y="17"/>
                  </a:lnTo>
                  <a:lnTo>
                    <a:pt x="44" y="9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4" y="2"/>
                  </a:lnTo>
                  <a:lnTo>
                    <a:pt x="7" y="9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7" y="48"/>
                  </a:lnTo>
                  <a:lnTo>
                    <a:pt x="14" y="55"/>
                  </a:lnTo>
                  <a:lnTo>
                    <a:pt x="25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-1083240" y="4890960"/>
              <a:ext cx="50400" cy="540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2" h="56">
                  <a:moveTo>
                    <a:pt x="27" y="56"/>
                  </a:moveTo>
                  <a:lnTo>
                    <a:pt x="37" y="54"/>
                  </a:lnTo>
                  <a:lnTo>
                    <a:pt x="44" y="47"/>
                  </a:lnTo>
                  <a:lnTo>
                    <a:pt x="50" y="39"/>
                  </a:lnTo>
                  <a:lnTo>
                    <a:pt x="52" y="28"/>
                  </a:lnTo>
                  <a:lnTo>
                    <a:pt x="50" y="17"/>
                  </a:lnTo>
                  <a:lnTo>
                    <a:pt x="44" y="8"/>
                  </a:lnTo>
                  <a:lnTo>
                    <a:pt x="37" y="1"/>
                  </a:lnTo>
                  <a:lnTo>
                    <a:pt x="27" y="0"/>
                  </a:lnTo>
                  <a:lnTo>
                    <a:pt x="16" y="1"/>
                  </a:lnTo>
                  <a:lnTo>
                    <a:pt x="9" y="8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9" y="47"/>
                  </a:lnTo>
                  <a:lnTo>
                    <a:pt x="16" y="54"/>
                  </a:lnTo>
                  <a:lnTo>
                    <a:pt x="27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-853200" y="4924800"/>
              <a:ext cx="48960" cy="550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1" h="57">
                  <a:moveTo>
                    <a:pt x="26" y="57"/>
                  </a:moveTo>
                  <a:lnTo>
                    <a:pt x="37" y="55"/>
                  </a:lnTo>
                  <a:lnTo>
                    <a:pt x="44" y="48"/>
                  </a:lnTo>
                  <a:lnTo>
                    <a:pt x="49" y="39"/>
                  </a:lnTo>
                  <a:lnTo>
                    <a:pt x="51" y="28"/>
                  </a:lnTo>
                  <a:lnTo>
                    <a:pt x="49" y="18"/>
                  </a:lnTo>
                  <a:lnTo>
                    <a:pt x="44" y="9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9" y="9"/>
                  </a:lnTo>
                  <a:lnTo>
                    <a:pt x="2" y="18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9" y="48"/>
                  </a:lnTo>
                  <a:lnTo>
                    <a:pt x="16" y="55"/>
                  </a:lnTo>
                  <a:lnTo>
                    <a:pt x="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-674280" y="3687120"/>
              <a:ext cx="356760" cy="339480"/>
            </a:xfrm>
            <a:custGeom>
              <a:avLst/>
              <a:gdLst/>
              <a:ahLst/>
              <a:rect l="l" t="t" r="r" b="b"/>
              <a:pathLst>
                <a:path w="368" h="350">
                  <a:moveTo>
                    <a:pt x="347" y="0"/>
                  </a:moveTo>
                  <a:lnTo>
                    <a:pt x="347" y="4"/>
                  </a:lnTo>
                  <a:lnTo>
                    <a:pt x="352" y="7"/>
                  </a:lnTo>
                  <a:lnTo>
                    <a:pt x="359" y="13"/>
                  </a:lnTo>
                  <a:lnTo>
                    <a:pt x="364" y="18"/>
                  </a:lnTo>
                  <a:lnTo>
                    <a:pt x="366" y="25"/>
                  </a:lnTo>
                  <a:lnTo>
                    <a:pt x="368" y="36"/>
                  </a:lnTo>
                  <a:lnTo>
                    <a:pt x="368" y="44"/>
                  </a:lnTo>
                  <a:lnTo>
                    <a:pt x="364" y="55"/>
                  </a:lnTo>
                  <a:lnTo>
                    <a:pt x="361" y="67"/>
                  </a:lnTo>
                  <a:lnTo>
                    <a:pt x="357" y="83"/>
                  </a:lnTo>
                  <a:lnTo>
                    <a:pt x="352" y="99"/>
                  </a:lnTo>
                  <a:lnTo>
                    <a:pt x="348" y="110"/>
                  </a:lnTo>
                  <a:lnTo>
                    <a:pt x="343" y="119"/>
                  </a:lnTo>
                  <a:lnTo>
                    <a:pt x="334" y="131"/>
                  </a:lnTo>
                  <a:lnTo>
                    <a:pt x="325" y="143"/>
                  </a:lnTo>
                  <a:lnTo>
                    <a:pt x="320" y="152"/>
                  </a:lnTo>
                  <a:lnTo>
                    <a:pt x="318" y="161"/>
                  </a:lnTo>
                  <a:lnTo>
                    <a:pt x="317" y="174"/>
                  </a:lnTo>
                  <a:lnTo>
                    <a:pt x="315" y="188"/>
                  </a:lnTo>
                  <a:lnTo>
                    <a:pt x="315" y="198"/>
                  </a:lnTo>
                  <a:lnTo>
                    <a:pt x="310" y="214"/>
                  </a:lnTo>
                  <a:lnTo>
                    <a:pt x="299" y="235"/>
                  </a:lnTo>
                  <a:lnTo>
                    <a:pt x="287" y="257"/>
                  </a:lnTo>
                  <a:lnTo>
                    <a:pt x="276" y="273"/>
                  </a:lnTo>
                  <a:lnTo>
                    <a:pt x="271" y="278"/>
                  </a:lnTo>
                  <a:lnTo>
                    <a:pt x="260" y="287"/>
                  </a:lnTo>
                  <a:lnTo>
                    <a:pt x="246" y="294"/>
                  </a:lnTo>
                  <a:lnTo>
                    <a:pt x="232" y="303"/>
                  </a:lnTo>
                  <a:lnTo>
                    <a:pt x="218" y="311"/>
                  </a:lnTo>
                  <a:lnTo>
                    <a:pt x="205" y="320"/>
                  </a:lnTo>
                  <a:lnTo>
                    <a:pt x="195" y="326"/>
                  </a:lnTo>
                  <a:lnTo>
                    <a:pt x="189" y="329"/>
                  </a:lnTo>
                  <a:lnTo>
                    <a:pt x="181" y="333"/>
                  </a:lnTo>
                  <a:lnTo>
                    <a:pt x="170" y="334"/>
                  </a:lnTo>
                  <a:lnTo>
                    <a:pt x="159" y="338"/>
                  </a:lnTo>
                  <a:lnTo>
                    <a:pt x="149" y="341"/>
                  </a:lnTo>
                  <a:lnTo>
                    <a:pt x="136" y="345"/>
                  </a:lnTo>
                  <a:lnTo>
                    <a:pt x="124" y="349"/>
                  </a:lnTo>
                  <a:lnTo>
                    <a:pt x="113" y="350"/>
                  </a:lnTo>
                  <a:lnTo>
                    <a:pt x="108" y="350"/>
                  </a:lnTo>
                  <a:lnTo>
                    <a:pt x="103" y="343"/>
                  </a:lnTo>
                  <a:lnTo>
                    <a:pt x="91" y="327"/>
                  </a:lnTo>
                  <a:lnTo>
                    <a:pt x="75" y="311"/>
                  </a:lnTo>
                  <a:lnTo>
                    <a:pt x="64" y="301"/>
                  </a:lnTo>
                  <a:lnTo>
                    <a:pt x="59" y="297"/>
                  </a:lnTo>
                  <a:lnTo>
                    <a:pt x="50" y="292"/>
                  </a:lnTo>
                  <a:lnTo>
                    <a:pt x="39" y="287"/>
                  </a:lnTo>
                  <a:lnTo>
                    <a:pt x="29" y="280"/>
                  </a:lnTo>
                  <a:lnTo>
                    <a:pt x="18" y="274"/>
                  </a:lnTo>
                  <a:lnTo>
                    <a:pt x="9" y="271"/>
                  </a:lnTo>
                  <a:lnTo>
                    <a:pt x="2" y="267"/>
                  </a:lnTo>
                  <a:lnTo>
                    <a:pt x="0" y="265"/>
                  </a:lnTo>
                  <a:lnTo>
                    <a:pt x="0" y="264"/>
                  </a:lnTo>
                  <a:lnTo>
                    <a:pt x="4" y="258"/>
                  </a:lnTo>
                  <a:lnTo>
                    <a:pt x="9" y="253"/>
                  </a:lnTo>
                  <a:lnTo>
                    <a:pt x="20" y="251"/>
                  </a:lnTo>
                  <a:lnTo>
                    <a:pt x="25" y="251"/>
                  </a:lnTo>
                  <a:lnTo>
                    <a:pt x="32" y="251"/>
                  </a:lnTo>
                  <a:lnTo>
                    <a:pt x="41" y="251"/>
                  </a:lnTo>
                  <a:lnTo>
                    <a:pt x="48" y="251"/>
                  </a:lnTo>
                  <a:lnTo>
                    <a:pt x="55" y="251"/>
                  </a:lnTo>
                  <a:lnTo>
                    <a:pt x="64" y="251"/>
                  </a:lnTo>
                  <a:lnTo>
                    <a:pt x="71" y="251"/>
                  </a:lnTo>
                  <a:lnTo>
                    <a:pt x="76" y="251"/>
                  </a:lnTo>
                  <a:lnTo>
                    <a:pt x="82" y="250"/>
                  </a:lnTo>
                  <a:lnTo>
                    <a:pt x="89" y="248"/>
                  </a:lnTo>
                  <a:lnTo>
                    <a:pt x="98" y="246"/>
                  </a:lnTo>
                  <a:lnTo>
                    <a:pt x="106" y="244"/>
                  </a:lnTo>
                  <a:lnTo>
                    <a:pt x="115" y="242"/>
                  </a:lnTo>
                  <a:lnTo>
                    <a:pt x="122" y="239"/>
                  </a:lnTo>
                  <a:lnTo>
                    <a:pt x="129" y="235"/>
                  </a:lnTo>
                  <a:lnTo>
                    <a:pt x="135" y="232"/>
                  </a:lnTo>
                  <a:lnTo>
                    <a:pt x="142" y="225"/>
                  </a:lnTo>
                  <a:lnTo>
                    <a:pt x="147" y="218"/>
                  </a:lnTo>
                  <a:lnTo>
                    <a:pt x="152" y="211"/>
                  </a:lnTo>
                  <a:lnTo>
                    <a:pt x="156" y="202"/>
                  </a:lnTo>
                  <a:lnTo>
                    <a:pt x="158" y="195"/>
                  </a:lnTo>
                  <a:lnTo>
                    <a:pt x="159" y="188"/>
                  </a:lnTo>
                  <a:lnTo>
                    <a:pt x="161" y="182"/>
                  </a:lnTo>
                  <a:lnTo>
                    <a:pt x="159" y="179"/>
                  </a:lnTo>
                  <a:lnTo>
                    <a:pt x="156" y="175"/>
                  </a:lnTo>
                  <a:lnTo>
                    <a:pt x="152" y="174"/>
                  </a:lnTo>
                  <a:lnTo>
                    <a:pt x="147" y="170"/>
                  </a:lnTo>
                  <a:lnTo>
                    <a:pt x="144" y="168"/>
                  </a:lnTo>
                  <a:lnTo>
                    <a:pt x="136" y="165"/>
                  </a:lnTo>
                  <a:lnTo>
                    <a:pt x="126" y="158"/>
                  </a:lnTo>
                  <a:lnTo>
                    <a:pt x="117" y="152"/>
                  </a:lnTo>
                  <a:lnTo>
                    <a:pt x="115" y="143"/>
                  </a:lnTo>
                  <a:lnTo>
                    <a:pt x="119" y="129"/>
                  </a:lnTo>
                  <a:lnTo>
                    <a:pt x="124" y="112"/>
                  </a:lnTo>
                  <a:lnTo>
                    <a:pt x="129" y="94"/>
                  </a:lnTo>
                  <a:lnTo>
                    <a:pt x="138" y="82"/>
                  </a:lnTo>
                  <a:lnTo>
                    <a:pt x="149" y="69"/>
                  </a:lnTo>
                  <a:lnTo>
                    <a:pt x="159" y="57"/>
                  </a:lnTo>
                  <a:lnTo>
                    <a:pt x="170" y="46"/>
                  </a:lnTo>
                  <a:lnTo>
                    <a:pt x="181" y="41"/>
                  </a:lnTo>
                  <a:lnTo>
                    <a:pt x="189" y="43"/>
                  </a:lnTo>
                  <a:lnTo>
                    <a:pt x="198" y="48"/>
                  </a:lnTo>
                  <a:lnTo>
                    <a:pt x="204" y="55"/>
                  </a:lnTo>
                  <a:lnTo>
                    <a:pt x="211" y="67"/>
                  </a:lnTo>
                  <a:lnTo>
                    <a:pt x="214" y="78"/>
                  </a:lnTo>
                  <a:lnTo>
                    <a:pt x="216" y="85"/>
                  </a:lnTo>
                  <a:lnTo>
                    <a:pt x="219" y="90"/>
                  </a:lnTo>
                  <a:lnTo>
                    <a:pt x="227" y="92"/>
                  </a:lnTo>
                  <a:lnTo>
                    <a:pt x="232" y="92"/>
                  </a:lnTo>
                  <a:lnTo>
                    <a:pt x="241" y="92"/>
                  </a:lnTo>
                  <a:lnTo>
                    <a:pt x="251" y="92"/>
                  </a:lnTo>
                  <a:lnTo>
                    <a:pt x="264" y="92"/>
                  </a:lnTo>
                  <a:lnTo>
                    <a:pt x="276" y="92"/>
                  </a:lnTo>
                  <a:lnTo>
                    <a:pt x="287" y="90"/>
                  </a:lnTo>
                  <a:lnTo>
                    <a:pt x="297" y="89"/>
                  </a:lnTo>
                  <a:lnTo>
                    <a:pt x="304" y="87"/>
                  </a:lnTo>
                  <a:lnTo>
                    <a:pt x="317" y="83"/>
                  </a:lnTo>
                  <a:lnTo>
                    <a:pt x="325" y="78"/>
                  </a:lnTo>
                  <a:lnTo>
                    <a:pt x="332" y="73"/>
                  </a:lnTo>
                  <a:lnTo>
                    <a:pt x="338" y="62"/>
                  </a:lnTo>
                  <a:lnTo>
                    <a:pt x="340" y="52"/>
                  </a:lnTo>
                  <a:lnTo>
                    <a:pt x="336" y="43"/>
                  </a:lnTo>
                  <a:lnTo>
                    <a:pt x="334" y="36"/>
                  </a:lnTo>
                  <a:lnTo>
                    <a:pt x="334" y="25"/>
                  </a:lnTo>
                  <a:lnTo>
                    <a:pt x="338" y="14"/>
                  </a:lnTo>
                  <a:lnTo>
                    <a:pt x="341" y="7"/>
                  </a:lnTo>
                  <a:lnTo>
                    <a:pt x="345" y="2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-361800" y="4316760"/>
              <a:ext cx="309240" cy="333360"/>
            </a:xfrm>
            <a:custGeom>
              <a:avLst/>
              <a:gdLst/>
              <a:ahLst/>
              <a:rect l="l" t="t" r="r" b="b"/>
              <a:pathLst>
                <a:path w="320" h="345">
                  <a:moveTo>
                    <a:pt x="0" y="73"/>
                  </a:moveTo>
                  <a:lnTo>
                    <a:pt x="9" y="142"/>
                  </a:lnTo>
                  <a:lnTo>
                    <a:pt x="14" y="147"/>
                  </a:lnTo>
                  <a:lnTo>
                    <a:pt x="25" y="161"/>
                  </a:lnTo>
                  <a:lnTo>
                    <a:pt x="39" y="174"/>
                  </a:lnTo>
                  <a:lnTo>
                    <a:pt x="49" y="181"/>
                  </a:lnTo>
                  <a:lnTo>
                    <a:pt x="55" y="182"/>
                  </a:lnTo>
                  <a:lnTo>
                    <a:pt x="62" y="188"/>
                  </a:lnTo>
                  <a:lnTo>
                    <a:pt x="72" y="195"/>
                  </a:lnTo>
                  <a:lnTo>
                    <a:pt x="83" y="202"/>
                  </a:lnTo>
                  <a:lnTo>
                    <a:pt x="93" y="209"/>
                  </a:lnTo>
                  <a:lnTo>
                    <a:pt x="104" y="216"/>
                  </a:lnTo>
                  <a:lnTo>
                    <a:pt x="113" y="221"/>
                  </a:lnTo>
                  <a:lnTo>
                    <a:pt x="118" y="225"/>
                  </a:lnTo>
                  <a:lnTo>
                    <a:pt x="127" y="232"/>
                  </a:lnTo>
                  <a:lnTo>
                    <a:pt x="134" y="244"/>
                  </a:lnTo>
                  <a:lnTo>
                    <a:pt x="141" y="258"/>
                  </a:lnTo>
                  <a:lnTo>
                    <a:pt x="145" y="271"/>
                  </a:lnTo>
                  <a:lnTo>
                    <a:pt x="146" y="289"/>
                  </a:lnTo>
                  <a:lnTo>
                    <a:pt x="146" y="313"/>
                  </a:lnTo>
                  <a:lnTo>
                    <a:pt x="145" y="335"/>
                  </a:lnTo>
                  <a:lnTo>
                    <a:pt x="145" y="343"/>
                  </a:lnTo>
                  <a:lnTo>
                    <a:pt x="148" y="345"/>
                  </a:lnTo>
                  <a:lnTo>
                    <a:pt x="157" y="345"/>
                  </a:lnTo>
                  <a:lnTo>
                    <a:pt x="168" y="345"/>
                  </a:lnTo>
                  <a:lnTo>
                    <a:pt x="178" y="340"/>
                  </a:lnTo>
                  <a:lnTo>
                    <a:pt x="187" y="331"/>
                  </a:lnTo>
                  <a:lnTo>
                    <a:pt x="196" y="319"/>
                  </a:lnTo>
                  <a:lnTo>
                    <a:pt x="203" y="308"/>
                  </a:lnTo>
                  <a:lnTo>
                    <a:pt x="212" y="304"/>
                  </a:lnTo>
                  <a:lnTo>
                    <a:pt x="219" y="304"/>
                  </a:lnTo>
                  <a:lnTo>
                    <a:pt x="224" y="304"/>
                  </a:lnTo>
                  <a:lnTo>
                    <a:pt x="231" y="308"/>
                  </a:lnTo>
                  <a:lnTo>
                    <a:pt x="238" y="312"/>
                  </a:lnTo>
                  <a:lnTo>
                    <a:pt x="247" y="315"/>
                  </a:lnTo>
                  <a:lnTo>
                    <a:pt x="261" y="319"/>
                  </a:lnTo>
                  <a:lnTo>
                    <a:pt x="274" y="320"/>
                  </a:lnTo>
                  <a:lnTo>
                    <a:pt x="284" y="317"/>
                  </a:lnTo>
                  <a:lnTo>
                    <a:pt x="290" y="312"/>
                  </a:lnTo>
                  <a:lnTo>
                    <a:pt x="291" y="304"/>
                  </a:lnTo>
                  <a:lnTo>
                    <a:pt x="290" y="297"/>
                  </a:lnTo>
                  <a:lnTo>
                    <a:pt x="284" y="294"/>
                  </a:lnTo>
                  <a:lnTo>
                    <a:pt x="274" y="289"/>
                  </a:lnTo>
                  <a:lnTo>
                    <a:pt x="263" y="278"/>
                  </a:lnTo>
                  <a:lnTo>
                    <a:pt x="251" y="267"/>
                  </a:lnTo>
                  <a:lnTo>
                    <a:pt x="240" y="260"/>
                  </a:lnTo>
                  <a:lnTo>
                    <a:pt x="233" y="251"/>
                  </a:lnTo>
                  <a:lnTo>
                    <a:pt x="228" y="239"/>
                  </a:lnTo>
                  <a:lnTo>
                    <a:pt x="224" y="227"/>
                  </a:lnTo>
                  <a:lnTo>
                    <a:pt x="224" y="220"/>
                  </a:lnTo>
                  <a:lnTo>
                    <a:pt x="229" y="216"/>
                  </a:lnTo>
                  <a:lnTo>
                    <a:pt x="240" y="211"/>
                  </a:lnTo>
                  <a:lnTo>
                    <a:pt x="251" y="205"/>
                  </a:lnTo>
                  <a:lnTo>
                    <a:pt x="260" y="202"/>
                  </a:lnTo>
                  <a:lnTo>
                    <a:pt x="265" y="200"/>
                  </a:lnTo>
                  <a:lnTo>
                    <a:pt x="274" y="197"/>
                  </a:lnTo>
                  <a:lnTo>
                    <a:pt x="282" y="191"/>
                  </a:lnTo>
                  <a:lnTo>
                    <a:pt x="293" y="186"/>
                  </a:lnTo>
                  <a:lnTo>
                    <a:pt x="302" y="182"/>
                  </a:lnTo>
                  <a:lnTo>
                    <a:pt x="311" y="177"/>
                  </a:lnTo>
                  <a:lnTo>
                    <a:pt x="316" y="174"/>
                  </a:lnTo>
                  <a:lnTo>
                    <a:pt x="320" y="172"/>
                  </a:lnTo>
                  <a:lnTo>
                    <a:pt x="320" y="168"/>
                  </a:lnTo>
                  <a:lnTo>
                    <a:pt x="320" y="163"/>
                  </a:lnTo>
                  <a:lnTo>
                    <a:pt x="320" y="158"/>
                  </a:lnTo>
                  <a:lnTo>
                    <a:pt x="318" y="152"/>
                  </a:lnTo>
                  <a:lnTo>
                    <a:pt x="316" y="151"/>
                  </a:lnTo>
                  <a:lnTo>
                    <a:pt x="314" y="149"/>
                  </a:lnTo>
                  <a:lnTo>
                    <a:pt x="309" y="147"/>
                  </a:lnTo>
                  <a:lnTo>
                    <a:pt x="304" y="147"/>
                  </a:lnTo>
                  <a:lnTo>
                    <a:pt x="298" y="147"/>
                  </a:lnTo>
                  <a:lnTo>
                    <a:pt x="290" y="147"/>
                  </a:lnTo>
                  <a:lnTo>
                    <a:pt x="279" y="149"/>
                  </a:lnTo>
                  <a:lnTo>
                    <a:pt x="267" y="149"/>
                  </a:lnTo>
                  <a:lnTo>
                    <a:pt x="256" y="151"/>
                  </a:lnTo>
                  <a:lnTo>
                    <a:pt x="245" y="152"/>
                  </a:lnTo>
                  <a:lnTo>
                    <a:pt x="238" y="152"/>
                  </a:lnTo>
                  <a:lnTo>
                    <a:pt x="235" y="152"/>
                  </a:lnTo>
                  <a:lnTo>
                    <a:pt x="229" y="152"/>
                  </a:lnTo>
                  <a:lnTo>
                    <a:pt x="222" y="154"/>
                  </a:lnTo>
                  <a:lnTo>
                    <a:pt x="215" y="156"/>
                  </a:lnTo>
                  <a:lnTo>
                    <a:pt x="214" y="154"/>
                  </a:lnTo>
                  <a:lnTo>
                    <a:pt x="217" y="149"/>
                  </a:lnTo>
                  <a:lnTo>
                    <a:pt x="226" y="138"/>
                  </a:lnTo>
                  <a:lnTo>
                    <a:pt x="233" y="129"/>
                  </a:lnTo>
                  <a:lnTo>
                    <a:pt x="237" y="124"/>
                  </a:lnTo>
                  <a:lnTo>
                    <a:pt x="242" y="115"/>
                  </a:lnTo>
                  <a:lnTo>
                    <a:pt x="251" y="98"/>
                  </a:lnTo>
                  <a:lnTo>
                    <a:pt x="258" y="80"/>
                  </a:lnTo>
                  <a:lnTo>
                    <a:pt x="263" y="71"/>
                  </a:lnTo>
                  <a:lnTo>
                    <a:pt x="263" y="68"/>
                  </a:lnTo>
                  <a:lnTo>
                    <a:pt x="263" y="60"/>
                  </a:lnTo>
                  <a:lnTo>
                    <a:pt x="260" y="55"/>
                  </a:lnTo>
                  <a:lnTo>
                    <a:pt x="258" y="52"/>
                  </a:lnTo>
                  <a:lnTo>
                    <a:pt x="254" y="50"/>
                  </a:lnTo>
                  <a:lnTo>
                    <a:pt x="249" y="46"/>
                  </a:lnTo>
                  <a:lnTo>
                    <a:pt x="244" y="46"/>
                  </a:lnTo>
                  <a:lnTo>
                    <a:pt x="237" y="48"/>
                  </a:lnTo>
                  <a:lnTo>
                    <a:pt x="231" y="52"/>
                  </a:lnTo>
                  <a:lnTo>
                    <a:pt x="226" y="57"/>
                  </a:lnTo>
                  <a:lnTo>
                    <a:pt x="221" y="62"/>
                  </a:lnTo>
                  <a:lnTo>
                    <a:pt x="219" y="66"/>
                  </a:lnTo>
                  <a:lnTo>
                    <a:pt x="214" y="69"/>
                  </a:lnTo>
                  <a:lnTo>
                    <a:pt x="207" y="78"/>
                  </a:lnTo>
                  <a:lnTo>
                    <a:pt x="198" y="87"/>
                  </a:lnTo>
                  <a:lnTo>
                    <a:pt x="192" y="92"/>
                  </a:lnTo>
                  <a:lnTo>
                    <a:pt x="189" y="96"/>
                  </a:lnTo>
                  <a:lnTo>
                    <a:pt x="184" y="99"/>
                  </a:lnTo>
                  <a:lnTo>
                    <a:pt x="180" y="103"/>
                  </a:lnTo>
                  <a:lnTo>
                    <a:pt x="175" y="105"/>
                  </a:lnTo>
                  <a:lnTo>
                    <a:pt x="171" y="106"/>
                  </a:lnTo>
                  <a:lnTo>
                    <a:pt x="169" y="105"/>
                  </a:lnTo>
                  <a:lnTo>
                    <a:pt x="168" y="105"/>
                  </a:lnTo>
                  <a:lnTo>
                    <a:pt x="168" y="101"/>
                  </a:lnTo>
                  <a:lnTo>
                    <a:pt x="171" y="92"/>
                  </a:lnTo>
                  <a:lnTo>
                    <a:pt x="177" y="78"/>
                  </a:lnTo>
                  <a:lnTo>
                    <a:pt x="184" y="64"/>
                  </a:lnTo>
                  <a:lnTo>
                    <a:pt x="187" y="57"/>
                  </a:lnTo>
                  <a:lnTo>
                    <a:pt x="191" y="50"/>
                  </a:lnTo>
                  <a:lnTo>
                    <a:pt x="194" y="39"/>
                  </a:lnTo>
                  <a:lnTo>
                    <a:pt x="198" y="27"/>
                  </a:lnTo>
                  <a:lnTo>
                    <a:pt x="199" y="18"/>
                  </a:lnTo>
                  <a:lnTo>
                    <a:pt x="198" y="13"/>
                  </a:lnTo>
                  <a:lnTo>
                    <a:pt x="196" y="6"/>
                  </a:lnTo>
                  <a:lnTo>
                    <a:pt x="192" y="2"/>
                  </a:lnTo>
                  <a:lnTo>
                    <a:pt x="189" y="0"/>
                  </a:lnTo>
                  <a:lnTo>
                    <a:pt x="182" y="4"/>
                  </a:lnTo>
                  <a:lnTo>
                    <a:pt x="171" y="13"/>
                  </a:lnTo>
                  <a:lnTo>
                    <a:pt x="161" y="23"/>
                  </a:lnTo>
                  <a:lnTo>
                    <a:pt x="154" y="30"/>
                  </a:lnTo>
                  <a:lnTo>
                    <a:pt x="146" y="45"/>
                  </a:lnTo>
                  <a:lnTo>
                    <a:pt x="134" y="66"/>
                  </a:lnTo>
                  <a:lnTo>
                    <a:pt x="122" y="89"/>
                  </a:lnTo>
                  <a:lnTo>
                    <a:pt x="113" y="101"/>
                  </a:lnTo>
                  <a:lnTo>
                    <a:pt x="104" y="106"/>
                  </a:lnTo>
                  <a:lnTo>
                    <a:pt x="92" y="114"/>
                  </a:lnTo>
                  <a:lnTo>
                    <a:pt x="79" y="121"/>
                  </a:lnTo>
                  <a:lnTo>
                    <a:pt x="71" y="122"/>
                  </a:lnTo>
                  <a:lnTo>
                    <a:pt x="63" y="121"/>
                  </a:lnTo>
                  <a:lnTo>
                    <a:pt x="55" y="115"/>
                  </a:lnTo>
                  <a:lnTo>
                    <a:pt x="46" y="112"/>
                  </a:lnTo>
                  <a:lnTo>
                    <a:pt x="39" y="105"/>
                  </a:lnTo>
                  <a:lnTo>
                    <a:pt x="33" y="96"/>
                  </a:lnTo>
                  <a:lnTo>
                    <a:pt x="25" y="85"/>
                  </a:lnTo>
                  <a:lnTo>
                    <a:pt x="18" y="78"/>
                  </a:lnTo>
                  <a:lnTo>
                    <a:pt x="10" y="73"/>
                  </a:lnTo>
                  <a:lnTo>
                    <a:pt x="5" y="71"/>
                  </a:lnTo>
                  <a:lnTo>
                    <a:pt x="3" y="71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-1824840" y="4518360"/>
              <a:ext cx="323640" cy="239400"/>
            </a:xfrm>
            <a:custGeom>
              <a:avLst/>
              <a:gdLst/>
              <a:ahLst/>
              <a:rect l="l" t="t" r="r" b="b"/>
              <a:pathLst>
                <a:path w="334" h="246">
                  <a:moveTo>
                    <a:pt x="176" y="2"/>
                  </a:moveTo>
                  <a:lnTo>
                    <a:pt x="183" y="2"/>
                  </a:lnTo>
                  <a:lnTo>
                    <a:pt x="198" y="2"/>
                  </a:lnTo>
                  <a:lnTo>
                    <a:pt x="214" y="2"/>
                  </a:lnTo>
                  <a:lnTo>
                    <a:pt x="221" y="2"/>
                  </a:lnTo>
                  <a:lnTo>
                    <a:pt x="224" y="4"/>
                  </a:lnTo>
                  <a:lnTo>
                    <a:pt x="233" y="5"/>
                  </a:lnTo>
                  <a:lnTo>
                    <a:pt x="247" y="11"/>
                  </a:lnTo>
                  <a:lnTo>
                    <a:pt x="261" y="16"/>
                  </a:lnTo>
                  <a:lnTo>
                    <a:pt x="277" y="21"/>
                  </a:lnTo>
                  <a:lnTo>
                    <a:pt x="289" y="25"/>
                  </a:lnTo>
                  <a:lnTo>
                    <a:pt x="298" y="30"/>
                  </a:lnTo>
                  <a:lnTo>
                    <a:pt x="304" y="32"/>
                  </a:lnTo>
                  <a:lnTo>
                    <a:pt x="309" y="35"/>
                  </a:lnTo>
                  <a:lnTo>
                    <a:pt x="318" y="41"/>
                  </a:lnTo>
                  <a:lnTo>
                    <a:pt x="327" y="48"/>
                  </a:lnTo>
                  <a:lnTo>
                    <a:pt x="330" y="55"/>
                  </a:lnTo>
                  <a:lnTo>
                    <a:pt x="332" y="64"/>
                  </a:lnTo>
                  <a:lnTo>
                    <a:pt x="334" y="72"/>
                  </a:lnTo>
                  <a:lnTo>
                    <a:pt x="332" y="83"/>
                  </a:lnTo>
                  <a:lnTo>
                    <a:pt x="330" y="92"/>
                  </a:lnTo>
                  <a:lnTo>
                    <a:pt x="327" y="106"/>
                  </a:lnTo>
                  <a:lnTo>
                    <a:pt x="321" y="131"/>
                  </a:lnTo>
                  <a:lnTo>
                    <a:pt x="318" y="154"/>
                  </a:lnTo>
                  <a:lnTo>
                    <a:pt x="314" y="166"/>
                  </a:lnTo>
                  <a:lnTo>
                    <a:pt x="312" y="168"/>
                  </a:lnTo>
                  <a:lnTo>
                    <a:pt x="305" y="173"/>
                  </a:lnTo>
                  <a:lnTo>
                    <a:pt x="298" y="179"/>
                  </a:lnTo>
                  <a:lnTo>
                    <a:pt x="288" y="184"/>
                  </a:lnTo>
                  <a:lnTo>
                    <a:pt x="279" y="189"/>
                  </a:lnTo>
                  <a:lnTo>
                    <a:pt x="270" y="194"/>
                  </a:lnTo>
                  <a:lnTo>
                    <a:pt x="263" y="198"/>
                  </a:lnTo>
                  <a:lnTo>
                    <a:pt x="259" y="200"/>
                  </a:lnTo>
                  <a:lnTo>
                    <a:pt x="251" y="207"/>
                  </a:lnTo>
                  <a:lnTo>
                    <a:pt x="238" y="217"/>
                  </a:lnTo>
                  <a:lnTo>
                    <a:pt x="224" y="230"/>
                  </a:lnTo>
                  <a:lnTo>
                    <a:pt x="214" y="237"/>
                  </a:lnTo>
                  <a:lnTo>
                    <a:pt x="206" y="239"/>
                  </a:lnTo>
                  <a:lnTo>
                    <a:pt x="196" y="240"/>
                  </a:lnTo>
                  <a:lnTo>
                    <a:pt x="183" y="244"/>
                  </a:lnTo>
                  <a:lnTo>
                    <a:pt x="171" y="246"/>
                  </a:lnTo>
                  <a:lnTo>
                    <a:pt x="164" y="246"/>
                  </a:lnTo>
                  <a:lnTo>
                    <a:pt x="157" y="242"/>
                  </a:lnTo>
                  <a:lnTo>
                    <a:pt x="152" y="240"/>
                  </a:lnTo>
                  <a:lnTo>
                    <a:pt x="146" y="239"/>
                  </a:lnTo>
                  <a:lnTo>
                    <a:pt x="139" y="232"/>
                  </a:lnTo>
                  <a:lnTo>
                    <a:pt x="132" y="221"/>
                  </a:lnTo>
                  <a:lnTo>
                    <a:pt x="127" y="210"/>
                  </a:lnTo>
                  <a:lnTo>
                    <a:pt x="129" y="203"/>
                  </a:lnTo>
                  <a:lnTo>
                    <a:pt x="132" y="202"/>
                  </a:lnTo>
                  <a:lnTo>
                    <a:pt x="138" y="200"/>
                  </a:lnTo>
                  <a:lnTo>
                    <a:pt x="146" y="198"/>
                  </a:lnTo>
                  <a:lnTo>
                    <a:pt x="155" y="194"/>
                  </a:lnTo>
                  <a:lnTo>
                    <a:pt x="164" y="193"/>
                  </a:lnTo>
                  <a:lnTo>
                    <a:pt x="173" y="189"/>
                  </a:lnTo>
                  <a:lnTo>
                    <a:pt x="180" y="186"/>
                  </a:lnTo>
                  <a:lnTo>
                    <a:pt x="185" y="184"/>
                  </a:lnTo>
                  <a:lnTo>
                    <a:pt x="191" y="177"/>
                  </a:lnTo>
                  <a:lnTo>
                    <a:pt x="196" y="163"/>
                  </a:lnTo>
                  <a:lnTo>
                    <a:pt x="199" y="150"/>
                  </a:lnTo>
                  <a:lnTo>
                    <a:pt x="203" y="140"/>
                  </a:lnTo>
                  <a:lnTo>
                    <a:pt x="208" y="134"/>
                  </a:lnTo>
                  <a:lnTo>
                    <a:pt x="212" y="129"/>
                  </a:lnTo>
                  <a:lnTo>
                    <a:pt x="215" y="126"/>
                  </a:lnTo>
                  <a:lnTo>
                    <a:pt x="219" y="124"/>
                  </a:lnTo>
                  <a:lnTo>
                    <a:pt x="222" y="122"/>
                  </a:lnTo>
                  <a:lnTo>
                    <a:pt x="224" y="120"/>
                  </a:lnTo>
                  <a:lnTo>
                    <a:pt x="222" y="117"/>
                  </a:lnTo>
                  <a:lnTo>
                    <a:pt x="219" y="111"/>
                  </a:lnTo>
                  <a:lnTo>
                    <a:pt x="208" y="99"/>
                  </a:lnTo>
                  <a:lnTo>
                    <a:pt x="194" y="85"/>
                  </a:lnTo>
                  <a:lnTo>
                    <a:pt x="178" y="72"/>
                  </a:lnTo>
                  <a:lnTo>
                    <a:pt x="168" y="69"/>
                  </a:lnTo>
                  <a:lnTo>
                    <a:pt x="159" y="74"/>
                  </a:lnTo>
                  <a:lnTo>
                    <a:pt x="150" y="80"/>
                  </a:lnTo>
                  <a:lnTo>
                    <a:pt x="143" y="87"/>
                  </a:lnTo>
                  <a:lnTo>
                    <a:pt x="139" y="88"/>
                  </a:lnTo>
                  <a:lnTo>
                    <a:pt x="146" y="90"/>
                  </a:lnTo>
                  <a:lnTo>
                    <a:pt x="161" y="95"/>
                  </a:lnTo>
                  <a:lnTo>
                    <a:pt x="178" y="103"/>
                  </a:lnTo>
                  <a:lnTo>
                    <a:pt x="187" y="108"/>
                  </a:lnTo>
                  <a:lnTo>
                    <a:pt x="189" y="115"/>
                  </a:lnTo>
                  <a:lnTo>
                    <a:pt x="191" y="126"/>
                  </a:lnTo>
                  <a:lnTo>
                    <a:pt x="189" y="134"/>
                  </a:lnTo>
                  <a:lnTo>
                    <a:pt x="187" y="141"/>
                  </a:lnTo>
                  <a:lnTo>
                    <a:pt x="183" y="147"/>
                  </a:lnTo>
                  <a:lnTo>
                    <a:pt x="178" y="157"/>
                  </a:lnTo>
                  <a:lnTo>
                    <a:pt x="171" y="166"/>
                  </a:lnTo>
                  <a:lnTo>
                    <a:pt x="166" y="171"/>
                  </a:lnTo>
                  <a:lnTo>
                    <a:pt x="161" y="175"/>
                  </a:lnTo>
                  <a:lnTo>
                    <a:pt x="153" y="179"/>
                  </a:lnTo>
                  <a:lnTo>
                    <a:pt x="146" y="182"/>
                  </a:lnTo>
                  <a:lnTo>
                    <a:pt x="141" y="184"/>
                  </a:lnTo>
                  <a:lnTo>
                    <a:pt x="134" y="187"/>
                  </a:lnTo>
                  <a:lnTo>
                    <a:pt x="123" y="194"/>
                  </a:lnTo>
                  <a:lnTo>
                    <a:pt x="113" y="202"/>
                  </a:lnTo>
                  <a:lnTo>
                    <a:pt x="108" y="205"/>
                  </a:lnTo>
                  <a:lnTo>
                    <a:pt x="104" y="209"/>
                  </a:lnTo>
                  <a:lnTo>
                    <a:pt x="100" y="214"/>
                  </a:lnTo>
                  <a:lnTo>
                    <a:pt x="95" y="219"/>
                  </a:lnTo>
                  <a:lnTo>
                    <a:pt x="92" y="223"/>
                  </a:lnTo>
                  <a:lnTo>
                    <a:pt x="90" y="226"/>
                  </a:lnTo>
                  <a:lnTo>
                    <a:pt x="85" y="230"/>
                  </a:lnTo>
                  <a:lnTo>
                    <a:pt x="81" y="235"/>
                  </a:lnTo>
                  <a:lnTo>
                    <a:pt x="78" y="237"/>
                  </a:lnTo>
                  <a:lnTo>
                    <a:pt x="74" y="239"/>
                  </a:lnTo>
                  <a:lnTo>
                    <a:pt x="70" y="239"/>
                  </a:lnTo>
                  <a:lnTo>
                    <a:pt x="67" y="239"/>
                  </a:lnTo>
                  <a:lnTo>
                    <a:pt x="62" y="239"/>
                  </a:lnTo>
                  <a:lnTo>
                    <a:pt x="55" y="239"/>
                  </a:lnTo>
                  <a:lnTo>
                    <a:pt x="42" y="240"/>
                  </a:lnTo>
                  <a:lnTo>
                    <a:pt x="33" y="242"/>
                  </a:lnTo>
                  <a:lnTo>
                    <a:pt x="28" y="242"/>
                  </a:lnTo>
                  <a:lnTo>
                    <a:pt x="25" y="237"/>
                  </a:lnTo>
                  <a:lnTo>
                    <a:pt x="17" y="228"/>
                  </a:lnTo>
                  <a:lnTo>
                    <a:pt x="12" y="217"/>
                  </a:lnTo>
                  <a:lnTo>
                    <a:pt x="12" y="212"/>
                  </a:lnTo>
                  <a:lnTo>
                    <a:pt x="17" y="210"/>
                  </a:lnTo>
                  <a:lnTo>
                    <a:pt x="25" y="207"/>
                  </a:lnTo>
                  <a:lnTo>
                    <a:pt x="33" y="202"/>
                  </a:lnTo>
                  <a:lnTo>
                    <a:pt x="44" y="196"/>
                  </a:lnTo>
                  <a:lnTo>
                    <a:pt x="55" y="191"/>
                  </a:lnTo>
                  <a:lnTo>
                    <a:pt x="63" y="187"/>
                  </a:lnTo>
                  <a:lnTo>
                    <a:pt x="70" y="184"/>
                  </a:lnTo>
                  <a:lnTo>
                    <a:pt x="74" y="182"/>
                  </a:lnTo>
                  <a:lnTo>
                    <a:pt x="79" y="182"/>
                  </a:lnTo>
                  <a:lnTo>
                    <a:pt x="86" y="180"/>
                  </a:lnTo>
                  <a:lnTo>
                    <a:pt x="95" y="179"/>
                  </a:lnTo>
                  <a:lnTo>
                    <a:pt x="100" y="177"/>
                  </a:lnTo>
                  <a:lnTo>
                    <a:pt x="102" y="173"/>
                  </a:lnTo>
                  <a:lnTo>
                    <a:pt x="104" y="170"/>
                  </a:lnTo>
                  <a:lnTo>
                    <a:pt x="106" y="168"/>
                  </a:lnTo>
                  <a:lnTo>
                    <a:pt x="106" y="166"/>
                  </a:lnTo>
                  <a:lnTo>
                    <a:pt x="100" y="161"/>
                  </a:lnTo>
                  <a:lnTo>
                    <a:pt x="97" y="163"/>
                  </a:lnTo>
                  <a:lnTo>
                    <a:pt x="88" y="168"/>
                  </a:lnTo>
                  <a:lnTo>
                    <a:pt x="79" y="173"/>
                  </a:lnTo>
                  <a:lnTo>
                    <a:pt x="74" y="177"/>
                  </a:lnTo>
                  <a:lnTo>
                    <a:pt x="70" y="179"/>
                  </a:lnTo>
                  <a:lnTo>
                    <a:pt x="63" y="182"/>
                  </a:lnTo>
                  <a:lnTo>
                    <a:pt x="55" y="186"/>
                  </a:lnTo>
                  <a:lnTo>
                    <a:pt x="46" y="189"/>
                  </a:lnTo>
                  <a:lnTo>
                    <a:pt x="35" y="194"/>
                  </a:lnTo>
                  <a:lnTo>
                    <a:pt x="26" y="198"/>
                  </a:lnTo>
                  <a:lnTo>
                    <a:pt x="19" y="200"/>
                  </a:lnTo>
                  <a:lnTo>
                    <a:pt x="16" y="202"/>
                  </a:lnTo>
                  <a:lnTo>
                    <a:pt x="9" y="198"/>
                  </a:lnTo>
                  <a:lnTo>
                    <a:pt x="3" y="191"/>
                  </a:lnTo>
                  <a:lnTo>
                    <a:pt x="0" y="182"/>
                  </a:lnTo>
                  <a:lnTo>
                    <a:pt x="2" y="177"/>
                  </a:lnTo>
                  <a:lnTo>
                    <a:pt x="7" y="173"/>
                  </a:lnTo>
                  <a:lnTo>
                    <a:pt x="21" y="166"/>
                  </a:lnTo>
                  <a:lnTo>
                    <a:pt x="37" y="157"/>
                  </a:lnTo>
                  <a:lnTo>
                    <a:pt x="56" y="147"/>
                  </a:lnTo>
                  <a:lnTo>
                    <a:pt x="76" y="136"/>
                  </a:lnTo>
                  <a:lnTo>
                    <a:pt x="92" y="127"/>
                  </a:lnTo>
                  <a:lnTo>
                    <a:pt x="104" y="122"/>
                  </a:lnTo>
                  <a:lnTo>
                    <a:pt x="109" y="118"/>
                  </a:lnTo>
                  <a:lnTo>
                    <a:pt x="111" y="113"/>
                  </a:lnTo>
                  <a:lnTo>
                    <a:pt x="115" y="104"/>
                  </a:lnTo>
                  <a:lnTo>
                    <a:pt x="116" y="95"/>
                  </a:lnTo>
                  <a:lnTo>
                    <a:pt x="116" y="87"/>
                  </a:lnTo>
                  <a:lnTo>
                    <a:pt x="116" y="78"/>
                  </a:lnTo>
                  <a:lnTo>
                    <a:pt x="118" y="64"/>
                  </a:lnTo>
                  <a:lnTo>
                    <a:pt x="122" y="51"/>
                  </a:lnTo>
                  <a:lnTo>
                    <a:pt x="127" y="42"/>
                  </a:lnTo>
                  <a:lnTo>
                    <a:pt x="138" y="32"/>
                  </a:lnTo>
                  <a:lnTo>
                    <a:pt x="155" y="18"/>
                  </a:lnTo>
                  <a:lnTo>
                    <a:pt x="169" y="5"/>
                  </a:lnTo>
                  <a:lnTo>
                    <a:pt x="176" y="0"/>
                  </a:lnTo>
                  <a:lnTo>
                    <a:pt x="176" y="2"/>
                  </a:lnTo>
                  <a:close/>
                </a:path>
              </a:pathLst>
            </a:cu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-1774440" y="4740480"/>
              <a:ext cx="134640" cy="101520"/>
            </a:xfrm>
            <a:custGeom>
              <a:avLst/>
              <a:gdLst/>
              <a:ahLst/>
              <a:rect l="l" t="t" r="r" b="b"/>
              <a:pathLst>
                <a:path w="139" h="106">
                  <a:moveTo>
                    <a:pt x="95" y="18"/>
                  </a:moveTo>
                  <a:lnTo>
                    <a:pt x="97" y="20"/>
                  </a:lnTo>
                  <a:lnTo>
                    <a:pt x="100" y="21"/>
                  </a:lnTo>
                  <a:lnTo>
                    <a:pt x="106" y="23"/>
                  </a:lnTo>
                  <a:lnTo>
                    <a:pt x="111" y="23"/>
                  </a:lnTo>
                  <a:lnTo>
                    <a:pt x="118" y="23"/>
                  </a:lnTo>
                  <a:lnTo>
                    <a:pt x="129" y="21"/>
                  </a:lnTo>
                  <a:lnTo>
                    <a:pt x="136" y="21"/>
                  </a:lnTo>
                  <a:lnTo>
                    <a:pt x="139" y="21"/>
                  </a:lnTo>
                  <a:lnTo>
                    <a:pt x="138" y="28"/>
                  </a:lnTo>
                  <a:lnTo>
                    <a:pt x="132" y="44"/>
                  </a:lnTo>
                  <a:lnTo>
                    <a:pt x="125" y="60"/>
                  </a:lnTo>
                  <a:lnTo>
                    <a:pt x="122" y="69"/>
                  </a:lnTo>
                  <a:lnTo>
                    <a:pt x="116" y="74"/>
                  </a:lnTo>
                  <a:lnTo>
                    <a:pt x="106" y="85"/>
                  </a:lnTo>
                  <a:lnTo>
                    <a:pt x="95" y="96"/>
                  </a:lnTo>
                  <a:lnTo>
                    <a:pt x="88" y="101"/>
                  </a:lnTo>
                  <a:lnTo>
                    <a:pt x="83" y="103"/>
                  </a:lnTo>
                  <a:lnTo>
                    <a:pt x="79" y="104"/>
                  </a:lnTo>
                  <a:lnTo>
                    <a:pt x="76" y="106"/>
                  </a:lnTo>
                  <a:lnTo>
                    <a:pt x="69" y="104"/>
                  </a:lnTo>
                  <a:lnTo>
                    <a:pt x="60" y="101"/>
                  </a:lnTo>
                  <a:lnTo>
                    <a:pt x="53" y="99"/>
                  </a:lnTo>
                  <a:lnTo>
                    <a:pt x="49" y="96"/>
                  </a:lnTo>
                  <a:lnTo>
                    <a:pt x="47" y="90"/>
                  </a:lnTo>
                  <a:lnTo>
                    <a:pt x="51" y="83"/>
                  </a:lnTo>
                  <a:lnTo>
                    <a:pt x="60" y="73"/>
                  </a:lnTo>
                  <a:lnTo>
                    <a:pt x="70" y="62"/>
                  </a:lnTo>
                  <a:lnTo>
                    <a:pt x="76" y="57"/>
                  </a:lnTo>
                  <a:lnTo>
                    <a:pt x="81" y="51"/>
                  </a:lnTo>
                  <a:lnTo>
                    <a:pt x="88" y="42"/>
                  </a:lnTo>
                  <a:lnTo>
                    <a:pt x="93" y="34"/>
                  </a:lnTo>
                  <a:lnTo>
                    <a:pt x="97" y="30"/>
                  </a:lnTo>
                  <a:lnTo>
                    <a:pt x="88" y="23"/>
                  </a:lnTo>
                  <a:lnTo>
                    <a:pt x="85" y="27"/>
                  </a:lnTo>
                  <a:lnTo>
                    <a:pt x="77" y="35"/>
                  </a:lnTo>
                  <a:lnTo>
                    <a:pt x="70" y="44"/>
                  </a:lnTo>
                  <a:lnTo>
                    <a:pt x="67" y="50"/>
                  </a:lnTo>
                  <a:lnTo>
                    <a:pt x="65" y="53"/>
                  </a:lnTo>
                  <a:lnTo>
                    <a:pt x="58" y="62"/>
                  </a:lnTo>
                  <a:lnTo>
                    <a:pt x="49" y="71"/>
                  </a:lnTo>
                  <a:lnTo>
                    <a:pt x="42" y="74"/>
                  </a:lnTo>
                  <a:lnTo>
                    <a:pt x="33" y="76"/>
                  </a:lnTo>
                  <a:lnTo>
                    <a:pt x="25" y="78"/>
                  </a:lnTo>
                  <a:lnTo>
                    <a:pt x="16" y="80"/>
                  </a:lnTo>
                  <a:lnTo>
                    <a:pt x="10" y="80"/>
                  </a:lnTo>
                  <a:lnTo>
                    <a:pt x="7" y="74"/>
                  </a:lnTo>
                  <a:lnTo>
                    <a:pt x="3" y="64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5" y="42"/>
                  </a:lnTo>
                  <a:lnTo>
                    <a:pt x="16" y="32"/>
                  </a:lnTo>
                  <a:lnTo>
                    <a:pt x="26" y="23"/>
                  </a:lnTo>
                  <a:lnTo>
                    <a:pt x="35" y="18"/>
                  </a:lnTo>
                  <a:lnTo>
                    <a:pt x="40" y="14"/>
                  </a:lnTo>
                  <a:lnTo>
                    <a:pt x="47" y="11"/>
                  </a:lnTo>
                  <a:lnTo>
                    <a:pt x="53" y="7"/>
                  </a:lnTo>
                  <a:lnTo>
                    <a:pt x="58" y="4"/>
                  </a:lnTo>
                  <a:lnTo>
                    <a:pt x="63" y="2"/>
                  </a:lnTo>
                  <a:lnTo>
                    <a:pt x="67" y="0"/>
                  </a:lnTo>
                  <a:lnTo>
                    <a:pt x="70" y="2"/>
                  </a:lnTo>
                  <a:lnTo>
                    <a:pt x="74" y="5"/>
                  </a:lnTo>
                  <a:lnTo>
                    <a:pt x="79" y="9"/>
                  </a:lnTo>
                  <a:lnTo>
                    <a:pt x="86" y="14"/>
                  </a:lnTo>
                  <a:lnTo>
                    <a:pt x="93" y="16"/>
                  </a:lnTo>
                  <a:lnTo>
                    <a:pt x="95" y="18"/>
                  </a:lnTo>
                  <a:close/>
                </a:path>
              </a:pathLst>
            </a:cu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-1474200" y="6179760"/>
              <a:ext cx="415800" cy="196560"/>
            </a:xfrm>
            <a:custGeom>
              <a:avLst/>
              <a:gdLst/>
              <a:ahLst/>
              <a:rect l="l" t="t" r="r" b="b"/>
              <a:pathLst>
                <a:path w="429" h="204">
                  <a:moveTo>
                    <a:pt x="55" y="16"/>
                  </a:moveTo>
                  <a:lnTo>
                    <a:pt x="60" y="18"/>
                  </a:lnTo>
                  <a:lnTo>
                    <a:pt x="74" y="21"/>
                  </a:lnTo>
                  <a:lnTo>
                    <a:pt x="95" y="29"/>
                  </a:lnTo>
                  <a:lnTo>
                    <a:pt x="120" y="36"/>
                  </a:lnTo>
                  <a:lnTo>
                    <a:pt x="145" y="43"/>
                  </a:lnTo>
                  <a:lnTo>
                    <a:pt x="168" y="48"/>
                  </a:lnTo>
                  <a:lnTo>
                    <a:pt x="184" y="51"/>
                  </a:lnTo>
                  <a:lnTo>
                    <a:pt x="192" y="51"/>
                  </a:lnTo>
                  <a:lnTo>
                    <a:pt x="198" y="50"/>
                  </a:lnTo>
                  <a:lnTo>
                    <a:pt x="205" y="46"/>
                  </a:lnTo>
                  <a:lnTo>
                    <a:pt x="214" y="43"/>
                  </a:lnTo>
                  <a:lnTo>
                    <a:pt x="224" y="37"/>
                  </a:lnTo>
                  <a:lnTo>
                    <a:pt x="235" y="34"/>
                  </a:lnTo>
                  <a:lnTo>
                    <a:pt x="244" y="30"/>
                  </a:lnTo>
                  <a:lnTo>
                    <a:pt x="251" y="27"/>
                  </a:lnTo>
                  <a:lnTo>
                    <a:pt x="254" y="25"/>
                  </a:lnTo>
                  <a:lnTo>
                    <a:pt x="258" y="20"/>
                  </a:lnTo>
                  <a:lnTo>
                    <a:pt x="261" y="14"/>
                  </a:lnTo>
                  <a:lnTo>
                    <a:pt x="263" y="7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72" y="6"/>
                  </a:lnTo>
                  <a:lnTo>
                    <a:pt x="284" y="6"/>
                  </a:lnTo>
                  <a:lnTo>
                    <a:pt x="307" y="6"/>
                  </a:lnTo>
                  <a:lnTo>
                    <a:pt x="321" y="4"/>
                  </a:lnTo>
                  <a:lnTo>
                    <a:pt x="332" y="4"/>
                  </a:lnTo>
                  <a:lnTo>
                    <a:pt x="343" y="2"/>
                  </a:lnTo>
                  <a:lnTo>
                    <a:pt x="351" y="0"/>
                  </a:lnTo>
                  <a:lnTo>
                    <a:pt x="358" y="0"/>
                  </a:lnTo>
                  <a:lnTo>
                    <a:pt x="365" y="0"/>
                  </a:lnTo>
                  <a:lnTo>
                    <a:pt x="371" y="2"/>
                  </a:lnTo>
                  <a:lnTo>
                    <a:pt x="374" y="6"/>
                  </a:lnTo>
                  <a:lnTo>
                    <a:pt x="378" y="11"/>
                  </a:lnTo>
                  <a:lnTo>
                    <a:pt x="380" y="13"/>
                  </a:lnTo>
                  <a:lnTo>
                    <a:pt x="381" y="18"/>
                  </a:lnTo>
                  <a:lnTo>
                    <a:pt x="383" y="27"/>
                  </a:lnTo>
                  <a:lnTo>
                    <a:pt x="383" y="43"/>
                  </a:lnTo>
                  <a:lnTo>
                    <a:pt x="371" y="53"/>
                  </a:lnTo>
                  <a:lnTo>
                    <a:pt x="357" y="59"/>
                  </a:lnTo>
                  <a:lnTo>
                    <a:pt x="350" y="60"/>
                  </a:lnTo>
                  <a:lnTo>
                    <a:pt x="339" y="71"/>
                  </a:lnTo>
                  <a:lnTo>
                    <a:pt x="339" y="73"/>
                  </a:lnTo>
                  <a:lnTo>
                    <a:pt x="339" y="74"/>
                  </a:lnTo>
                  <a:lnTo>
                    <a:pt x="339" y="76"/>
                  </a:lnTo>
                  <a:lnTo>
                    <a:pt x="344" y="76"/>
                  </a:lnTo>
                  <a:lnTo>
                    <a:pt x="350" y="76"/>
                  </a:lnTo>
                  <a:lnTo>
                    <a:pt x="351" y="74"/>
                  </a:lnTo>
                  <a:lnTo>
                    <a:pt x="355" y="74"/>
                  </a:lnTo>
                  <a:lnTo>
                    <a:pt x="364" y="71"/>
                  </a:lnTo>
                  <a:lnTo>
                    <a:pt x="374" y="67"/>
                  </a:lnTo>
                  <a:lnTo>
                    <a:pt x="383" y="64"/>
                  </a:lnTo>
                  <a:lnTo>
                    <a:pt x="390" y="66"/>
                  </a:lnTo>
                  <a:lnTo>
                    <a:pt x="397" y="71"/>
                  </a:lnTo>
                  <a:lnTo>
                    <a:pt x="404" y="78"/>
                  </a:lnTo>
                  <a:lnTo>
                    <a:pt x="411" y="82"/>
                  </a:lnTo>
                  <a:lnTo>
                    <a:pt x="415" y="85"/>
                  </a:lnTo>
                  <a:lnTo>
                    <a:pt x="417" y="90"/>
                  </a:lnTo>
                  <a:lnTo>
                    <a:pt x="417" y="99"/>
                  </a:lnTo>
                  <a:lnTo>
                    <a:pt x="413" y="108"/>
                  </a:lnTo>
                  <a:lnTo>
                    <a:pt x="410" y="113"/>
                  </a:lnTo>
                  <a:lnTo>
                    <a:pt x="403" y="115"/>
                  </a:lnTo>
                  <a:lnTo>
                    <a:pt x="392" y="115"/>
                  </a:lnTo>
                  <a:lnTo>
                    <a:pt x="380" y="113"/>
                  </a:lnTo>
                  <a:lnTo>
                    <a:pt x="371" y="112"/>
                  </a:lnTo>
                  <a:lnTo>
                    <a:pt x="367" y="112"/>
                  </a:lnTo>
                  <a:lnTo>
                    <a:pt x="367" y="120"/>
                  </a:lnTo>
                  <a:lnTo>
                    <a:pt x="371" y="122"/>
                  </a:lnTo>
                  <a:lnTo>
                    <a:pt x="378" y="126"/>
                  </a:lnTo>
                  <a:lnTo>
                    <a:pt x="387" y="129"/>
                  </a:lnTo>
                  <a:lnTo>
                    <a:pt x="394" y="128"/>
                  </a:lnTo>
                  <a:lnTo>
                    <a:pt x="401" y="124"/>
                  </a:lnTo>
                  <a:lnTo>
                    <a:pt x="406" y="122"/>
                  </a:lnTo>
                  <a:lnTo>
                    <a:pt x="413" y="122"/>
                  </a:lnTo>
                  <a:lnTo>
                    <a:pt x="418" y="124"/>
                  </a:lnTo>
                  <a:lnTo>
                    <a:pt x="424" y="126"/>
                  </a:lnTo>
                  <a:lnTo>
                    <a:pt x="427" y="129"/>
                  </a:lnTo>
                  <a:lnTo>
                    <a:pt x="429" y="133"/>
                  </a:lnTo>
                  <a:lnTo>
                    <a:pt x="429" y="140"/>
                  </a:lnTo>
                  <a:lnTo>
                    <a:pt x="426" y="147"/>
                  </a:lnTo>
                  <a:lnTo>
                    <a:pt x="424" y="152"/>
                  </a:lnTo>
                  <a:lnTo>
                    <a:pt x="418" y="156"/>
                  </a:lnTo>
                  <a:lnTo>
                    <a:pt x="411" y="158"/>
                  </a:lnTo>
                  <a:lnTo>
                    <a:pt x="404" y="159"/>
                  </a:lnTo>
                  <a:lnTo>
                    <a:pt x="395" y="158"/>
                  </a:lnTo>
                  <a:lnTo>
                    <a:pt x="387" y="156"/>
                  </a:lnTo>
                  <a:lnTo>
                    <a:pt x="380" y="154"/>
                  </a:lnTo>
                  <a:lnTo>
                    <a:pt x="373" y="152"/>
                  </a:lnTo>
                  <a:lnTo>
                    <a:pt x="367" y="151"/>
                  </a:lnTo>
                  <a:lnTo>
                    <a:pt x="362" y="151"/>
                  </a:lnTo>
                  <a:lnTo>
                    <a:pt x="360" y="154"/>
                  </a:lnTo>
                  <a:lnTo>
                    <a:pt x="360" y="158"/>
                  </a:lnTo>
                  <a:lnTo>
                    <a:pt x="360" y="159"/>
                  </a:lnTo>
                  <a:lnTo>
                    <a:pt x="362" y="161"/>
                  </a:lnTo>
                  <a:lnTo>
                    <a:pt x="371" y="163"/>
                  </a:lnTo>
                  <a:lnTo>
                    <a:pt x="383" y="165"/>
                  </a:lnTo>
                  <a:lnTo>
                    <a:pt x="395" y="166"/>
                  </a:lnTo>
                  <a:lnTo>
                    <a:pt x="406" y="168"/>
                  </a:lnTo>
                  <a:lnTo>
                    <a:pt x="410" y="168"/>
                  </a:lnTo>
                  <a:lnTo>
                    <a:pt x="410" y="170"/>
                  </a:lnTo>
                  <a:lnTo>
                    <a:pt x="411" y="173"/>
                  </a:lnTo>
                  <a:lnTo>
                    <a:pt x="411" y="177"/>
                  </a:lnTo>
                  <a:lnTo>
                    <a:pt x="411" y="182"/>
                  </a:lnTo>
                  <a:lnTo>
                    <a:pt x="410" y="188"/>
                  </a:lnTo>
                  <a:lnTo>
                    <a:pt x="406" y="191"/>
                  </a:lnTo>
                  <a:lnTo>
                    <a:pt x="401" y="196"/>
                  </a:lnTo>
                  <a:lnTo>
                    <a:pt x="395" y="200"/>
                  </a:lnTo>
                  <a:lnTo>
                    <a:pt x="392" y="200"/>
                  </a:lnTo>
                  <a:lnTo>
                    <a:pt x="385" y="200"/>
                  </a:lnTo>
                  <a:lnTo>
                    <a:pt x="378" y="198"/>
                  </a:lnTo>
                  <a:lnTo>
                    <a:pt x="369" y="196"/>
                  </a:lnTo>
                  <a:lnTo>
                    <a:pt x="360" y="195"/>
                  </a:lnTo>
                  <a:lnTo>
                    <a:pt x="353" y="193"/>
                  </a:lnTo>
                  <a:lnTo>
                    <a:pt x="346" y="191"/>
                  </a:lnTo>
                  <a:lnTo>
                    <a:pt x="343" y="191"/>
                  </a:lnTo>
                  <a:lnTo>
                    <a:pt x="337" y="191"/>
                  </a:lnTo>
                  <a:lnTo>
                    <a:pt x="325" y="193"/>
                  </a:lnTo>
                  <a:lnTo>
                    <a:pt x="312" y="196"/>
                  </a:lnTo>
                  <a:lnTo>
                    <a:pt x="302" y="200"/>
                  </a:lnTo>
                  <a:lnTo>
                    <a:pt x="297" y="202"/>
                  </a:lnTo>
                  <a:lnTo>
                    <a:pt x="291" y="204"/>
                  </a:lnTo>
                  <a:lnTo>
                    <a:pt x="284" y="202"/>
                  </a:lnTo>
                  <a:lnTo>
                    <a:pt x="268" y="202"/>
                  </a:lnTo>
                  <a:lnTo>
                    <a:pt x="258" y="202"/>
                  </a:lnTo>
                  <a:lnTo>
                    <a:pt x="249" y="202"/>
                  </a:lnTo>
                  <a:lnTo>
                    <a:pt x="238" y="200"/>
                  </a:lnTo>
                  <a:lnTo>
                    <a:pt x="229" y="198"/>
                  </a:lnTo>
                  <a:lnTo>
                    <a:pt x="221" y="198"/>
                  </a:lnTo>
                  <a:lnTo>
                    <a:pt x="214" y="196"/>
                  </a:lnTo>
                  <a:lnTo>
                    <a:pt x="205" y="193"/>
                  </a:lnTo>
                  <a:lnTo>
                    <a:pt x="198" y="191"/>
                  </a:lnTo>
                  <a:lnTo>
                    <a:pt x="185" y="188"/>
                  </a:lnTo>
                  <a:lnTo>
                    <a:pt x="175" y="186"/>
                  </a:lnTo>
                  <a:lnTo>
                    <a:pt x="166" y="186"/>
                  </a:lnTo>
                  <a:lnTo>
                    <a:pt x="155" y="188"/>
                  </a:lnTo>
                  <a:lnTo>
                    <a:pt x="150" y="191"/>
                  </a:lnTo>
                  <a:lnTo>
                    <a:pt x="148" y="195"/>
                  </a:lnTo>
                  <a:lnTo>
                    <a:pt x="143" y="198"/>
                  </a:lnTo>
                  <a:lnTo>
                    <a:pt x="127" y="198"/>
                  </a:lnTo>
                  <a:lnTo>
                    <a:pt x="115" y="196"/>
                  </a:lnTo>
                  <a:lnTo>
                    <a:pt x="102" y="196"/>
                  </a:lnTo>
                  <a:lnTo>
                    <a:pt x="88" y="196"/>
                  </a:lnTo>
                  <a:lnTo>
                    <a:pt x="76" y="196"/>
                  </a:lnTo>
                  <a:lnTo>
                    <a:pt x="62" y="196"/>
                  </a:lnTo>
                  <a:lnTo>
                    <a:pt x="51" y="195"/>
                  </a:lnTo>
                  <a:lnTo>
                    <a:pt x="40" y="193"/>
                  </a:lnTo>
                  <a:lnTo>
                    <a:pt x="33" y="189"/>
                  </a:lnTo>
                  <a:lnTo>
                    <a:pt x="19" y="173"/>
                  </a:lnTo>
                  <a:lnTo>
                    <a:pt x="7" y="147"/>
                  </a:lnTo>
                  <a:lnTo>
                    <a:pt x="0" y="119"/>
                  </a:lnTo>
                  <a:lnTo>
                    <a:pt x="5" y="89"/>
                  </a:lnTo>
                  <a:lnTo>
                    <a:pt x="19" y="62"/>
                  </a:lnTo>
                  <a:lnTo>
                    <a:pt x="35" y="39"/>
                  </a:lnTo>
                  <a:lnTo>
                    <a:pt x="49" y="23"/>
                  </a:lnTo>
                  <a:lnTo>
                    <a:pt x="55" y="16"/>
                  </a:lnTo>
                  <a:close/>
                </a:path>
              </a:pathLst>
            </a:cu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-1618560" y="5493240"/>
              <a:ext cx="255600" cy="385920"/>
            </a:xfrm>
            <a:custGeom>
              <a:avLst/>
              <a:gdLst/>
              <a:ahLst/>
              <a:rect l="l" t="t" r="r" b="b"/>
              <a:pathLst>
                <a:path w="263" h="398">
                  <a:moveTo>
                    <a:pt x="102" y="7"/>
                  </a:moveTo>
                  <a:lnTo>
                    <a:pt x="105" y="7"/>
                  </a:lnTo>
                  <a:lnTo>
                    <a:pt x="116" y="6"/>
                  </a:lnTo>
                  <a:lnTo>
                    <a:pt x="127" y="4"/>
                  </a:lnTo>
                  <a:lnTo>
                    <a:pt x="135" y="2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2" y="7"/>
                  </a:lnTo>
                  <a:lnTo>
                    <a:pt x="167" y="13"/>
                  </a:lnTo>
                  <a:lnTo>
                    <a:pt x="174" y="23"/>
                  </a:lnTo>
                  <a:lnTo>
                    <a:pt x="185" y="34"/>
                  </a:lnTo>
                  <a:lnTo>
                    <a:pt x="196" y="46"/>
                  </a:lnTo>
                  <a:lnTo>
                    <a:pt x="206" y="59"/>
                  </a:lnTo>
                  <a:lnTo>
                    <a:pt x="217" y="69"/>
                  </a:lnTo>
                  <a:lnTo>
                    <a:pt x="226" y="76"/>
                  </a:lnTo>
                  <a:lnTo>
                    <a:pt x="231" y="80"/>
                  </a:lnTo>
                  <a:lnTo>
                    <a:pt x="240" y="89"/>
                  </a:lnTo>
                  <a:lnTo>
                    <a:pt x="249" y="103"/>
                  </a:lnTo>
                  <a:lnTo>
                    <a:pt x="257" y="119"/>
                  </a:lnTo>
                  <a:lnTo>
                    <a:pt x="261" y="131"/>
                  </a:lnTo>
                  <a:lnTo>
                    <a:pt x="263" y="140"/>
                  </a:lnTo>
                  <a:lnTo>
                    <a:pt x="263" y="154"/>
                  </a:lnTo>
                  <a:lnTo>
                    <a:pt x="261" y="168"/>
                  </a:lnTo>
                  <a:lnTo>
                    <a:pt x="256" y="179"/>
                  </a:lnTo>
                  <a:lnTo>
                    <a:pt x="247" y="195"/>
                  </a:lnTo>
                  <a:lnTo>
                    <a:pt x="238" y="221"/>
                  </a:lnTo>
                  <a:lnTo>
                    <a:pt x="229" y="250"/>
                  </a:lnTo>
                  <a:lnTo>
                    <a:pt x="224" y="265"/>
                  </a:lnTo>
                  <a:lnTo>
                    <a:pt x="224" y="276"/>
                  </a:lnTo>
                  <a:lnTo>
                    <a:pt x="227" y="287"/>
                  </a:lnTo>
                  <a:lnTo>
                    <a:pt x="231" y="294"/>
                  </a:lnTo>
                  <a:lnTo>
                    <a:pt x="233" y="297"/>
                  </a:lnTo>
                  <a:lnTo>
                    <a:pt x="231" y="301"/>
                  </a:lnTo>
                  <a:lnTo>
                    <a:pt x="227" y="311"/>
                  </a:lnTo>
                  <a:lnTo>
                    <a:pt x="224" y="322"/>
                  </a:lnTo>
                  <a:lnTo>
                    <a:pt x="220" y="333"/>
                  </a:lnTo>
                  <a:lnTo>
                    <a:pt x="219" y="341"/>
                  </a:lnTo>
                  <a:lnTo>
                    <a:pt x="215" y="354"/>
                  </a:lnTo>
                  <a:lnTo>
                    <a:pt x="211" y="363"/>
                  </a:lnTo>
                  <a:lnTo>
                    <a:pt x="210" y="366"/>
                  </a:lnTo>
                  <a:lnTo>
                    <a:pt x="208" y="368"/>
                  </a:lnTo>
                  <a:lnTo>
                    <a:pt x="203" y="372"/>
                  </a:lnTo>
                  <a:lnTo>
                    <a:pt x="196" y="375"/>
                  </a:lnTo>
                  <a:lnTo>
                    <a:pt x="188" y="379"/>
                  </a:lnTo>
                  <a:lnTo>
                    <a:pt x="185" y="380"/>
                  </a:lnTo>
                  <a:lnTo>
                    <a:pt x="183" y="382"/>
                  </a:lnTo>
                  <a:lnTo>
                    <a:pt x="178" y="380"/>
                  </a:lnTo>
                  <a:lnTo>
                    <a:pt x="169" y="373"/>
                  </a:lnTo>
                  <a:lnTo>
                    <a:pt x="158" y="363"/>
                  </a:lnTo>
                  <a:lnTo>
                    <a:pt x="151" y="352"/>
                  </a:lnTo>
                  <a:lnTo>
                    <a:pt x="148" y="347"/>
                  </a:lnTo>
                  <a:lnTo>
                    <a:pt x="146" y="343"/>
                  </a:lnTo>
                  <a:lnTo>
                    <a:pt x="143" y="361"/>
                  </a:lnTo>
                  <a:lnTo>
                    <a:pt x="144" y="361"/>
                  </a:lnTo>
                  <a:lnTo>
                    <a:pt x="148" y="364"/>
                  </a:lnTo>
                  <a:lnTo>
                    <a:pt x="153" y="366"/>
                  </a:lnTo>
                  <a:lnTo>
                    <a:pt x="158" y="370"/>
                  </a:lnTo>
                  <a:lnTo>
                    <a:pt x="162" y="375"/>
                  </a:lnTo>
                  <a:lnTo>
                    <a:pt x="164" y="379"/>
                  </a:lnTo>
                  <a:lnTo>
                    <a:pt x="166" y="384"/>
                  </a:lnTo>
                  <a:lnTo>
                    <a:pt x="164" y="387"/>
                  </a:lnTo>
                  <a:lnTo>
                    <a:pt x="160" y="391"/>
                  </a:lnTo>
                  <a:lnTo>
                    <a:pt x="153" y="396"/>
                  </a:lnTo>
                  <a:lnTo>
                    <a:pt x="146" y="398"/>
                  </a:lnTo>
                  <a:lnTo>
                    <a:pt x="137" y="396"/>
                  </a:lnTo>
                  <a:lnTo>
                    <a:pt x="130" y="393"/>
                  </a:lnTo>
                  <a:lnTo>
                    <a:pt x="121" y="389"/>
                  </a:lnTo>
                  <a:lnTo>
                    <a:pt x="113" y="386"/>
                  </a:lnTo>
                  <a:lnTo>
                    <a:pt x="105" y="380"/>
                  </a:lnTo>
                  <a:lnTo>
                    <a:pt x="102" y="373"/>
                  </a:lnTo>
                  <a:lnTo>
                    <a:pt x="97" y="366"/>
                  </a:lnTo>
                  <a:lnTo>
                    <a:pt x="95" y="361"/>
                  </a:lnTo>
                  <a:lnTo>
                    <a:pt x="97" y="356"/>
                  </a:lnTo>
                  <a:lnTo>
                    <a:pt x="98" y="350"/>
                  </a:lnTo>
                  <a:lnTo>
                    <a:pt x="100" y="345"/>
                  </a:lnTo>
                  <a:lnTo>
                    <a:pt x="98" y="340"/>
                  </a:lnTo>
                  <a:lnTo>
                    <a:pt x="98" y="338"/>
                  </a:lnTo>
                  <a:lnTo>
                    <a:pt x="84" y="340"/>
                  </a:lnTo>
                  <a:lnTo>
                    <a:pt x="86" y="354"/>
                  </a:lnTo>
                  <a:lnTo>
                    <a:pt x="84" y="352"/>
                  </a:lnTo>
                  <a:lnTo>
                    <a:pt x="83" y="349"/>
                  </a:lnTo>
                  <a:lnTo>
                    <a:pt x="77" y="345"/>
                  </a:lnTo>
                  <a:lnTo>
                    <a:pt x="72" y="343"/>
                  </a:lnTo>
                  <a:lnTo>
                    <a:pt x="65" y="341"/>
                  </a:lnTo>
                  <a:lnTo>
                    <a:pt x="56" y="338"/>
                  </a:lnTo>
                  <a:lnTo>
                    <a:pt x="49" y="336"/>
                  </a:lnTo>
                  <a:lnTo>
                    <a:pt x="47" y="334"/>
                  </a:lnTo>
                  <a:lnTo>
                    <a:pt x="56" y="318"/>
                  </a:lnTo>
                  <a:lnTo>
                    <a:pt x="40" y="318"/>
                  </a:lnTo>
                  <a:lnTo>
                    <a:pt x="38" y="334"/>
                  </a:lnTo>
                  <a:lnTo>
                    <a:pt x="38" y="350"/>
                  </a:lnTo>
                  <a:lnTo>
                    <a:pt x="35" y="349"/>
                  </a:lnTo>
                  <a:lnTo>
                    <a:pt x="28" y="343"/>
                  </a:lnTo>
                  <a:lnTo>
                    <a:pt x="19" y="338"/>
                  </a:lnTo>
                  <a:lnTo>
                    <a:pt x="15" y="333"/>
                  </a:lnTo>
                  <a:lnTo>
                    <a:pt x="14" y="318"/>
                  </a:lnTo>
                  <a:lnTo>
                    <a:pt x="14" y="294"/>
                  </a:lnTo>
                  <a:lnTo>
                    <a:pt x="17" y="269"/>
                  </a:lnTo>
                  <a:lnTo>
                    <a:pt x="24" y="255"/>
                  </a:lnTo>
                  <a:lnTo>
                    <a:pt x="31" y="248"/>
                  </a:lnTo>
                  <a:lnTo>
                    <a:pt x="37" y="241"/>
                  </a:lnTo>
                  <a:lnTo>
                    <a:pt x="38" y="235"/>
                  </a:lnTo>
                  <a:lnTo>
                    <a:pt x="42" y="228"/>
                  </a:lnTo>
                  <a:lnTo>
                    <a:pt x="44" y="218"/>
                  </a:lnTo>
                  <a:lnTo>
                    <a:pt x="44" y="209"/>
                  </a:lnTo>
                  <a:lnTo>
                    <a:pt x="42" y="202"/>
                  </a:lnTo>
                  <a:lnTo>
                    <a:pt x="42" y="198"/>
                  </a:lnTo>
                  <a:lnTo>
                    <a:pt x="75" y="193"/>
                  </a:lnTo>
                  <a:lnTo>
                    <a:pt x="77" y="191"/>
                  </a:lnTo>
                  <a:lnTo>
                    <a:pt x="81" y="186"/>
                  </a:lnTo>
                  <a:lnTo>
                    <a:pt x="86" y="181"/>
                  </a:lnTo>
                  <a:lnTo>
                    <a:pt x="91" y="174"/>
                  </a:lnTo>
                  <a:lnTo>
                    <a:pt x="95" y="166"/>
                  </a:lnTo>
                  <a:lnTo>
                    <a:pt x="95" y="159"/>
                  </a:lnTo>
                  <a:lnTo>
                    <a:pt x="93" y="156"/>
                  </a:lnTo>
                  <a:lnTo>
                    <a:pt x="88" y="158"/>
                  </a:lnTo>
                  <a:lnTo>
                    <a:pt x="83" y="163"/>
                  </a:lnTo>
                  <a:lnTo>
                    <a:pt x="79" y="165"/>
                  </a:lnTo>
                  <a:lnTo>
                    <a:pt x="72" y="166"/>
                  </a:lnTo>
                  <a:lnTo>
                    <a:pt x="65" y="166"/>
                  </a:lnTo>
                  <a:lnTo>
                    <a:pt x="54" y="165"/>
                  </a:lnTo>
                  <a:lnTo>
                    <a:pt x="40" y="159"/>
                  </a:lnTo>
                  <a:lnTo>
                    <a:pt x="26" y="152"/>
                  </a:lnTo>
                  <a:lnTo>
                    <a:pt x="15" y="145"/>
                  </a:lnTo>
                  <a:lnTo>
                    <a:pt x="8" y="133"/>
                  </a:lnTo>
                  <a:lnTo>
                    <a:pt x="1" y="115"/>
                  </a:lnTo>
                  <a:lnTo>
                    <a:pt x="0" y="97"/>
                  </a:lnTo>
                  <a:lnTo>
                    <a:pt x="5" y="82"/>
                  </a:lnTo>
                  <a:lnTo>
                    <a:pt x="14" y="66"/>
                  </a:lnTo>
                  <a:lnTo>
                    <a:pt x="21" y="44"/>
                  </a:lnTo>
                  <a:lnTo>
                    <a:pt x="31" y="25"/>
                  </a:lnTo>
                  <a:lnTo>
                    <a:pt x="51" y="14"/>
                  </a:lnTo>
                  <a:lnTo>
                    <a:pt x="72" y="11"/>
                  </a:lnTo>
                  <a:lnTo>
                    <a:pt x="88" y="9"/>
                  </a:lnTo>
                  <a:lnTo>
                    <a:pt x="98" y="7"/>
                  </a:lnTo>
                  <a:lnTo>
                    <a:pt x="102" y="7"/>
                  </a:lnTo>
                  <a:close/>
                </a:path>
              </a:pathLst>
            </a:cu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-538200" y="3750120"/>
              <a:ext cx="59760" cy="889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2" h="92">
                  <a:moveTo>
                    <a:pt x="55" y="0"/>
                  </a:moveTo>
                  <a:lnTo>
                    <a:pt x="46" y="5"/>
                  </a:lnTo>
                  <a:lnTo>
                    <a:pt x="30" y="18"/>
                  </a:lnTo>
                  <a:lnTo>
                    <a:pt x="14" y="30"/>
                  </a:lnTo>
                  <a:lnTo>
                    <a:pt x="7" y="41"/>
                  </a:lnTo>
                  <a:lnTo>
                    <a:pt x="5" y="48"/>
                  </a:lnTo>
                  <a:lnTo>
                    <a:pt x="2" y="58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2" y="81"/>
                  </a:lnTo>
                  <a:lnTo>
                    <a:pt x="4" y="87"/>
                  </a:lnTo>
                  <a:lnTo>
                    <a:pt x="7" y="90"/>
                  </a:lnTo>
                  <a:lnTo>
                    <a:pt x="12" y="92"/>
                  </a:lnTo>
                  <a:lnTo>
                    <a:pt x="16" y="92"/>
                  </a:lnTo>
                  <a:lnTo>
                    <a:pt x="18" y="92"/>
                  </a:lnTo>
                  <a:lnTo>
                    <a:pt x="19" y="90"/>
                  </a:lnTo>
                  <a:lnTo>
                    <a:pt x="23" y="87"/>
                  </a:lnTo>
                  <a:lnTo>
                    <a:pt x="23" y="79"/>
                  </a:lnTo>
                  <a:lnTo>
                    <a:pt x="21" y="72"/>
                  </a:lnTo>
                  <a:lnTo>
                    <a:pt x="18" y="62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21" y="37"/>
                  </a:lnTo>
                  <a:lnTo>
                    <a:pt x="26" y="39"/>
                  </a:lnTo>
                  <a:lnTo>
                    <a:pt x="28" y="44"/>
                  </a:lnTo>
                  <a:lnTo>
                    <a:pt x="28" y="51"/>
                  </a:lnTo>
                  <a:lnTo>
                    <a:pt x="28" y="53"/>
                  </a:lnTo>
                  <a:lnTo>
                    <a:pt x="30" y="51"/>
                  </a:lnTo>
                  <a:lnTo>
                    <a:pt x="34" y="48"/>
                  </a:lnTo>
                  <a:lnTo>
                    <a:pt x="39" y="44"/>
                  </a:lnTo>
                  <a:lnTo>
                    <a:pt x="42" y="37"/>
                  </a:lnTo>
                  <a:lnTo>
                    <a:pt x="46" y="32"/>
                  </a:lnTo>
                  <a:lnTo>
                    <a:pt x="53" y="26"/>
                  </a:lnTo>
                  <a:lnTo>
                    <a:pt x="58" y="21"/>
                  </a:lnTo>
                  <a:lnTo>
                    <a:pt x="62" y="14"/>
                  </a:lnTo>
                  <a:lnTo>
                    <a:pt x="60" y="7"/>
                  </a:lnTo>
                  <a:lnTo>
                    <a:pt x="58" y="3"/>
                  </a:lnTo>
                  <a:lnTo>
                    <a:pt x="56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37E-007 L 0.51667 0.00417 E">
                                      <p:cBhvr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667 0.00417 L 0.60712 0.00417 C 0.64774 0.00417 0.69774 -0.0162 0.69774 -0.03264 L 0.69774 -0.06944 E">
                                      <p:cBhvr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774 -0.06944 L 0.74097 -0.06944 C 0.76042 -0.06944 0.78438 -0.10718 0.78438 -0.13773 L 0.78438 -0.20579 E">
                                      <p:cBhvr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438 -0.20579 L 0.87899 0.09861 E">
                                      <p:cBhvr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626"/>
          <p:cNvGrpSpPr/>
          <p:nvPr/>
        </p:nvGrpSpPr>
        <p:grpSpPr>
          <a:xfrm>
            <a:off x="4284720" y="0"/>
            <a:ext cx="4534560" cy="7029000"/>
            <a:chOff x="4284720" y="0"/>
            <a:chExt cx="4534560" cy="7029000"/>
          </a:xfrm>
        </p:grpSpPr>
        <p:sp>
          <p:nvSpPr>
            <p:cNvPr id="67" name="Freeform 19"/>
            <p:cNvSpPr/>
            <p:nvPr/>
          </p:nvSpPr>
          <p:spPr>
            <a:xfrm>
              <a:off x="4284720" y="0"/>
              <a:ext cx="4534560" cy="7029000"/>
            </a:xfrm>
            <a:custGeom>
              <a:avLst/>
              <a:gdLst>
                <a:gd name="textAreaLeft" fmla="*/ 0 w 4534560"/>
                <a:gd name="textAreaRight" fmla="*/ 4534920 w 4534560"/>
                <a:gd name="textAreaTop" fmla="*/ 0 h 7029000"/>
                <a:gd name="textAreaBottom" fmla="*/ 7029360 h 7029000"/>
              </a:gdLst>
              <a:ahLst/>
              <a:rect l="textAreaLeft" t="textAreaTop" r="textAreaRight" b="textAreaBottom"/>
              <a:pathLst>
                <a:path w="1914" h="4855">
                  <a:moveTo>
                    <a:pt x="1789" y="893"/>
                  </a:moveTo>
                  <a:lnTo>
                    <a:pt x="1775" y="1079"/>
                  </a:lnTo>
                  <a:lnTo>
                    <a:pt x="1763" y="1266"/>
                  </a:lnTo>
                  <a:lnTo>
                    <a:pt x="1748" y="1454"/>
                  </a:lnTo>
                  <a:lnTo>
                    <a:pt x="1735" y="1642"/>
                  </a:lnTo>
                  <a:lnTo>
                    <a:pt x="1717" y="1829"/>
                  </a:lnTo>
                  <a:lnTo>
                    <a:pt x="1700" y="2018"/>
                  </a:lnTo>
                  <a:lnTo>
                    <a:pt x="1680" y="2207"/>
                  </a:lnTo>
                  <a:lnTo>
                    <a:pt x="1657" y="2396"/>
                  </a:lnTo>
                  <a:lnTo>
                    <a:pt x="1671" y="2652"/>
                  </a:lnTo>
                  <a:lnTo>
                    <a:pt x="1691" y="2915"/>
                  </a:lnTo>
                  <a:lnTo>
                    <a:pt x="1717" y="3181"/>
                  </a:lnTo>
                  <a:lnTo>
                    <a:pt x="1750" y="3450"/>
                  </a:lnTo>
                  <a:lnTo>
                    <a:pt x="1786" y="3719"/>
                  </a:lnTo>
                  <a:lnTo>
                    <a:pt x="1826" y="3989"/>
                  </a:lnTo>
                  <a:lnTo>
                    <a:pt x="1868" y="4257"/>
                  </a:lnTo>
                  <a:lnTo>
                    <a:pt x="1914" y="4522"/>
                  </a:lnTo>
                  <a:lnTo>
                    <a:pt x="1884" y="4537"/>
                  </a:lnTo>
                  <a:lnTo>
                    <a:pt x="1845" y="4565"/>
                  </a:lnTo>
                  <a:lnTo>
                    <a:pt x="1798" y="4601"/>
                  </a:lnTo>
                  <a:lnTo>
                    <a:pt x="1749" y="4643"/>
                  </a:lnTo>
                  <a:lnTo>
                    <a:pt x="1696" y="4685"/>
                  </a:lnTo>
                  <a:lnTo>
                    <a:pt x="1646" y="4727"/>
                  </a:lnTo>
                  <a:lnTo>
                    <a:pt x="1601" y="4762"/>
                  </a:lnTo>
                  <a:lnTo>
                    <a:pt x="1564" y="4790"/>
                  </a:lnTo>
                  <a:lnTo>
                    <a:pt x="1521" y="4771"/>
                  </a:lnTo>
                  <a:lnTo>
                    <a:pt x="1478" y="4754"/>
                  </a:lnTo>
                  <a:lnTo>
                    <a:pt x="1435" y="4735"/>
                  </a:lnTo>
                  <a:lnTo>
                    <a:pt x="1393" y="4716"/>
                  </a:lnTo>
                  <a:lnTo>
                    <a:pt x="1349" y="4694"/>
                  </a:lnTo>
                  <a:lnTo>
                    <a:pt x="1308" y="4673"/>
                  </a:lnTo>
                  <a:lnTo>
                    <a:pt x="1267" y="4649"/>
                  </a:lnTo>
                  <a:lnTo>
                    <a:pt x="1231" y="4626"/>
                  </a:lnTo>
                  <a:lnTo>
                    <a:pt x="1212" y="4515"/>
                  </a:lnTo>
                  <a:lnTo>
                    <a:pt x="1191" y="4407"/>
                  </a:lnTo>
                  <a:lnTo>
                    <a:pt x="1169" y="4299"/>
                  </a:lnTo>
                  <a:lnTo>
                    <a:pt x="1146" y="4193"/>
                  </a:lnTo>
                  <a:lnTo>
                    <a:pt x="1120" y="4085"/>
                  </a:lnTo>
                  <a:lnTo>
                    <a:pt x="1095" y="3980"/>
                  </a:lnTo>
                  <a:lnTo>
                    <a:pt x="1069" y="3873"/>
                  </a:lnTo>
                  <a:lnTo>
                    <a:pt x="1045" y="3768"/>
                  </a:lnTo>
                  <a:lnTo>
                    <a:pt x="1013" y="3567"/>
                  </a:lnTo>
                  <a:lnTo>
                    <a:pt x="985" y="3351"/>
                  </a:lnTo>
                  <a:lnTo>
                    <a:pt x="960" y="3123"/>
                  </a:lnTo>
                  <a:lnTo>
                    <a:pt x="940" y="2890"/>
                  </a:lnTo>
                  <a:lnTo>
                    <a:pt x="920" y="2657"/>
                  </a:lnTo>
                  <a:lnTo>
                    <a:pt x="904" y="2430"/>
                  </a:lnTo>
                  <a:lnTo>
                    <a:pt x="891" y="2213"/>
                  </a:lnTo>
                  <a:lnTo>
                    <a:pt x="881" y="2014"/>
                  </a:lnTo>
                  <a:lnTo>
                    <a:pt x="877" y="2005"/>
                  </a:lnTo>
                  <a:lnTo>
                    <a:pt x="875" y="1997"/>
                  </a:lnTo>
                  <a:lnTo>
                    <a:pt x="873" y="1988"/>
                  </a:lnTo>
                  <a:lnTo>
                    <a:pt x="870" y="1981"/>
                  </a:lnTo>
                  <a:lnTo>
                    <a:pt x="853" y="2047"/>
                  </a:lnTo>
                  <a:lnTo>
                    <a:pt x="845" y="2146"/>
                  </a:lnTo>
                  <a:lnTo>
                    <a:pt x="844" y="2268"/>
                  </a:lnTo>
                  <a:lnTo>
                    <a:pt x="848" y="2402"/>
                  </a:lnTo>
                  <a:lnTo>
                    <a:pt x="852" y="2536"/>
                  </a:lnTo>
                  <a:lnTo>
                    <a:pt x="859" y="2663"/>
                  </a:lnTo>
                  <a:lnTo>
                    <a:pt x="865" y="2772"/>
                  </a:lnTo>
                  <a:lnTo>
                    <a:pt x="870" y="2855"/>
                  </a:lnTo>
                  <a:lnTo>
                    <a:pt x="884" y="3061"/>
                  </a:lnTo>
                  <a:lnTo>
                    <a:pt x="900" y="3274"/>
                  </a:lnTo>
                  <a:lnTo>
                    <a:pt x="913" y="3488"/>
                  </a:lnTo>
                  <a:lnTo>
                    <a:pt x="927" y="3707"/>
                  </a:lnTo>
                  <a:lnTo>
                    <a:pt x="937" y="3926"/>
                  </a:lnTo>
                  <a:lnTo>
                    <a:pt x="944" y="4147"/>
                  </a:lnTo>
                  <a:lnTo>
                    <a:pt x="945" y="4367"/>
                  </a:lnTo>
                  <a:lnTo>
                    <a:pt x="941" y="4588"/>
                  </a:lnTo>
                  <a:lnTo>
                    <a:pt x="909" y="4616"/>
                  </a:lnTo>
                  <a:lnTo>
                    <a:pt x="865" y="4651"/>
                  </a:lnTo>
                  <a:lnTo>
                    <a:pt x="811" y="4690"/>
                  </a:lnTo>
                  <a:lnTo>
                    <a:pt x="754" y="4732"/>
                  </a:lnTo>
                  <a:lnTo>
                    <a:pt x="693" y="4770"/>
                  </a:lnTo>
                  <a:lnTo>
                    <a:pt x="639" y="4807"/>
                  </a:lnTo>
                  <a:lnTo>
                    <a:pt x="591" y="4835"/>
                  </a:lnTo>
                  <a:lnTo>
                    <a:pt x="558" y="4855"/>
                  </a:lnTo>
                  <a:lnTo>
                    <a:pt x="526" y="4822"/>
                  </a:lnTo>
                  <a:lnTo>
                    <a:pt x="493" y="4793"/>
                  </a:lnTo>
                  <a:lnTo>
                    <a:pt x="459" y="4766"/>
                  </a:lnTo>
                  <a:lnTo>
                    <a:pt x="425" y="4739"/>
                  </a:lnTo>
                  <a:lnTo>
                    <a:pt x="389" y="4711"/>
                  </a:lnTo>
                  <a:lnTo>
                    <a:pt x="355" y="4684"/>
                  </a:lnTo>
                  <a:lnTo>
                    <a:pt x="321" y="4655"/>
                  </a:lnTo>
                  <a:lnTo>
                    <a:pt x="291" y="4626"/>
                  </a:lnTo>
                  <a:lnTo>
                    <a:pt x="284" y="4387"/>
                  </a:lnTo>
                  <a:lnTo>
                    <a:pt x="274" y="4151"/>
                  </a:lnTo>
                  <a:lnTo>
                    <a:pt x="259" y="3914"/>
                  </a:lnTo>
                  <a:lnTo>
                    <a:pt x="243" y="3678"/>
                  </a:lnTo>
                  <a:lnTo>
                    <a:pt x="223" y="3438"/>
                  </a:lnTo>
                  <a:lnTo>
                    <a:pt x="202" y="3195"/>
                  </a:lnTo>
                  <a:lnTo>
                    <a:pt x="181" y="2946"/>
                  </a:lnTo>
                  <a:lnTo>
                    <a:pt x="159" y="2691"/>
                  </a:lnTo>
                  <a:lnTo>
                    <a:pt x="127" y="2466"/>
                  </a:lnTo>
                  <a:lnTo>
                    <a:pt x="101" y="2247"/>
                  </a:lnTo>
                  <a:lnTo>
                    <a:pt x="78" y="2030"/>
                  </a:lnTo>
                  <a:lnTo>
                    <a:pt x="59" y="1811"/>
                  </a:lnTo>
                  <a:lnTo>
                    <a:pt x="41" y="1585"/>
                  </a:lnTo>
                  <a:lnTo>
                    <a:pt x="27" y="1353"/>
                  </a:lnTo>
                  <a:lnTo>
                    <a:pt x="12" y="1108"/>
                  </a:lnTo>
                  <a:lnTo>
                    <a:pt x="0" y="849"/>
                  </a:lnTo>
                  <a:lnTo>
                    <a:pt x="6" y="724"/>
                  </a:lnTo>
                  <a:lnTo>
                    <a:pt x="13" y="611"/>
                  </a:lnTo>
                  <a:lnTo>
                    <a:pt x="20" y="507"/>
                  </a:lnTo>
                  <a:lnTo>
                    <a:pt x="30" y="415"/>
                  </a:lnTo>
                  <a:lnTo>
                    <a:pt x="40" y="334"/>
                  </a:lnTo>
                  <a:lnTo>
                    <a:pt x="55" y="268"/>
                  </a:lnTo>
                  <a:lnTo>
                    <a:pt x="72" y="216"/>
                  </a:lnTo>
                  <a:lnTo>
                    <a:pt x="93" y="182"/>
                  </a:lnTo>
                  <a:lnTo>
                    <a:pt x="97" y="168"/>
                  </a:lnTo>
                  <a:lnTo>
                    <a:pt x="103" y="151"/>
                  </a:lnTo>
                  <a:lnTo>
                    <a:pt x="109" y="133"/>
                  </a:lnTo>
                  <a:lnTo>
                    <a:pt x="116" y="116"/>
                  </a:lnTo>
                  <a:lnTo>
                    <a:pt x="123" y="97"/>
                  </a:lnTo>
                  <a:lnTo>
                    <a:pt x="131" y="83"/>
                  </a:lnTo>
                  <a:lnTo>
                    <a:pt x="139" y="70"/>
                  </a:lnTo>
                  <a:lnTo>
                    <a:pt x="148" y="62"/>
                  </a:lnTo>
                  <a:lnTo>
                    <a:pt x="192" y="48"/>
                  </a:lnTo>
                  <a:lnTo>
                    <a:pt x="298" y="29"/>
                  </a:lnTo>
                  <a:lnTo>
                    <a:pt x="455" y="11"/>
                  </a:lnTo>
                  <a:lnTo>
                    <a:pt x="656" y="1"/>
                  </a:lnTo>
                  <a:lnTo>
                    <a:pt x="888" y="0"/>
                  </a:lnTo>
                  <a:lnTo>
                    <a:pt x="1148" y="16"/>
                  </a:lnTo>
                  <a:lnTo>
                    <a:pt x="1423" y="52"/>
                  </a:lnTo>
                  <a:lnTo>
                    <a:pt x="1706" y="117"/>
                  </a:lnTo>
                  <a:lnTo>
                    <a:pt x="1713" y="122"/>
                  </a:lnTo>
                  <a:lnTo>
                    <a:pt x="1717" y="136"/>
                  </a:lnTo>
                  <a:lnTo>
                    <a:pt x="1720" y="154"/>
                  </a:lnTo>
                  <a:lnTo>
                    <a:pt x="1723" y="177"/>
                  </a:lnTo>
                  <a:lnTo>
                    <a:pt x="1724" y="199"/>
                  </a:lnTo>
                  <a:lnTo>
                    <a:pt x="1725" y="223"/>
                  </a:lnTo>
                  <a:lnTo>
                    <a:pt x="1725" y="243"/>
                  </a:lnTo>
                  <a:lnTo>
                    <a:pt x="1729" y="258"/>
                  </a:lnTo>
                  <a:lnTo>
                    <a:pt x="1740" y="317"/>
                  </a:lnTo>
                  <a:lnTo>
                    <a:pt x="1752" y="392"/>
                  </a:lnTo>
                  <a:lnTo>
                    <a:pt x="1761" y="476"/>
                  </a:lnTo>
                  <a:lnTo>
                    <a:pt x="1771" y="567"/>
                  </a:lnTo>
                  <a:lnTo>
                    <a:pt x="1776" y="658"/>
                  </a:lnTo>
                  <a:lnTo>
                    <a:pt x="1783" y="746"/>
                  </a:lnTo>
                  <a:lnTo>
                    <a:pt x="1787" y="825"/>
                  </a:lnTo>
                  <a:lnTo>
                    <a:pt x="1789" y="8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4327560" y="286200"/>
              <a:ext cx="1264680" cy="6656040"/>
            </a:xfrm>
            <a:custGeom>
              <a:avLst/>
              <a:gdLst>
                <a:gd name="textAreaLeft" fmla="*/ 0 w 1264680"/>
                <a:gd name="textAreaRight" fmla="*/ 1265040 w 1264680"/>
                <a:gd name="textAreaTop" fmla="*/ 0 h 6656040"/>
                <a:gd name="textAreaBottom" fmla="*/ 6656040 h 6656040"/>
              </a:gdLst>
              <a:ahLst/>
              <a:rect l="textAreaLeft" t="textAreaTop" r="textAreaRight" b="textAreaBottom"/>
              <a:pathLst>
                <a:path w="536" h="4597">
                  <a:moveTo>
                    <a:pt x="11" y="936"/>
                  </a:moveTo>
                  <a:lnTo>
                    <a:pt x="2" y="841"/>
                  </a:lnTo>
                  <a:lnTo>
                    <a:pt x="0" y="709"/>
                  </a:lnTo>
                  <a:lnTo>
                    <a:pt x="5" y="554"/>
                  </a:lnTo>
                  <a:lnTo>
                    <a:pt x="15" y="394"/>
                  </a:lnTo>
                  <a:lnTo>
                    <a:pt x="28" y="241"/>
                  </a:lnTo>
                  <a:lnTo>
                    <a:pt x="45" y="115"/>
                  </a:lnTo>
                  <a:lnTo>
                    <a:pt x="63" y="29"/>
                  </a:lnTo>
                  <a:lnTo>
                    <a:pt x="82" y="0"/>
                  </a:lnTo>
                  <a:lnTo>
                    <a:pt x="89" y="3"/>
                  </a:lnTo>
                  <a:lnTo>
                    <a:pt x="103" y="9"/>
                  </a:lnTo>
                  <a:lnTo>
                    <a:pt x="120" y="18"/>
                  </a:lnTo>
                  <a:lnTo>
                    <a:pt x="142" y="30"/>
                  </a:lnTo>
                  <a:lnTo>
                    <a:pt x="168" y="42"/>
                  </a:lnTo>
                  <a:lnTo>
                    <a:pt x="201" y="56"/>
                  </a:lnTo>
                  <a:lnTo>
                    <a:pt x="239" y="72"/>
                  </a:lnTo>
                  <a:lnTo>
                    <a:pt x="284" y="89"/>
                  </a:lnTo>
                  <a:lnTo>
                    <a:pt x="285" y="376"/>
                  </a:lnTo>
                  <a:lnTo>
                    <a:pt x="291" y="717"/>
                  </a:lnTo>
                  <a:lnTo>
                    <a:pt x="299" y="1093"/>
                  </a:lnTo>
                  <a:lnTo>
                    <a:pt x="311" y="1489"/>
                  </a:lnTo>
                  <a:lnTo>
                    <a:pt x="324" y="1884"/>
                  </a:lnTo>
                  <a:lnTo>
                    <a:pt x="340" y="2264"/>
                  </a:lnTo>
                  <a:lnTo>
                    <a:pt x="355" y="2608"/>
                  </a:lnTo>
                  <a:lnTo>
                    <a:pt x="372" y="2903"/>
                  </a:lnTo>
                  <a:lnTo>
                    <a:pt x="405" y="3085"/>
                  </a:lnTo>
                  <a:lnTo>
                    <a:pt x="435" y="3268"/>
                  </a:lnTo>
                  <a:lnTo>
                    <a:pt x="459" y="3452"/>
                  </a:lnTo>
                  <a:lnTo>
                    <a:pt x="480" y="3639"/>
                  </a:lnTo>
                  <a:lnTo>
                    <a:pt x="497" y="3825"/>
                  </a:lnTo>
                  <a:lnTo>
                    <a:pt x="512" y="4013"/>
                  </a:lnTo>
                  <a:lnTo>
                    <a:pt x="524" y="4203"/>
                  </a:lnTo>
                  <a:lnTo>
                    <a:pt x="536" y="4395"/>
                  </a:lnTo>
                  <a:lnTo>
                    <a:pt x="534" y="4454"/>
                  </a:lnTo>
                  <a:lnTo>
                    <a:pt x="534" y="4500"/>
                  </a:lnTo>
                  <a:lnTo>
                    <a:pt x="534" y="4533"/>
                  </a:lnTo>
                  <a:lnTo>
                    <a:pt x="535" y="4558"/>
                  </a:lnTo>
                  <a:lnTo>
                    <a:pt x="535" y="4572"/>
                  </a:lnTo>
                  <a:lnTo>
                    <a:pt x="535" y="4584"/>
                  </a:lnTo>
                  <a:lnTo>
                    <a:pt x="532" y="4590"/>
                  </a:lnTo>
                  <a:lnTo>
                    <a:pt x="530" y="4597"/>
                  </a:lnTo>
                  <a:lnTo>
                    <a:pt x="499" y="4575"/>
                  </a:lnTo>
                  <a:lnTo>
                    <a:pt x="467" y="4552"/>
                  </a:lnTo>
                  <a:lnTo>
                    <a:pt x="430" y="4527"/>
                  </a:lnTo>
                  <a:lnTo>
                    <a:pt x="395" y="4502"/>
                  </a:lnTo>
                  <a:lnTo>
                    <a:pt x="361" y="4476"/>
                  </a:lnTo>
                  <a:lnTo>
                    <a:pt x="333" y="4451"/>
                  </a:lnTo>
                  <a:lnTo>
                    <a:pt x="311" y="4427"/>
                  </a:lnTo>
                  <a:lnTo>
                    <a:pt x="301" y="4407"/>
                  </a:lnTo>
                  <a:lnTo>
                    <a:pt x="290" y="4310"/>
                  </a:lnTo>
                  <a:lnTo>
                    <a:pt x="279" y="4145"/>
                  </a:lnTo>
                  <a:lnTo>
                    <a:pt x="268" y="3927"/>
                  </a:lnTo>
                  <a:lnTo>
                    <a:pt x="257" y="3679"/>
                  </a:lnTo>
                  <a:lnTo>
                    <a:pt x="243" y="3419"/>
                  </a:lnTo>
                  <a:lnTo>
                    <a:pt x="230" y="3168"/>
                  </a:lnTo>
                  <a:lnTo>
                    <a:pt x="214" y="2945"/>
                  </a:lnTo>
                  <a:lnTo>
                    <a:pt x="197" y="2772"/>
                  </a:lnTo>
                  <a:lnTo>
                    <a:pt x="166" y="2535"/>
                  </a:lnTo>
                  <a:lnTo>
                    <a:pt x="138" y="2301"/>
                  </a:lnTo>
                  <a:lnTo>
                    <a:pt x="110" y="2069"/>
                  </a:lnTo>
                  <a:lnTo>
                    <a:pt x="87" y="1841"/>
                  </a:lnTo>
                  <a:lnTo>
                    <a:pt x="64" y="1613"/>
                  </a:lnTo>
                  <a:lnTo>
                    <a:pt x="44" y="1386"/>
                  </a:lnTo>
                  <a:lnTo>
                    <a:pt x="25" y="1160"/>
                  </a:lnTo>
                  <a:lnTo>
                    <a:pt x="11" y="936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5033520" y="428040"/>
              <a:ext cx="1435320" cy="6519960"/>
            </a:xfrm>
            <a:custGeom>
              <a:avLst/>
              <a:gdLst>
                <a:gd name="textAreaLeft" fmla="*/ 0 w 1435320"/>
                <a:gd name="textAreaRight" fmla="*/ 1435680 w 1435320"/>
                <a:gd name="textAreaTop" fmla="*/ 0 h 6519960"/>
                <a:gd name="textAreaBottom" fmla="*/ 6519960 h 6519960"/>
              </a:gdLst>
              <a:ahLst/>
              <a:rect l="textAreaLeft" t="textAreaTop" r="textAreaRight" b="textAreaBottom"/>
              <a:pathLst>
                <a:path w="604" h="4504">
                  <a:moveTo>
                    <a:pt x="83" y="2690"/>
                  </a:moveTo>
                  <a:lnTo>
                    <a:pt x="68" y="2412"/>
                  </a:lnTo>
                  <a:lnTo>
                    <a:pt x="52" y="2084"/>
                  </a:lnTo>
                  <a:lnTo>
                    <a:pt x="35" y="1720"/>
                  </a:lnTo>
                  <a:lnTo>
                    <a:pt x="21" y="1340"/>
                  </a:lnTo>
                  <a:lnTo>
                    <a:pt x="9" y="959"/>
                  </a:lnTo>
                  <a:lnTo>
                    <a:pt x="2" y="598"/>
                  </a:lnTo>
                  <a:lnTo>
                    <a:pt x="0" y="271"/>
                  </a:lnTo>
                  <a:lnTo>
                    <a:pt x="7" y="0"/>
                  </a:lnTo>
                  <a:lnTo>
                    <a:pt x="53" y="15"/>
                  </a:lnTo>
                  <a:lnTo>
                    <a:pt x="102" y="27"/>
                  </a:lnTo>
                  <a:lnTo>
                    <a:pt x="151" y="35"/>
                  </a:lnTo>
                  <a:lnTo>
                    <a:pt x="206" y="43"/>
                  </a:lnTo>
                  <a:lnTo>
                    <a:pt x="265" y="49"/>
                  </a:lnTo>
                  <a:lnTo>
                    <a:pt x="336" y="57"/>
                  </a:lnTo>
                  <a:lnTo>
                    <a:pt x="415" y="67"/>
                  </a:lnTo>
                  <a:lnTo>
                    <a:pt x="509" y="82"/>
                  </a:lnTo>
                  <a:lnTo>
                    <a:pt x="535" y="319"/>
                  </a:lnTo>
                  <a:lnTo>
                    <a:pt x="548" y="607"/>
                  </a:lnTo>
                  <a:lnTo>
                    <a:pt x="549" y="929"/>
                  </a:lnTo>
                  <a:lnTo>
                    <a:pt x="542" y="1269"/>
                  </a:lnTo>
                  <a:lnTo>
                    <a:pt x="530" y="1608"/>
                  </a:lnTo>
                  <a:lnTo>
                    <a:pt x="517" y="1932"/>
                  </a:lnTo>
                  <a:lnTo>
                    <a:pt x="505" y="2224"/>
                  </a:lnTo>
                  <a:lnTo>
                    <a:pt x="499" y="2465"/>
                  </a:lnTo>
                  <a:lnTo>
                    <a:pt x="515" y="2698"/>
                  </a:lnTo>
                  <a:lnTo>
                    <a:pt x="536" y="2925"/>
                  </a:lnTo>
                  <a:lnTo>
                    <a:pt x="558" y="3148"/>
                  </a:lnTo>
                  <a:lnTo>
                    <a:pt x="579" y="3371"/>
                  </a:lnTo>
                  <a:lnTo>
                    <a:pt x="595" y="3592"/>
                  </a:lnTo>
                  <a:lnTo>
                    <a:pt x="604" y="3818"/>
                  </a:lnTo>
                  <a:lnTo>
                    <a:pt x="603" y="4047"/>
                  </a:lnTo>
                  <a:lnTo>
                    <a:pt x="591" y="4285"/>
                  </a:lnTo>
                  <a:lnTo>
                    <a:pt x="571" y="4299"/>
                  </a:lnTo>
                  <a:lnTo>
                    <a:pt x="537" y="4327"/>
                  </a:lnTo>
                  <a:lnTo>
                    <a:pt x="491" y="4362"/>
                  </a:lnTo>
                  <a:lnTo>
                    <a:pt x="439" y="4403"/>
                  </a:lnTo>
                  <a:lnTo>
                    <a:pt x="384" y="4440"/>
                  </a:lnTo>
                  <a:lnTo>
                    <a:pt x="333" y="4473"/>
                  </a:lnTo>
                  <a:lnTo>
                    <a:pt x="291" y="4496"/>
                  </a:lnTo>
                  <a:lnTo>
                    <a:pt x="263" y="4504"/>
                  </a:lnTo>
                  <a:lnTo>
                    <a:pt x="252" y="4281"/>
                  </a:lnTo>
                  <a:lnTo>
                    <a:pt x="239" y="4062"/>
                  </a:lnTo>
                  <a:lnTo>
                    <a:pt x="223" y="3844"/>
                  </a:lnTo>
                  <a:lnTo>
                    <a:pt x="206" y="3629"/>
                  </a:lnTo>
                  <a:lnTo>
                    <a:pt x="184" y="3412"/>
                  </a:lnTo>
                  <a:lnTo>
                    <a:pt x="159" y="3196"/>
                  </a:lnTo>
                  <a:lnTo>
                    <a:pt x="128" y="2981"/>
                  </a:lnTo>
                  <a:lnTo>
                    <a:pt x="94" y="2766"/>
                  </a:lnTo>
                  <a:lnTo>
                    <a:pt x="91" y="2755"/>
                  </a:lnTo>
                  <a:lnTo>
                    <a:pt x="89" y="2745"/>
                  </a:lnTo>
                  <a:lnTo>
                    <a:pt x="88" y="2736"/>
                  </a:lnTo>
                  <a:lnTo>
                    <a:pt x="88" y="2727"/>
                  </a:lnTo>
                  <a:lnTo>
                    <a:pt x="86" y="2717"/>
                  </a:lnTo>
                  <a:lnTo>
                    <a:pt x="85" y="2708"/>
                  </a:lnTo>
                  <a:lnTo>
                    <a:pt x="84" y="2699"/>
                  </a:lnTo>
                  <a:lnTo>
                    <a:pt x="83" y="269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6213240" y="517680"/>
              <a:ext cx="1700640" cy="6360480"/>
            </a:xfrm>
            <a:custGeom>
              <a:avLst/>
              <a:gdLst>
                <a:gd name="textAreaLeft" fmla="*/ 0 w 1700640"/>
                <a:gd name="textAreaRight" fmla="*/ 1701000 w 1700640"/>
                <a:gd name="textAreaTop" fmla="*/ 0 h 6360480"/>
                <a:gd name="textAreaBottom" fmla="*/ 6360840 h 6360480"/>
              </a:gdLst>
              <a:ahLst/>
              <a:rect l="textAreaLeft" t="textAreaTop" r="textAreaRight" b="textAreaBottom"/>
              <a:pathLst>
                <a:path w="718" h="4395">
                  <a:moveTo>
                    <a:pt x="132" y="2362"/>
                  </a:moveTo>
                  <a:lnTo>
                    <a:pt x="121" y="2193"/>
                  </a:lnTo>
                  <a:lnTo>
                    <a:pt x="108" y="2035"/>
                  </a:lnTo>
                  <a:lnTo>
                    <a:pt x="96" y="1884"/>
                  </a:lnTo>
                  <a:lnTo>
                    <a:pt x="84" y="1736"/>
                  </a:lnTo>
                  <a:lnTo>
                    <a:pt x="70" y="1589"/>
                  </a:lnTo>
                  <a:lnTo>
                    <a:pt x="59" y="1440"/>
                  </a:lnTo>
                  <a:lnTo>
                    <a:pt x="48" y="1284"/>
                  </a:lnTo>
                  <a:lnTo>
                    <a:pt x="39" y="1120"/>
                  </a:lnTo>
                  <a:lnTo>
                    <a:pt x="37" y="1041"/>
                  </a:lnTo>
                  <a:lnTo>
                    <a:pt x="31" y="909"/>
                  </a:lnTo>
                  <a:lnTo>
                    <a:pt x="22" y="741"/>
                  </a:lnTo>
                  <a:lnTo>
                    <a:pt x="14" y="556"/>
                  </a:lnTo>
                  <a:lnTo>
                    <a:pt x="5" y="371"/>
                  </a:lnTo>
                  <a:lnTo>
                    <a:pt x="0" y="206"/>
                  </a:lnTo>
                  <a:lnTo>
                    <a:pt x="0" y="79"/>
                  </a:lnTo>
                  <a:lnTo>
                    <a:pt x="6" y="11"/>
                  </a:lnTo>
                  <a:lnTo>
                    <a:pt x="42" y="19"/>
                  </a:lnTo>
                  <a:lnTo>
                    <a:pt x="89" y="24"/>
                  </a:lnTo>
                  <a:lnTo>
                    <a:pt x="145" y="24"/>
                  </a:lnTo>
                  <a:lnTo>
                    <a:pt x="207" y="24"/>
                  </a:lnTo>
                  <a:lnTo>
                    <a:pt x="270" y="19"/>
                  </a:lnTo>
                  <a:lnTo>
                    <a:pt x="331" y="14"/>
                  </a:lnTo>
                  <a:lnTo>
                    <a:pt x="385" y="7"/>
                  </a:lnTo>
                  <a:lnTo>
                    <a:pt x="433" y="0"/>
                  </a:lnTo>
                  <a:lnTo>
                    <a:pt x="439" y="246"/>
                  </a:lnTo>
                  <a:lnTo>
                    <a:pt x="431" y="547"/>
                  </a:lnTo>
                  <a:lnTo>
                    <a:pt x="412" y="881"/>
                  </a:lnTo>
                  <a:lnTo>
                    <a:pt x="392" y="1234"/>
                  </a:lnTo>
                  <a:lnTo>
                    <a:pt x="368" y="1586"/>
                  </a:lnTo>
                  <a:lnTo>
                    <a:pt x="348" y="1923"/>
                  </a:lnTo>
                  <a:lnTo>
                    <a:pt x="335" y="2225"/>
                  </a:lnTo>
                  <a:lnTo>
                    <a:pt x="335" y="2477"/>
                  </a:lnTo>
                  <a:lnTo>
                    <a:pt x="373" y="2718"/>
                  </a:lnTo>
                  <a:lnTo>
                    <a:pt x="422" y="2961"/>
                  </a:lnTo>
                  <a:lnTo>
                    <a:pt x="477" y="3201"/>
                  </a:lnTo>
                  <a:lnTo>
                    <a:pt x="536" y="3443"/>
                  </a:lnTo>
                  <a:lnTo>
                    <a:pt x="593" y="3681"/>
                  </a:lnTo>
                  <a:lnTo>
                    <a:pt x="645" y="3920"/>
                  </a:lnTo>
                  <a:lnTo>
                    <a:pt x="688" y="4157"/>
                  </a:lnTo>
                  <a:lnTo>
                    <a:pt x="718" y="4395"/>
                  </a:lnTo>
                  <a:lnTo>
                    <a:pt x="688" y="4387"/>
                  </a:lnTo>
                  <a:lnTo>
                    <a:pt x="656" y="4374"/>
                  </a:lnTo>
                  <a:lnTo>
                    <a:pt x="619" y="4354"/>
                  </a:lnTo>
                  <a:lnTo>
                    <a:pt x="583" y="4332"/>
                  </a:lnTo>
                  <a:lnTo>
                    <a:pt x="545" y="4307"/>
                  </a:lnTo>
                  <a:lnTo>
                    <a:pt x="511" y="4283"/>
                  </a:lnTo>
                  <a:lnTo>
                    <a:pt x="482" y="4260"/>
                  </a:lnTo>
                  <a:lnTo>
                    <a:pt x="460" y="4242"/>
                  </a:lnTo>
                  <a:lnTo>
                    <a:pt x="395" y="4007"/>
                  </a:lnTo>
                  <a:lnTo>
                    <a:pt x="338" y="3774"/>
                  </a:lnTo>
                  <a:lnTo>
                    <a:pt x="287" y="3539"/>
                  </a:lnTo>
                  <a:lnTo>
                    <a:pt x="242" y="3305"/>
                  </a:lnTo>
                  <a:lnTo>
                    <a:pt x="204" y="3070"/>
                  </a:lnTo>
                  <a:lnTo>
                    <a:pt x="173" y="2835"/>
                  </a:lnTo>
                  <a:lnTo>
                    <a:pt x="149" y="2598"/>
                  </a:lnTo>
                  <a:lnTo>
                    <a:pt x="132" y="236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7047360" y="407520"/>
              <a:ext cx="1629720" cy="6453720"/>
            </a:xfrm>
            <a:custGeom>
              <a:avLst/>
              <a:gdLst>
                <a:gd name="textAreaLeft" fmla="*/ 0 w 1629720"/>
                <a:gd name="textAreaRight" fmla="*/ 1630080 w 1629720"/>
                <a:gd name="textAreaTop" fmla="*/ 0 h 6453720"/>
                <a:gd name="textAreaBottom" fmla="*/ 6454080 h 6453720"/>
              </a:gdLst>
              <a:ahLst/>
              <a:rect l="textAreaLeft" t="textAreaTop" r="textAreaRight" b="textAreaBottom"/>
              <a:pathLst>
                <a:path w="689" h="4460">
                  <a:moveTo>
                    <a:pt x="0" y="2438"/>
                  </a:moveTo>
                  <a:lnTo>
                    <a:pt x="7" y="2199"/>
                  </a:lnTo>
                  <a:lnTo>
                    <a:pt x="22" y="1912"/>
                  </a:lnTo>
                  <a:lnTo>
                    <a:pt x="39" y="1590"/>
                  </a:lnTo>
                  <a:lnTo>
                    <a:pt x="58" y="1253"/>
                  </a:lnTo>
                  <a:lnTo>
                    <a:pt x="75" y="915"/>
                  </a:lnTo>
                  <a:lnTo>
                    <a:pt x="89" y="598"/>
                  </a:lnTo>
                  <a:lnTo>
                    <a:pt x="94" y="313"/>
                  </a:lnTo>
                  <a:lnTo>
                    <a:pt x="93" y="82"/>
                  </a:lnTo>
                  <a:lnTo>
                    <a:pt x="148" y="74"/>
                  </a:lnTo>
                  <a:lnTo>
                    <a:pt x="209" y="64"/>
                  </a:lnTo>
                  <a:lnTo>
                    <a:pt x="272" y="50"/>
                  </a:lnTo>
                  <a:lnTo>
                    <a:pt x="338" y="36"/>
                  </a:lnTo>
                  <a:lnTo>
                    <a:pt x="399" y="22"/>
                  </a:lnTo>
                  <a:lnTo>
                    <a:pt x="457" y="10"/>
                  </a:lnTo>
                  <a:lnTo>
                    <a:pt x="507" y="2"/>
                  </a:lnTo>
                  <a:lnTo>
                    <a:pt x="547" y="0"/>
                  </a:lnTo>
                  <a:lnTo>
                    <a:pt x="574" y="143"/>
                  </a:lnTo>
                  <a:lnTo>
                    <a:pt x="591" y="341"/>
                  </a:lnTo>
                  <a:lnTo>
                    <a:pt x="596" y="575"/>
                  </a:lnTo>
                  <a:lnTo>
                    <a:pt x="592" y="831"/>
                  </a:lnTo>
                  <a:lnTo>
                    <a:pt x="579" y="1089"/>
                  </a:lnTo>
                  <a:lnTo>
                    <a:pt x="559" y="1337"/>
                  </a:lnTo>
                  <a:lnTo>
                    <a:pt x="532" y="1557"/>
                  </a:lnTo>
                  <a:lnTo>
                    <a:pt x="503" y="1733"/>
                  </a:lnTo>
                  <a:lnTo>
                    <a:pt x="481" y="1845"/>
                  </a:lnTo>
                  <a:lnTo>
                    <a:pt x="467" y="1931"/>
                  </a:lnTo>
                  <a:lnTo>
                    <a:pt x="460" y="1995"/>
                  </a:lnTo>
                  <a:lnTo>
                    <a:pt x="456" y="2042"/>
                  </a:lnTo>
                  <a:lnTo>
                    <a:pt x="454" y="2074"/>
                  </a:lnTo>
                  <a:lnTo>
                    <a:pt x="454" y="2100"/>
                  </a:lnTo>
                  <a:lnTo>
                    <a:pt x="454" y="2123"/>
                  </a:lnTo>
                  <a:lnTo>
                    <a:pt x="454" y="2148"/>
                  </a:lnTo>
                  <a:lnTo>
                    <a:pt x="465" y="2314"/>
                  </a:lnTo>
                  <a:lnTo>
                    <a:pt x="479" y="2483"/>
                  </a:lnTo>
                  <a:lnTo>
                    <a:pt x="494" y="2652"/>
                  </a:lnTo>
                  <a:lnTo>
                    <a:pt x="512" y="2822"/>
                  </a:lnTo>
                  <a:lnTo>
                    <a:pt x="530" y="2993"/>
                  </a:lnTo>
                  <a:lnTo>
                    <a:pt x="552" y="3163"/>
                  </a:lnTo>
                  <a:lnTo>
                    <a:pt x="577" y="3333"/>
                  </a:lnTo>
                  <a:lnTo>
                    <a:pt x="607" y="3504"/>
                  </a:lnTo>
                  <a:lnTo>
                    <a:pt x="616" y="3591"/>
                  </a:lnTo>
                  <a:lnTo>
                    <a:pt x="628" y="3684"/>
                  </a:lnTo>
                  <a:lnTo>
                    <a:pt x="642" y="3778"/>
                  </a:lnTo>
                  <a:lnTo>
                    <a:pt x="658" y="3875"/>
                  </a:lnTo>
                  <a:lnTo>
                    <a:pt x="670" y="3970"/>
                  </a:lnTo>
                  <a:lnTo>
                    <a:pt x="681" y="4065"/>
                  </a:lnTo>
                  <a:lnTo>
                    <a:pt x="686" y="4157"/>
                  </a:lnTo>
                  <a:lnTo>
                    <a:pt x="689" y="4247"/>
                  </a:lnTo>
                  <a:lnTo>
                    <a:pt x="656" y="4272"/>
                  </a:lnTo>
                  <a:lnTo>
                    <a:pt x="621" y="4299"/>
                  </a:lnTo>
                  <a:lnTo>
                    <a:pt x="583" y="4326"/>
                  </a:lnTo>
                  <a:lnTo>
                    <a:pt x="546" y="4354"/>
                  </a:lnTo>
                  <a:lnTo>
                    <a:pt x="506" y="4382"/>
                  </a:lnTo>
                  <a:lnTo>
                    <a:pt x="469" y="4410"/>
                  </a:lnTo>
                  <a:lnTo>
                    <a:pt x="432" y="4435"/>
                  </a:lnTo>
                  <a:lnTo>
                    <a:pt x="399" y="4460"/>
                  </a:lnTo>
                  <a:lnTo>
                    <a:pt x="360" y="4282"/>
                  </a:lnTo>
                  <a:lnTo>
                    <a:pt x="306" y="4041"/>
                  </a:lnTo>
                  <a:lnTo>
                    <a:pt x="244" y="3757"/>
                  </a:lnTo>
                  <a:lnTo>
                    <a:pt x="179" y="3452"/>
                  </a:lnTo>
                  <a:lnTo>
                    <a:pt x="116" y="3146"/>
                  </a:lnTo>
                  <a:lnTo>
                    <a:pt x="63" y="2861"/>
                  </a:lnTo>
                  <a:lnTo>
                    <a:pt x="21" y="2617"/>
                  </a:lnTo>
                  <a:lnTo>
                    <a:pt x="0" y="243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6615360" y="208080"/>
              <a:ext cx="1739520" cy="324000"/>
            </a:xfrm>
            <a:custGeom>
              <a:avLst/>
              <a:gdLst>
                <a:gd name="textAreaLeft" fmla="*/ 0 w 1739520"/>
                <a:gd name="textAreaRight" fmla="*/ 1739880 w 17395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732" h="224">
                  <a:moveTo>
                    <a:pt x="711" y="0"/>
                  </a:moveTo>
                  <a:lnTo>
                    <a:pt x="713" y="10"/>
                  </a:lnTo>
                  <a:lnTo>
                    <a:pt x="715" y="23"/>
                  </a:lnTo>
                  <a:lnTo>
                    <a:pt x="718" y="35"/>
                  </a:lnTo>
                  <a:lnTo>
                    <a:pt x="721" y="49"/>
                  </a:lnTo>
                  <a:lnTo>
                    <a:pt x="722" y="61"/>
                  </a:lnTo>
                  <a:lnTo>
                    <a:pt x="725" y="75"/>
                  </a:lnTo>
                  <a:lnTo>
                    <a:pt x="728" y="87"/>
                  </a:lnTo>
                  <a:lnTo>
                    <a:pt x="732" y="99"/>
                  </a:lnTo>
                  <a:lnTo>
                    <a:pt x="647" y="122"/>
                  </a:lnTo>
                  <a:lnTo>
                    <a:pt x="562" y="146"/>
                  </a:lnTo>
                  <a:lnTo>
                    <a:pt x="474" y="165"/>
                  </a:lnTo>
                  <a:lnTo>
                    <a:pt x="384" y="184"/>
                  </a:lnTo>
                  <a:lnTo>
                    <a:pt x="290" y="197"/>
                  </a:lnTo>
                  <a:lnTo>
                    <a:pt x="196" y="210"/>
                  </a:lnTo>
                  <a:lnTo>
                    <a:pt x="99" y="218"/>
                  </a:lnTo>
                  <a:lnTo>
                    <a:pt x="0" y="224"/>
                  </a:lnTo>
                  <a:lnTo>
                    <a:pt x="2" y="220"/>
                  </a:lnTo>
                  <a:lnTo>
                    <a:pt x="9" y="213"/>
                  </a:lnTo>
                  <a:lnTo>
                    <a:pt x="17" y="204"/>
                  </a:lnTo>
                  <a:lnTo>
                    <a:pt x="28" y="196"/>
                  </a:lnTo>
                  <a:lnTo>
                    <a:pt x="37" y="186"/>
                  </a:lnTo>
                  <a:lnTo>
                    <a:pt x="48" y="179"/>
                  </a:lnTo>
                  <a:lnTo>
                    <a:pt x="52" y="172"/>
                  </a:lnTo>
                  <a:lnTo>
                    <a:pt x="54" y="170"/>
                  </a:lnTo>
                  <a:lnTo>
                    <a:pt x="50" y="162"/>
                  </a:lnTo>
                  <a:lnTo>
                    <a:pt x="44" y="154"/>
                  </a:lnTo>
                  <a:lnTo>
                    <a:pt x="37" y="145"/>
                  </a:lnTo>
                  <a:lnTo>
                    <a:pt x="30" y="137"/>
                  </a:lnTo>
                  <a:lnTo>
                    <a:pt x="24" y="128"/>
                  </a:lnTo>
                  <a:lnTo>
                    <a:pt x="18" y="120"/>
                  </a:lnTo>
                  <a:lnTo>
                    <a:pt x="15" y="113"/>
                  </a:lnTo>
                  <a:lnTo>
                    <a:pt x="16" y="110"/>
                  </a:lnTo>
                  <a:lnTo>
                    <a:pt x="135" y="101"/>
                  </a:lnTo>
                  <a:lnTo>
                    <a:pt x="235" y="94"/>
                  </a:lnTo>
                  <a:lnTo>
                    <a:pt x="317" y="86"/>
                  </a:lnTo>
                  <a:lnTo>
                    <a:pt x="392" y="79"/>
                  </a:lnTo>
                  <a:lnTo>
                    <a:pt x="461" y="67"/>
                  </a:lnTo>
                  <a:lnTo>
                    <a:pt x="534" y="52"/>
                  </a:lnTo>
                  <a:lnTo>
                    <a:pt x="615" y="29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4725000" y="28800"/>
              <a:ext cx="3421080" cy="320760"/>
            </a:xfrm>
            <a:custGeom>
              <a:avLst/>
              <a:gdLst>
                <a:gd name="textAreaLeft" fmla="*/ 0 w 3421080"/>
                <a:gd name="textAreaRight" fmla="*/ 3421440 w 3421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444" h="224">
                  <a:moveTo>
                    <a:pt x="0" y="70"/>
                  </a:moveTo>
                  <a:lnTo>
                    <a:pt x="64" y="29"/>
                  </a:lnTo>
                  <a:lnTo>
                    <a:pt x="214" y="7"/>
                  </a:lnTo>
                  <a:lnTo>
                    <a:pt x="423" y="0"/>
                  </a:lnTo>
                  <a:lnTo>
                    <a:pt x="665" y="7"/>
                  </a:lnTo>
                  <a:lnTo>
                    <a:pt x="911" y="22"/>
                  </a:lnTo>
                  <a:lnTo>
                    <a:pt x="1137" y="46"/>
                  </a:lnTo>
                  <a:lnTo>
                    <a:pt x="1314" y="74"/>
                  </a:lnTo>
                  <a:lnTo>
                    <a:pt x="1417" y="103"/>
                  </a:lnTo>
                  <a:lnTo>
                    <a:pt x="1433" y="109"/>
                  </a:lnTo>
                  <a:lnTo>
                    <a:pt x="1443" y="115"/>
                  </a:lnTo>
                  <a:lnTo>
                    <a:pt x="1444" y="122"/>
                  </a:lnTo>
                  <a:lnTo>
                    <a:pt x="1437" y="131"/>
                  </a:lnTo>
                  <a:lnTo>
                    <a:pt x="1420" y="139"/>
                  </a:lnTo>
                  <a:lnTo>
                    <a:pt x="1395" y="149"/>
                  </a:lnTo>
                  <a:lnTo>
                    <a:pt x="1359" y="160"/>
                  </a:lnTo>
                  <a:lnTo>
                    <a:pt x="1313" y="175"/>
                  </a:lnTo>
                  <a:lnTo>
                    <a:pt x="1234" y="185"/>
                  </a:lnTo>
                  <a:lnTo>
                    <a:pt x="1155" y="195"/>
                  </a:lnTo>
                  <a:lnTo>
                    <a:pt x="1074" y="204"/>
                  </a:lnTo>
                  <a:lnTo>
                    <a:pt x="996" y="215"/>
                  </a:lnTo>
                  <a:lnTo>
                    <a:pt x="919" y="220"/>
                  </a:lnTo>
                  <a:lnTo>
                    <a:pt x="848" y="224"/>
                  </a:lnTo>
                  <a:lnTo>
                    <a:pt x="781" y="222"/>
                  </a:lnTo>
                  <a:lnTo>
                    <a:pt x="722" y="218"/>
                  </a:lnTo>
                  <a:lnTo>
                    <a:pt x="624" y="208"/>
                  </a:lnTo>
                  <a:lnTo>
                    <a:pt x="524" y="195"/>
                  </a:lnTo>
                  <a:lnTo>
                    <a:pt x="422" y="180"/>
                  </a:lnTo>
                  <a:lnTo>
                    <a:pt x="324" y="165"/>
                  </a:lnTo>
                  <a:lnTo>
                    <a:pt x="228" y="144"/>
                  </a:lnTo>
                  <a:lnTo>
                    <a:pt x="141" y="122"/>
                  </a:lnTo>
                  <a:lnTo>
                    <a:pt x="64" y="97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4559760" y="138240"/>
              <a:ext cx="2151000" cy="396360"/>
            </a:xfrm>
            <a:custGeom>
              <a:avLst/>
              <a:gdLst>
                <a:gd name="textAreaLeft" fmla="*/ 0 w 2151000"/>
                <a:gd name="textAreaRight" fmla="*/ 2151360 w 215100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907" h="275">
                  <a:moveTo>
                    <a:pt x="22" y="0"/>
                  </a:moveTo>
                  <a:lnTo>
                    <a:pt x="18" y="10"/>
                  </a:lnTo>
                  <a:lnTo>
                    <a:pt x="17" y="22"/>
                  </a:lnTo>
                  <a:lnTo>
                    <a:pt x="14" y="33"/>
                  </a:lnTo>
                  <a:lnTo>
                    <a:pt x="13" y="47"/>
                  </a:lnTo>
                  <a:lnTo>
                    <a:pt x="9" y="59"/>
                  </a:lnTo>
                  <a:lnTo>
                    <a:pt x="6" y="73"/>
                  </a:lnTo>
                  <a:lnTo>
                    <a:pt x="2" y="85"/>
                  </a:lnTo>
                  <a:lnTo>
                    <a:pt x="0" y="99"/>
                  </a:lnTo>
                  <a:lnTo>
                    <a:pt x="55" y="121"/>
                  </a:lnTo>
                  <a:lnTo>
                    <a:pt x="110" y="143"/>
                  </a:lnTo>
                  <a:lnTo>
                    <a:pt x="165" y="162"/>
                  </a:lnTo>
                  <a:lnTo>
                    <a:pt x="224" y="182"/>
                  </a:lnTo>
                  <a:lnTo>
                    <a:pt x="286" y="199"/>
                  </a:lnTo>
                  <a:lnTo>
                    <a:pt x="357" y="216"/>
                  </a:lnTo>
                  <a:lnTo>
                    <a:pt x="437" y="230"/>
                  </a:lnTo>
                  <a:lnTo>
                    <a:pt x="530" y="246"/>
                  </a:lnTo>
                  <a:lnTo>
                    <a:pt x="585" y="252"/>
                  </a:lnTo>
                  <a:lnTo>
                    <a:pt x="633" y="258"/>
                  </a:lnTo>
                  <a:lnTo>
                    <a:pt x="673" y="263"/>
                  </a:lnTo>
                  <a:lnTo>
                    <a:pt x="709" y="269"/>
                  </a:lnTo>
                  <a:lnTo>
                    <a:pt x="741" y="272"/>
                  </a:lnTo>
                  <a:lnTo>
                    <a:pt x="774" y="275"/>
                  </a:lnTo>
                  <a:lnTo>
                    <a:pt x="808" y="275"/>
                  </a:lnTo>
                  <a:lnTo>
                    <a:pt x="847" y="273"/>
                  </a:lnTo>
                  <a:lnTo>
                    <a:pt x="853" y="268"/>
                  </a:lnTo>
                  <a:lnTo>
                    <a:pt x="863" y="262"/>
                  </a:lnTo>
                  <a:lnTo>
                    <a:pt x="872" y="254"/>
                  </a:lnTo>
                  <a:lnTo>
                    <a:pt x="882" y="247"/>
                  </a:lnTo>
                  <a:lnTo>
                    <a:pt x="892" y="239"/>
                  </a:lnTo>
                  <a:lnTo>
                    <a:pt x="899" y="231"/>
                  </a:lnTo>
                  <a:lnTo>
                    <a:pt x="905" y="225"/>
                  </a:lnTo>
                  <a:lnTo>
                    <a:pt x="907" y="219"/>
                  </a:lnTo>
                  <a:lnTo>
                    <a:pt x="904" y="210"/>
                  </a:lnTo>
                  <a:lnTo>
                    <a:pt x="897" y="201"/>
                  </a:lnTo>
                  <a:lnTo>
                    <a:pt x="887" y="192"/>
                  </a:lnTo>
                  <a:lnTo>
                    <a:pt x="878" y="184"/>
                  </a:lnTo>
                  <a:lnTo>
                    <a:pt x="868" y="175"/>
                  </a:lnTo>
                  <a:lnTo>
                    <a:pt x="860" y="168"/>
                  </a:lnTo>
                  <a:lnTo>
                    <a:pt x="855" y="162"/>
                  </a:lnTo>
                  <a:lnTo>
                    <a:pt x="858" y="159"/>
                  </a:lnTo>
                  <a:lnTo>
                    <a:pt x="729" y="150"/>
                  </a:lnTo>
                  <a:lnTo>
                    <a:pt x="616" y="137"/>
                  </a:lnTo>
                  <a:lnTo>
                    <a:pt x="510" y="121"/>
                  </a:lnTo>
                  <a:lnTo>
                    <a:pt x="412" y="103"/>
                  </a:lnTo>
                  <a:lnTo>
                    <a:pt x="315" y="81"/>
                  </a:lnTo>
                  <a:lnTo>
                    <a:pt x="221" y="57"/>
                  </a:lnTo>
                  <a:lnTo>
                    <a:pt x="124" y="2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7"/>
            <p:cNvSpPr/>
            <p:nvPr/>
          </p:nvSpPr>
          <p:spPr>
            <a:xfrm>
              <a:off x="6359400" y="381960"/>
              <a:ext cx="208440" cy="11880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87" h="83">
                  <a:moveTo>
                    <a:pt x="43" y="0"/>
                  </a:moveTo>
                  <a:lnTo>
                    <a:pt x="50" y="0"/>
                  </a:lnTo>
                  <a:lnTo>
                    <a:pt x="58" y="2"/>
                  </a:lnTo>
                  <a:lnTo>
                    <a:pt x="65" y="5"/>
                  </a:lnTo>
                  <a:lnTo>
                    <a:pt x="73" y="10"/>
                  </a:lnTo>
                  <a:lnTo>
                    <a:pt x="78" y="16"/>
                  </a:lnTo>
                  <a:lnTo>
                    <a:pt x="83" y="23"/>
                  </a:lnTo>
                  <a:lnTo>
                    <a:pt x="85" y="30"/>
                  </a:lnTo>
                  <a:lnTo>
                    <a:pt x="87" y="39"/>
                  </a:lnTo>
                  <a:lnTo>
                    <a:pt x="85" y="45"/>
                  </a:lnTo>
                  <a:lnTo>
                    <a:pt x="83" y="53"/>
                  </a:lnTo>
                  <a:lnTo>
                    <a:pt x="78" y="60"/>
                  </a:lnTo>
                  <a:lnTo>
                    <a:pt x="73" y="68"/>
                  </a:lnTo>
                  <a:lnTo>
                    <a:pt x="65" y="74"/>
                  </a:lnTo>
                  <a:lnTo>
                    <a:pt x="58" y="78"/>
                  </a:lnTo>
                  <a:lnTo>
                    <a:pt x="50" y="81"/>
                  </a:lnTo>
                  <a:lnTo>
                    <a:pt x="43" y="83"/>
                  </a:lnTo>
                  <a:lnTo>
                    <a:pt x="34" y="82"/>
                  </a:lnTo>
                  <a:lnTo>
                    <a:pt x="26" y="79"/>
                  </a:lnTo>
                  <a:lnTo>
                    <a:pt x="19" y="75"/>
                  </a:lnTo>
                  <a:lnTo>
                    <a:pt x="12" y="72"/>
                  </a:lnTo>
                  <a:lnTo>
                    <a:pt x="6" y="65"/>
                  </a:lnTo>
                  <a:lnTo>
                    <a:pt x="2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2" y="27"/>
                  </a:lnTo>
                  <a:lnTo>
                    <a:pt x="6" y="19"/>
                  </a:lnTo>
                  <a:lnTo>
                    <a:pt x="12" y="14"/>
                  </a:lnTo>
                  <a:lnTo>
                    <a:pt x="19" y="7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8"/>
            <p:cNvSpPr/>
            <p:nvPr/>
          </p:nvSpPr>
          <p:spPr>
            <a:xfrm>
              <a:off x="6383160" y="398880"/>
              <a:ext cx="156600" cy="871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66" h="61">
                  <a:moveTo>
                    <a:pt x="33" y="0"/>
                  </a:moveTo>
                  <a:lnTo>
                    <a:pt x="44" y="2"/>
                  </a:lnTo>
                  <a:lnTo>
                    <a:pt x="56" y="7"/>
                  </a:lnTo>
                  <a:lnTo>
                    <a:pt x="63" y="16"/>
                  </a:lnTo>
                  <a:lnTo>
                    <a:pt x="66" y="28"/>
                  </a:lnTo>
                  <a:lnTo>
                    <a:pt x="63" y="39"/>
                  </a:lnTo>
                  <a:lnTo>
                    <a:pt x="56" y="49"/>
                  </a:lnTo>
                  <a:lnTo>
                    <a:pt x="44" y="57"/>
                  </a:lnTo>
                  <a:lnTo>
                    <a:pt x="33" y="61"/>
                  </a:lnTo>
                  <a:lnTo>
                    <a:pt x="26" y="59"/>
                  </a:lnTo>
                  <a:lnTo>
                    <a:pt x="21" y="57"/>
                  </a:lnTo>
                  <a:lnTo>
                    <a:pt x="14" y="54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0"/>
                  </a:lnTo>
                  <a:lnTo>
                    <a:pt x="5" y="14"/>
                  </a:lnTo>
                  <a:lnTo>
                    <a:pt x="10" y="10"/>
                  </a:lnTo>
                  <a:lnTo>
                    <a:pt x="14" y="5"/>
                  </a:lnTo>
                  <a:lnTo>
                    <a:pt x="21" y="3"/>
                  </a:lnTo>
                  <a:lnTo>
                    <a:pt x="26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9"/>
            <p:cNvSpPr/>
            <p:nvPr/>
          </p:nvSpPr>
          <p:spPr>
            <a:xfrm>
              <a:off x="7615440" y="381960"/>
              <a:ext cx="866880" cy="81576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366" h="564">
                  <a:moveTo>
                    <a:pt x="0" y="72"/>
                  </a:moveTo>
                  <a:lnTo>
                    <a:pt x="5" y="120"/>
                  </a:lnTo>
                  <a:lnTo>
                    <a:pt x="11" y="171"/>
                  </a:lnTo>
                  <a:lnTo>
                    <a:pt x="17" y="222"/>
                  </a:lnTo>
                  <a:lnTo>
                    <a:pt x="23" y="273"/>
                  </a:lnTo>
                  <a:lnTo>
                    <a:pt x="29" y="324"/>
                  </a:lnTo>
                  <a:lnTo>
                    <a:pt x="36" y="375"/>
                  </a:lnTo>
                  <a:lnTo>
                    <a:pt x="42" y="425"/>
                  </a:lnTo>
                  <a:lnTo>
                    <a:pt x="48" y="476"/>
                  </a:lnTo>
                  <a:lnTo>
                    <a:pt x="88" y="506"/>
                  </a:lnTo>
                  <a:lnTo>
                    <a:pt x="129" y="529"/>
                  </a:lnTo>
                  <a:lnTo>
                    <a:pt x="169" y="543"/>
                  </a:lnTo>
                  <a:lnTo>
                    <a:pt x="208" y="555"/>
                  </a:lnTo>
                  <a:lnTo>
                    <a:pt x="247" y="559"/>
                  </a:lnTo>
                  <a:lnTo>
                    <a:pt x="287" y="563"/>
                  </a:lnTo>
                  <a:lnTo>
                    <a:pt x="326" y="563"/>
                  </a:lnTo>
                  <a:lnTo>
                    <a:pt x="366" y="564"/>
                  </a:lnTo>
                  <a:lnTo>
                    <a:pt x="360" y="492"/>
                  </a:lnTo>
                  <a:lnTo>
                    <a:pt x="356" y="422"/>
                  </a:lnTo>
                  <a:lnTo>
                    <a:pt x="351" y="350"/>
                  </a:lnTo>
                  <a:lnTo>
                    <a:pt x="347" y="279"/>
                  </a:lnTo>
                  <a:lnTo>
                    <a:pt x="341" y="208"/>
                  </a:lnTo>
                  <a:lnTo>
                    <a:pt x="336" y="137"/>
                  </a:lnTo>
                  <a:lnTo>
                    <a:pt x="331" y="67"/>
                  </a:lnTo>
                  <a:lnTo>
                    <a:pt x="327" y="0"/>
                  </a:lnTo>
                  <a:lnTo>
                    <a:pt x="285" y="8"/>
                  </a:lnTo>
                  <a:lnTo>
                    <a:pt x="245" y="16"/>
                  </a:lnTo>
                  <a:lnTo>
                    <a:pt x="203" y="24"/>
                  </a:lnTo>
                  <a:lnTo>
                    <a:pt x="162" y="34"/>
                  </a:lnTo>
                  <a:lnTo>
                    <a:pt x="120" y="42"/>
                  </a:lnTo>
                  <a:lnTo>
                    <a:pt x="79" y="51"/>
                  </a:lnTo>
                  <a:lnTo>
                    <a:pt x="38" y="61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4312440" y="286200"/>
              <a:ext cx="697320" cy="87156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295" h="602">
                  <a:moveTo>
                    <a:pt x="295" y="83"/>
                  </a:moveTo>
                  <a:lnTo>
                    <a:pt x="287" y="132"/>
                  </a:lnTo>
                  <a:lnTo>
                    <a:pt x="280" y="185"/>
                  </a:lnTo>
                  <a:lnTo>
                    <a:pt x="272" y="240"/>
                  </a:lnTo>
                  <a:lnTo>
                    <a:pt x="264" y="295"/>
                  </a:lnTo>
                  <a:lnTo>
                    <a:pt x="255" y="350"/>
                  </a:lnTo>
                  <a:lnTo>
                    <a:pt x="248" y="405"/>
                  </a:lnTo>
                  <a:lnTo>
                    <a:pt x="240" y="458"/>
                  </a:lnTo>
                  <a:lnTo>
                    <a:pt x="235" y="509"/>
                  </a:lnTo>
                  <a:lnTo>
                    <a:pt x="196" y="540"/>
                  </a:lnTo>
                  <a:lnTo>
                    <a:pt x="165" y="565"/>
                  </a:lnTo>
                  <a:lnTo>
                    <a:pt x="137" y="582"/>
                  </a:lnTo>
                  <a:lnTo>
                    <a:pt x="113" y="593"/>
                  </a:lnTo>
                  <a:lnTo>
                    <a:pt x="87" y="599"/>
                  </a:lnTo>
                  <a:lnTo>
                    <a:pt x="62" y="602"/>
                  </a:lnTo>
                  <a:lnTo>
                    <a:pt x="33" y="602"/>
                  </a:lnTo>
                  <a:lnTo>
                    <a:pt x="0" y="602"/>
                  </a:lnTo>
                  <a:lnTo>
                    <a:pt x="3" y="531"/>
                  </a:lnTo>
                  <a:lnTo>
                    <a:pt x="12" y="457"/>
                  </a:lnTo>
                  <a:lnTo>
                    <a:pt x="25" y="380"/>
                  </a:lnTo>
                  <a:lnTo>
                    <a:pt x="38" y="303"/>
                  </a:lnTo>
                  <a:lnTo>
                    <a:pt x="51" y="224"/>
                  </a:lnTo>
                  <a:lnTo>
                    <a:pt x="64" y="147"/>
                  </a:lnTo>
                  <a:lnTo>
                    <a:pt x="75" y="72"/>
                  </a:lnTo>
                  <a:lnTo>
                    <a:pt x="81" y="0"/>
                  </a:lnTo>
                  <a:lnTo>
                    <a:pt x="117" y="8"/>
                  </a:lnTo>
                  <a:lnTo>
                    <a:pt x="146" y="17"/>
                  </a:lnTo>
                  <a:lnTo>
                    <a:pt x="170" y="28"/>
                  </a:lnTo>
                  <a:lnTo>
                    <a:pt x="191" y="38"/>
                  </a:lnTo>
                  <a:lnTo>
                    <a:pt x="211" y="48"/>
                  </a:lnTo>
                  <a:lnTo>
                    <a:pt x="235" y="58"/>
                  </a:lnTo>
                  <a:lnTo>
                    <a:pt x="261" y="70"/>
                  </a:lnTo>
                  <a:lnTo>
                    <a:pt x="295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7653240" y="381960"/>
              <a:ext cx="829440" cy="770040"/>
            </a:xfrm>
            <a:custGeom>
              <a:avLst/>
              <a:gdLst>
                <a:gd name="textAreaLeft" fmla="*/ 0 w 829440"/>
                <a:gd name="textAreaRight" fmla="*/ 829800 w 82944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349" h="532">
                  <a:moveTo>
                    <a:pt x="0" y="72"/>
                  </a:moveTo>
                  <a:lnTo>
                    <a:pt x="5" y="119"/>
                  </a:lnTo>
                  <a:lnTo>
                    <a:pt x="11" y="168"/>
                  </a:lnTo>
                  <a:lnTo>
                    <a:pt x="17" y="217"/>
                  </a:lnTo>
                  <a:lnTo>
                    <a:pt x="23" y="265"/>
                  </a:lnTo>
                  <a:lnTo>
                    <a:pt x="29" y="313"/>
                  </a:lnTo>
                  <a:lnTo>
                    <a:pt x="35" y="361"/>
                  </a:lnTo>
                  <a:lnTo>
                    <a:pt x="42" y="409"/>
                  </a:lnTo>
                  <a:lnTo>
                    <a:pt x="48" y="459"/>
                  </a:lnTo>
                  <a:lnTo>
                    <a:pt x="87" y="488"/>
                  </a:lnTo>
                  <a:lnTo>
                    <a:pt x="126" y="509"/>
                  </a:lnTo>
                  <a:lnTo>
                    <a:pt x="163" y="522"/>
                  </a:lnTo>
                  <a:lnTo>
                    <a:pt x="200" y="530"/>
                  </a:lnTo>
                  <a:lnTo>
                    <a:pt x="236" y="531"/>
                  </a:lnTo>
                  <a:lnTo>
                    <a:pt x="273" y="532"/>
                  </a:lnTo>
                  <a:lnTo>
                    <a:pt x="309" y="531"/>
                  </a:lnTo>
                  <a:lnTo>
                    <a:pt x="349" y="531"/>
                  </a:lnTo>
                  <a:lnTo>
                    <a:pt x="342" y="460"/>
                  </a:lnTo>
                  <a:lnTo>
                    <a:pt x="338" y="391"/>
                  </a:lnTo>
                  <a:lnTo>
                    <a:pt x="333" y="323"/>
                  </a:lnTo>
                  <a:lnTo>
                    <a:pt x="329" y="256"/>
                  </a:lnTo>
                  <a:lnTo>
                    <a:pt x="322" y="189"/>
                  </a:lnTo>
                  <a:lnTo>
                    <a:pt x="316" y="125"/>
                  </a:lnTo>
                  <a:lnTo>
                    <a:pt x="308" y="61"/>
                  </a:lnTo>
                  <a:lnTo>
                    <a:pt x="300" y="0"/>
                  </a:lnTo>
                  <a:lnTo>
                    <a:pt x="258" y="8"/>
                  </a:lnTo>
                  <a:lnTo>
                    <a:pt x="221" y="16"/>
                  </a:lnTo>
                  <a:lnTo>
                    <a:pt x="184" y="24"/>
                  </a:lnTo>
                  <a:lnTo>
                    <a:pt x="149" y="34"/>
                  </a:lnTo>
                  <a:lnTo>
                    <a:pt x="113" y="42"/>
                  </a:lnTo>
                  <a:lnTo>
                    <a:pt x="77" y="51"/>
                  </a:lnTo>
                  <a:lnTo>
                    <a:pt x="38" y="61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2"/>
            <p:cNvSpPr/>
            <p:nvPr/>
          </p:nvSpPr>
          <p:spPr>
            <a:xfrm>
              <a:off x="4351320" y="312480"/>
              <a:ext cx="610200" cy="830880"/>
            </a:xfrm>
            <a:custGeom>
              <a:avLst/>
              <a:gdLst>
                <a:gd name="textAreaLeft" fmla="*/ 0 w 610200"/>
                <a:gd name="textAreaRight" fmla="*/ 610560 w 610200"/>
                <a:gd name="textAreaTop" fmla="*/ 0 h 830880"/>
                <a:gd name="textAreaBottom" fmla="*/ 831240 h 830880"/>
              </a:gdLst>
              <a:ahLst/>
              <a:rect l="textAreaLeft" t="textAreaTop" r="textAreaRight" b="textAreaBottom"/>
              <a:pathLst>
                <a:path w="257" h="574">
                  <a:moveTo>
                    <a:pt x="257" y="72"/>
                  </a:moveTo>
                  <a:lnTo>
                    <a:pt x="250" y="119"/>
                  </a:lnTo>
                  <a:lnTo>
                    <a:pt x="244" y="170"/>
                  </a:lnTo>
                  <a:lnTo>
                    <a:pt x="237" y="221"/>
                  </a:lnTo>
                  <a:lnTo>
                    <a:pt x="230" y="274"/>
                  </a:lnTo>
                  <a:lnTo>
                    <a:pt x="223" y="324"/>
                  </a:lnTo>
                  <a:lnTo>
                    <a:pt x="217" y="375"/>
                  </a:lnTo>
                  <a:lnTo>
                    <a:pt x="212" y="424"/>
                  </a:lnTo>
                  <a:lnTo>
                    <a:pt x="208" y="475"/>
                  </a:lnTo>
                  <a:lnTo>
                    <a:pt x="177" y="505"/>
                  </a:lnTo>
                  <a:lnTo>
                    <a:pt x="151" y="529"/>
                  </a:lnTo>
                  <a:lnTo>
                    <a:pt x="127" y="545"/>
                  </a:lnTo>
                  <a:lnTo>
                    <a:pt x="105" y="557"/>
                  </a:lnTo>
                  <a:lnTo>
                    <a:pt x="82" y="564"/>
                  </a:lnTo>
                  <a:lnTo>
                    <a:pt x="59" y="568"/>
                  </a:lnTo>
                  <a:lnTo>
                    <a:pt x="30" y="571"/>
                  </a:lnTo>
                  <a:lnTo>
                    <a:pt x="0" y="574"/>
                  </a:lnTo>
                  <a:lnTo>
                    <a:pt x="1" y="502"/>
                  </a:lnTo>
                  <a:lnTo>
                    <a:pt x="5" y="428"/>
                  </a:lnTo>
                  <a:lnTo>
                    <a:pt x="10" y="353"/>
                  </a:lnTo>
                  <a:lnTo>
                    <a:pt x="17" y="278"/>
                  </a:lnTo>
                  <a:lnTo>
                    <a:pt x="24" y="203"/>
                  </a:lnTo>
                  <a:lnTo>
                    <a:pt x="33" y="132"/>
                  </a:lnTo>
                  <a:lnTo>
                    <a:pt x="43" y="64"/>
                  </a:lnTo>
                  <a:lnTo>
                    <a:pt x="55" y="0"/>
                  </a:lnTo>
                  <a:lnTo>
                    <a:pt x="86" y="9"/>
                  </a:lnTo>
                  <a:lnTo>
                    <a:pt x="114" y="19"/>
                  </a:lnTo>
                  <a:lnTo>
                    <a:pt x="138" y="28"/>
                  </a:lnTo>
                  <a:lnTo>
                    <a:pt x="162" y="38"/>
                  </a:lnTo>
                  <a:lnTo>
                    <a:pt x="183" y="46"/>
                  </a:lnTo>
                  <a:lnTo>
                    <a:pt x="206" y="55"/>
                  </a:lnTo>
                  <a:lnTo>
                    <a:pt x="230" y="63"/>
                  </a:lnTo>
                  <a:lnTo>
                    <a:pt x="257" y="72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3"/>
            <p:cNvSpPr/>
            <p:nvPr/>
          </p:nvSpPr>
          <p:spPr>
            <a:xfrm>
              <a:off x="6189840" y="540720"/>
              <a:ext cx="363960" cy="1140840"/>
            </a:xfrm>
            <a:custGeom>
              <a:avLst/>
              <a:gdLst>
                <a:gd name="textAreaLeft" fmla="*/ 0 w 363960"/>
                <a:gd name="textAreaRight" fmla="*/ 363960 w 363960"/>
                <a:gd name="textAreaTop" fmla="*/ 0 h 1140840"/>
                <a:gd name="textAreaBottom" fmla="*/ 1141200 h 1140840"/>
              </a:gdLst>
              <a:ahLst/>
              <a:rect l="textAreaLeft" t="textAreaTop" r="textAreaRight" b="textAreaBottom"/>
              <a:pathLst>
                <a:path w="153" h="787">
                  <a:moveTo>
                    <a:pt x="0" y="0"/>
                  </a:moveTo>
                  <a:lnTo>
                    <a:pt x="0" y="93"/>
                  </a:lnTo>
                  <a:lnTo>
                    <a:pt x="1" y="191"/>
                  </a:lnTo>
                  <a:lnTo>
                    <a:pt x="1" y="289"/>
                  </a:lnTo>
                  <a:lnTo>
                    <a:pt x="2" y="390"/>
                  </a:lnTo>
                  <a:lnTo>
                    <a:pt x="2" y="490"/>
                  </a:lnTo>
                  <a:lnTo>
                    <a:pt x="2" y="589"/>
                  </a:lnTo>
                  <a:lnTo>
                    <a:pt x="2" y="686"/>
                  </a:lnTo>
                  <a:lnTo>
                    <a:pt x="5" y="781"/>
                  </a:lnTo>
                  <a:lnTo>
                    <a:pt x="22" y="786"/>
                  </a:lnTo>
                  <a:lnTo>
                    <a:pt x="40" y="787"/>
                  </a:lnTo>
                  <a:lnTo>
                    <a:pt x="56" y="785"/>
                  </a:lnTo>
                  <a:lnTo>
                    <a:pt x="73" y="779"/>
                  </a:lnTo>
                  <a:lnTo>
                    <a:pt x="88" y="770"/>
                  </a:lnTo>
                  <a:lnTo>
                    <a:pt x="104" y="760"/>
                  </a:lnTo>
                  <a:lnTo>
                    <a:pt x="117" y="748"/>
                  </a:lnTo>
                  <a:lnTo>
                    <a:pt x="131" y="737"/>
                  </a:lnTo>
                  <a:lnTo>
                    <a:pt x="135" y="645"/>
                  </a:lnTo>
                  <a:lnTo>
                    <a:pt x="138" y="555"/>
                  </a:lnTo>
                  <a:lnTo>
                    <a:pt x="139" y="463"/>
                  </a:lnTo>
                  <a:lnTo>
                    <a:pt x="141" y="372"/>
                  </a:lnTo>
                  <a:lnTo>
                    <a:pt x="141" y="280"/>
                  </a:lnTo>
                  <a:lnTo>
                    <a:pt x="144" y="188"/>
                  </a:lnTo>
                  <a:lnTo>
                    <a:pt x="146" y="96"/>
                  </a:lnTo>
                  <a:lnTo>
                    <a:pt x="153" y="5"/>
                  </a:lnTo>
                  <a:lnTo>
                    <a:pt x="130" y="4"/>
                  </a:lnTo>
                  <a:lnTo>
                    <a:pt x="111" y="4"/>
                  </a:lnTo>
                  <a:lnTo>
                    <a:pt x="93" y="4"/>
                  </a:lnTo>
                  <a:lnTo>
                    <a:pt x="76" y="4"/>
                  </a:lnTo>
                  <a:lnTo>
                    <a:pt x="57" y="2"/>
                  </a:lnTo>
                  <a:lnTo>
                    <a:pt x="39" y="2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4"/>
            <p:cNvSpPr/>
            <p:nvPr/>
          </p:nvSpPr>
          <p:spPr>
            <a:xfrm>
              <a:off x="6217560" y="540720"/>
              <a:ext cx="293040" cy="112068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1120680"/>
                <a:gd name="textAreaBottom" fmla="*/ 1120680 h 1120680"/>
              </a:gdLst>
              <a:ahLst/>
              <a:rect l="textAreaLeft" t="textAreaTop" r="textAreaRight" b="textAreaBottom"/>
              <a:pathLst>
                <a:path w="125" h="775">
                  <a:moveTo>
                    <a:pt x="0" y="0"/>
                  </a:moveTo>
                  <a:lnTo>
                    <a:pt x="0" y="92"/>
                  </a:lnTo>
                  <a:lnTo>
                    <a:pt x="1" y="187"/>
                  </a:lnTo>
                  <a:lnTo>
                    <a:pt x="1" y="282"/>
                  </a:lnTo>
                  <a:lnTo>
                    <a:pt x="2" y="380"/>
                  </a:lnTo>
                  <a:lnTo>
                    <a:pt x="2" y="475"/>
                  </a:lnTo>
                  <a:lnTo>
                    <a:pt x="2" y="572"/>
                  </a:lnTo>
                  <a:lnTo>
                    <a:pt x="2" y="666"/>
                  </a:lnTo>
                  <a:lnTo>
                    <a:pt x="4" y="760"/>
                  </a:lnTo>
                  <a:lnTo>
                    <a:pt x="16" y="770"/>
                  </a:lnTo>
                  <a:lnTo>
                    <a:pt x="29" y="775"/>
                  </a:lnTo>
                  <a:lnTo>
                    <a:pt x="43" y="775"/>
                  </a:lnTo>
                  <a:lnTo>
                    <a:pt x="57" y="772"/>
                  </a:lnTo>
                  <a:lnTo>
                    <a:pt x="69" y="764"/>
                  </a:lnTo>
                  <a:lnTo>
                    <a:pt x="83" y="755"/>
                  </a:lnTo>
                  <a:lnTo>
                    <a:pt x="95" y="744"/>
                  </a:lnTo>
                  <a:lnTo>
                    <a:pt x="109" y="733"/>
                  </a:lnTo>
                  <a:lnTo>
                    <a:pt x="112" y="641"/>
                  </a:lnTo>
                  <a:lnTo>
                    <a:pt x="116" y="551"/>
                  </a:lnTo>
                  <a:lnTo>
                    <a:pt x="116" y="460"/>
                  </a:lnTo>
                  <a:lnTo>
                    <a:pt x="117" y="371"/>
                  </a:lnTo>
                  <a:lnTo>
                    <a:pt x="117" y="280"/>
                  </a:lnTo>
                  <a:lnTo>
                    <a:pt x="117" y="191"/>
                  </a:lnTo>
                  <a:lnTo>
                    <a:pt x="119" y="100"/>
                  </a:lnTo>
                  <a:lnTo>
                    <a:pt x="125" y="10"/>
                  </a:lnTo>
                  <a:lnTo>
                    <a:pt x="108" y="9"/>
                  </a:lnTo>
                  <a:lnTo>
                    <a:pt x="94" y="9"/>
                  </a:lnTo>
                  <a:lnTo>
                    <a:pt x="82" y="8"/>
                  </a:lnTo>
                  <a:lnTo>
                    <a:pt x="70" y="8"/>
                  </a:lnTo>
                  <a:lnTo>
                    <a:pt x="55" y="6"/>
                  </a:lnTo>
                  <a:lnTo>
                    <a:pt x="42" y="5"/>
                  </a:lnTo>
                  <a:lnTo>
                    <a:pt x="2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627"/>
          <p:cNvSpPr/>
          <p:nvPr/>
        </p:nvSpPr>
        <p:spPr>
          <a:xfrm>
            <a:off x="7380360" y="2852640"/>
            <a:ext cx="792000" cy="158436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28"/>
          <p:cNvSpPr/>
          <p:nvPr/>
        </p:nvSpPr>
        <p:spPr>
          <a:xfrm>
            <a:off x="7380360" y="2852640"/>
            <a:ext cx="792000" cy="1584360"/>
          </a:xfrm>
          <a:prstGeom prst="rtTriangl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629"/>
          <p:cNvSpPr/>
          <p:nvPr/>
        </p:nvSpPr>
        <p:spPr>
          <a:xfrm>
            <a:off x="4429080" y="1341360"/>
            <a:ext cx="1295280" cy="1295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635"/>
          <p:cNvGrpSpPr/>
          <p:nvPr/>
        </p:nvGrpSpPr>
        <p:grpSpPr>
          <a:xfrm>
            <a:off x="1802160" y="463320"/>
            <a:ext cx="1457280" cy="1354320"/>
            <a:chOff x="1802160" y="463320"/>
            <a:chExt cx="1457280" cy="1354320"/>
          </a:xfrm>
        </p:grpSpPr>
        <p:sp>
          <p:nvSpPr>
            <p:cNvPr id="87" name="Arc 630"/>
            <p:cNvSpPr/>
            <p:nvPr/>
          </p:nvSpPr>
          <p:spPr>
            <a:xfrm flipH="1" rot="21423000">
              <a:off x="1835280" y="504720"/>
              <a:ext cx="720360" cy="1295280"/>
            </a:xfrm>
            <a:custGeom>
              <a:avLst/>
              <a:gdLst>
                <a:gd name="textAreaLeft" fmla="*/ -360 w 720360"/>
                <a:gd name="textAreaRight" fmla="*/ 720360 w 720360"/>
                <a:gd name="textAreaTop" fmla="*/ 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fill="none" w="22052" h="43200">
                  <a:moveTo>
                    <a:pt x="451" y="0"/>
                  </a:moveTo>
                  <a:cubicBezTo>
                    <a:pt x="12381" y="0"/>
                    <a:pt x="22052" y="9670"/>
                    <a:pt x="22052" y="21600"/>
                  </a:cubicBezTo>
                  <a:cubicBezTo>
                    <a:pt x="22052" y="33529"/>
                    <a:pt x="12381" y="43200"/>
                    <a:pt x="452" y="43200"/>
                  </a:cubicBezTo>
                  <a:cubicBezTo>
                    <a:pt x="301" y="43200"/>
                    <a:pt x="150" y="43198"/>
                    <a:pt x="-1" y="43195"/>
                  </a:cubicBezTo>
                </a:path>
                <a:path stroke="0" w="22052" h="43200">
                  <a:moveTo>
                    <a:pt x="451" y="0"/>
                  </a:moveTo>
                  <a:cubicBezTo>
                    <a:pt x="12381" y="0"/>
                    <a:pt x="22052" y="9670"/>
                    <a:pt x="22052" y="21600"/>
                  </a:cubicBezTo>
                  <a:cubicBezTo>
                    <a:pt x="22052" y="33529"/>
                    <a:pt x="12381" y="43200"/>
                    <a:pt x="452" y="43200"/>
                  </a:cubicBezTo>
                  <a:cubicBezTo>
                    <a:pt x="301" y="43200"/>
                    <a:pt x="150" y="43198"/>
                    <a:pt x="-1" y="43195"/>
                  </a:cubicBezTo>
                  <a:lnTo>
                    <a:pt x="452" y="21600"/>
                  </a:lnTo>
                  <a:lnTo>
                    <a:pt x="451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rc 632"/>
            <p:cNvSpPr/>
            <p:nvPr/>
          </p:nvSpPr>
          <p:spPr>
            <a:xfrm flipH="1" rot="10672800">
              <a:off x="2514960" y="476280"/>
              <a:ext cx="720360" cy="1295280"/>
            </a:xfrm>
            <a:custGeom>
              <a:avLst/>
              <a:gdLst>
                <a:gd name="textAreaLeft" fmla="*/ -360 w 720360"/>
                <a:gd name="textAreaRight" fmla="*/ 720360 w 720360"/>
                <a:gd name="textAreaTop" fmla="*/ 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fill="none" w="22052" h="43200">
                  <a:moveTo>
                    <a:pt x="451" y="0"/>
                  </a:moveTo>
                  <a:cubicBezTo>
                    <a:pt x="12381" y="0"/>
                    <a:pt x="22052" y="9670"/>
                    <a:pt x="22052" y="21600"/>
                  </a:cubicBezTo>
                  <a:cubicBezTo>
                    <a:pt x="22052" y="33529"/>
                    <a:pt x="12381" y="43200"/>
                    <a:pt x="452" y="43200"/>
                  </a:cubicBezTo>
                  <a:cubicBezTo>
                    <a:pt x="301" y="43200"/>
                    <a:pt x="150" y="43198"/>
                    <a:pt x="-1" y="43195"/>
                  </a:cubicBezTo>
                </a:path>
                <a:path stroke="0" w="22052" h="43200">
                  <a:moveTo>
                    <a:pt x="451" y="0"/>
                  </a:moveTo>
                  <a:cubicBezTo>
                    <a:pt x="12381" y="0"/>
                    <a:pt x="22052" y="9670"/>
                    <a:pt x="22052" y="21600"/>
                  </a:cubicBezTo>
                  <a:cubicBezTo>
                    <a:pt x="22052" y="33529"/>
                    <a:pt x="12381" y="43200"/>
                    <a:pt x="452" y="43200"/>
                  </a:cubicBezTo>
                  <a:cubicBezTo>
                    <a:pt x="301" y="43200"/>
                    <a:pt x="150" y="43198"/>
                    <a:pt x="-1" y="43195"/>
                  </a:cubicBezTo>
                  <a:lnTo>
                    <a:pt x="452" y="21600"/>
                  </a:lnTo>
                  <a:lnTo>
                    <a:pt x="451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634"/>
            <p:cNvSpPr/>
            <p:nvPr/>
          </p:nvSpPr>
          <p:spPr>
            <a:xfrm>
              <a:off x="2496960" y="485640"/>
              <a:ext cx="7272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Oval 636"/>
          <p:cNvSpPr/>
          <p:nvPr/>
        </p:nvSpPr>
        <p:spPr>
          <a:xfrm>
            <a:off x="4427640" y="1341360"/>
            <a:ext cx="1295280" cy="12956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37"/>
          <p:cNvSpPr/>
          <p:nvPr/>
        </p:nvSpPr>
        <p:spPr>
          <a:xfrm>
            <a:off x="5291280" y="3645000"/>
            <a:ext cx="865080" cy="865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38"/>
          <p:cNvSpPr/>
          <p:nvPr/>
        </p:nvSpPr>
        <p:spPr>
          <a:xfrm>
            <a:off x="5292720" y="3645000"/>
            <a:ext cx="865080" cy="865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39"/>
          <p:cNvSpPr/>
          <p:nvPr/>
        </p:nvSpPr>
        <p:spPr>
          <a:xfrm>
            <a:off x="1908000" y="4292640"/>
            <a:ext cx="1366920" cy="1366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40"/>
          <p:cNvSpPr/>
          <p:nvPr/>
        </p:nvSpPr>
        <p:spPr>
          <a:xfrm>
            <a:off x="5651640" y="5013360"/>
            <a:ext cx="718920" cy="107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41"/>
          <p:cNvSpPr/>
          <p:nvPr/>
        </p:nvSpPr>
        <p:spPr>
          <a:xfrm rot="5400000">
            <a:off x="791280" y="2240640"/>
            <a:ext cx="718920" cy="1079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42"/>
          <p:cNvSpPr/>
          <p:nvPr/>
        </p:nvSpPr>
        <p:spPr>
          <a:xfrm>
            <a:off x="5651640" y="5013360"/>
            <a:ext cx="718920" cy="1079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43"/>
          <p:cNvSpPr/>
          <p:nvPr/>
        </p:nvSpPr>
        <p:spPr>
          <a:xfrm>
            <a:off x="324000" y="3357720"/>
            <a:ext cx="792000" cy="1584000"/>
          </a:xfrm>
          <a:prstGeom prst="triangle">
            <a:avLst>
              <a:gd name="adj" fmla="val 50000"/>
            </a:avLst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44"/>
          <p:cNvSpPr/>
          <p:nvPr/>
        </p:nvSpPr>
        <p:spPr>
          <a:xfrm>
            <a:off x="6877080" y="5300640"/>
            <a:ext cx="57456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45"/>
          <p:cNvSpPr/>
          <p:nvPr/>
        </p:nvSpPr>
        <p:spPr>
          <a:xfrm>
            <a:off x="2195640" y="2852640"/>
            <a:ext cx="936360" cy="9082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46"/>
          <p:cNvSpPr/>
          <p:nvPr/>
        </p:nvSpPr>
        <p:spPr>
          <a:xfrm>
            <a:off x="6877080" y="5300640"/>
            <a:ext cx="574560" cy="57636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-0.00416 L 0.74184 0.35278 E">
                                      <p:cBhvr>
                                        <p:cTn id="14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1412 L 0.27621 0.12755 E">
                                      <p:cBhvr>
                                        <p:cTn id="153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-0.01042 L 0.17344 -0.11551 E">
                                      <p:cBhvr>
                                        <p:cTn id="15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path" presetID="35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717 -0.11204 L 0.00799 4.44444E-006 E">
                                      <p:cBhvr>
                                        <p:cTn id="16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1412 L 0.30938 -0.19907 E">
                                      <p:cBhvr>
                                        <p:cTn id="169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30937 -0.19907 L -0.004 0.00741 E">
                                      <p:cBhvr>
                                        <p:cTn id="17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40741E-007 L 0.48837 -0.05255 E">
                                      <p:cBhvr>
                                        <p:cTn id="18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82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532 L 0.54341 -0.02107 E">
                                      <p:cBhvr>
                                        <p:cTn id="18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81 L 0.5316 0.40162 E">
                                      <p:cBhvr>
                                        <p:cTn id="190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9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5316 0.4044 L -0.00382 0.02107 E">
                                      <p:cBhvr>
                                        <p:cTn id="19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5185E-006 L 0.40555 -0.1787 E">
                                      <p:cBhvr>
                                        <p:cTn id="20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path" presetID="35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41892 -0.18287 L 0.00399 0.05232 E">
                                      <p:cBhvr>
                                        <p:cTn id="20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0741E-007 L 0.48039 -0.09444 E">
                                      <p:cBhvr>
                                        <p:cTn id="21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6296E-006 L 0.33473 -0.14143 E">
                                      <p:cBhvr>
                                        <p:cTn id="21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34271 -0.13102 L -0.00382 0.00556 E">
                                      <p:cBhvr>
                                        <p:cTn id="22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21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0642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J:\винни\152778_2266thumb500.jpg"/>
          <p:cNvPicPr/>
          <p:nvPr/>
        </p:nvPicPr>
        <p:blipFill>
          <a:blip r:embed="rId2"/>
          <a:srcRect l="24136" t="0" r="51871" b="68002"/>
          <a:stretch/>
        </p:blipFill>
        <p:spPr>
          <a:xfrm>
            <a:off x="857160" y="2143080"/>
            <a:ext cx="2610000" cy="25416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6357960" y="3340080"/>
            <a:ext cx="1357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Прямоугольник 7" descr=""/>
          <p:cNvPicPr/>
          <p:nvPr/>
        </p:nvPicPr>
        <p:blipFill>
          <a:blip r:embed="rId3"/>
          <a:stretch/>
        </p:blipFill>
        <p:spPr>
          <a:xfrm>
            <a:off x="4164120" y="212760"/>
            <a:ext cx="5675040" cy="6548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J:\винни\152778_2266thumb500.jpg"/>
          <p:cNvPicPr/>
          <p:nvPr/>
        </p:nvPicPr>
        <p:blipFill>
          <a:blip r:embed="rId4"/>
          <a:srcRect l="49747" t="0" r="29239" b="68002"/>
          <a:stretch/>
        </p:blipFill>
        <p:spPr>
          <a:xfrm>
            <a:off x="3286080" y="1714680"/>
            <a:ext cx="2441520" cy="271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J:\винни\152778_2266thumb500.jpg"/>
          <p:cNvPicPr/>
          <p:nvPr/>
        </p:nvPicPr>
        <p:blipFill>
          <a:blip r:embed="rId5"/>
          <a:srcRect l="75365" t="0" r="1648" b="68002"/>
          <a:stretch/>
        </p:blipFill>
        <p:spPr>
          <a:xfrm>
            <a:off x="5929200" y="2214720"/>
            <a:ext cx="25005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21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90092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1"/>
          <p:cNvSpPr/>
          <p:nvPr/>
        </p:nvSpPr>
        <p:spPr>
          <a:xfrm>
            <a:off x="0" y="9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0" y="9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Группа 34"/>
          <p:cNvGrpSpPr/>
          <p:nvPr/>
        </p:nvGrpSpPr>
        <p:grpSpPr>
          <a:xfrm>
            <a:off x="2656800" y="-428760"/>
            <a:ext cx="833040" cy="973440"/>
            <a:chOff x="2656800" y="-428760"/>
            <a:chExt cx="833040" cy="973440"/>
          </a:xfrm>
        </p:grpSpPr>
        <p:sp>
          <p:nvSpPr>
            <p:cNvPr id="111" name="Полилиния 87"/>
            <p:cNvSpPr/>
            <p:nvPr/>
          </p:nvSpPr>
          <p:spPr>
            <a:xfrm rot="17249400">
              <a:off x="2964960" y="-3240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олилиния 88"/>
            <p:cNvSpPr/>
            <p:nvPr/>
          </p:nvSpPr>
          <p:spPr>
            <a:xfrm rot="17249400">
              <a:off x="2659320" y="-248400"/>
              <a:ext cx="827280" cy="6127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Группа 52"/>
          <p:cNvGrpSpPr/>
          <p:nvPr/>
        </p:nvGrpSpPr>
        <p:grpSpPr>
          <a:xfrm>
            <a:off x="3585960" y="1214640"/>
            <a:ext cx="804600" cy="958680"/>
            <a:chOff x="3585960" y="1214640"/>
            <a:chExt cx="804600" cy="958680"/>
          </a:xfrm>
        </p:grpSpPr>
        <p:sp>
          <p:nvSpPr>
            <p:cNvPr id="114" name="Полилиния 90"/>
            <p:cNvSpPr/>
            <p:nvPr/>
          </p:nvSpPr>
          <p:spPr>
            <a:xfrm rot="4500000">
              <a:off x="4023720" y="1550880"/>
              <a:ext cx="55440" cy="1886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Полилиния 91"/>
            <p:cNvSpPr/>
            <p:nvPr/>
          </p:nvSpPr>
          <p:spPr>
            <a:xfrm rot="4500000">
              <a:off x="3573720" y="1388160"/>
              <a:ext cx="828720" cy="6109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Группа 55"/>
          <p:cNvGrpSpPr/>
          <p:nvPr/>
        </p:nvGrpSpPr>
        <p:grpSpPr>
          <a:xfrm>
            <a:off x="2157480" y="1642320"/>
            <a:ext cx="727200" cy="909000"/>
            <a:chOff x="2157480" y="1642320"/>
            <a:chExt cx="727200" cy="909000"/>
          </a:xfrm>
        </p:grpSpPr>
        <p:sp>
          <p:nvSpPr>
            <p:cNvPr id="117" name="Полилиния 93"/>
            <p:cNvSpPr/>
            <p:nvPr/>
          </p:nvSpPr>
          <p:spPr>
            <a:xfrm rot="5903400">
              <a:off x="2571120" y="198324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олилиния 94"/>
            <p:cNvSpPr/>
            <p:nvPr/>
          </p:nvSpPr>
          <p:spPr>
            <a:xfrm rot="5903400">
              <a:off x="2106720" y="1790280"/>
              <a:ext cx="828720" cy="6127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Группа 58"/>
          <p:cNvGrpSpPr/>
          <p:nvPr/>
        </p:nvGrpSpPr>
        <p:grpSpPr>
          <a:xfrm>
            <a:off x="4158360" y="2214360"/>
            <a:ext cx="1013400" cy="1022040"/>
            <a:chOff x="4158360" y="2214360"/>
            <a:chExt cx="1013400" cy="1022040"/>
          </a:xfrm>
        </p:grpSpPr>
        <p:sp>
          <p:nvSpPr>
            <p:cNvPr id="120" name="Полилиния 96"/>
            <p:cNvSpPr/>
            <p:nvPr/>
          </p:nvSpPr>
          <p:spPr>
            <a:xfrm rot="18806400">
              <a:off x="4562280" y="2598480"/>
              <a:ext cx="55440" cy="18900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олилиния 97"/>
            <p:cNvSpPr/>
            <p:nvPr/>
          </p:nvSpPr>
          <p:spPr>
            <a:xfrm rot="18806400">
              <a:off x="4250880" y="2419560"/>
              <a:ext cx="828360" cy="61128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Группа 61"/>
          <p:cNvGrpSpPr/>
          <p:nvPr/>
        </p:nvGrpSpPr>
        <p:grpSpPr>
          <a:xfrm>
            <a:off x="427320" y="2337480"/>
            <a:ext cx="1030680" cy="984960"/>
            <a:chOff x="427320" y="2337480"/>
            <a:chExt cx="1030680" cy="984960"/>
          </a:xfrm>
        </p:grpSpPr>
        <p:sp>
          <p:nvSpPr>
            <p:cNvPr id="123" name="Полилиния 99"/>
            <p:cNvSpPr/>
            <p:nvPr/>
          </p:nvSpPr>
          <p:spPr>
            <a:xfrm rot="8619600">
              <a:off x="981000" y="277812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Полилиния 100"/>
            <p:cNvSpPr/>
            <p:nvPr/>
          </p:nvSpPr>
          <p:spPr>
            <a:xfrm rot="8619600">
              <a:off x="528120" y="2523240"/>
              <a:ext cx="828720" cy="61308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Группа 64"/>
          <p:cNvGrpSpPr/>
          <p:nvPr/>
        </p:nvGrpSpPr>
        <p:grpSpPr>
          <a:xfrm>
            <a:off x="4278240" y="428400"/>
            <a:ext cx="828720" cy="610920"/>
            <a:chOff x="4278240" y="428400"/>
            <a:chExt cx="828720" cy="610920"/>
          </a:xfrm>
        </p:grpSpPr>
        <p:sp>
          <p:nvSpPr>
            <p:cNvPr id="126" name="Полилиния 102"/>
            <p:cNvSpPr/>
            <p:nvPr/>
          </p:nvSpPr>
          <p:spPr>
            <a:xfrm rot="10800000">
              <a:off x="4692600" y="714240"/>
              <a:ext cx="55440" cy="1886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Полилиния 103"/>
            <p:cNvSpPr/>
            <p:nvPr/>
          </p:nvSpPr>
          <p:spPr>
            <a:xfrm rot="10800000">
              <a:off x="4278240" y="428040"/>
              <a:ext cx="828720" cy="6109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Группа 73"/>
          <p:cNvGrpSpPr/>
          <p:nvPr/>
        </p:nvGrpSpPr>
        <p:grpSpPr>
          <a:xfrm>
            <a:off x="5992560" y="-360"/>
            <a:ext cx="1026000" cy="1010160"/>
            <a:chOff x="5992560" y="-360"/>
            <a:chExt cx="1026000" cy="1010160"/>
          </a:xfrm>
        </p:grpSpPr>
        <p:sp>
          <p:nvSpPr>
            <p:cNvPr id="129" name="Полилиния 105"/>
            <p:cNvSpPr/>
            <p:nvPr/>
          </p:nvSpPr>
          <p:spPr>
            <a:xfrm rot="13322400">
              <a:off x="6446520" y="48240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Полилиния 106"/>
            <p:cNvSpPr/>
            <p:nvPr/>
          </p:nvSpPr>
          <p:spPr>
            <a:xfrm rot="13322400">
              <a:off x="6091200" y="198360"/>
              <a:ext cx="828720" cy="6127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Прямоугольник 128" descr=""/>
          <p:cNvPicPr/>
          <p:nvPr/>
        </p:nvPicPr>
        <p:blipFill>
          <a:blip r:embed="rId1"/>
          <a:stretch/>
        </p:blipFill>
        <p:spPr>
          <a:xfrm>
            <a:off x="542880" y="957240"/>
            <a:ext cx="1152720" cy="136512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129" descr=""/>
          <p:cNvPicPr/>
          <p:nvPr/>
        </p:nvPicPr>
        <p:blipFill>
          <a:blip r:embed="rId2"/>
          <a:stretch/>
        </p:blipFill>
        <p:spPr>
          <a:xfrm>
            <a:off x="2114640" y="743040"/>
            <a:ext cx="1152360" cy="136692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130" descr=""/>
          <p:cNvPicPr/>
          <p:nvPr/>
        </p:nvPicPr>
        <p:blipFill>
          <a:blip r:embed="rId3"/>
          <a:stretch/>
        </p:blipFill>
        <p:spPr>
          <a:xfrm>
            <a:off x="5254560" y="530280"/>
            <a:ext cx="1158840" cy="1359000"/>
          </a:xfrm>
          <a:prstGeom prst="rect">
            <a:avLst/>
          </a:prstGeom>
          <a:ln w="0">
            <a:noFill/>
          </a:ln>
        </p:spPr>
      </p:pic>
      <p:grpSp>
        <p:nvGrpSpPr>
          <p:cNvPr id="134" name="Группа 61"/>
          <p:cNvGrpSpPr/>
          <p:nvPr/>
        </p:nvGrpSpPr>
        <p:grpSpPr>
          <a:xfrm>
            <a:off x="1784880" y="2214360"/>
            <a:ext cx="1030680" cy="984600"/>
            <a:chOff x="1784880" y="2214360"/>
            <a:chExt cx="1030680" cy="984600"/>
          </a:xfrm>
        </p:grpSpPr>
        <p:sp>
          <p:nvSpPr>
            <p:cNvPr id="135" name="Полилиния 132"/>
            <p:cNvSpPr/>
            <p:nvPr/>
          </p:nvSpPr>
          <p:spPr>
            <a:xfrm rot="8619600">
              <a:off x="2338560" y="265464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Полилиния 133"/>
            <p:cNvSpPr/>
            <p:nvPr/>
          </p:nvSpPr>
          <p:spPr>
            <a:xfrm rot="8619600">
              <a:off x="1885680" y="2400120"/>
              <a:ext cx="828720" cy="6127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Группа 58"/>
          <p:cNvGrpSpPr/>
          <p:nvPr/>
        </p:nvGrpSpPr>
        <p:grpSpPr>
          <a:xfrm>
            <a:off x="4143600" y="1000440"/>
            <a:ext cx="1013760" cy="1022040"/>
            <a:chOff x="4143600" y="1000440"/>
            <a:chExt cx="1013760" cy="1022040"/>
          </a:xfrm>
        </p:grpSpPr>
        <p:sp>
          <p:nvSpPr>
            <p:cNvPr id="138" name="Полилиния 135"/>
            <p:cNvSpPr/>
            <p:nvPr/>
          </p:nvSpPr>
          <p:spPr>
            <a:xfrm rot="18806400">
              <a:off x="4547880" y="1384200"/>
              <a:ext cx="55440" cy="18900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олилиния 136"/>
            <p:cNvSpPr/>
            <p:nvPr/>
          </p:nvSpPr>
          <p:spPr>
            <a:xfrm rot="18806400">
              <a:off x="4235760" y="1205640"/>
              <a:ext cx="828720" cy="61128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Группа 64"/>
          <p:cNvGrpSpPr/>
          <p:nvPr/>
        </p:nvGrpSpPr>
        <p:grpSpPr>
          <a:xfrm>
            <a:off x="4714920" y="285480"/>
            <a:ext cx="828720" cy="610920"/>
            <a:chOff x="4714920" y="285480"/>
            <a:chExt cx="828720" cy="610920"/>
          </a:xfrm>
        </p:grpSpPr>
        <p:sp>
          <p:nvSpPr>
            <p:cNvPr id="141" name="Полилиния 138"/>
            <p:cNvSpPr/>
            <p:nvPr/>
          </p:nvSpPr>
          <p:spPr>
            <a:xfrm rot="10800000">
              <a:off x="5129280" y="569880"/>
              <a:ext cx="55440" cy="1886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Полилиния 139"/>
            <p:cNvSpPr/>
            <p:nvPr/>
          </p:nvSpPr>
          <p:spPr>
            <a:xfrm rot="10800000">
              <a:off x="4714920" y="285120"/>
              <a:ext cx="828720" cy="6109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Группа 73"/>
          <p:cNvGrpSpPr/>
          <p:nvPr/>
        </p:nvGrpSpPr>
        <p:grpSpPr>
          <a:xfrm>
            <a:off x="6929280" y="-360"/>
            <a:ext cx="1026000" cy="1010160"/>
            <a:chOff x="6929280" y="-360"/>
            <a:chExt cx="1026000" cy="1010160"/>
          </a:xfrm>
        </p:grpSpPr>
        <p:sp>
          <p:nvSpPr>
            <p:cNvPr id="144" name="Полилиния 141"/>
            <p:cNvSpPr/>
            <p:nvPr/>
          </p:nvSpPr>
          <p:spPr>
            <a:xfrm rot="13322400">
              <a:off x="7383240" y="48240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Полилиния 142"/>
            <p:cNvSpPr/>
            <p:nvPr/>
          </p:nvSpPr>
          <p:spPr>
            <a:xfrm rot="13322400">
              <a:off x="7027920" y="198360"/>
              <a:ext cx="828720" cy="6127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Группа 73"/>
          <p:cNvGrpSpPr/>
          <p:nvPr/>
        </p:nvGrpSpPr>
        <p:grpSpPr>
          <a:xfrm>
            <a:off x="7500600" y="-360"/>
            <a:ext cx="1026000" cy="1010160"/>
            <a:chOff x="7500600" y="-360"/>
            <a:chExt cx="1026000" cy="1010160"/>
          </a:xfrm>
        </p:grpSpPr>
        <p:sp>
          <p:nvSpPr>
            <p:cNvPr id="147" name="Полилиния 144"/>
            <p:cNvSpPr/>
            <p:nvPr/>
          </p:nvSpPr>
          <p:spPr>
            <a:xfrm rot="13322400">
              <a:off x="7954560" y="48240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Полилиния 145"/>
            <p:cNvSpPr/>
            <p:nvPr/>
          </p:nvSpPr>
          <p:spPr>
            <a:xfrm rot="13322400">
              <a:off x="7599240" y="198360"/>
              <a:ext cx="828720" cy="6127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Группа 61"/>
          <p:cNvGrpSpPr/>
          <p:nvPr/>
        </p:nvGrpSpPr>
        <p:grpSpPr>
          <a:xfrm>
            <a:off x="1070280" y="999720"/>
            <a:ext cx="1030680" cy="984600"/>
            <a:chOff x="1070280" y="999720"/>
            <a:chExt cx="1030680" cy="984600"/>
          </a:xfrm>
        </p:grpSpPr>
        <p:sp>
          <p:nvSpPr>
            <p:cNvPr id="150" name="Полилиния 147"/>
            <p:cNvSpPr/>
            <p:nvPr/>
          </p:nvSpPr>
          <p:spPr>
            <a:xfrm rot="8619600">
              <a:off x="1623960" y="144000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Полилиния 148"/>
            <p:cNvSpPr/>
            <p:nvPr/>
          </p:nvSpPr>
          <p:spPr>
            <a:xfrm rot="8619600">
              <a:off x="1171080" y="1185480"/>
              <a:ext cx="828720" cy="6127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Группа 61"/>
          <p:cNvGrpSpPr/>
          <p:nvPr/>
        </p:nvGrpSpPr>
        <p:grpSpPr>
          <a:xfrm>
            <a:off x="360" y="571320"/>
            <a:ext cx="1029600" cy="984240"/>
            <a:chOff x="360" y="571320"/>
            <a:chExt cx="1029600" cy="984240"/>
          </a:xfrm>
        </p:grpSpPr>
        <p:sp>
          <p:nvSpPr>
            <p:cNvPr id="153" name="Полилиния 150"/>
            <p:cNvSpPr/>
            <p:nvPr/>
          </p:nvSpPr>
          <p:spPr>
            <a:xfrm rot="8619600">
              <a:off x="554040" y="101088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Полилиния 151"/>
            <p:cNvSpPr/>
            <p:nvPr/>
          </p:nvSpPr>
          <p:spPr>
            <a:xfrm rot="8619600">
              <a:off x="101160" y="756720"/>
              <a:ext cx="827280" cy="61308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Группа 34"/>
          <p:cNvGrpSpPr/>
          <p:nvPr/>
        </p:nvGrpSpPr>
        <p:grpSpPr>
          <a:xfrm>
            <a:off x="428040" y="-360"/>
            <a:ext cx="833040" cy="973080"/>
            <a:chOff x="428040" y="-360"/>
            <a:chExt cx="833040" cy="973080"/>
          </a:xfrm>
        </p:grpSpPr>
        <p:sp>
          <p:nvSpPr>
            <p:cNvPr id="156" name="Полилиния 153"/>
            <p:cNvSpPr/>
            <p:nvPr/>
          </p:nvSpPr>
          <p:spPr>
            <a:xfrm rot="17249400">
              <a:off x="735840" y="39564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Полилиния 154"/>
            <p:cNvSpPr/>
            <p:nvPr/>
          </p:nvSpPr>
          <p:spPr>
            <a:xfrm rot="17249400">
              <a:off x="430920" y="179640"/>
              <a:ext cx="826920" cy="6127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Группа 52"/>
          <p:cNvGrpSpPr/>
          <p:nvPr/>
        </p:nvGrpSpPr>
        <p:grpSpPr>
          <a:xfrm>
            <a:off x="1357200" y="1643040"/>
            <a:ext cx="804960" cy="958680"/>
            <a:chOff x="1357200" y="1643040"/>
            <a:chExt cx="804960" cy="958680"/>
          </a:xfrm>
        </p:grpSpPr>
        <p:sp>
          <p:nvSpPr>
            <p:cNvPr id="159" name="Полилиния 156"/>
            <p:cNvSpPr/>
            <p:nvPr/>
          </p:nvSpPr>
          <p:spPr>
            <a:xfrm rot="4500000">
              <a:off x="1795320" y="1978920"/>
              <a:ext cx="55440" cy="18900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олилиния 157"/>
            <p:cNvSpPr/>
            <p:nvPr/>
          </p:nvSpPr>
          <p:spPr>
            <a:xfrm rot="4500000">
              <a:off x="1344960" y="1816560"/>
              <a:ext cx="828720" cy="61128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Группа 58"/>
          <p:cNvGrpSpPr/>
          <p:nvPr/>
        </p:nvGrpSpPr>
        <p:grpSpPr>
          <a:xfrm>
            <a:off x="1929240" y="2643480"/>
            <a:ext cx="1013760" cy="1022040"/>
            <a:chOff x="1929240" y="2643480"/>
            <a:chExt cx="1013760" cy="1022040"/>
          </a:xfrm>
        </p:grpSpPr>
        <p:sp>
          <p:nvSpPr>
            <p:cNvPr id="162" name="Полилиния 159"/>
            <p:cNvSpPr/>
            <p:nvPr/>
          </p:nvSpPr>
          <p:spPr>
            <a:xfrm rot="18806400">
              <a:off x="2333520" y="3027240"/>
              <a:ext cx="55440" cy="18900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олилиния 160"/>
            <p:cNvSpPr/>
            <p:nvPr/>
          </p:nvSpPr>
          <p:spPr>
            <a:xfrm rot="18806400">
              <a:off x="2021400" y="2848680"/>
              <a:ext cx="828720" cy="61128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Группа 64"/>
          <p:cNvGrpSpPr/>
          <p:nvPr/>
        </p:nvGrpSpPr>
        <p:grpSpPr>
          <a:xfrm>
            <a:off x="2049480" y="857160"/>
            <a:ext cx="828720" cy="612720"/>
            <a:chOff x="2049480" y="857160"/>
            <a:chExt cx="828720" cy="612720"/>
          </a:xfrm>
        </p:grpSpPr>
        <p:sp>
          <p:nvSpPr>
            <p:cNvPr id="165" name="Полилиния 162"/>
            <p:cNvSpPr/>
            <p:nvPr/>
          </p:nvSpPr>
          <p:spPr>
            <a:xfrm rot="10800000">
              <a:off x="2463840" y="114300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Полилиния 163"/>
            <p:cNvSpPr/>
            <p:nvPr/>
          </p:nvSpPr>
          <p:spPr>
            <a:xfrm rot="10800000">
              <a:off x="2049480" y="857160"/>
              <a:ext cx="828720" cy="6127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Группа 58"/>
          <p:cNvGrpSpPr/>
          <p:nvPr/>
        </p:nvGrpSpPr>
        <p:grpSpPr>
          <a:xfrm>
            <a:off x="1913760" y="1428840"/>
            <a:ext cx="1014840" cy="1022760"/>
            <a:chOff x="1913760" y="1428840"/>
            <a:chExt cx="1014840" cy="1022760"/>
          </a:xfrm>
        </p:grpSpPr>
        <p:sp>
          <p:nvSpPr>
            <p:cNvPr id="168" name="Полилиния 165"/>
            <p:cNvSpPr/>
            <p:nvPr/>
          </p:nvSpPr>
          <p:spPr>
            <a:xfrm rot="18806400">
              <a:off x="2318400" y="181224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Полилиния 166"/>
            <p:cNvSpPr/>
            <p:nvPr/>
          </p:nvSpPr>
          <p:spPr>
            <a:xfrm rot="18806400">
              <a:off x="2006640" y="1633680"/>
              <a:ext cx="828720" cy="6127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Группа 64"/>
          <p:cNvGrpSpPr/>
          <p:nvPr/>
        </p:nvGrpSpPr>
        <p:grpSpPr>
          <a:xfrm>
            <a:off x="2486160" y="713880"/>
            <a:ext cx="828720" cy="613080"/>
            <a:chOff x="2486160" y="713880"/>
            <a:chExt cx="828720" cy="613080"/>
          </a:xfrm>
        </p:grpSpPr>
        <p:sp>
          <p:nvSpPr>
            <p:cNvPr id="171" name="Полилиния 168"/>
            <p:cNvSpPr/>
            <p:nvPr/>
          </p:nvSpPr>
          <p:spPr>
            <a:xfrm rot="10800000">
              <a:off x="2900520" y="100008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Полилиния 169"/>
            <p:cNvSpPr/>
            <p:nvPr/>
          </p:nvSpPr>
          <p:spPr>
            <a:xfrm rot="10800000">
              <a:off x="2486160" y="713520"/>
              <a:ext cx="828720" cy="61308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Группа 34"/>
          <p:cNvGrpSpPr/>
          <p:nvPr/>
        </p:nvGrpSpPr>
        <p:grpSpPr>
          <a:xfrm>
            <a:off x="5714280" y="571320"/>
            <a:ext cx="833040" cy="973440"/>
            <a:chOff x="5714280" y="571320"/>
            <a:chExt cx="833040" cy="973440"/>
          </a:xfrm>
        </p:grpSpPr>
        <p:sp>
          <p:nvSpPr>
            <p:cNvPr id="174" name="Полилиния 171"/>
            <p:cNvSpPr/>
            <p:nvPr/>
          </p:nvSpPr>
          <p:spPr>
            <a:xfrm rot="17249400">
              <a:off x="6022080" y="96732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Полилиния 172"/>
            <p:cNvSpPr/>
            <p:nvPr/>
          </p:nvSpPr>
          <p:spPr>
            <a:xfrm rot="17249400">
              <a:off x="5716800" y="751320"/>
              <a:ext cx="827280" cy="6127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Группа 52"/>
          <p:cNvGrpSpPr/>
          <p:nvPr/>
        </p:nvGrpSpPr>
        <p:grpSpPr>
          <a:xfrm>
            <a:off x="6643440" y="2214720"/>
            <a:ext cx="804600" cy="958680"/>
            <a:chOff x="6643440" y="2214720"/>
            <a:chExt cx="804600" cy="958680"/>
          </a:xfrm>
        </p:grpSpPr>
        <p:sp>
          <p:nvSpPr>
            <p:cNvPr id="177" name="Полилиния 174"/>
            <p:cNvSpPr/>
            <p:nvPr/>
          </p:nvSpPr>
          <p:spPr>
            <a:xfrm rot="4500000">
              <a:off x="7081200" y="2550960"/>
              <a:ext cx="55440" cy="1886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Полилиния 175"/>
            <p:cNvSpPr/>
            <p:nvPr/>
          </p:nvSpPr>
          <p:spPr>
            <a:xfrm rot="4500000">
              <a:off x="6631200" y="2388240"/>
              <a:ext cx="828720" cy="6109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Группа 58"/>
          <p:cNvGrpSpPr/>
          <p:nvPr/>
        </p:nvGrpSpPr>
        <p:grpSpPr>
          <a:xfrm>
            <a:off x="7215480" y="3215160"/>
            <a:ext cx="1013760" cy="1022040"/>
            <a:chOff x="7215480" y="3215160"/>
            <a:chExt cx="1013760" cy="1022040"/>
          </a:xfrm>
        </p:grpSpPr>
        <p:sp>
          <p:nvSpPr>
            <p:cNvPr id="180" name="Полилиния 177"/>
            <p:cNvSpPr/>
            <p:nvPr/>
          </p:nvSpPr>
          <p:spPr>
            <a:xfrm rot="18806400">
              <a:off x="7619760" y="3598920"/>
              <a:ext cx="55440" cy="18900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Полилиния 178"/>
            <p:cNvSpPr/>
            <p:nvPr/>
          </p:nvSpPr>
          <p:spPr>
            <a:xfrm rot="18806400">
              <a:off x="7307640" y="3420360"/>
              <a:ext cx="828720" cy="61128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Группа 64"/>
          <p:cNvGrpSpPr/>
          <p:nvPr/>
        </p:nvGrpSpPr>
        <p:grpSpPr>
          <a:xfrm>
            <a:off x="7335720" y="1428840"/>
            <a:ext cx="828720" cy="612720"/>
            <a:chOff x="7335720" y="1428840"/>
            <a:chExt cx="828720" cy="612720"/>
          </a:xfrm>
        </p:grpSpPr>
        <p:sp>
          <p:nvSpPr>
            <p:cNvPr id="183" name="Полилиния 180"/>
            <p:cNvSpPr/>
            <p:nvPr/>
          </p:nvSpPr>
          <p:spPr>
            <a:xfrm rot="10800000">
              <a:off x="7750080" y="171324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олилиния 181"/>
            <p:cNvSpPr/>
            <p:nvPr/>
          </p:nvSpPr>
          <p:spPr>
            <a:xfrm rot="10800000">
              <a:off x="7335720" y="1428840"/>
              <a:ext cx="828720" cy="6127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Группа 58"/>
          <p:cNvGrpSpPr/>
          <p:nvPr/>
        </p:nvGrpSpPr>
        <p:grpSpPr>
          <a:xfrm>
            <a:off x="7201440" y="2000880"/>
            <a:ext cx="1013400" cy="1021680"/>
            <a:chOff x="7201440" y="2000880"/>
            <a:chExt cx="1013400" cy="1021680"/>
          </a:xfrm>
        </p:grpSpPr>
        <p:sp>
          <p:nvSpPr>
            <p:cNvPr id="186" name="Полилиния 183"/>
            <p:cNvSpPr/>
            <p:nvPr/>
          </p:nvSpPr>
          <p:spPr>
            <a:xfrm rot="18806400">
              <a:off x="7605360" y="2384280"/>
              <a:ext cx="55440" cy="1886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олилиния 184"/>
            <p:cNvSpPr/>
            <p:nvPr/>
          </p:nvSpPr>
          <p:spPr>
            <a:xfrm rot="18806400">
              <a:off x="7293600" y="2206080"/>
              <a:ext cx="828720" cy="6109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Группа 64"/>
          <p:cNvGrpSpPr/>
          <p:nvPr/>
        </p:nvGrpSpPr>
        <p:grpSpPr>
          <a:xfrm>
            <a:off x="7772400" y="1285920"/>
            <a:ext cx="828720" cy="612720"/>
            <a:chOff x="7772400" y="1285920"/>
            <a:chExt cx="828720" cy="612720"/>
          </a:xfrm>
        </p:grpSpPr>
        <p:sp>
          <p:nvSpPr>
            <p:cNvPr id="189" name="Полилиния 186"/>
            <p:cNvSpPr/>
            <p:nvPr/>
          </p:nvSpPr>
          <p:spPr>
            <a:xfrm rot="10800000">
              <a:off x="8186760" y="157176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Полилиния 187"/>
            <p:cNvSpPr/>
            <p:nvPr/>
          </p:nvSpPr>
          <p:spPr>
            <a:xfrm rot="10800000">
              <a:off x="7772400" y="1285920"/>
              <a:ext cx="828720" cy="6127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Группа 34"/>
          <p:cNvGrpSpPr/>
          <p:nvPr/>
        </p:nvGrpSpPr>
        <p:grpSpPr>
          <a:xfrm>
            <a:off x="3142800" y="1928520"/>
            <a:ext cx="833040" cy="973080"/>
            <a:chOff x="3142800" y="1928520"/>
            <a:chExt cx="833040" cy="973080"/>
          </a:xfrm>
        </p:grpSpPr>
        <p:sp>
          <p:nvSpPr>
            <p:cNvPr id="192" name="Полилиния 189"/>
            <p:cNvSpPr/>
            <p:nvPr/>
          </p:nvSpPr>
          <p:spPr>
            <a:xfrm rot="17249400">
              <a:off x="3450600" y="232452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Полилиния 190"/>
            <p:cNvSpPr/>
            <p:nvPr/>
          </p:nvSpPr>
          <p:spPr>
            <a:xfrm rot="17249400">
              <a:off x="3145680" y="2108520"/>
              <a:ext cx="826920" cy="6127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52"/>
          <p:cNvGrpSpPr/>
          <p:nvPr/>
        </p:nvGrpSpPr>
        <p:grpSpPr>
          <a:xfrm>
            <a:off x="4071960" y="3571920"/>
            <a:ext cx="804960" cy="958680"/>
            <a:chOff x="4071960" y="3571920"/>
            <a:chExt cx="804960" cy="958680"/>
          </a:xfrm>
        </p:grpSpPr>
        <p:sp>
          <p:nvSpPr>
            <p:cNvPr id="195" name="Полилиния 192"/>
            <p:cNvSpPr/>
            <p:nvPr/>
          </p:nvSpPr>
          <p:spPr>
            <a:xfrm rot="4500000">
              <a:off x="4510080" y="3907800"/>
              <a:ext cx="55440" cy="18900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Полилиния 193"/>
            <p:cNvSpPr/>
            <p:nvPr/>
          </p:nvSpPr>
          <p:spPr>
            <a:xfrm rot="4500000">
              <a:off x="4059720" y="3745440"/>
              <a:ext cx="828720" cy="61128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Группа 58"/>
          <p:cNvGrpSpPr/>
          <p:nvPr/>
        </p:nvGrpSpPr>
        <p:grpSpPr>
          <a:xfrm>
            <a:off x="4643640" y="4572360"/>
            <a:ext cx="1013760" cy="1022040"/>
            <a:chOff x="4643640" y="4572360"/>
            <a:chExt cx="1013760" cy="1022040"/>
          </a:xfrm>
        </p:grpSpPr>
        <p:sp>
          <p:nvSpPr>
            <p:cNvPr id="198" name="Полилиния 195"/>
            <p:cNvSpPr/>
            <p:nvPr/>
          </p:nvSpPr>
          <p:spPr>
            <a:xfrm rot="18806400">
              <a:off x="5047920" y="4956120"/>
              <a:ext cx="55440" cy="18900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Полилиния 196"/>
            <p:cNvSpPr/>
            <p:nvPr/>
          </p:nvSpPr>
          <p:spPr>
            <a:xfrm rot="18806400">
              <a:off x="4735800" y="4777560"/>
              <a:ext cx="828720" cy="61128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Группа 64"/>
          <p:cNvGrpSpPr/>
          <p:nvPr/>
        </p:nvGrpSpPr>
        <p:grpSpPr>
          <a:xfrm>
            <a:off x="4763880" y="2786040"/>
            <a:ext cx="828360" cy="612720"/>
            <a:chOff x="4763880" y="2786040"/>
            <a:chExt cx="828360" cy="612720"/>
          </a:xfrm>
        </p:grpSpPr>
        <p:sp>
          <p:nvSpPr>
            <p:cNvPr id="201" name="Полилиния 198"/>
            <p:cNvSpPr/>
            <p:nvPr/>
          </p:nvSpPr>
          <p:spPr>
            <a:xfrm rot="10800000">
              <a:off x="5176440" y="307188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олилиния 199"/>
            <p:cNvSpPr/>
            <p:nvPr/>
          </p:nvSpPr>
          <p:spPr>
            <a:xfrm rot="10800000">
              <a:off x="4763880" y="2786040"/>
              <a:ext cx="828360" cy="6127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Группа 58"/>
          <p:cNvGrpSpPr/>
          <p:nvPr/>
        </p:nvGrpSpPr>
        <p:grpSpPr>
          <a:xfrm>
            <a:off x="4628160" y="3357000"/>
            <a:ext cx="1014840" cy="1023120"/>
            <a:chOff x="4628160" y="3357000"/>
            <a:chExt cx="1014840" cy="1023120"/>
          </a:xfrm>
        </p:grpSpPr>
        <p:sp>
          <p:nvSpPr>
            <p:cNvPr id="204" name="Полилиния 201"/>
            <p:cNvSpPr/>
            <p:nvPr/>
          </p:nvSpPr>
          <p:spPr>
            <a:xfrm rot="18806400">
              <a:off x="5032800" y="374076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олилиния 202"/>
            <p:cNvSpPr/>
            <p:nvPr/>
          </p:nvSpPr>
          <p:spPr>
            <a:xfrm rot="18806400">
              <a:off x="4721040" y="3561840"/>
              <a:ext cx="828360" cy="61308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Группа 64"/>
          <p:cNvGrpSpPr/>
          <p:nvPr/>
        </p:nvGrpSpPr>
        <p:grpSpPr>
          <a:xfrm>
            <a:off x="5200560" y="2643120"/>
            <a:ext cx="828720" cy="612720"/>
            <a:chOff x="5200560" y="2643120"/>
            <a:chExt cx="828720" cy="612720"/>
          </a:xfrm>
        </p:grpSpPr>
        <p:sp>
          <p:nvSpPr>
            <p:cNvPr id="207" name="Полилиния 204"/>
            <p:cNvSpPr/>
            <p:nvPr/>
          </p:nvSpPr>
          <p:spPr>
            <a:xfrm rot="10800000">
              <a:off x="5614920" y="292896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Полилиния 205"/>
            <p:cNvSpPr/>
            <p:nvPr/>
          </p:nvSpPr>
          <p:spPr>
            <a:xfrm rot="10800000">
              <a:off x="5200560" y="2643120"/>
              <a:ext cx="828720" cy="6127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Группа 34"/>
          <p:cNvGrpSpPr/>
          <p:nvPr/>
        </p:nvGrpSpPr>
        <p:grpSpPr>
          <a:xfrm>
            <a:off x="570960" y="2785680"/>
            <a:ext cx="833040" cy="973080"/>
            <a:chOff x="570960" y="2785680"/>
            <a:chExt cx="833040" cy="973080"/>
          </a:xfrm>
        </p:grpSpPr>
        <p:sp>
          <p:nvSpPr>
            <p:cNvPr id="210" name="Полилиния 207"/>
            <p:cNvSpPr/>
            <p:nvPr/>
          </p:nvSpPr>
          <p:spPr>
            <a:xfrm rot="17249400">
              <a:off x="878760" y="318168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Полилиния 208"/>
            <p:cNvSpPr/>
            <p:nvPr/>
          </p:nvSpPr>
          <p:spPr>
            <a:xfrm rot="17249400">
              <a:off x="573840" y="2965680"/>
              <a:ext cx="826920" cy="6127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Группа 52"/>
          <p:cNvGrpSpPr/>
          <p:nvPr/>
        </p:nvGrpSpPr>
        <p:grpSpPr>
          <a:xfrm>
            <a:off x="1500120" y="4429080"/>
            <a:ext cx="804960" cy="958680"/>
            <a:chOff x="1500120" y="4429080"/>
            <a:chExt cx="804960" cy="958680"/>
          </a:xfrm>
        </p:grpSpPr>
        <p:sp>
          <p:nvSpPr>
            <p:cNvPr id="213" name="Полилиния 210"/>
            <p:cNvSpPr/>
            <p:nvPr/>
          </p:nvSpPr>
          <p:spPr>
            <a:xfrm rot="4500000">
              <a:off x="1938240" y="4764960"/>
              <a:ext cx="55440" cy="18900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Полилиния 211"/>
            <p:cNvSpPr/>
            <p:nvPr/>
          </p:nvSpPr>
          <p:spPr>
            <a:xfrm rot="4500000">
              <a:off x="1487880" y="4602600"/>
              <a:ext cx="828720" cy="61128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Группа 58"/>
          <p:cNvGrpSpPr/>
          <p:nvPr/>
        </p:nvGrpSpPr>
        <p:grpSpPr>
          <a:xfrm>
            <a:off x="2072160" y="5429880"/>
            <a:ext cx="1013400" cy="1021680"/>
            <a:chOff x="2072160" y="5429880"/>
            <a:chExt cx="1013400" cy="1021680"/>
          </a:xfrm>
        </p:grpSpPr>
        <p:sp>
          <p:nvSpPr>
            <p:cNvPr id="216" name="Полилиния 213"/>
            <p:cNvSpPr/>
            <p:nvPr/>
          </p:nvSpPr>
          <p:spPr>
            <a:xfrm rot="18806400">
              <a:off x="2476080" y="5813280"/>
              <a:ext cx="55440" cy="1886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Полилиния 214"/>
            <p:cNvSpPr/>
            <p:nvPr/>
          </p:nvSpPr>
          <p:spPr>
            <a:xfrm rot="18806400">
              <a:off x="2164320" y="5635080"/>
              <a:ext cx="828720" cy="6109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Группа 64"/>
          <p:cNvGrpSpPr/>
          <p:nvPr/>
        </p:nvGrpSpPr>
        <p:grpSpPr>
          <a:xfrm>
            <a:off x="2192400" y="3643200"/>
            <a:ext cx="828720" cy="612720"/>
            <a:chOff x="2192400" y="3643200"/>
            <a:chExt cx="828720" cy="612720"/>
          </a:xfrm>
        </p:grpSpPr>
        <p:sp>
          <p:nvSpPr>
            <p:cNvPr id="219" name="Полилиния 216"/>
            <p:cNvSpPr/>
            <p:nvPr/>
          </p:nvSpPr>
          <p:spPr>
            <a:xfrm rot="10800000">
              <a:off x="2605320" y="392904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Полилиния 217"/>
            <p:cNvSpPr/>
            <p:nvPr/>
          </p:nvSpPr>
          <p:spPr>
            <a:xfrm rot="10800000">
              <a:off x="2192400" y="3643200"/>
              <a:ext cx="828720" cy="6127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Группа 58"/>
          <p:cNvGrpSpPr/>
          <p:nvPr/>
        </p:nvGrpSpPr>
        <p:grpSpPr>
          <a:xfrm>
            <a:off x="2056680" y="4214880"/>
            <a:ext cx="1014840" cy="1022760"/>
            <a:chOff x="2056680" y="4214880"/>
            <a:chExt cx="1014840" cy="1022760"/>
          </a:xfrm>
        </p:grpSpPr>
        <p:sp>
          <p:nvSpPr>
            <p:cNvPr id="222" name="Полилиния 219"/>
            <p:cNvSpPr/>
            <p:nvPr/>
          </p:nvSpPr>
          <p:spPr>
            <a:xfrm rot="18806400">
              <a:off x="2461320" y="459828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Полилиния 220"/>
            <p:cNvSpPr/>
            <p:nvPr/>
          </p:nvSpPr>
          <p:spPr>
            <a:xfrm rot="18806400">
              <a:off x="2149560" y="4419720"/>
              <a:ext cx="828720" cy="6127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Группа 64"/>
          <p:cNvGrpSpPr/>
          <p:nvPr/>
        </p:nvGrpSpPr>
        <p:grpSpPr>
          <a:xfrm>
            <a:off x="2628720" y="3499920"/>
            <a:ext cx="828360" cy="613080"/>
            <a:chOff x="2628720" y="3499920"/>
            <a:chExt cx="828360" cy="613080"/>
          </a:xfrm>
        </p:grpSpPr>
        <p:sp>
          <p:nvSpPr>
            <p:cNvPr id="225" name="Полилиния 222"/>
            <p:cNvSpPr/>
            <p:nvPr/>
          </p:nvSpPr>
          <p:spPr>
            <a:xfrm rot="10800000">
              <a:off x="3041280" y="378612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Полилиния 223"/>
            <p:cNvSpPr/>
            <p:nvPr/>
          </p:nvSpPr>
          <p:spPr>
            <a:xfrm rot="10800000">
              <a:off x="2628720" y="3499920"/>
              <a:ext cx="828360" cy="61308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Группа 34"/>
          <p:cNvGrpSpPr/>
          <p:nvPr/>
        </p:nvGrpSpPr>
        <p:grpSpPr>
          <a:xfrm>
            <a:off x="4785840" y="642600"/>
            <a:ext cx="833040" cy="973080"/>
            <a:chOff x="4785840" y="642600"/>
            <a:chExt cx="833040" cy="973080"/>
          </a:xfrm>
        </p:grpSpPr>
        <p:sp>
          <p:nvSpPr>
            <p:cNvPr id="228" name="Полилиния 225"/>
            <p:cNvSpPr/>
            <p:nvPr/>
          </p:nvSpPr>
          <p:spPr>
            <a:xfrm rot="17249400">
              <a:off x="5093640" y="103860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Полилиния 226"/>
            <p:cNvSpPr/>
            <p:nvPr/>
          </p:nvSpPr>
          <p:spPr>
            <a:xfrm rot="17249400">
              <a:off x="4788720" y="822600"/>
              <a:ext cx="826920" cy="6127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Группа 52"/>
          <p:cNvGrpSpPr/>
          <p:nvPr/>
        </p:nvGrpSpPr>
        <p:grpSpPr>
          <a:xfrm>
            <a:off x="5715000" y="2286000"/>
            <a:ext cx="804960" cy="958680"/>
            <a:chOff x="5715000" y="2286000"/>
            <a:chExt cx="804960" cy="958680"/>
          </a:xfrm>
        </p:grpSpPr>
        <p:sp>
          <p:nvSpPr>
            <p:cNvPr id="231" name="Полилиния 228"/>
            <p:cNvSpPr/>
            <p:nvPr/>
          </p:nvSpPr>
          <p:spPr>
            <a:xfrm rot="4500000">
              <a:off x="6153120" y="2621880"/>
              <a:ext cx="55440" cy="18900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Полилиния 229"/>
            <p:cNvSpPr/>
            <p:nvPr/>
          </p:nvSpPr>
          <p:spPr>
            <a:xfrm rot="4500000">
              <a:off x="5702760" y="2459520"/>
              <a:ext cx="828720" cy="61128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Группа 58"/>
          <p:cNvGrpSpPr/>
          <p:nvPr/>
        </p:nvGrpSpPr>
        <p:grpSpPr>
          <a:xfrm>
            <a:off x="6287040" y="3286800"/>
            <a:ext cx="1013400" cy="1021680"/>
            <a:chOff x="6287040" y="3286800"/>
            <a:chExt cx="1013400" cy="1021680"/>
          </a:xfrm>
        </p:grpSpPr>
        <p:sp>
          <p:nvSpPr>
            <p:cNvPr id="234" name="Полилиния 231"/>
            <p:cNvSpPr/>
            <p:nvPr/>
          </p:nvSpPr>
          <p:spPr>
            <a:xfrm rot="18806400">
              <a:off x="6690960" y="3670200"/>
              <a:ext cx="55440" cy="1886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Полилиния 232"/>
            <p:cNvSpPr/>
            <p:nvPr/>
          </p:nvSpPr>
          <p:spPr>
            <a:xfrm rot="18806400">
              <a:off x="6379200" y="3492000"/>
              <a:ext cx="828720" cy="6109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Группа 64"/>
          <p:cNvGrpSpPr/>
          <p:nvPr/>
        </p:nvGrpSpPr>
        <p:grpSpPr>
          <a:xfrm>
            <a:off x="6407280" y="1500120"/>
            <a:ext cx="828720" cy="612720"/>
            <a:chOff x="6407280" y="1500120"/>
            <a:chExt cx="828720" cy="612720"/>
          </a:xfrm>
        </p:grpSpPr>
        <p:sp>
          <p:nvSpPr>
            <p:cNvPr id="237" name="Полилиния 234"/>
            <p:cNvSpPr/>
            <p:nvPr/>
          </p:nvSpPr>
          <p:spPr>
            <a:xfrm rot="10800000">
              <a:off x="6821640" y="178596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Полилиния 235"/>
            <p:cNvSpPr/>
            <p:nvPr/>
          </p:nvSpPr>
          <p:spPr>
            <a:xfrm rot="10800000">
              <a:off x="6407280" y="1500120"/>
              <a:ext cx="828720" cy="6127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Группа 58"/>
          <p:cNvGrpSpPr/>
          <p:nvPr/>
        </p:nvGrpSpPr>
        <p:grpSpPr>
          <a:xfrm>
            <a:off x="6272640" y="2072160"/>
            <a:ext cx="1013760" cy="1022040"/>
            <a:chOff x="6272640" y="2072160"/>
            <a:chExt cx="1013760" cy="1022040"/>
          </a:xfrm>
        </p:grpSpPr>
        <p:sp>
          <p:nvSpPr>
            <p:cNvPr id="240" name="Полилиния 237"/>
            <p:cNvSpPr/>
            <p:nvPr/>
          </p:nvSpPr>
          <p:spPr>
            <a:xfrm rot="18806400">
              <a:off x="6676920" y="2455920"/>
              <a:ext cx="55440" cy="18900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Полилиния 238"/>
            <p:cNvSpPr/>
            <p:nvPr/>
          </p:nvSpPr>
          <p:spPr>
            <a:xfrm rot="18806400">
              <a:off x="6364800" y="2277360"/>
              <a:ext cx="828720" cy="61128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Группа 64"/>
          <p:cNvGrpSpPr/>
          <p:nvPr/>
        </p:nvGrpSpPr>
        <p:grpSpPr>
          <a:xfrm>
            <a:off x="6843600" y="1357200"/>
            <a:ext cx="828720" cy="612720"/>
            <a:chOff x="6843600" y="1357200"/>
            <a:chExt cx="828720" cy="612720"/>
          </a:xfrm>
        </p:grpSpPr>
        <p:sp>
          <p:nvSpPr>
            <p:cNvPr id="243" name="Полилиния 240"/>
            <p:cNvSpPr/>
            <p:nvPr/>
          </p:nvSpPr>
          <p:spPr>
            <a:xfrm rot="10800000">
              <a:off x="7257960" y="1643040"/>
              <a:ext cx="55440" cy="190440"/>
            </a:xfrm>
            <a:custGeom>
              <a:avLst/>
              <a:gdLst/>
              <a:ahLst/>
              <a:rect l="l" t="t" r="r" b="b"/>
              <a:pathLst>
                <a:path w="243840" h="570156">
                  <a:moveTo>
                    <a:pt x="236668" y="570156"/>
                  </a:moveTo>
                  <a:cubicBezTo>
                    <a:pt x="240254" y="429410"/>
                    <a:pt x="243840" y="288664"/>
                    <a:pt x="204395" y="193638"/>
                  </a:cubicBezTo>
                  <a:cubicBezTo>
                    <a:pt x="164950" y="98612"/>
                    <a:pt x="82475" y="4930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Полилиния 241"/>
            <p:cNvSpPr/>
            <p:nvPr/>
          </p:nvSpPr>
          <p:spPr>
            <a:xfrm rot="10800000">
              <a:off x="6843600" y="1357200"/>
              <a:ext cx="828720" cy="612720"/>
            </a:xfrm>
            <a:custGeom>
              <a:avLst/>
              <a:gdLst/>
              <a:ahLst/>
              <a:rect l="l" t="t" r="r" b="b"/>
              <a:pathLst>
                <a:path w="3646314" h="1839371">
                  <a:moveTo>
                    <a:pt x="1823157" y="1089248"/>
                  </a:moveTo>
                  <a:cubicBezTo>
                    <a:pt x="1593970" y="0"/>
                    <a:pt x="3646314" y="660644"/>
                    <a:pt x="1823157" y="1839371"/>
                  </a:cubicBezTo>
                  <a:cubicBezTo>
                    <a:pt x="0" y="660644"/>
                    <a:pt x="1941380" y="27733"/>
                    <a:pt x="1823157" y="1089248"/>
                  </a:cubicBezTo>
                  <a:close/>
                </a:path>
              </a:pathLst>
            </a:cu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48148E-006 L 0.05834 0.52824 E">
                                      <p:cBhvr>
                                        <p:cTn id="274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0.2599 1 E">
                                      <p:cBhvr>
                                        <p:cTn id="27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96296E-006 L 0.2165 0.65625 E">
                                      <p:cBhvr>
                                        <p:cTn id="27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0.15052 0.69398 E">
                                      <p:cBhvr>
                                        <p:cTn id="28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282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0.09566 0.84005 E">
                                      <p:cBhvr>
                                        <p:cTn id="28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28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0.17274 0.64051 E">
                                      <p:cBhvr>
                                        <p:cTn id="288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0.17274 0.64051 E">
                                      <p:cBhvr>
                                        <p:cTn id="29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0.17274 0.64051 E">
                                      <p:cBhvr>
                                        <p:cTn id="292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48148E-006 L 0.05834 0.52824 E">
                                      <p:cBhvr>
                                        <p:cTn id="294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29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29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0.09566 0.84005 E">
                                      <p:cBhvr>
                                        <p:cTn id="300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11111E-006 L -0.02205 0.83588 E">
                                      <p:cBhvr>
                                        <p:cTn id="30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9259E-006 L 0.05087 0.71297 E">
                                      <p:cBhvr>
                                        <p:cTn id="304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3889E-018 -2.59259E-006 L -0.00503 0.77547 E">
                                      <p:cBhvr>
                                        <p:cTn id="30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0.2599 1 E">
                                      <p:cBhvr>
                                        <p:cTn id="308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0.15052 0.69398 E">
                                      <p:cBhvr>
                                        <p:cTn id="310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312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31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316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31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0.2599 1 E">
                                      <p:cBhvr>
                                        <p:cTn id="320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0.15052 0.69398 E">
                                      <p:cBhvr>
                                        <p:cTn id="322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324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326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32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33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0.2599 1 E">
                                      <p:cBhvr>
                                        <p:cTn id="332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0.15052 0.69398 E">
                                      <p:cBhvr>
                                        <p:cTn id="33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33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338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340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342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0.2599 1 E">
                                      <p:cBhvr>
                                        <p:cTn id="34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0.15052 0.69398 E">
                                      <p:cBhvr>
                                        <p:cTn id="346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348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35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352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354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0.2599 1 E">
                                      <p:cBhvr>
                                        <p:cTn id="356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0.15052 0.69398 E">
                                      <p:cBhvr>
                                        <p:cTn id="358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360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36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364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366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E:\Картинки\Векторная графика\Ландшафты\106.wmf"/>
          <p:cNvPicPr/>
          <p:nvPr/>
        </p:nvPicPr>
        <p:blipFill>
          <a:blip r:embed="rId1"/>
          <a:stretch/>
        </p:blipFill>
        <p:spPr>
          <a:xfrm>
            <a:off x="0" y="1924200"/>
            <a:ext cx="3429000" cy="5290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E:\Картинки\Векторная графика\Ландшафты\106.wmf"/>
          <p:cNvPicPr/>
          <p:nvPr/>
        </p:nvPicPr>
        <p:blipFill>
          <a:blip r:embed="rId2"/>
          <a:stretch/>
        </p:blipFill>
        <p:spPr>
          <a:xfrm>
            <a:off x="2857680" y="1852560"/>
            <a:ext cx="3429000" cy="5291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E:\Картинки\Векторная графика\Ландшафты\106.wmf"/>
          <p:cNvPicPr/>
          <p:nvPr/>
        </p:nvPicPr>
        <p:blipFill>
          <a:blip r:embed="rId3"/>
          <a:stretch/>
        </p:blipFill>
        <p:spPr>
          <a:xfrm>
            <a:off x="5715000" y="1852560"/>
            <a:ext cx="3429000" cy="52912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127"/>
          <p:cNvPicPr/>
          <p:nvPr/>
        </p:nvPicPr>
        <p:blipFill>
          <a:blip r:embed="rId4"/>
          <a:stretch/>
        </p:blipFill>
        <p:spPr>
          <a:xfrm>
            <a:off x="2071800" y="5710320"/>
            <a:ext cx="1857240" cy="1143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127"/>
          <p:cNvPicPr/>
          <p:nvPr/>
        </p:nvPicPr>
        <p:blipFill>
          <a:blip r:embed="rId5"/>
          <a:stretch/>
        </p:blipFill>
        <p:spPr>
          <a:xfrm>
            <a:off x="4857840" y="5781600"/>
            <a:ext cx="1857240" cy="1143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127"/>
          <p:cNvPicPr/>
          <p:nvPr/>
        </p:nvPicPr>
        <p:blipFill>
          <a:blip r:embed="rId6"/>
          <a:stretch/>
        </p:blipFill>
        <p:spPr>
          <a:xfrm>
            <a:off x="7858080" y="5781600"/>
            <a:ext cx="1857600" cy="1143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127"/>
          <p:cNvPicPr/>
          <p:nvPr/>
        </p:nvPicPr>
        <p:blipFill>
          <a:blip r:embed="rId7"/>
          <a:stretch/>
        </p:blipFill>
        <p:spPr>
          <a:xfrm>
            <a:off x="-214200" y="5710320"/>
            <a:ext cx="1857240" cy="11430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1"/>
          <p:cNvSpPr/>
          <p:nvPr/>
        </p:nvSpPr>
        <p:spPr>
          <a:xfrm>
            <a:off x="0" y="9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0" y="9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2" descr=""/>
          <p:cNvPicPr/>
          <p:nvPr/>
        </p:nvPicPr>
        <p:blipFill>
          <a:blip r:embed="rId8"/>
          <a:stretch/>
        </p:blipFill>
        <p:spPr>
          <a:xfrm>
            <a:off x="3286080" y="5595840"/>
            <a:ext cx="2212920" cy="1190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1"/>
          <p:cNvPicPr/>
          <p:nvPr/>
        </p:nvPicPr>
        <p:blipFill>
          <a:blip r:embed="rId9"/>
          <a:stretch/>
        </p:blipFill>
        <p:spPr>
          <a:xfrm>
            <a:off x="-1643040" y="500040"/>
            <a:ext cx="1628640" cy="1666800"/>
          </a:xfrm>
          <a:prstGeom prst="rect">
            <a:avLst/>
          </a:prstGeom>
          <a:ln w="0">
            <a:noFill/>
          </a:ln>
        </p:spPr>
      </p:pic>
      <p:grpSp>
        <p:nvGrpSpPr>
          <p:cNvPr id="256" name="Правильный пятиугольник 25"/>
          <p:cNvGrpSpPr/>
          <p:nvPr/>
        </p:nvGrpSpPr>
        <p:grpSpPr>
          <a:xfrm>
            <a:off x="1225440" y="4243320"/>
            <a:ext cx="835200" cy="766800"/>
            <a:chOff x="1225440" y="4243320"/>
            <a:chExt cx="835200" cy="766800"/>
          </a:xfrm>
        </p:grpSpPr>
        <p:pic>
          <p:nvPicPr>
            <p:cNvPr id="257" name="Правильный пятиугольник 25" descr=""/>
            <p:cNvPicPr/>
            <p:nvPr/>
          </p:nvPicPr>
          <p:blipFill>
            <a:blip r:embed="rId10"/>
            <a:stretch/>
          </p:blipFill>
          <p:spPr>
            <a:xfrm>
              <a:off x="1225440" y="4243320"/>
              <a:ext cx="8352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1422360" y="4438800"/>
              <a:ext cx="4413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Правильный пятиугольник 26"/>
          <p:cNvGrpSpPr/>
          <p:nvPr/>
        </p:nvGrpSpPr>
        <p:grpSpPr>
          <a:xfrm>
            <a:off x="4084560" y="4243320"/>
            <a:ext cx="835200" cy="766800"/>
            <a:chOff x="4084560" y="4243320"/>
            <a:chExt cx="835200" cy="766800"/>
          </a:xfrm>
        </p:grpSpPr>
        <p:pic>
          <p:nvPicPr>
            <p:cNvPr id="260" name="Правильный пятиугольник 26" descr=""/>
            <p:cNvPicPr/>
            <p:nvPr/>
          </p:nvPicPr>
          <p:blipFill>
            <a:blip r:embed="rId11"/>
            <a:stretch/>
          </p:blipFill>
          <p:spPr>
            <a:xfrm>
              <a:off x="4084560" y="4243320"/>
              <a:ext cx="8352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280040" y="4438800"/>
              <a:ext cx="4413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авильный пятиугольник 27"/>
          <p:cNvGrpSpPr/>
          <p:nvPr/>
        </p:nvGrpSpPr>
        <p:grpSpPr>
          <a:xfrm>
            <a:off x="6937200" y="4243320"/>
            <a:ext cx="841680" cy="766800"/>
            <a:chOff x="6937200" y="4243320"/>
            <a:chExt cx="841680" cy="766800"/>
          </a:xfrm>
        </p:grpSpPr>
        <p:pic>
          <p:nvPicPr>
            <p:cNvPr id="263" name="Правильный пятиугольник 27" descr=""/>
            <p:cNvPicPr/>
            <p:nvPr/>
          </p:nvPicPr>
          <p:blipFill>
            <a:blip r:embed="rId12"/>
            <a:stretch/>
          </p:blipFill>
          <p:spPr>
            <a:xfrm>
              <a:off x="6937200" y="4243320"/>
              <a:ext cx="84168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7137360" y="4438800"/>
              <a:ext cx="4413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5" name="Прямоугольник 18" descr=""/>
          <p:cNvPicPr/>
          <p:nvPr/>
        </p:nvPicPr>
        <p:blipFill>
          <a:blip r:embed="rId13"/>
          <a:stretch/>
        </p:blipFill>
        <p:spPr>
          <a:xfrm>
            <a:off x="981000" y="4022640"/>
            <a:ext cx="1305000" cy="1487520"/>
          </a:xfrm>
          <a:prstGeom prst="rect">
            <a:avLst/>
          </a:prstGeom>
          <a:ln w="0">
            <a:noFill/>
          </a:ln>
        </p:spPr>
      </p:pic>
      <p:pic>
        <p:nvPicPr>
          <p:cNvPr id="266" name="Прямоугольник 21" descr=""/>
          <p:cNvPicPr/>
          <p:nvPr/>
        </p:nvPicPr>
        <p:blipFill>
          <a:blip r:embed="rId14"/>
          <a:stretch/>
        </p:blipFill>
        <p:spPr>
          <a:xfrm>
            <a:off x="3840120" y="3998880"/>
            <a:ext cx="1305000" cy="148752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оугольник 22" descr=""/>
          <p:cNvPicPr/>
          <p:nvPr/>
        </p:nvPicPr>
        <p:blipFill>
          <a:blip r:embed="rId15"/>
          <a:stretch/>
        </p:blipFill>
        <p:spPr>
          <a:xfrm>
            <a:off x="6705720" y="4022640"/>
            <a:ext cx="1311120" cy="148752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23" descr=""/>
          <p:cNvPicPr/>
          <p:nvPr/>
        </p:nvPicPr>
        <p:blipFill>
          <a:blip r:embed="rId16"/>
          <a:stretch/>
        </p:blipFill>
        <p:spPr>
          <a:xfrm>
            <a:off x="1042920" y="4054320"/>
            <a:ext cx="1150920" cy="1365480"/>
          </a:xfrm>
          <a:prstGeom prst="rect">
            <a:avLst/>
          </a:prstGeom>
          <a:ln w="0">
            <a:noFill/>
          </a:ln>
        </p:spPr>
      </p:pic>
      <p:pic>
        <p:nvPicPr>
          <p:cNvPr id="269" name="Прямоугольник 24" descr=""/>
          <p:cNvPicPr/>
          <p:nvPr/>
        </p:nvPicPr>
        <p:blipFill>
          <a:blip r:embed="rId17"/>
          <a:stretch/>
        </p:blipFill>
        <p:spPr>
          <a:xfrm>
            <a:off x="3902040" y="4029120"/>
            <a:ext cx="1150920" cy="1365120"/>
          </a:xfrm>
          <a:prstGeom prst="rect">
            <a:avLst/>
          </a:prstGeom>
          <a:ln w="0">
            <a:noFill/>
          </a:ln>
        </p:spPr>
      </p:pic>
      <p:pic>
        <p:nvPicPr>
          <p:cNvPr id="270" name="Прямоугольник 28" descr=""/>
          <p:cNvPicPr/>
          <p:nvPr/>
        </p:nvPicPr>
        <p:blipFill>
          <a:blip r:embed="rId18"/>
          <a:stretch/>
        </p:blipFill>
        <p:spPr>
          <a:xfrm>
            <a:off x="6754680" y="4029120"/>
            <a:ext cx="11574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remove" presetClass="path" presetID="44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0.07454 L 0.31216 -0.03425 C 0.37778 -0.05856 0.4757 -0.07199 0.57761 -0.07199 C 0.69428 -0.07199 0.78733 -0.05856 0.85278 -0.03425 L 1.16546 0.07454 E">
                                      <p:cBhvr>
                                        <p:cTn id="372" dur="30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Прямоугольник 21" descr=""/>
          <p:cNvPicPr/>
          <p:nvPr/>
        </p:nvPicPr>
        <p:blipFill>
          <a:blip r:embed="rId2"/>
          <a:stretch/>
        </p:blipFill>
        <p:spPr>
          <a:xfrm>
            <a:off x="171360" y="2236680"/>
            <a:ext cx="897912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2:51:35Z</dcterms:created>
  <dc:creator>User</dc:creator>
  <dc:description/>
  <dc:language>en-US</dc:language>
  <cp:lastModifiedBy>03compu</cp:lastModifiedBy>
  <dcterms:modified xsi:type="dcterms:W3CDTF">2013-06-09T08:33:05Z</dcterms:modified>
  <cp:revision>70</cp:revision>
  <dc:subject/>
  <dc:title>Слайд 1</dc:title>
</cp:coreProperties>
</file>