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08D-4EDA-4851-BEC3-4BBEAD9F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8CF-DB05-48F9-8DB9-7C8EF445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7B7-881B-4BBD-B4BD-06935733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448-DB5C-491C-AB5D-E7BA67FE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57B-966D-4BE3-8E9C-7139FBD8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B83-8450-438E-9754-0A6D319F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733-038D-46B4-A3B6-01AB02DC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50F-DDE9-41D8-B0C1-2C473829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577-E380-461D-B2D9-17BA0836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ADD-3B2A-45DC-BFAC-C8B91662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E15-2B1A-4C81-88DC-CA3BA4DF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A24-EED3-4612-B10F-2C2758AA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5474-119B-4FAD-92DD-59C6917F7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school-box.ru/fizika/knigi/1012-gia-2014-po-fizike-tipovie-testovie-zadaniya-10-zadaniy-kabardin-kabardina.html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hys.sdamgia.ru/" TargetMode="External"/><Relationship Id="rId3" Type="http://schemas.openxmlformats.org/officeDocument/2006/relationships/hyperlink" Target="http://phys.sdamgia.ru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Blackadder ITC"/>
              </a:rPr>
              <a:t>Система работы учителя физики по подготовке к ОГЭ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013360"/>
            <a:ext cx="496872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39b56"/>
                </a:solidFill>
                <a:latin typeface="Arial"/>
              </a:rPr>
              <a:t>Учитель физ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39b56"/>
                </a:solidFill>
                <a:latin typeface="Arial"/>
              </a:rPr>
              <a:t>Кузнецова Наталья Александровна</a:t>
            </a:r>
            <a:r>
              <a:rPr b="0" lang="ru-RU" sz="3200" spc="-1" strike="noStrike">
                <a:solidFill>
                  <a:srgbClr val="039b5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http://journal.kuzspa.ru/media/uploads/ag2.jpg"/>
          <p:cNvPicPr/>
          <p:nvPr/>
        </p:nvPicPr>
        <p:blipFill>
          <a:blip r:embed="rId1"/>
          <a:stretch/>
        </p:blipFill>
        <p:spPr>
          <a:xfrm>
            <a:off x="468360" y="446040"/>
            <a:ext cx="3362400" cy="2800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9720" y="3211560"/>
            <a:ext cx="712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2.</a:t>
            </a:r>
            <a:r>
              <a:rPr b="0" lang="ru-RU" sz="1200" spc="-1" strike="noStrike">
                <a:solidFill>
                  <a:srgbClr val="383838"/>
                </a:solidFill>
                <a:latin typeface="Calibri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На рисунке изображена зависимость температуры первоначально жидкого спирта от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Кристаллизация спирта продолжалас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1) 25 минут</a:t>
            </a:r>
            <a:r>
              <a:rPr b="0" lang="ru-RU" sz="1200" spc="-1" strike="noStrike">
                <a:solidFill>
                  <a:srgbClr val="383838"/>
                </a:solidFill>
                <a:latin typeface="Calibri"/>
                <a:ea typeface="Times New Roman"/>
              </a:rPr>
              <a:t>       </a:t>
            </a:r>
            <a:r>
              <a:rPr b="0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 3) 4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2) 15 минут</a:t>
            </a:r>
            <a:r>
              <a:rPr b="0" lang="ru-RU" sz="1200" spc="-1" strike="noStrike">
                <a:solidFill>
                  <a:srgbClr val="383838"/>
                </a:solidFill>
                <a:latin typeface="Calibri"/>
                <a:ea typeface="Times New Roman"/>
              </a:rPr>
              <a:t>       </a:t>
            </a:r>
            <a:r>
              <a:rPr b="0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 4) 2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50920" y="260280"/>
            <a:ext cx="734544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759b"/>
                </a:solidFill>
                <a:latin typeface="Arial"/>
                <a:ea typeface="Times New Roman"/>
              </a:rPr>
              <a:t>Задания с избыточными физическими да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Arial"/>
                <a:ea typeface="Times New Roman"/>
              </a:rPr>
              <a:t>1.      Вершины наклонной плоскости, образующей с горизонтом угол 60°, бросают тело в горизонтальном направлении. Если через 4,5 с тело ударилось о плоскость, то с какой начальной скоростью оно было брошено?  Площадь плоскости равна 7 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Arial"/>
                <a:ea typeface="Times New Roman"/>
              </a:rPr>
              <a:t>2.     К концам стержня, находящегося на высоте 7 м, массой 10 кг и длиной 40 см подвешены грузы массами 10  и 40 кг. Где надо подпереть стержень, чтобы он находился в равнове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250920" y="2997360"/>
            <a:ext cx="7057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759b"/>
                </a:solidFill>
                <a:latin typeface="Arial"/>
                <a:ea typeface="Times New Roman"/>
              </a:rPr>
              <a:t>Задания на основе текстов с физическим содерж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250920" y="3386160"/>
            <a:ext cx="660708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759b"/>
                </a:solidFill>
                <a:latin typeface="Arial"/>
                <a:ea typeface="Times New Roman"/>
              </a:rPr>
              <a:t>Задания с физической «ошибкой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Arial"/>
                <a:ea typeface="Times New Roman"/>
              </a:rPr>
              <a:t>1.           Каждое окружающее нас тело в физике называют материей. Все тела имеют объем и форму. Если, например, взять стакан воды и вылить ее в другой сосуд, то изменится объем и форма воды. То же самое произойдет и с куском пластилина, если из него вылепить лебе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Arial"/>
                <a:ea typeface="Times New Roman"/>
              </a:rPr>
              <a:t>2.           Свободно падающие тела движутся равноускоренно. В вакууме тела разной массы падают с разным ускорением. И только в некоторых местах Земли тела разной массы падают с одинаковым ускор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720720" y="228600"/>
            <a:ext cx="811548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1ef6"/>
                </a:solidFill>
                <a:latin typeface="Bitstream Vera Serif"/>
                <a:ea typeface="Microsoft YaHei"/>
              </a:rPr>
              <a:t>Большую роль при подготовке играет самостоятель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Bitstream Vera Serif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itstream Vera Serif"/>
                <a:ea typeface="Microsoft YaHei"/>
              </a:rPr>
              <a:t>С учебной литератур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Bitstream Vera Serif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itstream Vera Serif"/>
                <a:ea typeface="Microsoft YaHei"/>
              </a:rPr>
              <a:t>С справочника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Bitstream Vera Serif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itstream Vera Serif"/>
                <a:ea typeface="Microsoft YaHei"/>
              </a:rPr>
              <a:t>В сети </a:t>
            </a:r>
            <a:r>
              <a:rPr b="1" lang="en-US" sz="3600" spc="-1" strike="noStrike">
                <a:solidFill>
                  <a:srgbClr val="ff0000"/>
                </a:solidFill>
                <a:latin typeface="Bitstream Vera Serif"/>
                <a:ea typeface="Microsoft YaHei"/>
              </a:rPr>
              <a:t>Interne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260360" y="63360"/>
            <a:ext cx="75758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Bitstream Vera Serif"/>
                <a:ea typeface="Microsoft YaHei"/>
              </a:rPr>
              <a:t>Выполнение тестовых з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c8526"/>
                </a:solidFill>
                <a:latin typeface="Bitstream Vera Serif"/>
                <a:ea typeface="Microsoft YaHei"/>
              </a:rPr>
              <a:t>Успешная сдача экзамена невозможна без опыта выполнения тест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301680" y="-1054080"/>
            <a:ext cx="85345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Bitstream Vera Serif"/>
                <a:ea typeface="Microsoft YaHei"/>
              </a:rPr>
              <a:t>Система подготовки к ОГЭ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16080" y="1119240"/>
            <a:ext cx="850392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1. Анализ ГИА  предыдущего  г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2. Планирование занятий по подготовке к ГИА во вне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3. Сбор промежуточных  диагностических материалов по раздел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4. Организация закрепления пройден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5. Самообразование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6.  Внедрение элективных к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7. Систематическое использование ИКТ при подготовке к государственной (итоговой) аттестации по физ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8. Просвещение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9.  Формирование  банка  дополнительн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BatangChe"/>
              </a:rPr>
              <a:t>Для подготовки к ОГЭ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BatangChe"/>
              </a:rPr>
              <a:t>рекомендую кни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Наталия Пурышева - ОГЭ-16 Физика. 30 вариантов экзаменационных работ. 9 класс обложка книги"/>
          <p:cNvPicPr/>
          <p:nvPr/>
        </p:nvPicPr>
        <p:blipFill>
          <a:blip r:embed="rId1"/>
          <a:stretch/>
        </p:blipFill>
        <p:spPr>
          <a:xfrm>
            <a:off x="755640" y="1557360"/>
            <a:ext cx="1871640" cy="24908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611280" y="4187880"/>
            <a:ext cx="2232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5f78"/>
                </a:solidFill>
                <a:latin typeface="Arial"/>
              </a:rPr>
              <a:t>Наталия Пурышева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5f78"/>
                </a:solidFill>
                <a:latin typeface="Arial"/>
              </a:rPr>
              <a:t>ОГЭ-16 Физика. 30 вариантов экзаменационных работ. 9 класс</a:t>
            </a:r>
            <a:br>
              <a:rPr sz="1800"/>
            </a:b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Варианты ГИА 2016 по физике, 9 класс"/>
          <p:cNvPicPr/>
          <p:nvPr/>
        </p:nvPicPr>
        <p:blipFill>
          <a:blip r:embed="rId2"/>
          <a:stretch/>
        </p:blipFill>
        <p:spPr>
          <a:xfrm>
            <a:off x="3141720" y="1590840"/>
            <a:ext cx="1428840" cy="19904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2843280" y="3830760"/>
            <a:ext cx="1944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99"/>
                </a:solidFill>
                <a:latin typeface="Arial"/>
              </a:rPr>
              <a:t>Учебное пособие "Физика. 9 класс. Основной государственный экзамен. Типовые тестовые задания" Камзеевой Е.Е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Репетиционные варианты ОГЭ 2015 по физике"/>
          <p:cNvPicPr/>
          <p:nvPr/>
        </p:nvPicPr>
        <p:blipFill>
          <a:blip r:embed="rId3"/>
          <a:stretch/>
        </p:blipFill>
        <p:spPr>
          <a:xfrm>
            <a:off x="5083200" y="1643040"/>
            <a:ext cx="1428840" cy="2009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5116680" y="3757680"/>
            <a:ext cx="1854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5099"/>
                </a:solidFill>
                <a:latin typeface="Arial"/>
              </a:rPr>
              <a:t>Учебное пособие "Репетиционные варианты. Основной государственный экзамен 2015. Физика. 12 вариантов"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ГИА 2014 по физике,9 класс"/>
          <p:cNvPicPr/>
          <p:nvPr/>
        </p:nvPicPr>
        <p:blipFill>
          <a:blip r:embed="rId4"/>
          <a:stretch/>
        </p:blipFill>
        <p:spPr>
          <a:xfrm>
            <a:off x="6732720" y="1522440"/>
            <a:ext cx="1463400" cy="2006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6835680" y="3652920"/>
            <a:ext cx="1278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Georgia"/>
                <a:hlinkClick r:id="rId5"/>
              </a:rPr>
              <a:t>ГИА 2014. Физика. 9 класс. Типовые тестовые зад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바탕"/>
                <a:ea typeface="바탕"/>
              </a:rPr>
              <a:t>Для подготовки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바탕"/>
                <a:ea typeface="바탕"/>
              </a:rPr>
              <a:t>рекомендую сай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79280" y="1727280"/>
            <a:ext cx="6186600" cy="46846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611280" y="13273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ys.sdamgia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545160" cy="5237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483840" y="551664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onlinetestpad.com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4968720" cy="1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giaonline.ru/gia-fizik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6391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108000" y="27000"/>
            <a:ext cx="677052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1ef6"/>
                </a:solidFill>
                <a:latin typeface="Bitstream Vera Serif"/>
                <a:ea typeface="Microsoft YaHei"/>
              </a:rPr>
              <a:t>Комплекс подгот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информационная готовность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предметная (содержательная) готовность,</a:t>
            </a: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психологическая готовность</a:t>
            </a: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179280" y="44280"/>
            <a:ext cx="810108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Bitstream Vera Serif"/>
                <a:ea typeface="Microsoft YaHei"/>
              </a:rPr>
              <a:t>Организация информационной работы по подготовки учащихся к ОГЭ (ГИ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457200" y="2637000"/>
            <a:ext cx="82296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с учащимис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с родител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1403280" y="-900000"/>
            <a:ext cx="7491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Bitstream Vera Serif"/>
                <a:ea typeface="Microsoft YaHei"/>
              </a:rPr>
              <a:t>Мониторинг качества образования</a:t>
            </a:r>
            <a:r>
              <a:rPr b="0" lang="ru-RU" sz="3200" spc="-1" strike="noStrike">
                <a:solidFill>
                  <a:srgbClr val="ff0000"/>
                </a:solidFill>
                <a:latin typeface="Bitstream Vera Serif"/>
                <a:ea typeface="Microsoft Ya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контроль текущих оценок по физик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контрольные работ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самостоятельные работ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контрольные срез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разноуровневые задани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он-лайн тест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результаты пробных  ОГЭ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301680" y="179280"/>
            <a:ext cx="8772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itstream Vera Serif"/>
                <a:ea typeface="Microsoft YaHei"/>
              </a:rPr>
              <a:t>Психологическая подготов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itstream Vera Serif"/>
                <a:ea typeface="Microsoft YaHei"/>
              </a:rPr>
              <a:t>к ГИА по физ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Bitstream Vera Serif"/>
                <a:ea typeface="Microsoft YaHei"/>
              </a:rPr>
              <a:t>Навыки самоконтро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Bitstream Vera Serif"/>
                <a:ea typeface="Microsoft YaHei"/>
              </a:rPr>
              <a:t>Повышение уверенности в себе, в своих сил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Bitstream Vera Serif"/>
                <a:ea typeface="Microsoft YaHei"/>
              </a:rPr>
              <a:t>Рациональное распределение време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-181080" y="1773360"/>
            <a:ext cx="877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itstream Vera Serif"/>
                <a:ea typeface="Microsoft YaHei"/>
              </a:rPr>
              <a:t>Предметная готовность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Bitstream Vera Serif"/>
                <a:ea typeface="Microsoft YaHei"/>
              </a:rPr>
              <a:t>к ОГЭ по физ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79280" y="254160"/>
            <a:ext cx="8639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81ef6"/>
                </a:solidFill>
                <a:latin typeface="Bitstream Vera Serif"/>
                <a:ea typeface="Microsoft YaHei"/>
              </a:rPr>
              <a:t>Главное условие успеха на экзамене по физик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55e00"/>
                </a:solidFill>
                <a:latin typeface="Bitstream Vera Serif"/>
                <a:ea typeface="Microsoft YaHei"/>
              </a:rPr>
              <a:t>Овладение основными физическими понятиями, понимание физических законов и умение применять их на практике.</a:t>
            </a:r>
            <a:r>
              <a:rPr b="0" lang="ru-RU" sz="4400" spc="-1" strike="noStrike">
                <a:solidFill>
                  <a:srgbClr val="000000"/>
                </a:solidFill>
                <a:latin typeface="Bitstream Vera Serif"/>
                <a:ea typeface="Microsoft YaHe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720720" y="228600"/>
            <a:ext cx="811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1ef6"/>
                </a:solidFill>
                <a:latin typeface="Bitstream Vera Serif"/>
                <a:ea typeface="Microsoft YaHei"/>
              </a:rPr>
              <a:t>Виды физических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c8526"/>
                </a:solidFill>
                <a:latin typeface="Bitstream Vera Serif"/>
                <a:ea typeface="Microsoft YaHei"/>
              </a:rPr>
              <a:t>Экспериментальные ,  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c8526"/>
                </a:solidFill>
                <a:latin typeface="Bitstream Vera Serif"/>
                <a:ea typeface="Microsoft YaHei"/>
              </a:rPr>
              <a:t>Теоретические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c8526"/>
                </a:solidFill>
                <a:latin typeface="Bitstream Vera Serif"/>
                <a:ea typeface="Microsoft YaHei"/>
              </a:rPr>
              <a:t>Расчетные,</a:t>
            </a:r>
            <a:r>
              <a:rPr b="0" lang="ru-RU" sz="2700" spc="-1" strike="noStrike">
                <a:solidFill>
                  <a:srgbClr val="5c8526"/>
                </a:solidFill>
                <a:latin typeface="Bitstream Vera Serif"/>
                <a:ea typeface="Microsoft YaHei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c8526"/>
                </a:solidFill>
                <a:latin typeface="Bitstream Vera Serif"/>
                <a:ea typeface="Microsoft YaHei"/>
              </a:rPr>
              <a:t>Качественные,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c8526"/>
                </a:solidFill>
                <a:latin typeface="Bitstream Vera Serif"/>
                <a:ea typeface="Microsoft YaHei"/>
              </a:rPr>
              <a:t>Графические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c8526"/>
                </a:solidFill>
                <a:latin typeface="Bitstream Vera Serif"/>
                <a:ea typeface="Microsoft YaHei"/>
              </a:rPr>
              <a:t>Комбинированны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815200" y="-720"/>
            <a:ext cx="351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Задания на анализ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http://journal.kuzspa.ru/media/uploads/ag1.jpg"/>
          <p:cNvPicPr/>
          <p:nvPr/>
        </p:nvPicPr>
        <p:blipFill>
          <a:blip r:embed="rId1"/>
          <a:stretch/>
        </p:blipFill>
        <p:spPr>
          <a:xfrm>
            <a:off x="468360" y="549360"/>
            <a:ext cx="3247920" cy="3095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6560" y="3557520"/>
            <a:ext cx="7040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1.</a:t>
            </a:r>
            <a:r>
              <a:rPr b="0" i="1" lang="ru-RU" sz="1200" spc="-1" strike="noStrike">
                <a:solidFill>
                  <a:srgbClr val="383838"/>
                </a:solidFill>
                <a:latin typeface="Calibri"/>
                <a:ea typeface="Times New Roman"/>
              </a:rPr>
              <a:t> </a:t>
            </a:r>
            <a:r>
              <a:rPr b="0" i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На рисунке</a:t>
            </a:r>
            <a:r>
              <a:rPr b="0" i="1" lang="ru-RU" sz="1200" spc="-1" strike="noStrike">
                <a:solidFill>
                  <a:srgbClr val="383838"/>
                </a:solidFill>
                <a:latin typeface="Calibri"/>
                <a:ea typeface="Times New Roman"/>
              </a:rPr>
              <a:t> </a:t>
            </a:r>
            <a:r>
              <a:rPr b="0" i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 изображена зависимость температуры калия от времени при его нагрев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Участок графика ... соответствует процессу плавления, продолжительность которог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1) АВ, 2 мин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2) ВС, 2 мин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83838"/>
                </a:solidFill>
                <a:latin typeface="Arial"/>
                <a:ea typeface="Times New Roman"/>
              </a:rPr>
              <a:t>3) ВС, 7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15:35:22Z</dcterms:created>
  <dc:creator>1</dc:creator>
  <dc:description/>
  <dc:language>en-US</dc:language>
  <cp:lastModifiedBy>admin</cp:lastModifiedBy>
  <dcterms:modified xsi:type="dcterms:W3CDTF">2016-02-26T09:17:19Z</dcterms:modified>
  <cp:revision>14</cp:revision>
  <dc:subject/>
  <dc:title>Система работы учителя физики по подготовке к ОГЕ.</dc:title>
</cp:coreProperties>
</file>