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7.jpeg" ContentType="image/jpeg"/>
  <Override PartName="/ppt/media/image56.jpeg" ContentType="image/jpeg"/>
  <Override PartName="/ppt/media/image54.jpeg" ContentType="image/jpeg"/>
  <Override PartName="/ppt/media/image53.wmf" ContentType="image/x-wmf"/>
  <Override PartName="/ppt/media/image52.wmf" ContentType="image/x-wmf"/>
  <Override PartName="/ppt/media/image17.gif" ContentType="image/gif"/>
  <Override PartName="/ppt/media/image6.jpeg" ContentType="image/jpeg"/>
  <Override PartName="/ppt/media/image4.jpeg" ContentType="image/jpeg"/>
  <Override PartName="/ppt/media/image40.png" ContentType="image/png"/>
  <Override PartName="/ppt/media/image22.gif" ContentType="image/gif"/>
  <Override PartName="/ppt/media/image59.gif" ContentType="image/gif"/>
  <Override PartName="/ppt/media/image25.jpeg" ContentType="image/jpeg"/>
  <Override PartName="/ppt/media/image36.jpeg" ContentType="image/jpeg"/>
  <Override PartName="/ppt/media/image2.jpeg" ContentType="image/jpeg"/>
  <Override PartName="/ppt/media/image64.gif" ContentType="image/gif"/>
  <Override PartName="/ppt/media/image37.jpeg" ContentType="image/jpeg"/>
  <Override PartName="/ppt/media/image14.jpeg" ContentType="image/jpeg"/>
  <Override PartName="/ppt/media/image61.gif" ContentType="image/gif"/>
  <Override PartName="/ppt/media/image1.png" ContentType="image/png"/>
  <Override PartName="/ppt/media/image27.jpeg" ContentType="image/jpeg"/>
  <Override PartName="/ppt/media/image10.jpeg" ContentType="image/jpeg"/>
  <Override PartName="/ppt/media/image62.gif" ContentType="image/gif"/>
  <Override PartName="/ppt/media/image45.jpeg" ContentType="image/jpeg"/>
  <Override PartName="/ppt/media/image20.jpeg" ContentType="image/jpeg"/>
  <Override PartName="/ppt/media/image15.jpeg" ContentType="image/jpeg"/>
  <Override PartName="/ppt/media/image24.gif" ContentType="image/gif"/>
  <Override PartName="/ppt/media/image32.jpeg" ContentType="image/jpeg"/>
  <Override PartName="/ppt/media/image19.gif" ContentType="image/gif"/>
  <Override PartName="/ppt/media/image7.gif" ContentType="image/gif"/>
  <Override PartName="/ppt/media/image5.jpeg" ContentType="image/jpeg"/>
  <Override PartName="/ppt/media/image26.jpeg" ContentType="image/jpeg"/>
  <Override PartName="/ppt/media/image16.gif" ContentType="image/gif"/>
  <Override PartName="/ppt/media/image49.wmf" ContentType="image/x-wmf"/>
  <Override PartName="/ppt/media/image21.png" ContentType="image/png"/>
  <Override PartName="/ppt/media/image63.gif" ContentType="image/gif"/>
  <Override PartName="/ppt/media/image8.jpeg" ContentType="image/jpeg"/>
  <Override PartName="/ppt/media/image39.jpeg" ContentType="image/jpeg"/>
  <Override PartName="/ppt/media/image23.png" ContentType="image/png"/>
  <Override PartName="/ppt/media/image55.jpeg" ContentType="image/jpeg"/>
  <Override PartName="/ppt/media/image18.gif" ContentType="image/gif"/>
  <Override PartName="/ppt/media/image58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51.wmf" ContentType="image/x-wmf"/>
  <Override PartName="/ppt/media/image29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47.wmf" ContentType="image/x-wmf"/>
  <Override PartName="/ppt/media/image13.jpeg" ContentType="image/jpeg"/>
  <Override PartName="/ppt/media/image48.wmf" ContentType="image/x-wmf"/>
  <Override PartName="/ppt/media/image33.jpeg" ContentType="image/jpeg"/>
  <Override PartName="/ppt/media/image34.jpeg" ContentType="image/jpeg"/>
  <Override PartName="/ppt/media/image35.png" ContentType="image/png"/>
  <Override PartName="/ppt/media/image38.jpeg" ContentType="image/jpeg"/>
  <Override PartName="/ppt/media/image3.jpeg" ContentType="image/jpeg"/>
  <Override PartName="/ppt/media/image41.png" ContentType="image/png"/>
  <Override PartName="/ppt/media/image42.jpeg" ContentType="image/jpeg"/>
  <Override PartName="/ppt/media/image60.wmf" ContentType="image/x-wmf"/>
  <Override PartName="/ppt/media/image44.jpeg" ContentType="image/jpeg"/>
  <Override PartName="/ppt/media/image46.png" ContentType="image/png"/>
  <Override PartName="/ppt/media/image43.jpeg" ContentType="image/jpeg"/>
  <Override PartName="/ppt/media/image5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8326-D28A-4DDA-A36C-21D29177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4F49-76B8-4C69-8751-CDDD5192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16BF-FDFE-40A9-AA23-B7CC5DD4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F85F-CA1B-444A-98EA-3D6AE298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2DA9-2887-479B-8DB6-DCCB2AD9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5621-940B-4C47-9B07-5220387F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AE4A-1DD9-45AF-8467-53B5D271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B390-85B5-4311-A8BE-E5A6C264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8380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D839-091E-4B5F-9216-DAED600D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AB9B-2D72-41ED-83FD-94E4BB91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1A85-0E92-488E-86C2-272D3E14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E46B-1E5B-4BCC-903E-B25DCF3F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lvl="1" marL="735480" indent="-282960">
              <a:spcBef>
                <a:spcPts val="799"/>
              </a:spcBef>
              <a:buClr>
                <a:srgbClr val="8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8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8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EA0D-B7CB-4D91-A621-2E12EEC91A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52280"/>
            <a:ext cx="91440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553080"/>
            <a:ext cx="9144000" cy="152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152280" y="0"/>
            <a:ext cx="15264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152280" y="0"/>
            <a:ext cx="15264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8839080" y="0"/>
            <a:ext cx="15264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0" y="152280"/>
            <a:ext cx="9144000" cy="152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0" y="6553080"/>
            <a:ext cx="9144000" cy="152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152280" y="0"/>
            <a:ext cx="152640" cy="6858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152280" y="0"/>
            <a:ext cx="152640" cy="6858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8839080" y="0"/>
            <a:ext cx="152640" cy="68580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8.jpeg"/><Relationship Id="rId18" Type="http://schemas.openxmlformats.org/officeDocument/2006/relationships/image" Target="../media/image9.jpeg"/><Relationship Id="rId19" Type="http://schemas.openxmlformats.org/officeDocument/2006/relationships/image" Target="../media/image10.jpeg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" Target="slide13.xm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" Target="slide12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image" Target="../media/image52.wmf"/><Relationship Id="rId8" Type="http://schemas.openxmlformats.org/officeDocument/2006/relationships/image" Target="../media/image53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59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gif"/><Relationship Id="rId2" Type="http://schemas.openxmlformats.org/officeDocument/2006/relationships/image" Target="../media/image6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image" Target="../media/image22.gif"/><Relationship Id="rId9" Type="http://schemas.openxmlformats.org/officeDocument/2006/relationships/image" Target="../media/image22.gif"/><Relationship Id="rId10" Type="http://schemas.openxmlformats.org/officeDocument/2006/relationships/image" Target="../media/image23.png"/><Relationship Id="rId11" Type="http://schemas.openxmlformats.org/officeDocument/2006/relationships/image" Target="../media/image24.gi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" Target="slide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hyperlink" Target="file:///meera.mp3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5" descr="000485"/>
          <p:cNvPicPr/>
          <p:nvPr/>
        </p:nvPicPr>
        <p:blipFill>
          <a:blip r:embed="rId1"/>
          <a:stretch/>
        </p:blipFill>
        <p:spPr>
          <a:xfrm>
            <a:off x="3851280" y="476280"/>
            <a:ext cx="1346040" cy="187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6" descr="000469"/>
          <p:cNvPicPr/>
          <p:nvPr/>
        </p:nvPicPr>
        <p:blipFill>
          <a:blip r:embed="rId2"/>
          <a:stretch/>
        </p:blipFill>
        <p:spPr>
          <a:xfrm>
            <a:off x="6012000" y="1125360"/>
            <a:ext cx="2771640" cy="2063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9"/>
          <p:cNvPicPr/>
          <p:nvPr/>
        </p:nvPicPr>
        <p:blipFill>
          <a:blip r:embed="rId3"/>
          <a:stretch/>
        </p:blipFill>
        <p:spPr>
          <a:xfrm>
            <a:off x="395280" y="1125360"/>
            <a:ext cx="2808360" cy="2008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76360" y="5836320"/>
            <a:ext cx="6400800" cy="48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6600"/>
            </a:outerShdw>
          </a:effectLst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826920" y="765000"/>
            <a:ext cx="813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6" name="Picture 10" descr="star7"/>
          <p:cNvPicPr/>
          <p:nvPr/>
        </p:nvPicPr>
        <p:blipFill>
          <a:blip r:embed="rId4"/>
          <a:stretch/>
        </p:blipFill>
        <p:spPr>
          <a:xfrm>
            <a:off x="900000" y="692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star7"/>
          <p:cNvPicPr/>
          <p:nvPr/>
        </p:nvPicPr>
        <p:blipFill>
          <a:blip r:embed="rId5"/>
          <a:stretch/>
        </p:blipFill>
        <p:spPr>
          <a:xfrm>
            <a:off x="8244000" y="692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star7"/>
          <p:cNvPicPr/>
          <p:nvPr/>
        </p:nvPicPr>
        <p:blipFill>
          <a:blip r:embed="rId6"/>
          <a:stretch/>
        </p:blipFill>
        <p:spPr>
          <a:xfrm>
            <a:off x="7667640" y="141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star7"/>
          <p:cNvPicPr/>
          <p:nvPr/>
        </p:nvPicPr>
        <p:blipFill>
          <a:blip r:embed="rId7"/>
          <a:stretch/>
        </p:blipFill>
        <p:spPr>
          <a:xfrm>
            <a:off x="6588000" y="1557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star7"/>
          <p:cNvPicPr/>
          <p:nvPr/>
        </p:nvPicPr>
        <p:blipFill>
          <a:blip r:embed="rId8"/>
          <a:stretch/>
        </p:blipFill>
        <p:spPr>
          <a:xfrm>
            <a:off x="3059280" y="17002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star7"/>
          <p:cNvPicPr/>
          <p:nvPr/>
        </p:nvPicPr>
        <p:blipFill>
          <a:blip r:embed="rId9"/>
          <a:stretch/>
        </p:blipFill>
        <p:spPr>
          <a:xfrm>
            <a:off x="4500720" y="62064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star7"/>
          <p:cNvPicPr/>
          <p:nvPr/>
        </p:nvPicPr>
        <p:blipFill>
          <a:blip r:embed="rId10"/>
          <a:stretch/>
        </p:blipFill>
        <p:spPr>
          <a:xfrm>
            <a:off x="826920" y="191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star7"/>
          <p:cNvPicPr/>
          <p:nvPr/>
        </p:nvPicPr>
        <p:blipFill>
          <a:blip r:embed="rId11"/>
          <a:stretch/>
        </p:blipFill>
        <p:spPr>
          <a:xfrm>
            <a:off x="8244000" y="1989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star7"/>
          <p:cNvPicPr/>
          <p:nvPr/>
        </p:nvPicPr>
        <p:blipFill>
          <a:blip r:embed="rId12"/>
          <a:stretch/>
        </p:blipFill>
        <p:spPr>
          <a:xfrm>
            <a:off x="2124000" y="692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star7"/>
          <p:cNvPicPr/>
          <p:nvPr/>
        </p:nvPicPr>
        <p:blipFill>
          <a:blip r:embed="rId13"/>
          <a:stretch/>
        </p:blipFill>
        <p:spPr>
          <a:xfrm>
            <a:off x="6588000" y="692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star7"/>
          <p:cNvPicPr/>
          <p:nvPr/>
        </p:nvPicPr>
        <p:blipFill>
          <a:blip r:embed="rId14"/>
          <a:stretch/>
        </p:blipFill>
        <p:spPr>
          <a:xfrm>
            <a:off x="1763640" y="141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star7"/>
          <p:cNvPicPr/>
          <p:nvPr/>
        </p:nvPicPr>
        <p:blipFill>
          <a:blip r:embed="rId15"/>
          <a:stretch/>
        </p:blipFill>
        <p:spPr>
          <a:xfrm>
            <a:off x="4284720" y="1268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2" descr="star7"/>
          <p:cNvPicPr/>
          <p:nvPr/>
        </p:nvPicPr>
        <p:blipFill>
          <a:blip r:embed="rId16"/>
          <a:stretch/>
        </p:blipFill>
        <p:spPr>
          <a:xfrm>
            <a:off x="5580000" y="981000"/>
            <a:ext cx="422280" cy="37296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0"/>
          <p:cNvGrpSpPr/>
          <p:nvPr/>
        </p:nvGrpSpPr>
        <p:grpSpPr>
          <a:xfrm>
            <a:off x="324000" y="2781360"/>
            <a:ext cx="8499240" cy="3781440"/>
            <a:chOff x="324000" y="2781360"/>
            <a:chExt cx="8499240" cy="3781440"/>
          </a:xfrm>
        </p:grpSpPr>
        <p:pic>
          <p:nvPicPr>
            <p:cNvPr id="70" name="Picture 21" descr="5"/>
            <p:cNvPicPr/>
            <p:nvPr/>
          </p:nvPicPr>
          <p:blipFill>
            <a:blip r:embed="rId17"/>
            <a:stretch/>
          </p:blipFill>
          <p:spPr>
            <a:xfrm>
              <a:off x="324000" y="3860640"/>
              <a:ext cx="3671640" cy="26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22" descr="12"/>
            <p:cNvPicPr/>
            <p:nvPr/>
          </p:nvPicPr>
          <p:blipFill>
            <a:blip r:embed="rId18"/>
            <a:stretch/>
          </p:blipFill>
          <p:spPr>
            <a:xfrm>
              <a:off x="5003640" y="3860640"/>
              <a:ext cx="3819600" cy="255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23" descr="3"/>
            <p:cNvPicPr/>
            <p:nvPr/>
          </p:nvPicPr>
          <p:blipFill>
            <a:blip r:embed="rId19"/>
            <a:stretch/>
          </p:blipFill>
          <p:spPr>
            <a:xfrm>
              <a:off x="3276720" y="2781360"/>
              <a:ext cx="2638440" cy="3781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1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286080" cy="2670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"/>
          <p:cNvPicPr/>
          <p:nvPr/>
        </p:nvPicPr>
        <p:blipFill>
          <a:blip r:embed="rId2"/>
          <a:stretch/>
        </p:blipFill>
        <p:spPr>
          <a:xfrm>
            <a:off x="5148360" y="115920"/>
            <a:ext cx="3551040" cy="2670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3"/>
          <a:stretch/>
        </p:blipFill>
        <p:spPr>
          <a:xfrm>
            <a:off x="395280" y="333360"/>
            <a:ext cx="3168720" cy="2381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10_14"/>
          <p:cNvPicPr/>
          <p:nvPr/>
        </p:nvPicPr>
        <p:blipFill>
          <a:blip r:embed="rId4"/>
          <a:stretch/>
        </p:blipFill>
        <p:spPr>
          <a:xfrm>
            <a:off x="4140360" y="3357720"/>
            <a:ext cx="4679640" cy="33573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324000" y="249156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Основными занятиями древних индийцев были оседлое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земледелие, скотоводство.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25" name="Picture 13" descr="ar41"/>
          <p:cNvPicPr/>
          <p:nvPr/>
        </p:nvPicPr>
        <p:blipFill>
          <a:blip r:embed="rId5"/>
          <a:stretch/>
        </p:blipFill>
        <p:spPr>
          <a:xfrm>
            <a:off x="4140360" y="1341360"/>
            <a:ext cx="579240" cy="2905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8"/>
          <p:cNvSpPr/>
          <p:nvPr/>
        </p:nvSpPr>
        <p:spPr>
          <a:xfrm>
            <a:off x="3877920" y="1700280"/>
            <a:ext cx="10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99"/>
                </a:solidFill>
                <a:latin typeface="Bookman Old Style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6324480" cy="942840"/>
          </a:xfrm>
          <a:prstGeom prst="rect">
            <a:avLst/>
          </a:prstGeom>
          <a:solidFill>
            <a:srgbClr val="336600"/>
          </a:solidFill>
          <a:ln w="76320">
            <a:solidFill>
              <a:srgbClr val="00cc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Священные животные и боги.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4292280"/>
            <a:ext cx="8359560" cy="2376360"/>
          </a:xfrm>
          <a:prstGeom prst="rect">
            <a:avLst/>
          </a:prstGeom>
          <a:solidFill>
            <a:srgbClr val="ffff00"/>
          </a:solidFill>
          <a:ln w="76320">
            <a:solidFill>
              <a:srgbClr val="00cc99"/>
            </a:solidFill>
            <a:miter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Bookman Old Style"/>
              </a:rPr>
              <a:t>Единого бога в Древней Индии не было.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      </a:t>
            </a:r>
            <a:r>
              <a:rPr b="1" lang="ru-RU" sz="2800" spc="-1" strike="noStrike">
                <a:solidFill>
                  <a:srgbClr val="993300"/>
                </a:solidFill>
                <a:latin typeface="Bookman Old Style"/>
              </a:rPr>
              <a:t>Почему</a:t>
            </a:r>
            <a:r>
              <a:rPr b="1" lang="en-US" sz="2800" spc="-1" strike="noStrike">
                <a:solidFill>
                  <a:srgbClr val="993300"/>
                </a:solidFill>
                <a:latin typeface="Bookman Old Style"/>
              </a:rPr>
              <a:t>?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Bookman Old Style"/>
              </a:rPr>
              <a:t>Сначала индийцы обожествляли животных-слонов, коров, а затем их сменили боги,с головами животных. 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</p:txBody>
      </p:sp>
      <p:pic>
        <p:nvPicPr>
          <p:cNvPr id="129" name="Picture 4" descr="Рисунок4"/>
          <p:cNvPicPr/>
          <p:nvPr/>
        </p:nvPicPr>
        <p:blipFill>
          <a:blip r:embed="rId1"/>
          <a:stretch/>
        </p:blipFill>
        <p:spPr>
          <a:xfrm>
            <a:off x="1258920" y="1052640"/>
            <a:ext cx="3960720" cy="304164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  <p:pic>
        <p:nvPicPr>
          <p:cNvPr id="130" name="Picture 5" descr="Рисунок5"/>
          <p:cNvPicPr/>
          <p:nvPr/>
        </p:nvPicPr>
        <p:blipFill>
          <a:blip r:embed="rId2"/>
          <a:stretch/>
        </p:blipFill>
        <p:spPr>
          <a:xfrm>
            <a:off x="5867280" y="1052640"/>
            <a:ext cx="1935360" cy="309564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0" y="4341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492360" y="1052640"/>
            <a:ext cx="53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33" name="Picture 16" descr=""/>
          <p:cNvPicPr/>
          <p:nvPr/>
        </p:nvPicPr>
        <p:blipFill>
          <a:blip r:embed="rId1"/>
          <a:stretch/>
        </p:blipFill>
        <p:spPr>
          <a:xfrm>
            <a:off x="395280" y="480960"/>
            <a:ext cx="3429000" cy="4562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8"/>
          <p:cNvSpPr/>
          <p:nvPr/>
        </p:nvSpPr>
        <p:spPr>
          <a:xfrm>
            <a:off x="3780000" y="476280"/>
            <a:ext cx="518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 4 тысячелетий тому назад из множества богов на главное место в индуизме выдвинулись </a:t>
            </a:r>
            <a:r>
              <a:rPr b="0" lang="ru-RU" sz="2400" spc="-1" strike="noStrike" u="sng">
                <a:solidFill>
                  <a:srgbClr val="993300"/>
                </a:solidFill>
                <a:uFillTx/>
                <a:latin typeface="Arial"/>
                <a:hlinkClick r:id="rId2" action="ppaction://hlinksldjump"/>
              </a:rPr>
              <a:t>три бо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ни образуют неразрывное единство. 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ог Брах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творец и правитель мира. 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ог Вишн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пасает людей от разных бедствий, например от потопа. в яркую оранжевую одежду. 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ог Ши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грозный носитель сил космоса, который и создает, и разрушает. 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инство индийцев и сейчас верят в своих древних богов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35" name="Asehep10.WAV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3203640" y="3219480"/>
            <a:ext cx="2886120" cy="3632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6673680" y="3240"/>
            <a:ext cx="2470320" cy="3709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0" y="3240"/>
            <a:ext cx="3137040" cy="38545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7"/>
          <p:cNvSpPr/>
          <p:nvPr/>
        </p:nvSpPr>
        <p:spPr>
          <a:xfrm>
            <a:off x="902520" y="40053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АХМА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4266360" y="265572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ВА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7454160" y="386064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ШНУ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2" name="AutoShape 15">
            <a:hlinkClick r:id="rId4" action="ppaction://hlinksldjump"/>
          </p:cNvPr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10994"/>
                </a:moveTo>
                <a:lnTo>
                  <a:pt x="17806" y="3988"/>
                </a:lnTo>
                <a:lnTo>
                  <a:pt x="17806" y="18001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3" name="AutoShape 16">
            <a:hlinkClick r:id="rId5" action="ppaction://hlinksldjump"/>
          </p:cNvPr>
          <p:cNvSpPr/>
          <p:nvPr/>
        </p:nvSpPr>
        <p:spPr>
          <a:xfrm>
            <a:off x="395280" y="5589720"/>
            <a:ext cx="539640" cy="503280"/>
          </a:xfrm>
          <a:custGeom>
            <a:avLst/>
            <a:gdLst>
              <a:gd name="textAreaLeft" fmla="*/ 32400 w 539640"/>
              <a:gd name="textAreaRight" fmla="*/ 507240 w 539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3159" h="21600">
                <a:moveTo>
                  <a:pt x="0" y="0"/>
                </a:moveTo>
                <a:lnTo>
                  <a:pt x="23159" y="0"/>
                </a:lnTo>
                <a:lnTo>
                  <a:pt x="23159" y="21600"/>
                </a:lnTo>
                <a:lnTo>
                  <a:pt x="0" y="21600"/>
                </a:lnTo>
                <a:close/>
              </a:path>
              <a:path fill="lightenLess" w="23159" h="21600">
                <a:moveTo>
                  <a:pt x="0" y="0"/>
                </a:moveTo>
                <a:lnTo>
                  <a:pt x="23159" y="0"/>
                </a:lnTo>
                <a:lnTo>
                  <a:pt x="21759" y="1400"/>
                </a:lnTo>
                <a:lnTo>
                  <a:pt x="1400" y="1400"/>
                </a:lnTo>
                <a:close/>
              </a:path>
              <a:path fill="darken" w="23159" h="21600">
                <a:moveTo>
                  <a:pt x="23159" y="0"/>
                </a:moveTo>
                <a:lnTo>
                  <a:pt x="23159" y="21600"/>
                </a:lnTo>
                <a:lnTo>
                  <a:pt x="21759" y="20200"/>
                </a:lnTo>
                <a:lnTo>
                  <a:pt x="21759" y="1400"/>
                </a:lnTo>
                <a:close/>
              </a:path>
              <a:path fill="darkenLess" w="23159" h="21600">
                <a:moveTo>
                  <a:pt x="2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59" y="20200"/>
                </a:lnTo>
                <a:close/>
              </a:path>
              <a:path fill="lighten" w="2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59" h="21600">
                <a:moveTo>
                  <a:pt x="1158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159" h="21600">
                <a:moveTo>
                  <a:pt x="12685" y="14281"/>
                </a:moveTo>
                <a:lnTo>
                  <a:pt x="12685" y="12323"/>
                </a:lnTo>
                <a:cubicBezTo>
                  <a:pt x="12685" y="11496"/>
                  <a:pt x="13016" y="10800"/>
                  <a:pt x="13616" y="10800"/>
                </a:cubicBezTo>
                <a:cubicBezTo>
                  <a:pt x="14748" y="10800"/>
                  <a:pt x="15644" y="9434"/>
                  <a:pt x="15644" y="7849"/>
                </a:cubicBezTo>
                <a:cubicBezTo>
                  <a:pt x="15644" y="5534"/>
                  <a:pt x="13790" y="3794"/>
                  <a:pt x="11580" y="3794"/>
                </a:cubicBezTo>
                <a:cubicBezTo>
                  <a:pt x="9369" y="3794"/>
                  <a:pt x="7698" y="5534"/>
                  <a:pt x="7698" y="7849"/>
                </a:cubicBezTo>
                <a:lnTo>
                  <a:pt x="9552" y="7849"/>
                </a:lnTo>
                <a:cubicBezTo>
                  <a:pt x="9552" y="6709"/>
                  <a:pt x="10474" y="5821"/>
                  <a:pt x="11580" y="5821"/>
                </a:cubicBezTo>
                <a:cubicBezTo>
                  <a:pt x="12685" y="5821"/>
                  <a:pt x="13616" y="6709"/>
                  <a:pt x="13616" y="7849"/>
                </a:cubicBezTo>
                <a:cubicBezTo>
                  <a:pt x="13616" y="8589"/>
                  <a:pt x="13146" y="9320"/>
                  <a:pt x="12685" y="9320"/>
                </a:cubicBezTo>
                <a:cubicBezTo>
                  <a:pt x="11580" y="9320"/>
                  <a:pt x="10474" y="10800"/>
                  <a:pt x="10474" y="12323"/>
                </a:cubicBezTo>
                <a:lnTo>
                  <a:pt x="10474" y="14281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865080"/>
          </a:xfrm>
          <a:prstGeom prst="rect">
            <a:avLst/>
          </a:prstGeom>
          <a:solidFill>
            <a:srgbClr val="008000"/>
          </a:solidFill>
          <a:ln w="76320">
            <a:solidFill>
              <a:srgbClr val="00cc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Верования древних индийцев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4419360"/>
            <a:ext cx="8960040" cy="2438280"/>
          </a:xfrm>
          <a:prstGeom prst="rect">
            <a:avLst/>
          </a:prstGeom>
          <a:solidFill>
            <a:srgbClr val="00cc99"/>
          </a:solidFill>
          <a:ln w="7632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Индийцы верили в то ,что человек живет 7 раз. После смерти его душа перемещается в новое тело.</a:t>
            </a:r>
            <a:r>
              <a:rPr b="1" lang="ru-RU" sz="2400" spc="-1" strike="noStrike">
                <a:solidFill>
                  <a:srgbClr val="808080"/>
                </a:solidFill>
                <a:latin typeface="Bookman Old Style"/>
              </a:rPr>
              <a:t>       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Bookman Old Style"/>
              </a:rPr>
              <a:t>«…быть может тот облезлый кот был раньше попугаем </a:t>
            </a:r>
            <a:endParaRPr b="0" lang="en-US" sz="20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cc6600"/>
                </a:solidFill>
                <a:latin typeface="Bookman Old Style"/>
              </a:rPr>
              <a:t>а этот милый человек был раньше добрым псом.»</a:t>
            </a:r>
            <a:endParaRPr b="0" lang="en-US" sz="20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Bookman Old Style"/>
              </a:rPr>
              <a:t>(В.Высоцкий)</a:t>
            </a:r>
            <a:endParaRPr b="0" lang="en-US" sz="2000" spc="-1" strike="noStrike">
              <a:solidFill>
                <a:srgbClr val="800000"/>
              </a:solidFill>
              <a:latin typeface="Bookman Old Style"/>
            </a:endParaRPr>
          </a:p>
        </p:txBody>
      </p:sp>
      <p:pic>
        <p:nvPicPr>
          <p:cNvPr id="147" name="Picture 5" descr="BESTFRND"/>
          <p:cNvPicPr/>
          <p:nvPr/>
        </p:nvPicPr>
        <p:blipFill>
          <a:blip r:embed="rId2"/>
          <a:stretch/>
        </p:blipFill>
        <p:spPr>
          <a:xfrm>
            <a:off x="5791320" y="3048120"/>
            <a:ext cx="838080" cy="1066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BUFFALO"/>
          <p:cNvPicPr/>
          <p:nvPr/>
        </p:nvPicPr>
        <p:blipFill>
          <a:blip r:embed="rId3"/>
          <a:stretch/>
        </p:blipFill>
        <p:spPr>
          <a:xfrm>
            <a:off x="3505320" y="18288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HMM"/>
          <p:cNvPicPr/>
          <p:nvPr/>
        </p:nvPicPr>
        <p:blipFill>
          <a:blip r:embed="rId4"/>
          <a:stretch/>
        </p:blipFill>
        <p:spPr>
          <a:xfrm>
            <a:off x="7543800" y="2743200"/>
            <a:ext cx="914400" cy="1459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LADY2"/>
          <p:cNvPicPr/>
          <p:nvPr/>
        </p:nvPicPr>
        <p:blipFill>
          <a:blip r:embed="rId5"/>
          <a:stretch/>
        </p:blipFill>
        <p:spPr>
          <a:xfrm>
            <a:off x="1752480" y="2895480"/>
            <a:ext cx="666720" cy="1371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POLRBEAR"/>
          <p:cNvPicPr/>
          <p:nvPr/>
        </p:nvPicPr>
        <p:blipFill>
          <a:blip r:embed="rId6"/>
          <a:stretch/>
        </p:blipFill>
        <p:spPr>
          <a:xfrm>
            <a:off x="3505320" y="3276720"/>
            <a:ext cx="1234800" cy="865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SMOKING"/>
          <p:cNvPicPr/>
          <p:nvPr/>
        </p:nvPicPr>
        <p:blipFill>
          <a:blip r:embed="rId7"/>
          <a:stretch/>
        </p:blipFill>
        <p:spPr>
          <a:xfrm>
            <a:off x="533520" y="1752480"/>
            <a:ext cx="1676160" cy="1243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TREE2"/>
          <p:cNvPicPr/>
          <p:nvPr/>
        </p:nvPicPr>
        <p:blipFill>
          <a:blip r:embed="rId8"/>
          <a:stretch/>
        </p:blipFill>
        <p:spPr>
          <a:xfrm>
            <a:off x="5943600" y="1752480"/>
            <a:ext cx="2222640" cy="131292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2"/>
          <p:cNvSpPr/>
          <p:nvPr/>
        </p:nvSpPr>
        <p:spPr>
          <a:xfrm>
            <a:off x="2438280" y="20574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5" name="AutoShape 13"/>
          <p:cNvSpPr/>
          <p:nvPr/>
        </p:nvSpPr>
        <p:spPr>
          <a:xfrm>
            <a:off x="4648320" y="20574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6" name="AutoShape 14"/>
          <p:cNvSpPr/>
          <p:nvPr/>
        </p:nvSpPr>
        <p:spPr>
          <a:xfrm>
            <a:off x="533520" y="34290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7" name="AutoShape 15"/>
          <p:cNvSpPr/>
          <p:nvPr/>
        </p:nvSpPr>
        <p:spPr>
          <a:xfrm>
            <a:off x="2438280" y="34290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8" name="AutoShape 16"/>
          <p:cNvSpPr/>
          <p:nvPr/>
        </p:nvSpPr>
        <p:spPr>
          <a:xfrm>
            <a:off x="4724280" y="34290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6553080" y="34290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500"/>
                            </p:stCondLst>
                            <p:childTnLst>
                              <p:par>
                                <p:cTn id="3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500"/>
                            </p:stCondLst>
                            <p:childTnLst>
                              <p:par>
                                <p:cTn id="3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0"/>
                            </p:stCondLst>
                            <p:childTnLst>
                              <p:par>
                                <p:cTn id="3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500"/>
                            </p:stCondLst>
                            <p:childTnLst>
                              <p:par>
                                <p:cTn id="3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Bookman Old Style"/>
              </a:rPr>
              <a:t>Проверь себя?</a:t>
            </a: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3300"/>
                </a:solidFill>
                <a:uFillTx/>
                <a:latin typeface="Bookman Old Style"/>
                <a:hlinkClick r:id="rId1" action="ppaction://hlinksldjump"/>
              </a:rPr>
              <a:t>На каком полуострове находится Индия?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Bookman Old Style"/>
              </a:rPr>
              <a:t>Назови две реки протекающие по её территории.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Bookman Old Style"/>
              </a:rPr>
              <a:t>Гималаи. Что ты знаешь о них?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Bookman Old Style"/>
              </a:rPr>
              <a:t>Кто из обитателей джунглей тебе знаком?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Bookman Old Style"/>
              </a:rPr>
              <a:t>Что ты знаешь о древнейших городах Индии?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Bookman Old Style"/>
              </a:rPr>
              <a:t>Индуизм. Какие из его богов тебе знакомы?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7"/>
          <p:cNvSpPr/>
          <p:nvPr/>
        </p:nvSpPr>
        <p:spPr>
          <a:xfrm>
            <a:off x="2626560" y="4221000"/>
            <a:ext cx="51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УОСТРОВ Индостан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395280" y="580536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661" h="21600">
                <a:moveTo>
                  <a:pt x="12436" y="14281"/>
                </a:moveTo>
                <a:lnTo>
                  <a:pt x="12436" y="12323"/>
                </a:lnTo>
                <a:cubicBezTo>
                  <a:pt x="12436" y="11496"/>
                  <a:pt x="12767" y="10800"/>
                  <a:pt x="13367" y="10800"/>
                </a:cubicBezTo>
                <a:cubicBezTo>
                  <a:pt x="14499" y="10800"/>
                  <a:pt x="15395" y="9434"/>
                  <a:pt x="15395" y="7849"/>
                </a:cubicBezTo>
                <a:cubicBezTo>
                  <a:pt x="15395" y="5534"/>
                  <a:pt x="13541" y="3794"/>
                  <a:pt x="11330" y="3794"/>
                </a:cubicBezTo>
                <a:cubicBezTo>
                  <a:pt x="9120" y="3794"/>
                  <a:pt x="7449" y="5534"/>
                  <a:pt x="7449" y="7849"/>
                </a:cubicBezTo>
                <a:lnTo>
                  <a:pt x="9302" y="7849"/>
                </a:lnTo>
                <a:cubicBezTo>
                  <a:pt x="9302" y="6709"/>
                  <a:pt x="10225" y="5821"/>
                  <a:pt x="11330" y="5821"/>
                </a:cubicBezTo>
                <a:cubicBezTo>
                  <a:pt x="12436" y="5821"/>
                  <a:pt x="13367" y="6709"/>
                  <a:pt x="13367" y="7849"/>
                </a:cubicBezTo>
                <a:cubicBezTo>
                  <a:pt x="13367" y="8589"/>
                  <a:pt x="12897" y="9320"/>
                  <a:pt x="12436" y="9320"/>
                </a:cubicBezTo>
                <a:cubicBezTo>
                  <a:pt x="11330" y="9320"/>
                  <a:pt x="10225" y="10800"/>
                  <a:pt x="10225" y="12323"/>
                </a:cubicBezTo>
                <a:lnTo>
                  <a:pt x="10225" y="14281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64" name="Picture 11" descr="000471"/>
          <p:cNvPicPr/>
          <p:nvPr/>
        </p:nvPicPr>
        <p:blipFill>
          <a:blip r:embed="rId1"/>
          <a:stretch/>
        </p:blipFill>
        <p:spPr>
          <a:xfrm>
            <a:off x="546120" y="404640"/>
            <a:ext cx="4749840" cy="31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539640" y="404640"/>
            <a:ext cx="6770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ИМАЛАИ: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ЮТСЯ ЕСТЕСТВЕННОЙ ЗАЩИТОЙ ИНДИИ ОТ НАПАДЕНИЙ ВРАГОВ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ГРАЖДАЮТ ПУТЬ ХОЛОДНЫМ ВЕТРАМ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ЮТСЯ САМОЙ ВЫСОКОЙ ГОРНОЙ СИСТЕМОЙ В МИРЕ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ВЕРОВАНИЯМ ИНДИЙЦЕВ НА ГИМАЛАЯХ ЖИЛИ БОГИ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395280" y="5950080"/>
            <a:ext cx="611280" cy="54900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4049" h="21600">
                <a:moveTo>
                  <a:pt x="0" y="0"/>
                </a:moveTo>
                <a:lnTo>
                  <a:pt x="24049" y="0"/>
                </a:lnTo>
                <a:lnTo>
                  <a:pt x="24049" y="21600"/>
                </a:lnTo>
                <a:lnTo>
                  <a:pt x="0" y="21600"/>
                </a:lnTo>
                <a:close/>
              </a:path>
              <a:path fill="lightenLess" w="24049" h="21600">
                <a:moveTo>
                  <a:pt x="0" y="0"/>
                </a:moveTo>
                <a:lnTo>
                  <a:pt x="24049" y="0"/>
                </a:lnTo>
                <a:lnTo>
                  <a:pt x="22649" y="1400"/>
                </a:lnTo>
                <a:lnTo>
                  <a:pt x="1400" y="1400"/>
                </a:lnTo>
                <a:close/>
              </a:path>
              <a:path fill="darken" w="24049" h="21600">
                <a:moveTo>
                  <a:pt x="24049" y="0"/>
                </a:moveTo>
                <a:lnTo>
                  <a:pt x="24049" y="21600"/>
                </a:lnTo>
                <a:lnTo>
                  <a:pt x="22649" y="20200"/>
                </a:lnTo>
                <a:lnTo>
                  <a:pt x="22649" y="1400"/>
                </a:lnTo>
                <a:close/>
              </a:path>
              <a:path fill="darkenLess" w="24049" h="21600">
                <a:moveTo>
                  <a:pt x="240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49" y="20200"/>
                </a:lnTo>
                <a:close/>
              </a:path>
              <a:path fill="lighten" w="240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49" h="21600">
                <a:moveTo>
                  <a:pt x="1202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049" h="21600">
                <a:moveTo>
                  <a:pt x="13130" y="14281"/>
                </a:moveTo>
                <a:lnTo>
                  <a:pt x="13130" y="12323"/>
                </a:lnTo>
                <a:cubicBezTo>
                  <a:pt x="13130" y="11496"/>
                  <a:pt x="13460" y="10800"/>
                  <a:pt x="14061" y="10800"/>
                </a:cubicBezTo>
                <a:cubicBezTo>
                  <a:pt x="15193" y="10800"/>
                  <a:pt x="16089" y="9434"/>
                  <a:pt x="16089" y="7849"/>
                </a:cubicBezTo>
                <a:cubicBezTo>
                  <a:pt x="16089" y="5534"/>
                  <a:pt x="14235" y="3794"/>
                  <a:pt x="12024" y="3794"/>
                </a:cubicBezTo>
                <a:cubicBezTo>
                  <a:pt x="9814" y="3794"/>
                  <a:pt x="8143" y="5534"/>
                  <a:pt x="8143" y="7849"/>
                </a:cubicBezTo>
                <a:lnTo>
                  <a:pt x="9996" y="7849"/>
                </a:lnTo>
                <a:cubicBezTo>
                  <a:pt x="9996" y="6709"/>
                  <a:pt x="10919" y="5821"/>
                  <a:pt x="12024" y="5821"/>
                </a:cubicBezTo>
                <a:cubicBezTo>
                  <a:pt x="13130" y="5821"/>
                  <a:pt x="14061" y="6709"/>
                  <a:pt x="14061" y="7849"/>
                </a:cubicBezTo>
                <a:cubicBezTo>
                  <a:pt x="14061" y="8589"/>
                  <a:pt x="13591" y="9320"/>
                  <a:pt x="13130" y="9320"/>
                </a:cubicBezTo>
                <a:cubicBezTo>
                  <a:pt x="12024" y="9320"/>
                  <a:pt x="10919" y="10800"/>
                  <a:pt x="10919" y="12323"/>
                </a:cubicBezTo>
                <a:lnTo>
                  <a:pt x="10919" y="14281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3997440" y="3933720"/>
            <a:ext cx="4714920" cy="26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pic>
        <p:nvPicPr>
          <p:cNvPr id="170" name="Picture 4" descr="000469"/>
          <p:cNvPicPr/>
          <p:nvPr/>
        </p:nvPicPr>
        <p:blipFill>
          <a:blip r:embed="rId1"/>
          <a:stretch/>
        </p:blipFill>
        <p:spPr>
          <a:xfrm>
            <a:off x="-2736720" y="-1509840"/>
            <a:ext cx="14617440" cy="98776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684360" y="0"/>
            <a:ext cx="792000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Климат полуострова очень жаркий и влажный.  Поэтому большая часть территории страны покрыта непроходимыми лесами – джунглями.   Там водится множество зверей и птиц.  Здесь живут огромные слоны, страшные тигры и пантеры, ловкие обезьяны, ядовитые змеи. 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5724360" y="5300640"/>
            <a:ext cx="720720" cy="7192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43" h="21600">
                <a:moveTo>
                  <a:pt x="0" y="0"/>
                </a:moveTo>
                <a:lnTo>
                  <a:pt x="21643" y="0"/>
                </a:lnTo>
                <a:lnTo>
                  <a:pt x="21643" y="21600"/>
                </a:lnTo>
                <a:lnTo>
                  <a:pt x="0" y="21600"/>
                </a:lnTo>
                <a:close/>
              </a:path>
              <a:path fill="lightenLess" w="21643" h="21600">
                <a:moveTo>
                  <a:pt x="0" y="0"/>
                </a:moveTo>
                <a:lnTo>
                  <a:pt x="21643" y="0"/>
                </a:lnTo>
                <a:lnTo>
                  <a:pt x="20243" y="1400"/>
                </a:lnTo>
                <a:lnTo>
                  <a:pt x="1400" y="1400"/>
                </a:lnTo>
                <a:close/>
              </a:path>
              <a:path fill="darken" w="21643" h="21600">
                <a:moveTo>
                  <a:pt x="21643" y="0"/>
                </a:moveTo>
                <a:lnTo>
                  <a:pt x="21643" y="21600"/>
                </a:lnTo>
                <a:lnTo>
                  <a:pt x="20243" y="20200"/>
                </a:lnTo>
                <a:lnTo>
                  <a:pt x="20243" y="1400"/>
                </a:lnTo>
                <a:close/>
              </a:path>
              <a:path fill="darkenLess" w="21643" h="21600">
                <a:moveTo>
                  <a:pt x="21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3" y="20200"/>
                </a:lnTo>
                <a:close/>
              </a:path>
              <a:path fill="lighten" w="21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3" h="21600">
                <a:moveTo>
                  <a:pt x="1082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43" h="21600">
                <a:moveTo>
                  <a:pt x="11927" y="14281"/>
                </a:moveTo>
                <a:lnTo>
                  <a:pt x="11927" y="12323"/>
                </a:lnTo>
                <a:cubicBezTo>
                  <a:pt x="11927" y="11496"/>
                  <a:pt x="12258" y="10800"/>
                  <a:pt x="12858" y="10800"/>
                </a:cubicBezTo>
                <a:cubicBezTo>
                  <a:pt x="13990" y="10800"/>
                  <a:pt x="14886" y="9434"/>
                  <a:pt x="14886" y="7849"/>
                </a:cubicBezTo>
                <a:cubicBezTo>
                  <a:pt x="14886" y="5534"/>
                  <a:pt x="13032" y="3794"/>
                  <a:pt x="10822" y="3794"/>
                </a:cubicBezTo>
                <a:cubicBezTo>
                  <a:pt x="8611" y="3794"/>
                  <a:pt x="6940" y="5534"/>
                  <a:pt x="6940" y="7849"/>
                </a:cubicBezTo>
                <a:lnTo>
                  <a:pt x="8794" y="7849"/>
                </a:lnTo>
                <a:cubicBezTo>
                  <a:pt x="8794" y="6709"/>
                  <a:pt x="9716" y="5821"/>
                  <a:pt x="10822" y="5821"/>
                </a:cubicBezTo>
                <a:cubicBezTo>
                  <a:pt x="11927" y="5821"/>
                  <a:pt x="12858" y="6709"/>
                  <a:pt x="12858" y="7849"/>
                </a:cubicBezTo>
                <a:cubicBezTo>
                  <a:pt x="12858" y="8589"/>
                  <a:pt x="12388" y="9320"/>
                  <a:pt x="11927" y="9320"/>
                </a:cubicBezTo>
                <a:cubicBezTo>
                  <a:pt x="10822" y="9320"/>
                  <a:pt x="9716" y="10800"/>
                  <a:pt x="9716" y="12323"/>
                </a:cubicBezTo>
                <a:lnTo>
                  <a:pt x="9716" y="14281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7"/>
          <p:cNvSpPr/>
          <p:nvPr/>
        </p:nvSpPr>
        <p:spPr>
          <a:xfrm>
            <a:off x="468360" y="5661000"/>
            <a:ext cx="539640" cy="40500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74" h="21600">
                <a:moveTo>
                  <a:pt x="0" y="0"/>
                </a:moveTo>
                <a:lnTo>
                  <a:pt x="28774" y="0"/>
                </a:lnTo>
                <a:lnTo>
                  <a:pt x="28774" y="21600"/>
                </a:lnTo>
                <a:lnTo>
                  <a:pt x="0" y="21600"/>
                </a:lnTo>
                <a:close/>
              </a:path>
              <a:path fill="lightenLess" w="28774" h="21600">
                <a:moveTo>
                  <a:pt x="0" y="0"/>
                </a:moveTo>
                <a:lnTo>
                  <a:pt x="28774" y="0"/>
                </a:lnTo>
                <a:lnTo>
                  <a:pt x="27374" y="1400"/>
                </a:lnTo>
                <a:lnTo>
                  <a:pt x="1400" y="1400"/>
                </a:lnTo>
                <a:close/>
              </a:path>
              <a:path fill="darken" w="28774" h="21600">
                <a:moveTo>
                  <a:pt x="28774" y="0"/>
                </a:moveTo>
                <a:lnTo>
                  <a:pt x="28774" y="21600"/>
                </a:lnTo>
                <a:lnTo>
                  <a:pt x="27374" y="20200"/>
                </a:lnTo>
                <a:lnTo>
                  <a:pt x="27374" y="1400"/>
                </a:lnTo>
                <a:close/>
              </a:path>
              <a:path fill="darkenLess" w="28774" h="21600">
                <a:moveTo>
                  <a:pt x="28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4" y="20200"/>
                </a:lnTo>
                <a:close/>
              </a:path>
              <a:path fill="lighten" w="28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4" h="21600">
                <a:moveTo>
                  <a:pt x="1438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74" h="21600">
                <a:moveTo>
                  <a:pt x="15493" y="14281"/>
                </a:moveTo>
                <a:lnTo>
                  <a:pt x="15493" y="12323"/>
                </a:lnTo>
                <a:cubicBezTo>
                  <a:pt x="15493" y="11496"/>
                  <a:pt x="15823" y="10800"/>
                  <a:pt x="16424" y="10800"/>
                </a:cubicBezTo>
                <a:cubicBezTo>
                  <a:pt x="17555" y="10800"/>
                  <a:pt x="18452" y="9434"/>
                  <a:pt x="18452" y="7849"/>
                </a:cubicBezTo>
                <a:cubicBezTo>
                  <a:pt x="18452" y="5534"/>
                  <a:pt x="16598" y="3794"/>
                  <a:pt x="14387" y="3794"/>
                </a:cubicBezTo>
                <a:cubicBezTo>
                  <a:pt x="12176" y="3794"/>
                  <a:pt x="10505" y="5534"/>
                  <a:pt x="10505" y="7849"/>
                </a:cubicBezTo>
                <a:lnTo>
                  <a:pt x="12359" y="7849"/>
                </a:lnTo>
                <a:cubicBezTo>
                  <a:pt x="12359" y="6709"/>
                  <a:pt x="13282" y="5821"/>
                  <a:pt x="14387" y="5821"/>
                </a:cubicBezTo>
                <a:cubicBezTo>
                  <a:pt x="15493" y="5821"/>
                  <a:pt x="16424" y="6709"/>
                  <a:pt x="16424" y="7849"/>
                </a:cubicBezTo>
                <a:cubicBezTo>
                  <a:pt x="16424" y="8589"/>
                  <a:pt x="15954" y="9320"/>
                  <a:pt x="15493" y="9320"/>
                </a:cubicBezTo>
                <a:cubicBezTo>
                  <a:pt x="14387" y="9320"/>
                  <a:pt x="13282" y="10800"/>
                  <a:pt x="13282" y="12323"/>
                </a:cubicBezTo>
                <a:lnTo>
                  <a:pt x="13282" y="1428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4" name="WordArt 8"/>
          <p:cNvSpPr txBox="1"/>
          <p:nvPr/>
        </p:nvSpPr>
        <p:spPr>
          <a:xfrm>
            <a:off x="1835280" y="907920"/>
            <a:ext cx="6010200" cy="1047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"/>
              </a:rPr>
              <a:t>Мохенджо-Даро и Хараппа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1"/>
          <a:stretch/>
        </p:blipFill>
        <p:spPr>
          <a:xfrm>
            <a:off x="693720" y="1844640"/>
            <a:ext cx="5092560" cy="1995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2"/>
          <a:stretch/>
        </p:blipFill>
        <p:spPr>
          <a:xfrm>
            <a:off x="4362480" y="3573360"/>
            <a:ext cx="4194000" cy="277668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11"/>
          <p:cNvSpPr/>
          <p:nvPr/>
        </p:nvSpPr>
        <p:spPr>
          <a:xfrm>
            <a:off x="0" y="0"/>
            <a:ext cx="971640" cy="692280"/>
          </a:xfrm>
          <a:custGeom>
            <a:avLst/>
            <a:gdLst>
              <a:gd name="textAreaLeft" fmla="*/ 44640 w 971640"/>
              <a:gd name="textAreaRight" fmla="*/ 927000 w 971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0312" h="21600">
                <a:moveTo>
                  <a:pt x="0" y="0"/>
                </a:moveTo>
                <a:lnTo>
                  <a:pt x="30312" y="0"/>
                </a:lnTo>
                <a:lnTo>
                  <a:pt x="30312" y="21600"/>
                </a:lnTo>
                <a:lnTo>
                  <a:pt x="0" y="21600"/>
                </a:lnTo>
                <a:close/>
              </a:path>
              <a:path fill="lightenLess" w="30312" h="21600">
                <a:moveTo>
                  <a:pt x="0" y="0"/>
                </a:moveTo>
                <a:lnTo>
                  <a:pt x="30312" y="0"/>
                </a:lnTo>
                <a:lnTo>
                  <a:pt x="28912" y="1400"/>
                </a:lnTo>
                <a:lnTo>
                  <a:pt x="1400" y="1400"/>
                </a:lnTo>
                <a:close/>
              </a:path>
              <a:path fill="darken" w="30312" h="21600">
                <a:moveTo>
                  <a:pt x="30312" y="0"/>
                </a:moveTo>
                <a:lnTo>
                  <a:pt x="30312" y="21600"/>
                </a:lnTo>
                <a:lnTo>
                  <a:pt x="28912" y="20200"/>
                </a:lnTo>
                <a:lnTo>
                  <a:pt x="28912" y="1400"/>
                </a:lnTo>
                <a:close/>
              </a:path>
              <a:path fill="darkenLess" w="30312" h="21600">
                <a:moveTo>
                  <a:pt x="303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12" y="20200"/>
                </a:lnTo>
                <a:close/>
              </a:path>
              <a:path fill="lighten" w="303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12" h="21600">
                <a:moveTo>
                  <a:pt x="8149" y="10800"/>
                </a:moveTo>
                <a:lnTo>
                  <a:pt x="22162" y="3794"/>
                </a:lnTo>
                <a:lnTo>
                  <a:pt x="22162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5867280" y="1557360"/>
            <a:ext cx="259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чале 20 в. английские археологи обнаружили развалины этих городов.  Особенно их поразил Мохенджо-Даро.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1116000" y="4076640"/>
            <a:ext cx="230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оятно, город строился на протяжении нескольких столетий. Его размеры достигали 250 га.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grpSp>
        <p:nvGrpSpPr>
          <p:cNvPr id="75" name="Group 4"/>
          <p:cNvGrpSpPr/>
          <p:nvPr/>
        </p:nvGrpSpPr>
        <p:grpSpPr>
          <a:xfrm>
            <a:off x="468360" y="476280"/>
            <a:ext cx="8210520" cy="5834160"/>
            <a:chOff x="468360" y="476280"/>
            <a:chExt cx="8210520" cy="5834160"/>
          </a:xfrm>
        </p:grpSpPr>
        <p:pic>
          <p:nvPicPr>
            <p:cNvPr id="76" name="Picture 37" descr=""/>
            <p:cNvPicPr/>
            <p:nvPr/>
          </p:nvPicPr>
          <p:blipFill>
            <a:blip r:embed="rId1"/>
            <a:stretch/>
          </p:blipFill>
          <p:spPr>
            <a:xfrm>
              <a:off x="468360" y="476280"/>
              <a:ext cx="4105080" cy="28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6" descr="7"/>
            <p:cNvPicPr/>
            <p:nvPr/>
          </p:nvPicPr>
          <p:blipFill>
            <a:blip r:embed="rId2"/>
            <a:stretch/>
          </p:blipFill>
          <p:spPr>
            <a:xfrm>
              <a:off x="4788000" y="476280"/>
              <a:ext cx="3890880" cy="28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7" descr="4"/>
            <p:cNvPicPr/>
            <p:nvPr/>
          </p:nvPicPr>
          <p:blipFill>
            <a:blip r:embed="rId3"/>
            <a:stretch/>
          </p:blipFill>
          <p:spPr>
            <a:xfrm>
              <a:off x="6732720" y="3645000"/>
              <a:ext cx="1719000" cy="26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8" descr="2"/>
            <p:cNvPicPr/>
            <p:nvPr/>
          </p:nvPicPr>
          <p:blipFill>
            <a:blip r:embed="rId4"/>
            <a:stretch/>
          </p:blipFill>
          <p:spPr>
            <a:xfrm>
              <a:off x="3132000" y="4005360"/>
              <a:ext cx="2880000" cy="19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9" descr="6"/>
            <p:cNvPicPr/>
            <p:nvPr/>
          </p:nvPicPr>
          <p:blipFill>
            <a:blip r:embed="rId5"/>
            <a:stretch/>
          </p:blipFill>
          <p:spPr>
            <a:xfrm>
              <a:off x="826920" y="3645000"/>
              <a:ext cx="1722600" cy="259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WordArt 8"/>
          <p:cNvSpPr txBox="1"/>
          <p:nvPr/>
        </p:nvSpPr>
        <p:spPr>
          <a:xfrm>
            <a:off x="755640" y="3068640"/>
            <a:ext cx="7772400" cy="4114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651157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00"/>
                    </a:gs>
                  </a:gsLst>
                  <a:lin ang="0"/>
                </a:gradFill>
                <a:latin typeface="Arial"/>
              </a:rPr>
              <a:t>Природа и люди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00"/>
                    </a:gs>
                  </a:gsLst>
                  <a:lin ang="0"/>
                </a:gradFill>
                <a:latin typeface="Arial"/>
              </a:rPr>
              <a:t> </a:t>
            </a: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00"/>
                    </a:gs>
                  </a:gsLst>
                  <a:lin ang="0"/>
                </a:gradFill>
                <a:latin typeface="Arial"/>
              </a:rPr>
              <a:t>Древней Индии.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263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i="1" lang="ru-RU" sz="3600" spc="-1" strike="noStrike" u="sng">
                <a:solidFill>
                  <a:srgbClr val="800000"/>
                </a:solidFill>
                <a:uFillTx/>
                <a:latin typeface="Bookman Old Style"/>
              </a:rPr>
              <a:t>Логическое задание </a:t>
            </a:r>
            <a:br>
              <a:rPr sz="3600"/>
            </a:br>
            <a:r>
              <a:rPr b="1" i="1" lang="ru-RU" sz="3600" spc="-1" strike="noStrike" u="sng">
                <a:solidFill>
                  <a:srgbClr val="800000"/>
                </a:solidFill>
                <a:uFillTx/>
                <a:latin typeface="Bookman Old Style"/>
              </a:rPr>
              <a:t>на урок:</a:t>
            </a:r>
            <a:endParaRPr b="0" lang="en-US" sz="3600" spc="-1" strike="noStrike">
              <a:solidFill>
                <a:srgbClr val="800000"/>
              </a:solidFill>
              <a:latin typeface="Bookman Old Style"/>
            </a:endParaRPr>
          </a:p>
        </p:txBody>
      </p:sp>
      <p:pic>
        <p:nvPicPr>
          <p:cNvPr id="181" name="Picture 5" descr="j0336396"/>
          <p:cNvPicPr/>
          <p:nvPr/>
        </p:nvPicPr>
        <p:blipFill>
          <a:blip r:embed="rId1"/>
          <a:stretch/>
        </p:blipFill>
        <p:spPr>
          <a:xfrm>
            <a:off x="468360" y="549360"/>
            <a:ext cx="1366920" cy="1079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ag00317_"/>
          <p:cNvPicPr/>
          <p:nvPr/>
        </p:nvPicPr>
        <p:blipFill>
          <a:blip r:embed="rId2"/>
          <a:stretch/>
        </p:blipFill>
        <p:spPr>
          <a:xfrm>
            <a:off x="7093080" y="0"/>
            <a:ext cx="1511280" cy="18446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1908000" y="2565360"/>
            <a:ext cx="64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900"/>
                </a:solidFill>
                <a:latin typeface="Bookman Old Style"/>
              </a:rPr>
              <a:t>   </a:t>
            </a:r>
            <a:r>
              <a:rPr b="1" lang="ru-RU" sz="3600" spc="-1" strike="noStrike">
                <a:solidFill>
                  <a:srgbClr val="0033cc"/>
                </a:solidFill>
                <a:latin typeface="Bookman Old Style"/>
              </a:rPr>
              <a:t>Почему греки считали Индию «волшебной сказочной страной»?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84" name="Picture 4" descr="slide0089_image182"/>
          <p:cNvPicPr/>
          <p:nvPr/>
        </p:nvPicPr>
        <p:blipFill>
          <a:blip r:embed="rId3"/>
          <a:stretch/>
        </p:blipFill>
        <p:spPr>
          <a:xfrm>
            <a:off x="250920" y="1916280"/>
            <a:ext cx="2736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0" descr="BOOK5"/>
          <p:cNvPicPr/>
          <p:nvPr/>
        </p:nvPicPr>
        <p:blipFill>
          <a:blip r:embed="rId1"/>
          <a:stretch/>
        </p:blipFill>
        <p:spPr>
          <a:xfrm>
            <a:off x="5435640" y="4581360"/>
            <a:ext cx="3995640" cy="1932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002"/>
          <p:cNvPicPr/>
          <p:nvPr/>
        </p:nvPicPr>
        <p:blipFill>
          <a:blip r:embed="rId2"/>
          <a:stretch/>
        </p:blipFill>
        <p:spPr>
          <a:xfrm>
            <a:off x="179280" y="189000"/>
            <a:ext cx="2046240" cy="191772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395280" y="2419920"/>
            <a:ext cx="853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благоприятные природные и климатические условия,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лодородные земли;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олноводные реки,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защищенность от нападений врагов (Индийский океан, Гималаи);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амятники культуры,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8" name="WordArt 9"/>
          <p:cNvSpPr txBox="1"/>
          <p:nvPr/>
        </p:nvSpPr>
        <p:spPr>
          <a:xfrm>
            <a:off x="3276720" y="476280"/>
            <a:ext cx="47512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удеса Индии: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j0303470"/>
          <p:cNvPicPr/>
          <p:nvPr/>
        </p:nvPicPr>
        <p:blipFill>
          <a:blip r:embed="rId1"/>
          <a:stretch/>
        </p:blipFill>
        <p:spPr>
          <a:xfrm>
            <a:off x="7020000" y="1484280"/>
            <a:ext cx="1617480" cy="16178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800000"/>
                </a:solidFill>
                <a:uFillTx/>
                <a:latin typeface="Bookman Old Style"/>
              </a:rPr>
              <a:t>Термины </a:t>
            </a:r>
            <a:r>
              <a:rPr b="0" lang="ru-RU" sz="4400" spc="-1" strike="noStrike" u="sng">
                <a:solidFill>
                  <a:srgbClr val="800000"/>
                </a:solidFill>
                <a:uFillTx/>
                <a:latin typeface="Bookman Old Style"/>
              </a:rPr>
              <a:t>(в словарик)</a:t>
            </a:r>
            <a:r>
              <a:rPr b="1" lang="ru-RU" sz="4400" spc="-1" strike="noStrike">
                <a:solidFill>
                  <a:srgbClr val="800000"/>
                </a:solidFill>
                <a:latin typeface="Bookman Old Style"/>
              </a:rPr>
              <a:t>:</a:t>
            </a: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789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Индуизм </a:t>
            </a: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- религия Древней 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Индии.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Йога</a:t>
            </a: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 - система физического и духовного совершенствования человека.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Карма</a:t>
            </a: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 - закон перерождений.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Джунгли</a:t>
            </a: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 - густые, </a:t>
            </a:r>
            <a:r>
              <a:rPr b="0" lang="ru-RU" sz="3600" spc="-1" strike="noStrike">
                <a:solidFill>
                  <a:srgbClr val="800000"/>
                </a:solidFill>
                <a:latin typeface="Bookman Old Style"/>
              </a:rPr>
              <a:t>труднопроходимые</a:t>
            </a: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 леса.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>
            <a:off x="684360" y="620640"/>
            <a:ext cx="80676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 забудь записать домашнее задание!</a:t>
            </a:r>
            <a:endParaRPr b="1" lang="en-US" sz="24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187280" y="4508640"/>
            <a:ext cx="67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§ 20, пересказ «Сказания о Раме»</a:t>
            </a:r>
            <a:endParaRPr b="1" lang="en-US" sz="4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94" name="Picture 5" descr="pen"/>
          <p:cNvPicPr/>
          <p:nvPr/>
        </p:nvPicPr>
        <p:blipFill>
          <a:blip r:embed="rId1"/>
          <a:stretch/>
        </p:blipFill>
        <p:spPr>
          <a:xfrm>
            <a:off x="395280" y="314172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a5"/>
          <p:cNvPicPr/>
          <p:nvPr/>
        </p:nvPicPr>
        <p:blipFill>
          <a:blip r:embed="rId2"/>
          <a:stretch/>
        </p:blipFill>
        <p:spPr>
          <a:xfrm>
            <a:off x="7308720" y="4076640"/>
            <a:ext cx="12765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mph" presetID="27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50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43" dur="150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44" dur="150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09120"/>
            <a:ext cx="663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100" spc="-1" strike="noStrike">
                <a:solidFill>
                  <a:srgbClr val="993300"/>
                </a:solidFill>
                <a:latin typeface="Bookman Old Style"/>
              </a:rPr>
              <a:t>План</a:t>
            </a:r>
            <a:r>
              <a:rPr b="1" lang="ru-RU" sz="81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1" lang="ru-RU" sz="8100" spc="-1" strike="noStrike">
                <a:solidFill>
                  <a:srgbClr val="993300"/>
                </a:solidFill>
                <a:latin typeface="Bookman Old Style"/>
              </a:rPr>
              <a:t>урока</a:t>
            </a:r>
            <a:endParaRPr b="0" lang="en-US" sz="81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99640" y="2335320"/>
            <a:ext cx="7340760" cy="32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1.Природные условия Индостана.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2.Жизнь в индийских джунглях.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3.Древнейшие города Индии.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4.Священные животные и боги.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5.Верования древних индийцев.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</p:txBody>
      </p:sp>
      <p:pic>
        <p:nvPicPr>
          <p:cNvPr id="84" name="Picture 4" descr="ag00029_"/>
          <p:cNvPicPr/>
          <p:nvPr/>
        </p:nvPicPr>
        <p:blipFill>
          <a:blip r:embed="rId1"/>
          <a:stretch/>
        </p:blipFill>
        <p:spPr>
          <a:xfrm>
            <a:off x="324000" y="404640"/>
            <a:ext cx="1788840" cy="1511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263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i="1" lang="ru-RU" sz="3600" spc="-1" strike="noStrike" u="sng">
                <a:solidFill>
                  <a:srgbClr val="800000"/>
                </a:solidFill>
                <a:uFillTx/>
                <a:latin typeface="Bookman Old Style"/>
              </a:rPr>
              <a:t>Логическое задание </a:t>
            </a:r>
            <a:br>
              <a:rPr sz="3600"/>
            </a:br>
            <a:r>
              <a:rPr b="1" i="1" lang="ru-RU" sz="3600" spc="-1" strike="noStrike" u="sng">
                <a:solidFill>
                  <a:srgbClr val="800000"/>
                </a:solidFill>
                <a:uFillTx/>
                <a:latin typeface="Bookman Old Style"/>
              </a:rPr>
              <a:t>на урок:</a:t>
            </a:r>
            <a:endParaRPr b="0" lang="en-US" sz="3600" spc="-1" strike="noStrike">
              <a:solidFill>
                <a:srgbClr val="800000"/>
              </a:solidFill>
              <a:latin typeface="Bookman Old Style"/>
            </a:endParaRPr>
          </a:p>
        </p:txBody>
      </p:sp>
      <p:pic>
        <p:nvPicPr>
          <p:cNvPr id="86" name="Picture 5" descr="j0336396"/>
          <p:cNvPicPr/>
          <p:nvPr/>
        </p:nvPicPr>
        <p:blipFill>
          <a:blip r:embed="rId1"/>
          <a:stretch/>
        </p:blipFill>
        <p:spPr>
          <a:xfrm>
            <a:off x="468360" y="549360"/>
            <a:ext cx="1366920" cy="107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ag00317_"/>
          <p:cNvPicPr/>
          <p:nvPr/>
        </p:nvPicPr>
        <p:blipFill>
          <a:blip r:embed="rId2"/>
          <a:stretch/>
        </p:blipFill>
        <p:spPr>
          <a:xfrm>
            <a:off x="7093080" y="0"/>
            <a:ext cx="1511280" cy="18446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971640" y="256536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900"/>
                </a:solidFill>
                <a:latin typeface="Bookman Old Style"/>
              </a:rPr>
              <a:t>   </a:t>
            </a:r>
            <a:r>
              <a:rPr b="1" lang="ru-RU" sz="3600" spc="-1" strike="noStrike">
                <a:solidFill>
                  <a:srgbClr val="0033cc"/>
                </a:solidFill>
                <a:latin typeface="Bookman Old Style"/>
              </a:rPr>
              <a:t>Почему греки считали Индию «волшебной сказочной страной»?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9" name="Picture 17" descr="slide0142_image403"/>
          <p:cNvPicPr/>
          <p:nvPr/>
        </p:nvPicPr>
        <p:blipFill>
          <a:blip r:embed="rId3"/>
          <a:stretch/>
        </p:blipFill>
        <p:spPr>
          <a:xfrm>
            <a:off x="468360" y="4076640"/>
            <a:ext cx="24591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6"/>
          <p:cNvSpPr/>
          <p:nvPr/>
        </p:nvSpPr>
        <p:spPr>
          <a:xfrm>
            <a:off x="7885080" y="65530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571680" y="1571760"/>
            <a:ext cx="4863960" cy="4860720"/>
          </a:xfrm>
          <a:prstGeom prst="rect">
            <a:avLst/>
          </a:prstGeom>
          <a:ln w="0">
            <a:noFill/>
          </a:ln>
        </p:spPr>
      </p:pic>
      <p:sp>
        <p:nvSpPr>
          <p:cNvPr id="92" name="WordArt 10"/>
          <p:cNvSpPr txBox="1"/>
          <p:nvPr/>
        </p:nvSpPr>
        <p:spPr>
          <a:xfrm>
            <a:off x="1116000" y="476280"/>
            <a:ext cx="71485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ическое положение Индии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5435640" y="1341360"/>
            <a:ext cx="331308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на карте географические объекты: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олуостров Индостан</a:t>
            </a:r>
            <a:r>
              <a:rPr b="0" lang="ru-RU" sz="2400" spc="-1" strike="noStrike">
                <a:solidFill>
                  <a:srgbClr val="4fb1a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Arial"/>
              </a:rPr>
              <a:t>Индийский океан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Инд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00"/>
                </a:solidFill>
                <a:uFillTx/>
                <a:latin typeface="Arial"/>
                <a:hlinkClick r:id="rId4" action="ppaction://hlinksldjump"/>
              </a:rPr>
              <a:t>Ганг</a:t>
            </a:r>
            <a:r>
              <a:rPr b="1" lang="ru-RU" sz="2400" spc="-1" strike="noStrike" u="sng">
                <a:solidFill>
                  <a:srgbClr val="9933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3300"/>
                </a:solidFill>
                <a:uFillTx/>
                <a:latin typeface="Arial"/>
                <a:hlinkClick r:id="rId6" action="ppaction://hlinksldjump"/>
              </a:rPr>
              <a:t>Гималаи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</a:rPr>
              <a:t>Мохенджо – Даро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</a:rPr>
              <a:t>Хараппа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-4140360" y="1413000"/>
            <a:ext cx="79218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Индия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представляет собой огромный полуостров, почти материк. 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н отделен от всего окружающего мира </a:t>
            </a:r>
            <a:r>
              <a:rPr b="1" lang="ru-RU" sz="3200" spc="-1" strike="noStrike">
                <a:solidFill>
                  <a:srgbClr val="00cc99"/>
                </a:solidFill>
                <a:latin typeface="Arial"/>
              </a:rPr>
              <a:t>Индийским океаном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и величайшим в мире горным хребтом — </a:t>
            </a:r>
            <a:r>
              <a:rPr b="0" lang="ru-RU" sz="3200" spc="-1" strike="noStrike" u="sng">
                <a:solidFill>
                  <a:srgbClr val="993300"/>
                </a:solidFill>
                <a:uFillTx/>
                <a:latin typeface="Arial"/>
                <a:hlinkClick r:id="rId7" action="ppaction://hlinksldjump"/>
              </a:rPr>
              <a:t>Гималаями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о земле Индии текут две великие реки </a:t>
            </a: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– </a:t>
            </a:r>
            <a:r>
              <a:rPr b="0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Инд </a:t>
            </a: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и</a:t>
            </a:r>
            <a:r>
              <a:rPr b="0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 Ганг</a:t>
            </a: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ало цивилизации в Индии относят к 3 тысячелетию до н.э., когда в долине Инда возникли великие города с высокой культурой и благоустройством —</a:t>
            </a:r>
            <a:r>
              <a:rPr b="0" lang="ru-RU" sz="2800" spc="-1" strike="noStrike" u="sng">
                <a:solidFill>
                  <a:srgbClr val="ff9900"/>
                </a:solidFill>
                <a:uFillTx/>
                <a:latin typeface="Arial"/>
              </a:rPr>
              <a:t>Мохенджо-Даро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800" spc="-1" strike="noStrike" u="sng">
                <a:solidFill>
                  <a:srgbClr val="ff9900"/>
                </a:solidFill>
                <a:uFillTx/>
                <a:latin typeface="Arial"/>
              </a:rPr>
              <a:t>Харапп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5" name="Picture 13" descr="ar18"/>
          <p:cNvPicPr/>
          <p:nvPr/>
        </p:nvPicPr>
        <p:blipFill>
          <a:blip r:embed="rId8"/>
          <a:stretch/>
        </p:blipFill>
        <p:spPr>
          <a:xfrm>
            <a:off x="684360" y="2637000"/>
            <a:ext cx="1371600" cy="590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ar18"/>
          <p:cNvPicPr/>
          <p:nvPr/>
        </p:nvPicPr>
        <p:blipFill>
          <a:blip r:embed="rId9"/>
          <a:stretch/>
        </p:blipFill>
        <p:spPr>
          <a:xfrm>
            <a:off x="250920" y="3213000"/>
            <a:ext cx="1371600" cy="590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10"/>
          <a:stretch/>
        </p:blipFill>
        <p:spPr>
          <a:xfrm>
            <a:off x="810108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j0213508"/>
          <p:cNvPicPr/>
          <p:nvPr/>
        </p:nvPicPr>
        <p:blipFill>
          <a:blip r:embed="rId11"/>
          <a:stretch/>
        </p:blipFill>
        <p:spPr>
          <a:xfrm>
            <a:off x="7596360" y="191628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-0.00208 0.00261 -0.0044 0.00157 -0.00625 C 0.00035 -0.00856 -0.0026 -0.00741 -0.00468 -0.00833 C -0.00694 -0.00949 -0.00885 -0.01111 -0.01093 -0.0125 C -0.06927 -0.01181 -0.12916 -0.02593 -0.18593 -0.00833 C -0.18784 -0.00787 -0.18889 -0.00509 -0.19062 -0.00417 C -0.20312 0.00208 -0.21701 0.00486 -0.22968 0.01042 C -0.2368 0.01366 -0.24462 0.0125 -0.25156 0.01667 C -0.25937 0.0213 -0.26927 0.03009 -0.27812 0.03125 C -0.31458 0.03588 -0.3 0.03333 -0.32187 0.0375 C -0.33246 0.05162 -0.32014 0.0375 -0.33281 0.04583 C -0.3401 0.05069 -0.34722 0.0588 -0.35312 0.06667 C -0.35607 0.08264 -0.3526 0.06736 -0.35937 0.08542 C -0.36354 0.09653 -0.36528 0.10926 -0.36875 0.12083 C -0.37257 0.15185 -0.37031 0.12917 -0.37031 0.18958 E">
                                      <p:cBhvr>
                                        <p:cTn id="10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69 0.06728 C -0.15191 0.05549 -0.17118 0.0504 -0.19532 0.04647 C -0.22396 0.04786 -0.25261 0.04809 -0.28125 0.05063 C -0.28733 0.0511 -0.30712 0.07399 -0.31407 0.07977 C -0.3224 0.0867 -0.33351 0.0911 -0.34063 0.10058 C -0.35695 0.12231 -0.36355 0.15399 -0.37969 0.17549 C -0.38195 0.18451 -0.38629 0.19191 -0.38907 0.20069 C -0.39653 0.22289 -0.3882 0.20532 -0.39532 0.21942 C -0.39636 0.22497 -0.39601 0.23121 -0.39844 0.23607 C -0.39948 0.23815 -0.40087 0.24 -0.40157 0.24231 C -0.40296 0.24624 -0.40382 0.25063 -0.40469 0.2548 C -0.40521 0.25757 -0.40539 0.26058 -0.40625 0.26312 C -0.40695 0.26543 -0.40868 0.26705 -0.40938 0.26936 C -0.41684 0.29156 -0.40851 0.27399 -0.41563 0.28809 C -0.42066 0.32162 -0.41719 0.29503 -0.41719 0.36925 E">
                                      <p:cBhvr>
                                        <p:cTn id="117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5.18519E-006 C -0.01058 -0.01874 -0.01371 -0.01527 -0.02812 -0.02499 C -0.03419 -0.02916 -0.04253 -0.03842 -0.04843 -0.04166 C -0.05243 -0.04397 -0.05676 -0.04421 -0.06093 -0.04583 C -0.06858 -0.0486 -0.07551 -0.05231 -0.0828 -0.05624 C -0.08593 -0.05786 -0.09219 -0.06041 -0.09219 -0.06041 C -0.1 -0.07083 -0.11285 -0.08819 -0.12344 -0.09166 C -0.13247 -0.10948 -0.12049 -0.08842 -0.13125 -0.09999 C -0.13264 -0.10161 -0.13299 -0.10439 -0.13438 -0.10624 C -0.14202 -0.11643 -0.1533 -0.12522 -0.15938 -0.13749 C -0.1625 -0.14374 -0.16702 -0.14907 -0.16875 -0.15624 C -0.17066 -0.16411 -0.1717 -0.17175 -0.175 -0.17916 C -0.17882 -0.18749 -0.18247 -0.19583 -0.18594 -0.20416 C -0.18872 -0.21087 -0.19132 -0.21226 -0.19375 -0.21874 C -0.19445 -0.2206 -0.19445 -0.22314 -0.19531 -0.22499 C -0.19653 -0.22754 -0.19861 -0.22893 -0.2 -0.23124 C -0.20452 -0.23842 -0.20834 -0.24675 -0.2125 -0.25416 C -0.21615 -0.26897 -0.21094 -0.25115 -0.21875 -0.26666 C -0.22483 -0.2787 -0.21459 -0.26782 -0.225 -0.27708 C -0.23281 -0.29259 -0.22275 -0.2736 -0.23281 -0.28958 C -0.24028 -0.30138 -0.23143 -0.28981 -0.23906 -0.30416 C -0.2441 -0.31365 -0.2533 -0.32384 -0.25625 -0.33541 C -0.25747 -0.34027 -0.25747 -0.3456 -0.25938 -0.34999 C -0.26216 -0.35647 -0.26823 -0.36319 -0.27188 -0.36874 C -0.27656 -0.37592 -0.2783 -0.38217 -0.28438 -0.38749 C -0.28542 -0.38958 -0.28611 -0.39212 -0.2875 -0.39374 C -0.28872 -0.39513 -0.29097 -0.39421 -0.29219 -0.39583 C -0.29341 -0.39745 -0.29306 -0.40022 -0.29375 -0.40208 C -0.29653 -0.40948 -0.29792 -0.40925 -0.30313 -0.41458 C -0.3066 -0.42847 -0.31632 -0.43911 -0.32656 -0.44374 C -0.34011 -0.44305 -0.37847 -0.45161 -0.36719 -0.44166 C -0.35469 -0.43055 -0.32188 -0.43958 -0.32188 -0.43958 E">
                                      <p:cBhvr>
                                        <p:cTn id="120" dur="2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7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39 -0.00579 -0.00069 -0.0081 -0.00625 -0.00833 C -0.03073 -0.00972 -0.05521 -0.00972 -0.07968 -0.01042 C -0.09427 -0.0169 -0.1085 -0.02199 -0.12343 -0.02708 C -0.13073 -0.0294 -0.13802 -0.03495 -0.14531 -0.0375 C -0.1526 -0.04005 -0.16007 -0.04097 -0.16718 -0.04375 C -0.20399 -0.05833 -0.17309 -0.05185 -0.2 -0.05625 C -0.22725 -0.06829 -0.18837 -0.05208 -0.22187 -0.0625 C -0.23802 -0.06759 -0.25399 -0.07477 -0.27031 -0.07917 C -0.27795 -0.08588 -0.29687 -0.08958 -0.29687 -0.08958 C -0.31458 -0.10532 -0.3375 -0.10116 -0.35781 -0.10417 C -0.3651 -0.10741 -0.36996 -0.11065 -0.37656 -0.11458 C -0.38107 -0.11736 -0.38646 -0.11713 -0.39062 -0.12083 C -0.39218 -0.12222 -0.39357 -0.12407 -0.39531 -0.125 C -0.40243 -0.12847 -0.40208 -0.12523 -0.40781 -0.12917 C -0.41996 -0.13727 -0.40538 -0.13009 -0.41718 -0.13542 C -0.43541 -0.13264 -0.43125 -0.13958 -0.43125 -0.11667 E">
                                      <p:cBhvr>
                                        <p:cTn id="133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4097 -0.00162 -0.03715 0.00162 -0.06093 -0.00625 C -0.06614 -0.01088 -0.07118 -0.01088 -0.07656 -0.01458 C -0.08802 -0.02222 -0.10034 -0.02431 -0.11093 -0.03125 C -0.11302 -0.03264 -0.11493 -0.03472 -0.11718 -0.03542 C -0.12274 -0.03681 -0.12864 -0.03681 -0.13437 -0.0375 C -0.15955 -0.04861 -0.19271 -0.0412 -0.22031 -0.04375 C -0.22743 -0.05787 -0.23194 -0.0713 -0.23593 -0.0875 C -0.23698 -0.09167 -0.23784 -0.09699 -0.24062 -0.1 C -0.24184 -0.10139 -0.24531 -0.10208 -0.24531 -0.10208 E">
                                      <p:cBhvr>
                                        <p:cTn id="136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1000"/>
                            </p:stCondLst>
                            <p:childTnLst>
                              <p:par>
                                <p:cTn id="1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3.7037E-006 C -0.01544 -0.00254 -0.0276 -0.00648 -0.04218 -0.01041 C -0.05399 -0.02083 -0.03905 -0.00856 -0.05312 -0.01666 C -0.05485 -0.01759 -0.05607 -0.0199 -0.0578 -0.02083 C -0.06996 -0.02801 -0.08402 -0.0331 -0.09687 -0.0375 C -0.10225 -0.04213 -0.10624 -0.04375 -0.11249 -0.04583 C -0.12117 -0.05347 -0.13142 -0.05439 -0.14062 -0.06041 C -0.14774 -0.06504 -0.15485 -0.06828 -0.16249 -0.07083 C -0.16405 -0.07222 -0.16544 -0.07407 -0.16718 -0.075 C -0.17013 -0.07685 -0.17655 -0.07916 -0.17655 -0.07916 C -0.18576 -0.08842 -0.18072 -0.08356 -0.19218 -0.09375 C -0.19374 -0.09514 -0.19687 -0.09791 -0.19687 -0.09791 C -0.19791 -0.1 -0.1986 -0.10231 -0.19999 -0.10416 C -0.20138 -0.10602 -0.20346 -0.10648 -0.20468 -0.10833 C -0.20572 -0.10995 -0.20555 -0.11273 -0.20624 -0.11458 C -0.20885 -0.12152 -0.20937 -0.12083 -0.21405 -0.125 C -0.22239 -0.14166 -0.21145 -0.12152 -0.22187 -0.13541 C -0.22326 -0.13727 -0.22378 -0.13981 -0.22499 -0.14166 C -0.24201 -0.16713 -0.22742 -0.14444 -0.24062 -0.16041 C -0.24878 -0.17037 -0.25642 -0.1868 -0.26718 -0.19166 C -0.27378 -0.20046 -0.28159 -0.20532 -0.28905 -0.2125 C -0.29079 -0.21412 -0.29201 -0.21689 -0.29374 -0.21875 C -0.29513 -0.22037 -0.29687 -0.22152 -0.29843 -0.22291 C -0.29947 -0.225 -0.30034 -0.22731 -0.30155 -0.22916 C -0.30346 -0.23217 -0.30607 -0.23426 -0.3078 -0.2375 C -0.31197 -0.2449 -0.31353 -0.25139 -0.31874 -0.25833 C -0.32135 -0.26875 -0.32708 -0.27777 -0.3328 -0.28541 C -0.33541 -0.2956 -0.33888 -0.30254 -0.3453 -0.30833 C -0.34843 -0.32477 -0.35294 -0.33333 -0.3578 -0.34791 C -0.36041 -0.35555 -0.36197 -0.36481 -0.36405 -0.37291 C -0.36527 -0.37777 -0.36909 -0.38055 -0.3703 -0.38541 C -0.37343 -0.39768 -0.37951 -0.41458 -0.38905 -0.41875 C -0.3901 -0.42083 -0.39062 -0.42361 -0.39218 -0.425 C -0.39947 -0.43102 -0.4118 -0.43356 -0.4203 -0.43541 C -0.42603 -0.43472 -0.43194 -0.43518 -0.43749 -0.43333 C -0.43905 -0.43287 -0.43419 -0.43217 -0.4328 -0.43125 C -0.43107 -0.43009 -0.43003 -0.42754 -0.42812 -0.42708 C -0.41926 -0.42523 -0.41041 -0.42569 -0.40155 -0.425 C -0.39895 -0.4243 -0.38767 -0.42152 -0.38749 -0.42083 C -0.37916 -0.40069 -0.39409 -0.40416 -0.37812 -0.40416 E">
                                      <p:cBhvr>
                                        <p:cTn id="149" dur="2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3000"/>
                            </p:stCondLst>
                            <p:childTnLst>
                              <p:par>
                                <p:cTn id="1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C -0.0085 -0.00578 -0.01632 -0.00972 -0.025 -0.01458 C -0.02968 -0.01736 -0.03524 -0.02268 -0.04062 -0.02291 C -0.05208 -0.02361 -0.06354 -0.0243 -0.075 -0.025 C -0.08385 -0.02662 -0.09288 -0.02708 -0.10156 -0.02916 C -0.11319 -0.03217 -0.11632 -0.0375 -0.125 -0.04583 C -0.13125 -0.05185 -0.1401 -0.05509 -0.14687 -0.06041 C -0.15972 -0.07014 -0.16823 -0.08727 -0.18281 -0.09375 C -0.19496 -0.10995 -0.18038 -0.08912 -0.19062 -0.10833 C -0.19757 -0.12129 -0.20712 -0.13449 -0.21562 -0.14583 C -0.221 -0.16736 -0.24566 -0.18564 -0.25937 -0.19791 C -0.26753 -0.20509 -0.27326 -0.21875 -0.28281 -0.22291 C -0.28854 -0.22546 -0.29305 -0.23009 -0.29843 -0.23333 C -0.30764 -0.23865 -0.31701 -0.24027 -0.32656 -0.24375 C -0.346 -0.25092 -0.36475 -0.26018 -0.38437 -0.26666 C -0.42604 -0.26458 -0.41146 -0.26458 -0.42812 -0.26458 E">
                                      <p:cBhvr>
                                        <p:cTn id="152" dur="2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156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714240" y="857160"/>
            <a:ext cx="7824960" cy="51642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9">
            <a:hlinkClick r:id="" action="ppaction://hlinkshowjump?jump=previousslide"/>
          </p:cNvPr>
          <p:cNvSpPr/>
          <p:nvPr/>
        </p:nvSpPr>
        <p:spPr>
          <a:xfrm>
            <a:off x="7451640" y="595008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10800"/>
                </a:moveTo>
                <a:lnTo>
                  <a:pt x="18915" y="3794"/>
                </a:lnTo>
                <a:lnTo>
                  <a:pt x="18915" y="17806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4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3490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"/>
          <p:cNvPicPr/>
          <p:nvPr/>
        </p:nvPicPr>
        <p:blipFill>
          <a:blip r:embed="rId2"/>
          <a:stretch/>
        </p:blipFill>
        <p:spPr>
          <a:xfrm>
            <a:off x="4680" y="3525840"/>
            <a:ext cx="5067360" cy="3332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0"/>
          <p:cNvSpPr/>
          <p:nvPr/>
        </p:nvSpPr>
        <p:spPr>
          <a:xfrm>
            <a:off x="6498360" y="359244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НГ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4" name="Text Box 21"/>
          <p:cNvSpPr/>
          <p:nvPr/>
        </p:nvSpPr>
        <p:spPr>
          <a:xfrm>
            <a:off x="737280" y="280044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5" name="AutoShape 32">
            <a:hlinkClick r:id="rId3" action="ppaction://hlinksldjump"/>
          </p:cNvPr>
          <p:cNvSpPr/>
          <p:nvPr/>
        </p:nvSpPr>
        <p:spPr>
          <a:xfrm>
            <a:off x="7667640" y="5950080"/>
            <a:ext cx="611280" cy="431640"/>
          </a:xfrm>
          <a:custGeom>
            <a:avLst/>
            <a:gdLst>
              <a:gd name="textAreaLeft" fmla="*/ 27720 w 611280"/>
              <a:gd name="textAreaRight" fmla="*/ 583560 w 611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0582" h="21600">
                <a:moveTo>
                  <a:pt x="0" y="0"/>
                </a:moveTo>
                <a:lnTo>
                  <a:pt x="30582" y="0"/>
                </a:lnTo>
                <a:lnTo>
                  <a:pt x="30582" y="21600"/>
                </a:lnTo>
                <a:lnTo>
                  <a:pt x="0" y="21600"/>
                </a:lnTo>
                <a:close/>
              </a:path>
              <a:path fill="lightenLess" w="30582" h="21600">
                <a:moveTo>
                  <a:pt x="0" y="0"/>
                </a:moveTo>
                <a:lnTo>
                  <a:pt x="30582" y="0"/>
                </a:lnTo>
                <a:lnTo>
                  <a:pt x="29182" y="1400"/>
                </a:lnTo>
                <a:lnTo>
                  <a:pt x="1400" y="1400"/>
                </a:lnTo>
                <a:close/>
              </a:path>
              <a:path fill="darken" w="30582" h="21600">
                <a:moveTo>
                  <a:pt x="30582" y="0"/>
                </a:moveTo>
                <a:lnTo>
                  <a:pt x="30582" y="21600"/>
                </a:lnTo>
                <a:lnTo>
                  <a:pt x="29182" y="20200"/>
                </a:lnTo>
                <a:lnTo>
                  <a:pt x="29182" y="1400"/>
                </a:lnTo>
                <a:close/>
              </a:path>
              <a:path fill="darkenLess" w="30582" h="21600">
                <a:moveTo>
                  <a:pt x="30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82" y="20200"/>
                </a:lnTo>
                <a:close/>
              </a:path>
              <a:path fill="lighten" w="30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82" h="21600">
                <a:moveTo>
                  <a:pt x="8285" y="10800"/>
                </a:moveTo>
                <a:lnTo>
                  <a:pt x="22297" y="3794"/>
                </a:lnTo>
                <a:lnTo>
                  <a:pt x="22297" y="17806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6" name="AutoShape 33">
            <a:hlinkClick r:id="rId4" action="ppaction://hlinksldjump"/>
          </p:cNvPr>
          <p:cNvSpPr/>
          <p:nvPr/>
        </p:nvSpPr>
        <p:spPr>
          <a:xfrm>
            <a:off x="395280" y="1268280"/>
            <a:ext cx="395280" cy="40500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5000"/>
              <a:gd name="textAreaBottom" fmla="*/ 379440 h 405000"/>
            </a:gdLst>
            <a:ahLst/>
            <a:rect l="textAreaLeft" t="textAreaTop" r="textAreaRight" b="textAreaBottom"/>
            <a:pathLst>
              <a:path w="21600" h="22131">
                <a:moveTo>
                  <a:pt x="0" y="0"/>
                </a:moveTo>
                <a:lnTo>
                  <a:pt x="21600" y="0"/>
                </a:lnTo>
                <a:lnTo>
                  <a:pt x="21600" y="22131"/>
                </a:lnTo>
                <a:lnTo>
                  <a:pt x="0" y="22131"/>
                </a:lnTo>
                <a:close/>
              </a:path>
              <a:path fill="lightenLess" w="21600" h="221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31">
                <a:moveTo>
                  <a:pt x="21600" y="0"/>
                </a:moveTo>
                <a:lnTo>
                  <a:pt x="21600" y="22131"/>
                </a:lnTo>
                <a:lnTo>
                  <a:pt x="20200" y="20731"/>
                </a:lnTo>
                <a:lnTo>
                  <a:pt x="20200" y="1400"/>
                </a:lnTo>
                <a:close/>
              </a:path>
              <a:path fill="darkenLess" w="21600" h="22131">
                <a:moveTo>
                  <a:pt x="21600" y="22131"/>
                </a:moveTo>
                <a:lnTo>
                  <a:pt x="0" y="22131"/>
                </a:lnTo>
                <a:lnTo>
                  <a:pt x="1400" y="20731"/>
                </a:lnTo>
                <a:lnTo>
                  <a:pt x="20200" y="20731"/>
                </a:lnTo>
                <a:close/>
              </a:path>
              <a:path fill="lighten" w="21600" h="22131">
                <a:moveTo>
                  <a:pt x="0" y="221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31"/>
                </a:lnTo>
                <a:close/>
              </a:path>
              <a:path fill="darken" w="21600" h="22131">
                <a:moveTo>
                  <a:pt x="10800" y="1506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131">
                <a:moveTo>
                  <a:pt x="11905" y="14547"/>
                </a:moveTo>
                <a:lnTo>
                  <a:pt x="11905" y="12588"/>
                </a:lnTo>
                <a:cubicBezTo>
                  <a:pt x="11905" y="11762"/>
                  <a:pt x="12236" y="11065"/>
                  <a:pt x="12837" y="11065"/>
                </a:cubicBezTo>
                <a:cubicBezTo>
                  <a:pt x="13968" y="11065"/>
                  <a:pt x="14865" y="9699"/>
                  <a:pt x="14865" y="8115"/>
                </a:cubicBezTo>
                <a:cubicBezTo>
                  <a:pt x="14865" y="5800"/>
                  <a:pt x="13011" y="4059"/>
                  <a:pt x="10800" y="4059"/>
                </a:cubicBezTo>
                <a:cubicBezTo>
                  <a:pt x="8589" y="4059"/>
                  <a:pt x="6918" y="5800"/>
                  <a:pt x="6918" y="8115"/>
                </a:cubicBezTo>
                <a:lnTo>
                  <a:pt x="8772" y="8115"/>
                </a:lnTo>
                <a:cubicBezTo>
                  <a:pt x="8772" y="6975"/>
                  <a:pt x="9695" y="6087"/>
                  <a:pt x="10800" y="6087"/>
                </a:cubicBezTo>
                <a:cubicBezTo>
                  <a:pt x="11905" y="6087"/>
                  <a:pt x="12837" y="6975"/>
                  <a:pt x="12837" y="8115"/>
                </a:cubicBezTo>
                <a:cubicBezTo>
                  <a:pt x="12837" y="8855"/>
                  <a:pt x="12367" y="9586"/>
                  <a:pt x="11905" y="9586"/>
                </a:cubicBezTo>
                <a:cubicBezTo>
                  <a:pt x="10800" y="9586"/>
                  <a:pt x="9695" y="11065"/>
                  <a:pt x="9695" y="12588"/>
                </a:cubicBezTo>
                <a:lnTo>
                  <a:pt x="9695" y="14547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1" descr=""/>
          <p:cNvPicPr/>
          <p:nvPr/>
        </p:nvPicPr>
        <p:blipFill>
          <a:blip r:embed="rId1"/>
          <a:stretch/>
        </p:blipFill>
        <p:spPr>
          <a:xfrm>
            <a:off x="6480" y="0"/>
            <a:ext cx="3046320" cy="2273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3" descr=""/>
          <p:cNvPicPr/>
          <p:nvPr/>
        </p:nvPicPr>
        <p:blipFill>
          <a:blip r:embed="rId2"/>
          <a:stretch/>
        </p:blipFill>
        <p:spPr>
          <a:xfrm>
            <a:off x="3851280" y="4292640"/>
            <a:ext cx="1636560" cy="2376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2" descr=""/>
          <p:cNvPicPr/>
          <p:nvPr/>
        </p:nvPicPr>
        <p:blipFill>
          <a:blip r:embed="rId3"/>
          <a:stretch/>
        </p:blipFill>
        <p:spPr>
          <a:xfrm>
            <a:off x="5943600" y="0"/>
            <a:ext cx="3197160" cy="2173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"/>
          <p:cNvPicPr/>
          <p:nvPr/>
        </p:nvPicPr>
        <p:blipFill>
          <a:blip r:embed="rId4"/>
          <a:stretch/>
        </p:blipFill>
        <p:spPr>
          <a:xfrm>
            <a:off x="5873760" y="4292640"/>
            <a:ext cx="2612880" cy="1773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"/>
          <p:cNvPicPr/>
          <p:nvPr/>
        </p:nvPicPr>
        <p:blipFill>
          <a:blip r:embed="rId5"/>
          <a:stretch/>
        </p:blipFill>
        <p:spPr>
          <a:xfrm>
            <a:off x="471600" y="4221000"/>
            <a:ext cx="2836800" cy="20116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4"/>
          <p:cNvSpPr/>
          <p:nvPr/>
        </p:nvSpPr>
        <p:spPr>
          <a:xfrm>
            <a:off x="2408760" y="763560"/>
            <a:ext cx="5109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етвях деревьев гнездились,       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мели, порхали и п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тицы лесные, и всюду..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икой глуши попадалис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кабан, то шакал, то буйвол,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рысь, то пантера..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светлая влага кипела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еством рыб, крокодилов и змей...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.. и ветви обвивши хвостами,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криком качались на них обезьяны,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учьям деревьев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зали, перьями ярко блестя, попугаи...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8151840" y="6589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4" name="AutoShape 16">
            <a:hlinkClick r:id="rId6" action="ppaction://hlinksldjump"/>
          </p:cNvPr>
          <p:cNvSpPr/>
          <p:nvPr/>
        </p:nvSpPr>
        <p:spPr>
          <a:xfrm>
            <a:off x="0" y="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98" h="21600">
                <a:moveTo>
                  <a:pt x="13605" y="14281"/>
                </a:moveTo>
                <a:lnTo>
                  <a:pt x="13605" y="12323"/>
                </a:lnTo>
                <a:cubicBezTo>
                  <a:pt x="13605" y="11496"/>
                  <a:pt x="13935" y="10800"/>
                  <a:pt x="14536" y="10800"/>
                </a:cubicBezTo>
                <a:cubicBezTo>
                  <a:pt x="15667" y="10800"/>
                  <a:pt x="16564" y="9434"/>
                  <a:pt x="16564" y="7849"/>
                </a:cubicBezTo>
                <a:cubicBezTo>
                  <a:pt x="16564" y="5534"/>
                  <a:pt x="14710" y="3794"/>
                  <a:pt x="12499" y="3794"/>
                </a:cubicBezTo>
                <a:cubicBezTo>
                  <a:pt x="10288" y="3794"/>
                  <a:pt x="8617" y="5534"/>
                  <a:pt x="8617" y="7849"/>
                </a:cubicBezTo>
                <a:lnTo>
                  <a:pt x="10471" y="7849"/>
                </a:lnTo>
                <a:cubicBezTo>
                  <a:pt x="10471" y="6709"/>
                  <a:pt x="11394" y="5821"/>
                  <a:pt x="12499" y="5821"/>
                </a:cubicBezTo>
                <a:cubicBezTo>
                  <a:pt x="13605" y="5821"/>
                  <a:pt x="14536" y="6709"/>
                  <a:pt x="14536" y="7849"/>
                </a:cubicBezTo>
                <a:cubicBezTo>
                  <a:pt x="14536" y="8589"/>
                  <a:pt x="14066" y="9320"/>
                  <a:pt x="13605" y="9320"/>
                </a:cubicBezTo>
                <a:cubicBezTo>
                  <a:pt x="12499" y="9320"/>
                  <a:pt x="11394" y="10800"/>
                  <a:pt x="11394" y="12323"/>
                </a:cubicBezTo>
                <a:lnTo>
                  <a:pt x="11394" y="1428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647640"/>
          </a:xfrm>
          <a:prstGeom prst="rect">
            <a:avLst/>
          </a:prstGeom>
          <a:solidFill>
            <a:srgbClr val="003300"/>
          </a:solidFill>
          <a:ln w="76320">
            <a:solidFill>
              <a:srgbClr val="00cc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Природные условия Индостана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32000" y="1341360"/>
            <a:ext cx="380988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Bookman Old Style"/>
              </a:rPr>
              <a:t>Рассмотрите карту полуострова Индостан. Вспомните и опишите его природные условия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Bookman Old Style"/>
              </a:rPr>
              <a:t>Как вы думаете, чем могли заниматься жители Древней Индии</a:t>
            </a:r>
            <a:r>
              <a:rPr b="1" lang="en-US" sz="2400" spc="-1" strike="noStrike">
                <a:solidFill>
                  <a:srgbClr val="cc6600"/>
                </a:solidFill>
                <a:latin typeface="Bookman Old Style"/>
              </a:rPr>
              <a:t>?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</p:txBody>
      </p:sp>
      <p:pic>
        <p:nvPicPr>
          <p:cNvPr id="117" name="Picture 4" descr="Рисунок1"/>
          <p:cNvPicPr/>
          <p:nvPr/>
        </p:nvPicPr>
        <p:blipFill>
          <a:blip r:embed="rId2"/>
          <a:stretch/>
        </p:blipFill>
        <p:spPr>
          <a:xfrm>
            <a:off x="611280" y="1052640"/>
            <a:ext cx="4035240" cy="5271840"/>
          </a:xfrm>
          <a:prstGeom prst="rect">
            <a:avLst/>
          </a:prstGeom>
          <a:ln w="76320">
            <a:solidFill>
              <a:srgbClr val="00cc99"/>
            </a:solidFill>
            <a:miter/>
          </a:ln>
        </p:spPr>
      </p:pic>
      <p:pic>
        <p:nvPicPr>
          <p:cNvPr id="118" name="Picture 13" descr="ar41"/>
          <p:cNvPicPr/>
          <p:nvPr/>
        </p:nvPicPr>
        <p:blipFill>
          <a:blip r:embed="rId3"/>
          <a:stretch/>
        </p:blipFill>
        <p:spPr>
          <a:xfrm>
            <a:off x="5580000" y="6021360"/>
            <a:ext cx="579600" cy="2905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3"/>
          <p:cNvSpPr/>
          <p:nvPr/>
        </p:nvSpPr>
        <p:spPr>
          <a:xfrm>
            <a:off x="4474080" y="5950080"/>
            <a:ext cx="138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00"/>
                </a:solidFill>
                <a:uFillTx/>
                <a:latin typeface="Bookman Old Style"/>
                <a:hlinkClick r:id="rId4"/>
              </a:rPr>
              <a:t>Ф.1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7:30:54Z</dcterms:created>
  <dc:creator>ПРИЛУКОВЫ</dc:creator>
  <dc:description/>
  <dc:language>en-US</dc:language>
  <cp:lastModifiedBy>Елена</cp:lastModifiedBy>
  <dcterms:modified xsi:type="dcterms:W3CDTF">2010-04-14T08:34:28Z</dcterms:modified>
  <cp:revision>54</cp:revision>
  <dc:subject/>
  <dc:title>Слайд 1</dc:title>
</cp:coreProperties>
</file>