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FF07-C2CE-42D3-9063-8D7FFD9F8A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1786-32D5-4691-8BF1-20B44ECBA4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F332-7C81-4222-91BA-4B8AC1D4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8049-0D3D-412A-B7E7-3270B76D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4D5D-88F2-4E46-AAE5-B1C409E90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76A7-9164-4713-9CFF-48C94CE6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2A0A-0DDF-4170-91F0-7F524458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80C7-46B3-4A23-9E7D-FFC13AFA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9324-2B9F-4642-AA11-208EE53F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1171-7DBA-4BDA-8E74-1638F9CD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FDCE-299B-4A58-8440-E363137C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9B73-D617-4E29-AF09-F2252B8E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9078-BC2C-4B41-93F3-D72BA312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44AE-6482-4CEC-A6A7-19813624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4681-C570-48D5-9472-89720D76DB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2"/>
          <a:stretch/>
        </p:blipFill>
        <p:spPr>
          <a:xfrm>
            <a:off x="609480" y="914400"/>
            <a:ext cx="7772400" cy="146844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5" descr=""/>
          <p:cNvPicPr/>
          <p:nvPr/>
        </p:nvPicPr>
        <p:blipFill>
          <a:blip r:embed="rId3"/>
          <a:stretch/>
        </p:blipFill>
        <p:spPr>
          <a:xfrm>
            <a:off x="865080" y="2352600"/>
            <a:ext cx="736452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3" descr=""/>
          <p:cNvPicPr/>
          <p:nvPr/>
        </p:nvPicPr>
        <p:blipFill>
          <a:blip r:embed="rId1"/>
          <a:stretch/>
        </p:blipFill>
        <p:spPr>
          <a:xfrm rot="21088200">
            <a:off x="4452480" y="4743360"/>
            <a:ext cx="1094040" cy="18525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25" descr=""/>
          <p:cNvPicPr/>
          <p:nvPr/>
        </p:nvPicPr>
        <p:blipFill>
          <a:blip r:embed="rId2"/>
          <a:stretch/>
        </p:blipFill>
        <p:spPr>
          <a:xfrm rot="729600">
            <a:off x="6652800" y="4759200"/>
            <a:ext cx="1355760" cy="18669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34" descr=""/>
          <p:cNvPicPr/>
          <p:nvPr/>
        </p:nvPicPr>
        <p:blipFill>
          <a:blip r:embed="rId3"/>
          <a:stretch/>
        </p:blipFill>
        <p:spPr>
          <a:xfrm rot="550800">
            <a:off x="1885680" y="4692600"/>
            <a:ext cx="1317600" cy="1998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1" descr=""/>
          <p:cNvPicPr/>
          <p:nvPr/>
        </p:nvPicPr>
        <p:blipFill>
          <a:blip r:embed="rId4"/>
          <a:stretch/>
        </p:blipFill>
        <p:spPr>
          <a:xfrm rot="20028000">
            <a:off x="441360" y="5178240"/>
            <a:ext cx="979560" cy="146340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1" descr=""/>
          <p:cNvPicPr/>
          <p:nvPr/>
        </p:nvPicPr>
        <p:blipFill>
          <a:blip r:embed="rId5"/>
          <a:stretch/>
        </p:blipFill>
        <p:spPr>
          <a:xfrm>
            <a:off x="628560" y="-19080"/>
            <a:ext cx="6991560" cy="1457280"/>
          </a:xfrm>
          <a:prstGeom prst="rect">
            <a:avLst/>
          </a:prstGeom>
          <a:ln w="0">
            <a:noFill/>
          </a:ln>
        </p:spPr>
      </p:pic>
      <p:sp>
        <p:nvSpPr>
          <p:cNvPr id="94" name="TextBox 2"/>
          <p:cNvSpPr/>
          <p:nvPr/>
        </p:nvSpPr>
        <p:spPr>
          <a:xfrm>
            <a:off x="685800" y="914400"/>
            <a:ext cx="68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имать и точно выполнять зад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609480" y="12841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овать по образцу, в заданном тем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692280" y="1606680"/>
            <a:ext cx="53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еть причинно-следственные связ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685800" y="1930320"/>
            <a:ext cx="727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имательно слушать, ориентироваться во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692280" y="2298600"/>
            <a:ext cx="44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оминать и называть по памя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692280" y="2554200"/>
            <a:ext cx="82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хранять правильную осанку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ледить за аккуратностью своего вн. ви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692280" y="2922480"/>
            <a:ext cx="60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ять основные физические упраж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692280" y="3625920"/>
            <a:ext cx="53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 стеснения находиться в коллективе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692280" y="3292560"/>
            <a:ext cx="72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ть вежливо общаться с взрослыми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зговаривать спокой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692280" y="3995640"/>
            <a:ext cx="787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ьчику – пропускать девочек и женщин впере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685800" y="4363920"/>
            <a:ext cx="66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необходимости обращаться за медицинской помощ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Прямоугольник 3" descr=""/>
          <p:cNvPicPr/>
          <p:nvPr/>
        </p:nvPicPr>
        <p:blipFill>
          <a:blip r:embed="rId1"/>
          <a:stretch/>
        </p:blipFill>
        <p:spPr>
          <a:xfrm>
            <a:off x="0" y="122400"/>
            <a:ext cx="9906120" cy="2286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685440" y="1980720"/>
            <a:ext cx="80773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 развит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знательный, активный, интересуется новы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о отзывчи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девший средствами общения и способами взаимодейств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ый управлять своим поведе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ый решать интеллектуальные и личностные задачи (проблемы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щий первичные представления о себе, семье, обществе, государстве, мире и прир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девший универсальными предпосылками учеб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девший необходимыми умениями и навы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амилия, имя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та рождения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ой возраст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мя и отчество родителей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машний адрес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какой стране живет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ние животных (диких, домашних, северных и южных стран)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ние растений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ние профессий, видов спорта, транспорта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ыт людей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еть объяснить закономерности природных явлений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ремена года, месяцы по сезонам, дни недели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Прямоугольник 4" descr=""/>
          <p:cNvPicPr/>
          <p:nvPr/>
        </p:nvPicPr>
        <p:blipFill>
          <a:blip r:embed="rId1"/>
          <a:stretch/>
        </p:blipFill>
        <p:spPr>
          <a:xfrm>
            <a:off x="1670040" y="133200"/>
            <a:ext cx="6559560" cy="14576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"/>
          <p:cNvPicPr/>
          <p:nvPr/>
        </p:nvPicPr>
        <p:blipFill>
          <a:blip r:embed="rId2"/>
          <a:stretch/>
        </p:blipFill>
        <p:spPr>
          <a:xfrm>
            <a:off x="6676920" y="1447920"/>
            <a:ext cx="2009880" cy="16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6840" y="1218960"/>
            <a:ext cx="6172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различать по внешнему виду растения, распространённые в нашей местности (например, ель, сосна, берёза, дуб, подсолнух, ромашка) и называть их отличительные признаки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уметь различать диких и домашних животных ( медведь, белка, корова, заяц, коза)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уметь различать по внешнему виду птиц (например, дятел, воробей, сорока)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иметь представление о сезонных признаках природы (например, осень – жёлтые и красные листья на деревьях, увядающая трава, сбор урожая…)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 названия 1-3 комнатных растений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знать названия 12 месяцев года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знать названия всех дней недели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в какой стране он живёт, в каком городе, на какой улице, в каком доме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полные имена членов своей семьи, иметь общие понятия о различных видах их деятельности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знать правила поведения в общественных местах и на ули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3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6939000" y="3733920"/>
            <a:ext cx="1967040" cy="281916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3" descr=""/>
          <p:cNvPicPr/>
          <p:nvPr/>
        </p:nvPicPr>
        <p:blipFill>
          <a:blip r:embed="rId2"/>
          <a:stretch/>
        </p:blipFill>
        <p:spPr>
          <a:xfrm>
            <a:off x="1133640" y="133200"/>
            <a:ext cx="7169040" cy="14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должны: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меть представление о сезонных изменениях в природе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ределять состояние погоды: солнечно, пасмурно, выпал сне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Прямоугольник 3" descr=""/>
          <p:cNvPicPr/>
          <p:nvPr/>
        </p:nvPicPr>
        <p:blipFill>
          <a:blip r:embed="rId1"/>
          <a:stretch/>
        </p:blipFill>
        <p:spPr>
          <a:xfrm>
            <a:off x="1298520" y="66600"/>
            <a:ext cx="6626160" cy="8604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"/>
          <p:cNvPicPr/>
          <p:nvPr/>
        </p:nvPicPr>
        <p:blipFill>
          <a:blip r:embed="rId2"/>
          <a:stretch/>
        </p:blipFill>
        <p:spPr>
          <a:xfrm>
            <a:off x="6980400" y="4224240"/>
            <a:ext cx="1706400" cy="212112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" descr=""/>
          <p:cNvPicPr/>
          <p:nvPr/>
        </p:nvPicPr>
        <p:blipFill>
          <a:blip r:embed="rId3"/>
          <a:stretch/>
        </p:blipFill>
        <p:spPr>
          <a:xfrm>
            <a:off x="1603440" y="1603440"/>
            <a:ext cx="5516640" cy="57924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762120" y="2184480"/>
            <a:ext cx="6629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должны знать: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звание нашей страны и её столицы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лаг, герб России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звание родного города, села, свой адрес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должны иметь представление: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всенародных праздниках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труде людей в городе и сельской местности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должны уметь рассказывать о своей семье.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066320" y="609480"/>
            <a:ext cx="769644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должны иметь представление: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 домашних и диких животных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 перелетных и зимующих птицах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 зависимости изменений в живой природе от изменений в неживой природе. 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3" descr=""/>
          <p:cNvPicPr/>
          <p:nvPr/>
        </p:nvPicPr>
        <p:blipFill>
          <a:blip r:embed="rId1"/>
          <a:stretch/>
        </p:blipFill>
        <p:spPr>
          <a:xfrm>
            <a:off x="1603440" y="73080"/>
            <a:ext cx="6095880" cy="8604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1" descr=""/>
          <p:cNvPicPr/>
          <p:nvPr/>
        </p:nvPicPr>
        <p:blipFill>
          <a:blip r:embed="rId2"/>
          <a:stretch/>
        </p:blipFill>
        <p:spPr>
          <a:xfrm>
            <a:off x="2133720" y="1957320"/>
            <a:ext cx="4475160" cy="944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838080" y="25146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должны иметь представление: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 условиях необходимых для роста растений;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лесных ягодах и грибах;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 овощах и фруктах;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деревьях, кустарниках и цветах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должны уметь различать и называть деревья по коре, листьям, плодам.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Прямоугольник 2" descr=""/>
          <p:cNvPicPr/>
          <p:nvPr/>
        </p:nvPicPr>
        <p:blipFill>
          <a:blip r:embed="rId3"/>
          <a:stretch/>
        </p:blipFill>
        <p:spPr>
          <a:xfrm>
            <a:off x="3432240" y="4194000"/>
            <a:ext cx="1981080" cy="64620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838080" y="4836960"/>
            <a:ext cx="7620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должны уметь: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личать и называть части суток и их последовательность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нимать значение понятий «вчера», «сегодня», «завтра»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ть дни недели, их последовательность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еть называть месяцы года.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305000"/>
            <a:ext cx="822960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ть цифры (от 0 до 9)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зывать числа в прямом и обратном порядке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шать элементарные задачи на сложение и вычитание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относить цифру и число предметов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иентироваться на листе бумаги в клетку (графический диктант)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должны знать: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став чисел первого десятка (из отдельных единиц)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став чисел из двух меньших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Прямоугольник 3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686800" cy="117000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1" descr=""/>
          <p:cNvPicPr/>
          <p:nvPr/>
        </p:nvPicPr>
        <p:blipFill>
          <a:blip r:embed="rId2"/>
          <a:stretch/>
        </p:blipFill>
        <p:spPr>
          <a:xfrm>
            <a:off x="993600" y="3736800"/>
            <a:ext cx="762012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TextBox 4" descr=""/>
          <p:cNvPicPr/>
          <p:nvPr/>
        </p:nvPicPr>
        <p:blipFill>
          <a:blip r:embed="rId3"/>
          <a:stretch/>
        </p:blipFill>
        <p:spPr>
          <a:xfrm>
            <a:off x="701640" y="4286160"/>
            <a:ext cx="82170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533520" y="7621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lvl="3" marL="1167840" indent="-166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ойчивость (сравнение 2-х картинок с 10-15 различиями)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ключение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спределение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Прямоугольник 2" descr=""/>
          <p:cNvPicPr/>
          <p:nvPr/>
        </p:nvPicPr>
        <p:blipFill>
          <a:blip r:embed="rId1"/>
          <a:stretch/>
        </p:blipFill>
        <p:spPr>
          <a:xfrm>
            <a:off x="384120" y="1957320"/>
            <a:ext cx="5029200" cy="85896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3" descr=""/>
          <p:cNvPicPr/>
          <p:nvPr/>
        </p:nvPicPr>
        <p:blipFill>
          <a:blip r:embed="rId2"/>
          <a:stretch/>
        </p:blipFill>
        <p:spPr>
          <a:xfrm>
            <a:off x="993600" y="208080"/>
            <a:ext cx="4797720" cy="85860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838080" y="2666880"/>
            <a:ext cx="781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втор 10 слов или цифр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поминание картинок, фигур, символов (до 10 шт.)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сказ текстов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Прямоугольник 1" descr=""/>
          <p:cNvPicPr/>
          <p:nvPr/>
        </p:nvPicPr>
        <p:blipFill>
          <a:blip r:embed="rId3"/>
          <a:stretch/>
        </p:blipFill>
        <p:spPr>
          <a:xfrm>
            <a:off x="689040" y="3565440"/>
            <a:ext cx="3979800" cy="58572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685800" y="3962520"/>
            <a:ext cx="4724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ределение четвертого лишнего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лассификация, обобщение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ходство/различия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ение решать логические задачи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ложение фигур из частей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ложение из счетных палочек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тройки из кубиков по чертежу, счет использованных кубиков.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4"/>
          <a:stretch/>
        </p:blipFill>
        <p:spPr>
          <a:xfrm>
            <a:off x="5805360" y="3568680"/>
            <a:ext cx="238608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одержимое 2" descr=""/>
          <p:cNvPicPr/>
          <p:nvPr/>
        </p:nvPicPr>
        <p:blipFill>
          <a:blip r:embed="rId1"/>
          <a:stretch/>
        </p:blipFill>
        <p:spPr>
          <a:xfrm>
            <a:off x="573120" y="1146240"/>
            <a:ext cx="8210520" cy="199872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1" descr=""/>
          <p:cNvPicPr/>
          <p:nvPr/>
        </p:nvPicPr>
        <p:blipFill>
          <a:blip r:embed="rId2"/>
          <a:stretch/>
        </p:blipFill>
        <p:spPr>
          <a:xfrm>
            <a:off x="3432240" y="122400"/>
            <a:ext cx="2273400" cy="106668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3" descr=""/>
          <p:cNvPicPr/>
          <p:nvPr/>
        </p:nvPicPr>
        <p:blipFill>
          <a:blip r:embed="rId3"/>
          <a:stretch/>
        </p:blipFill>
        <p:spPr>
          <a:xfrm>
            <a:off x="1755720" y="3108240"/>
            <a:ext cx="6016680" cy="58572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914400" y="4037040"/>
            <a:ext cx="6324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должны уметь: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равнивать, группировать, классифицировать предметы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зывать материалы, из которых они изготовлены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нимать значение обобщающих слов. 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27040" y="3700440"/>
            <a:ext cx="404496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должны уметь: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ямо и твердо ходить, бегать, прыгать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очно ловить и кидать мяч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протяжении некоторого времени носить не очень легкие вещи, большие предметы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стегивать пуговицы, завязывать шнурки. 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Прямоугольник 3" descr=""/>
          <p:cNvPicPr/>
          <p:nvPr/>
        </p:nvPicPr>
        <p:blipFill>
          <a:blip r:embed="rId1"/>
          <a:stretch/>
        </p:blipFill>
        <p:spPr>
          <a:xfrm>
            <a:off x="536400" y="3041640"/>
            <a:ext cx="4114800" cy="85392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1" descr=""/>
          <p:cNvPicPr/>
          <p:nvPr/>
        </p:nvPicPr>
        <p:blipFill>
          <a:blip r:embed="rId2"/>
          <a:stretch/>
        </p:blipFill>
        <p:spPr>
          <a:xfrm>
            <a:off x="3432240" y="3809880"/>
            <a:ext cx="5559480" cy="586080"/>
          </a:xfrm>
          <a:prstGeom prst="rect">
            <a:avLst/>
          </a:prstGeom>
          <a:ln w="0">
            <a:noFill/>
          </a:ln>
        </p:spPr>
      </p:pic>
      <p:sp>
        <p:nvSpPr>
          <p:cNvPr id="85" name="TextBox 2"/>
          <p:cNvSpPr/>
          <p:nvPr/>
        </p:nvSpPr>
        <p:spPr>
          <a:xfrm>
            <a:off x="4648320" y="4394160"/>
            <a:ext cx="4343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должны уметь: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водить прямые, не дрожащие линии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«видеть» строку и писать в ней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деть клеточки и точно вести по ним рису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4419720" y="228600"/>
            <a:ext cx="4724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авильно держать ручку, карандаш, кисточку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еть чертить прямую линию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исать печатную букву по образцу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резать из бумаги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ккуратно клеить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исовать как отдельные образцы, так и сюжетные картинки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епить как отдельные образы, так и целые композиции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готавливать аппликации.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Прямоугольник 4" descr=""/>
          <p:cNvPicPr/>
          <p:nvPr/>
        </p:nvPicPr>
        <p:blipFill>
          <a:blip r:embed="rId3"/>
          <a:stretch/>
        </p:blipFill>
        <p:spPr>
          <a:xfrm>
            <a:off x="689040" y="341280"/>
            <a:ext cx="3730680" cy="1176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4"/>
          <a:stretch/>
        </p:blipFill>
        <p:spPr>
          <a:xfrm>
            <a:off x="1905120" y="1308240"/>
            <a:ext cx="182232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ena Kindyakova</dc:creator>
  <dc:description/>
  <dc:language>en-US</dc:language>
  <cp:lastModifiedBy>1</cp:lastModifiedBy>
  <dcterms:modified xsi:type="dcterms:W3CDTF">2016-03-23T09:22:01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