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F04-0850-474A-A464-993A0075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858-D790-4A89-BB57-133EAD5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791-E270-4CFE-977C-DD017790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B5B-2C92-44D2-8523-006C66A8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F4C-F019-4FF7-8EFF-CA58EADA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37CE-7C0A-4C88-853E-3E0B727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2DBC-58D6-44AF-BD67-0281481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1176-2E44-459B-98E2-B9E1547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361-298B-4E32-9778-7DA2045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9CB4-3A86-4854-87A6-24DB105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EE1-1E7B-40C9-B1F8-D8A7F47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88C-909F-4F02-B38E-12F9100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A2E-BE69-428C-B935-17C7639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26B-9FD6-4F4F-957B-37F759D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BA50-E294-454E-A6B2-CEE319A8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3387-2E68-4212-9A98-05CFB7B9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A86D-7213-44F6-A260-076E2CC6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5748-755C-449E-9E8C-9DB5A3EE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4349-67AA-40DC-8070-1B69793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6ECC-0038-4458-8276-A25DBEFE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9D16-FD16-49E5-9843-3387F5F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CC71-2D26-43A9-8752-0B99072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4C4-6E6F-44C2-ADBF-D9204A4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6C79-9196-468F-940F-F4E13E7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75FE-0FE4-4580-BE7F-C162025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225B-BBD9-4880-BA7E-873930B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6E52-2319-41CC-B576-041093A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6CF2-386E-49FD-AFA7-8378DD7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19CC-8744-4B5D-9026-EFA0CF2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6471-B616-4855-8221-764BA33A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B249-555B-4C65-AA19-4084FA33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5A4E-26A7-429B-930E-A63E5F0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89AF-0F8A-461B-A4B7-1D96294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C6E-7A5E-41B3-A381-4395813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B7A4-7DE0-4876-A6D1-23E46421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F910-C878-4635-9CE8-530CAA7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9CDD-72BC-47FE-84E6-421B3F4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ABE2-87DD-40F6-B87B-0111A9C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981F-33E3-4CD4-9726-4BD2E68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457A-69A9-4751-8B1B-2E34FF6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02DA-5C89-4C74-B2D6-EF76FE3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FB72-14A0-451D-8EED-0DC34D8A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FC8A-D08A-4F7A-9D1A-FCAAE7A8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8052-C10F-4E1B-9AE8-137BAB70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D7F-92C4-45D0-8E22-3628910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A1C7-3692-4EEC-91BD-D3F1C55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FFF8-6D3B-4E30-B490-DB2AEE5C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9AE1-77C7-412A-B1D1-7774733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0B5E-76D9-45E4-804E-9D11C2C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FE83-077B-4C9F-A946-A16F8C0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6B12-D3DD-474F-9E92-105420B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5F85-7C8C-42EE-ABED-4ACA587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D257-4C5F-4BB0-B789-6AA1098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D0F4-DED9-4DE5-BEDC-EC13A30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089F-CD42-4D9C-AD5C-DE982CF2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945-B828-4B61-865E-F2ED5B6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042A-55C0-4233-891A-92CBFB2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66B4-F51D-4E60-A6B4-4C398C1F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E6E3F-F378-40FC-BA81-8E827591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AC9B-803F-41A7-A7CD-E9AA239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9DF8-A394-45F6-8430-63A53EC5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6A25-2171-4C43-8675-470C0FB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B369-767A-4E8B-A015-E94842D2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9F41-BBD8-4CCF-B302-154C4A6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3DC6-20AE-4F78-BF71-5D526719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EC3D-DB76-46E1-A9CD-923277B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C9E-42EB-4448-A382-CD46C03D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FA03-CF73-4173-BCC7-C453A3B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01F4E-68B9-4796-B2E1-E5EF7435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03D7-F9E4-4CC9-9CDC-EAE5744F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AE23-59DB-4D5A-8E46-CA0C7868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3F61-FDCB-4E30-8CC6-7857C789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E90B1-33E8-43C2-A6D0-44F1AF37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D5A5-F6DB-452E-92FE-522CD04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71F89-F7D8-472D-8BBA-2591DC2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3C82-85FB-4D04-B232-E4D2101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07F6-2D9D-4BED-BF15-8ACFE76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9D0-992A-4A12-BE6E-9D0DB9B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B28E-2564-4231-8195-E2FB381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2251-DD6F-4524-A33F-6100213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44F8-4BA3-4266-9782-0523ACC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0ECA-0483-4791-B89B-449021E7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93B6-012E-49E7-8452-EF3FC9B1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062-379B-4D43-9812-70A9991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34B-3CCE-459E-9D40-A523CF4AA35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05A-3616-4518-B825-24EDF64535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0A2-D685-4301-B48B-956B48F745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EAC0-BFB8-48DA-90CE-71FBE40742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7B2-CC81-41A6-B240-AA63E0154D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FEBA-79AA-4764-B5D2-BABA7936EA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D28E-C95C-4753-A110-FA871B690F0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66F9-3A56-4091-92BE-7E7FDCD956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096-7EF0-4BF4-A6CB-57AECC69C9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A42-D9AB-475C-870B-DD1BF3F37D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094-6651-4C89-BCC0-115DBCCE3E1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EFA-96DF-4EEF-A803-651141C114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997-7D1F-4B89-B64B-3267287077B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3E60-E907-4841-BEC4-9FCC15AB6F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sdn.ru/museum/catalogue/exhibit9159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ановка проблемы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71920" y="1785600"/>
            <a:ext cx="5572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цепь велика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– расскочилася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им концом по барину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гим – по мужику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muzruk.info/wp-content/uploads/2012/04/nekrasov1.jpg"/>
          <p:cNvPicPr/>
          <p:nvPr/>
        </p:nvPicPr>
        <p:blipFill>
          <a:blip r:embed="rId1"/>
          <a:stretch/>
        </p:blipFill>
        <p:spPr>
          <a:xfrm>
            <a:off x="71280" y="1585800"/>
            <a:ext cx="4000680" cy="462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8C4-4614-4D0D-AED6-EF4C77B34F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Подготовка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1360" y="1447920"/>
            <a:ext cx="807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читайте пункт 1 на с. 138-141 и выполните задание на следующем слайде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30F3-1298-402D-934F-5B68EBA65C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cs414928.vk.me/u329122237/docs/a0b2978dd9e5/slide_9.jpg?extra=mHGBiise0djajlgC-6l2B1QIOpWpIfWXOZsOr394f-BmZVKOi551YXFj7wm9cLpudAuiAOxMIEIwS9e65nRW1AqLjkjzmaKZ-LPO0SrhcWptBLSrVpDCvq4kFT_IpH4-4hL7WzpDSh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36E-9171-4F6D-93B1-CB7D160A39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4"/>
          <p:cNvCxnSpPr/>
          <p:nvPr/>
        </p:nvCxnSpPr>
        <p:spPr>
          <a:xfrm>
            <a:off x="1071360" y="2714400"/>
            <a:ext cx="2858040" cy="5720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6"/>
          <p:cNvCxnSpPr/>
          <p:nvPr/>
        </p:nvCxnSpPr>
        <p:spPr>
          <a:xfrm>
            <a:off x="2357280" y="2356920"/>
            <a:ext cx="4501440" cy="10724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8"/>
          <p:cNvCxnSpPr/>
          <p:nvPr/>
        </p:nvCxnSpPr>
        <p:spPr>
          <a:xfrm flipH="1">
            <a:off x="785520" y="2143080"/>
            <a:ext cx="2929680" cy="12866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4" name="Прямая со стрелкой 10"/>
          <p:cNvCxnSpPr/>
          <p:nvPr/>
        </p:nvCxnSpPr>
        <p:spPr>
          <a:xfrm flipH="1">
            <a:off x="4928400" y="1785960"/>
            <a:ext cx="2520" cy="135792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5" name="Прямая со стрелкой 16"/>
          <p:cNvCxnSpPr/>
          <p:nvPr/>
        </p:nvCxnSpPr>
        <p:spPr>
          <a:xfrm flipH="1">
            <a:off x="2642400" y="1500120"/>
            <a:ext cx="3786840" cy="164376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18"/>
          <p:cNvCxnSpPr/>
          <p:nvPr/>
        </p:nvCxnSpPr>
        <p:spPr>
          <a:xfrm flipH="1">
            <a:off x="8213400" y="1214280"/>
            <a:ext cx="2160" cy="192960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Ход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Манифеста об отмене крепостного права заполните схем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ав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0889-C327-44C0-95DE-CB1884EE68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776160" y="785880"/>
            <a:ext cx="8367840" cy="607212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2E47-3F21-4D68-B7BB-BB71CCC8D7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887840" y="342900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958640" y="342900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ав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1812600" y="564372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ременнообяз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6508080" y="563076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бстве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бота с визуальным источник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едставьте себя в роли помещик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ина. Ваша реакция на порядок выплаты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EE8-D21D-4630-934A-EC8BC6DDD0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Последств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0008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исторической науке нет единой точки зрения на последствия реформы 1861 г. Ряд ученых считает, что реформа явилась безусловным добром для России. А как считаете В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обходим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ведите Вашу точку зрения и 3 аргумента в ее защиту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вышенн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ведите по 2 аргумента в защиту и опровержение представленной точки зр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4B6-0ACC-44C6-842D-A6D7B1CE7F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чники иллюстра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muzruk.info/?p=952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2: 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vsdn.ru/museum/catalogue/exhibit9159.ht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festival.1september.ru/articles/606515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E8B-A832-4DAE-A1F3-6CF333C4DE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блема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91404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отрывка предположите, что означает «Цепь великая»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ак оценивает Некрасов отмену крепостного прав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гласны ли вы с оценкой автор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812-0CD2-4FF2-8521-0CA9044797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4"/>
          <p:cNvSpPr/>
          <p:nvPr/>
        </p:nvSpPr>
        <p:spPr>
          <a:xfrm>
            <a:off x="857160" y="542916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мена крепостного права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Добро или Зло для Российской империи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4073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естьянска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форма 1861 г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EB8-A224-498E-A522-CD80798F7E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остоятельно выяснить, смог ли Александр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 разработке реформы учесть интересы и помещиков, и крестьян.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43C-9C6E-4F1D-BEF7-96D2EE2CAF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лгоритм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помнить причины проведен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ссмотреть подготовку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анализировать основной документ – Манифест об освобождении крестьян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явить достоинства и недостатки реформы. Определить последств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091-D686-497D-9305-BD300D318B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4280" y="1856880"/>
            <a:ext cx="7498080" cy="34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пределите причины отмены крепостного права, указанные в исторических источниках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1921-142D-4EFC-B27C-AFE6FE1949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1.Письмо помещика А.И. Кошеле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зглянем на барщинную работу. Придет крестьянин сколь возможно позже, осматривается, и оглядывается сколь возможно чаще и дольше, а работает сколь возможно меньше, - ему не дело делать, а день убить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18AE-45AD-4514-8402-7C43FCC935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2. Из отчет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деления канцелярии Его императорского величест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ообще крепостное состояние есть пороховой погреб под государством и тем опаснее, что войско составлено из крестьян же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397-209A-4951-926A-CC23AE2D74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3.Из воспоминаний журналиста  И. Горизонтова об обороне Севастопол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увствовалось, что нас победила Европа не храбростью, не личной доблестью, а посредством умственного развития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250-4A1A-46F4-906C-A0C7ADDE0D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7:39:35Z</dcterms:created>
  <dc:creator>Antony</dc:creator>
  <dc:description/>
  <dc:language>en-US</dc:language>
  <cp:lastModifiedBy>А. Турков</cp:lastModifiedBy>
  <dcterms:modified xsi:type="dcterms:W3CDTF">2016-03-22T06:35:16Z</dcterms:modified>
  <cp:revision>21</cp:revision>
  <dc:subject/>
  <dc:title>Крестьянская реформа 1861 г.</dc:title>
</cp:coreProperties>
</file>