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148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196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0" y="944676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60280" y="944676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35C7-47DD-4F10-90F9-A524C30C3D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60640" y="944712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2D13-F9EF-4F4B-95C0-692901B1D6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0760" y="4723920"/>
            <a:ext cx="5452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60640" y="9447120"/>
            <a:ext cx="29530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95A2-84F0-4853-8234-D926D5E54C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415C-407E-4A07-AFF3-C654123E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526-47AE-42AD-B66A-03D33C22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A4F9-5AED-47D2-86C3-F8B396DA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794-FC2D-4C84-BC56-89B05E42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91BF-D54A-494A-855F-91485982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2049-71F1-4546-AAEB-D38CAA0F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BBAB-D5A9-480C-8D60-DBBBB6B1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7F65-6CBF-479A-8184-375565C9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DC22-DC5A-4D95-9926-15085755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6CA0-A8C7-4AA0-B97B-44ED38B2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0F55-D5DD-49FF-B451-312D3B2F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AEB-CE5C-4467-8EA8-3B350B79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7B1C-E7FB-4C4E-87A7-9D7BFEEE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2BD8-529E-4B0D-A701-A63E3DD4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009E-1178-4A9E-914A-C5F05A66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CE09-FDB7-4BE2-B70D-92F4AFE5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9705-FEBE-42C6-ADFF-B988492C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E0482-2FBA-4B26-9852-B4DD68BD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71912-4CED-4ECA-A16B-833F92C7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1DFD8-6AF0-41B5-AB35-CE5FAED7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74B58-CD52-424C-B6D4-B6185B92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23BA1-B63C-4F96-9083-E19D395C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98B4-C23D-4236-9566-FFBA0A8D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0ACE1-31A4-4B68-8FEE-1B5C9EDE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E8A30-7469-4FEE-82F7-BE682749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A8D8C-104E-484E-9866-1913F30A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7013F-F6B5-41B2-9100-BD1CD5E9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5D214-87C4-4FFF-B751-4624EB05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11809-7A3C-4E6D-A138-0283ACB83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D860D-1F44-42C9-9B6B-0BFF2F6A4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64EA-438F-41F5-8838-F2082713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D013-A45A-460F-8C56-DAA60819F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571D-2178-457F-A02B-6EC5A164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6E91-962A-4B7E-B85E-9DB0095D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5FB2-2C03-4FA5-8E70-B4841434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E6FA-30C2-4061-AB4F-78454A33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46C0-8F73-47CD-B8BF-0D5EA3A21549}" type="slidenum"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D659-4D73-4EA2-A2C3-A678826D63E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8ADC-E93A-419C-8962-6084DEE94FB7}" type="slidenum">
              <a:rPr b="0" lang="ru-RU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3"/>
          <p:cNvSpPr/>
          <p:nvPr/>
        </p:nvSpPr>
        <p:spPr>
          <a:xfrm>
            <a:off x="395280" y="422100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Н Е У Н О И Е Ж 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468360" y="314172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Р Й О Б Д 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539640" y="5300640"/>
            <a:ext cx="842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И Н Ч Д С Х Е Я Т 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0" y="10526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молет летит со скоростью 154,2 км/ч. Какое он расстояние пролетит за 1,5 час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6"/>
          <p:cNvSpPr/>
          <p:nvPr/>
        </p:nvSpPr>
        <p:spPr>
          <a:xfrm>
            <a:off x="0" y="3141720"/>
            <a:ext cx="9144000" cy="0"/>
          </a:xfrm>
          <a:prstGeom prst="line">
            <a:avLst/>
          </a:prstGeom>
          <a:ln w="66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971640" y="1197000"/>
            <a:ext cx="73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00"/>
                </a:solidFill>
                <a:latin typeface="Georgia"/>
              </a:rPr>
              <a:t>СПАСИБО ЗА УРОК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00"/>
                </a:solidFill>
                <a:latin typeface="Georgia"/>
              </a:rPr>
              <a:t>  </a:t>
            </a:r>
            <a:r>
              <a:rPr b="1" i="1" lang="ru-RU" sz="5400" spc="-1" strike="noStrike">
                <a:solidFill>
                  <a:srgbClr val="cc0000"/>
                </a:solidFill>
                <a:latin typeface="Georgia"/>
              </a:rPr>
              <a:t>В учебе хороших успехов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00"/>
                </a:solidFill>
                <a:latin typeface="Georgia"/>
              </a:rPr>
              <a:t>Удачного дня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4"/>
          <p:cNvSpPr/>
          <p:nvPr/>
        </p:nvSpPr>
        <p:spPr>
          <a:xfrm>
            <a:off x="8101080" y="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 Antiqua"/>
              </a:rPr>
              <a:t>15.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6"/>
          <p:cNvSpPr/>
          <p:nvPr/>
        </p:nvSpPr>
        <p:spPr>
          <a:xfrm>
            <a:off x="8172360" y="0"/>
            <a:ext cx="0" cy="6858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7"/>
          <p:cNvSpPr/>
          <p:nvPr/>
        </p:nvSpPr>
        <p:spPr>
          <a:xfrm>
            <a:off x="0" y="0"/>
            <a:ext cx="81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Классная рабо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Book Antiqua"/>
              </a:rPr>
              <a:t>Умножение десятичных дроб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ВНИМАТЕЛЬНО ПОДУМАТЬ!!! ПРЕДЛОЖИТЬ СПОСОБ РЕШЕНИЯ И РЕШИТЬ</a:t>
            </a:r>
            <a:br>
              <a:rPr sz="2600"/>
            </a:br>
            <a:endParaRPr b="0" lang="en-US" sz="2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457200" y="260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0000"/>
                </a:solidFill>
                <a:latin typeface="Georgia"/>
              </a:rPr>
              <a:t>РАБОТА В ПАРАХ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2421000"/>
          <a:ext cx="9144000" cy="40323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403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1 ря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52 · 10 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52 · 100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52 · 1000 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2 ря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 · 0,5 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 · 0,05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 · 0,005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3 ря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,7 · 0,1 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, 7· 0,01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,7 · 0,001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148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ВНИМАТЕЛЬНО ПОДУМАТЬ!!! ПРЕДЛОЖИТЬ СПОСОБ РЕШЕНИЯ</a:t>
            </a:r>
            <a:br>
              <a:rPr sz="2600"/>
            </a:b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(стр. 229-230 учебника)</a:t>
            </a:r>
            <a:br>
              <a:rPr sz="2600"/>
            </a:br>
            <a:endParaRPr b="0" lang="en-US" sz="2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Заголовок 1"/>
          <p:cNvSpPr/>
          <p:nvPr/>
        </p:nvSpPr>
        <p:spPr>
          <a:xfrm>
            <a:off x="457200" y="260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0000"/>
                </a:solidFill>
                <a:latin typeface="Georgia"/>
              </a:rPr>
              <a:t>РАБОТА В ПАРАХ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2924280"/>
          <a:ext cx="9144000" cy="32302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32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1 ря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52 · 10 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52 · 100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52 · 1000 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2 ря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 · 0,5 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 · 0,05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7 · 0,005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3 ря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,7 · 0,1 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, 7· 0,01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2,7 · 0,001=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981000"/>
          <a:ext cx="8569080" cy="5651640"/>
        </p:xfrm>
        <a:graphic>
          <a:graphicData uri="http://schemas.openxmlformats.org/drawingml/2006/table">
            <a:tbl>
              <a:tblPr/>
              <a:tblGrid>
                <a:gridCol w="2604960"/>
                <a:gridCol w="5964120"/>
              </a:tblGrid>
              <a:tr h="1683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Bookman Old Style"/>
                          <a:ea typeface="Calibri"/>
                        </a:rPr>
                        <a:t>ПАМЯТКА-АЛГОРИТМ по теме: "УМНОЖЕНИЕ ДЕСЯТИЧНЫХ ДРОБЕЙ"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52 · 10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52 · 100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52 · 1000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 · 1,5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 · 0,05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 · 0,005=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2,7 · 0,1 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2, 7· 0,01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2,7 · 0,001=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8" name="Рисунок 1" descr=""/>
          <p:cNvPicPr/>
          <p:nvPr/>
        </p:nvPicPr>
        <p:blipFill>
          <a:blip r:embed="rId1"/>
          <a:stretch/>
        </p:blipFill>
        <p:spPr>
          <a:xfrm rot="60000">
            <a:off x="3067200" y="2830320"/>
            <a:ext cx="5611680" cy="8143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2" descr=""/>
          <p:cNvPicPr/>
          <p:nvPr/>
        </p:nvPicPr>
        <p:blipFill>
          <a:blip r:embed="rId2"/>
          <a:stretch/>
        </p:blipFill>
        <p:spPr>
          <a:xfrm rot="21540000">
            <a:off x="2997000" y="4125960"/>
            <a:ext cx="5680080" cy="12016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3" descr=""/>
          <p:cNvPicPr/>
          <p:nvPr/>
        </p:nvPicPr>
        <p:blipFill>
          <a:blip r:embed="rId3"/>
          <a:stretch/>
        </p:blipFill>
        <p:spPr>
          <a:xfrm rot="21540000">
            <a:off x="3065400" y="5565240"/>
            <a:ext cx="5659560" cy="7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0000"/>
                </a:solidFill>
                <a:latin typeface="Georgia"/>
              </a:rPr>
              <a:t>ИТОГ  УРОКА: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4000" y="2204640"/>
            <a:ext cx="8640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1240" indent="-741240"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Как умножить десятичную дробь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1240" indent="-741240" algn="just">
              <a:lnSpc>
                <a:spcPct val="11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0? На 100? На 1000?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1240" indent="-741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Как умножить две десятичные дроби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1240" indent="-741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Как умножить десятичную дробь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1240" indent="-7412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,1? На 0,01? На 0,01?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1240" indent="-741240">
              <a:lnSpc>
                <a:spcPct val="100000"/>
              </a:lnSpc>
              <a:spcBef>
                <a:spcPts val="901"/>
              </a:spcBef>
              <a:buClr>
                <a:srgbClr val="eb641b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1240" indent="-741240">
              <a:lnSpc>
                <a:spcPct val="100000"/>
              </a:lnSpc>
              <a:spcBef>
                <a:spcPts val="901"/>
              </a:spcBef>
              <a:buClr>
                <a:srgbClr val="eb641b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1240" indent="-741240">
              <a:lnSpc>
                <a:spcPct val="100000"/>
              </a:lnSpc>
              <a:spcBef>
                <a:spcPts val="9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0000"/>
                </a:solidFill>
                <a:latin typeface="Georgia"/>
              </a:rPr>
              <a:t>ДОМАШНЕЕ ЗАДАНИЕ: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4000" y="220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3160" indent="-263160" algn="just">
              <a:lnSpc>
                <a:spcPct val="100000"/>
              </a:lnSpc>
              <a:spcBef>
                <a:spcPts val="11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ЯТКА-АЛГОРИТ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авила) выучить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3160" indent="-263160" algn="just">
              <a:lnSpc>
                <a:spcPct val="115000"/>
              </a:lnSpc>
              <a:spcBef>
                <a:spcPts val="11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12, № 915(1-6),  №917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3160" indent="-263160">
              <a:lnSpc>
                <a:spcPct val="100000"/>
              </a:lnSpc>
              <a:spcBef>
                <a:spcPts val="11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авить кроссворд или ребус по теме:  «Дроби»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63160" indent="-263160">
              <a:lnSpc>
                <a:spcPct val="100000"/>
              </a:lnSpc>
              <a:spcBef>
                <a:spcPts val="11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0000"/>
                </a:solidFill>
                <a:latin typeface="Georgia"/>
              </a:rPr>
              <a:t>РЕФЛЕКСИЯ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207864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1. Самым интересным на уроке для меня было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2. Я научился (научилась)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3. Я хотел (а) бы ещё узнать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4. Мне понравилось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Мне не понравилось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5. Я работал(а) на уроке на оценку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05:59:02Z</dcterms:created>
  <dc:creator>Ирина</dc:creator>
  <dc:description/>
  <dc:language>en-US</dc:language>
  <cp:lastModifiedBy>Buk</cp:lastModifiedBy>
  <dcterms:modified xsi:type="dcterms:W3CDTF">2016-03-14T16:43:00Z</dcterms:modified>
  <cp:revision>89</cp:revision>
  <dc:subject/>
  <dc:title>Числовые и буквенные выражения. 5 класс</dc:title>
</cp:coreProperties>
</file>