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B604D-28CE-448B-A772-C6C25D242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7F775-C820-4208-BF5B-97CBE82CF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874D8-3485-47A4-AE31-5D3E5CAB7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E0CDD-B7D2-4AC5-94B0-D8618F85A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FC1E2-62E5-4FF3-BC05-A6CBCDE0F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CCAD9-FE7F-4A1B-95D6-0578A1E52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650B4-1ABA-4FE2-A3F6-D0E834B80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02CC5-F872-49CA-8250-7E2F4486B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89863-7EC3-46CE-8BD3-947EB1656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E5A06-F258-450F-92CD-E62EA9C15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368B8-A1DC-4D45-9218-459DB236F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F6440-3273-4BA8-9572-87A615687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eaaac"/>
            </a:gs>
            <a:gs pos="50000">
              <a:srgbClr val="bbe0e3"/>
            </a:gs>
            <a:gs pos="100000">
              <a:srgbClr val="8eaaa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D4352-5E3D-4104-8E88-6EF60147CA1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Rectangle 2" descr=""/>
          <p:cNvPicPr/>
          <p:nvPr/>
        </p:nvPicPr>
        <p:blipFill>
          <a:blip r:embed="rId1"/>
          <a:stretch/>
        </p:blipFill>
        <p:spPr>
          <a:xfrm>
            <a:off x="682560" y="493560"/>
            <a:ext cx="7785000" cy="19386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уськов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дежда Александро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БОУ г.Мурманска СОШ № 3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Group 4"/>
          <p:cNvGrpSpPr/>
          <p:nvPr/>
        </p:nvGrpSpPr>
        <p:grpSpPr>
          <a:xfrm>
            <a:off x="2195640" y="1844640"/>
            <a:ext cx="5255280" cy="4176360"/>
            <a:chOff x="2195640" y="1844640"/>
            <a:chExt cx="5255280" cy="4176360"/>
          </a:xfrm>
        </p:grpSpPr>
        <p:sp>
          <p:nvSpPr>
            <p:cNvPr id="79" name="AutoShape 5"/>
            <p:cNvSpPr/>
            <p:nvPr/>
          </p:nvSpPr>
          <p:spPr>
            <a:xfrm>
              <a:off x="2195640" y="4350600"/>
              <a:ext cx="2057040" cy="167040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ffff00"/>
                </a:gs>
                <a:gs pos="50000">
                  <a:srgbClr val="c7c700"/>
                </a:gs>
                <a:gs pos="100000">
                  <a:srgbClr val="ffff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AutoShape 6"/>
            <p:cNvSpPr/>
            <p:nvPr/>
          </p:nvSpPr>
          <p:spPr>
            <a:xfrm>
              <a:off x="3794400" y="4350600"/>
              <a:ext cx="2057400" cy="167040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ffff00"/>
                </a:gs>
                <a:gs pos="50000">
                  <a:srgbClr val="c7c700"/>
                </a:gs>
                <a:gs pos="100000">
                  <a:srgbClr val="ffff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AutoShape 7"/>
            <p:cNvSpPr/>
            <p:nvPr/>
          </p:nvSpPr>
          <p:spPr>
            <a:xfrm>
              <a:off x="5393520" y="4350600"/>
              <a:ext cx="2057400" cy="167040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ffff00"/>
                </a:gs>
                <a:gs pos="50000">
                  <a:srgbClr val="c7c700"/>
                </a:gs>
                <a:gs pos="100000">
                  <a:srgbClr val="ffff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AutoShape 8"/>
            <p:cNvSpPr/>
            <p:nvPr/>
          </p:nvSpPr>
          <p:spPr>
            <a:xfrm>
              <a:off x="3794400" y="3096360"/>
              <a:ext cx="2057400" cy="167040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ffff00"/>
                </a:gs>
                <a:gs pos="50000">
                  <a:srgbClr val="c7c700"/>
                </a:gs>
                <a:gs pos="100000">
                  <a:srgbClr val="ffff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AutoShape 9"/>
            <p:cNvSpPr/>
            <p:nvPr/>
          </p:nvSpPr>
          <p:spPr>
            <a:xfrm>
              <a:off x="5393520" y="3096360"/>
              <a:ext cx="2057400" cy="167040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ffff00"/>
                </a:gs>
                <a:gs pos="50000">
                  <a:srgbClr val="c7c700"/>
                </a:gs>
                <a:gs pos="100000">
                  <a:srgbClr val="ffff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AutoShape 10"/>
            <p:cNvSpPr/>
            <p:nvPr/>
          </p:nvSpPr>
          <p:spPr>
            <a:xfrm>
              <a:off x="5393520" y="1844640"/>
              <a:ext cx="2057400" cy="167040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ffff00"/>
                </a:gs>
                <a:gs pos="50000">
                  <a:srgbClr val="c7c700"/>
                </a:gs>
                <a:gs pos="100000">
                  <a:srgbClr val="ffff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" name="WordArt 11"/>
          <p:cNvSpPr txBox="1"/>
          <p:nvPr/>
        </p:nvSpPr>
        <p:spPr>
          <a:xfrm>
            <a:off x="2124000" y="260280"/>
            <a:ext cx="504036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Лесенка достижени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86" name="Улыбающееся лицо 23"/>
          <p:cNvSpPr/>
          <p:nvPr/>
        </p:nvSpPr>
        <p:spPr>
          <a:xfrm>
            <a:off x="539640" y="3933720"/>
            <a:ext cx="928800" cy="87012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42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Улыбающееся лицо 23"/>
          <p:cNvSpPr/>
          <p:nvPr/>
        </p:nvSpPr>
        <p:spPr>
          <a:xfrm>
            <a:off x="539640" y="5229360"/>
            <a:ext cx="928800" cy="869760"/>
          </a:xfrm>
          <a:prstGeom prst="smileyFace">
            <a:avLst>
              <a:gd name="adj" fmla="val -4652"/>
            </a:avLst>
          </a:prstGeom>
          <a:solidFill>
            <a:srgbClr val="ff0000"/>
          </a:solidFill>
          <a:ln w="42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250920" y="2276640"/>
          <a:ext cx="8713800" cy="1036440"/>
        </p:xfrm>
        <a:graphic>
          <a:graphicData uri="http://schemas.openxmlformats.org/drawingml/2006/table">
            <a:tbl>
              <a:tblPr/>
              <a:tblGrid>
                <a:gridCol w="384120"/>
                <a:gridCol w="622440"/>
                <a:gridCol w="866520"/>
                <a:gridCol w="1008000"/>
                <a:gridCol w="432000"/>
                <a:gridCol w="647640"/>
                <a:gridCol w="865080"/>
                <a:gridCol w="1008000"/>
                <a:gridCol w="432000"/>
                <a:gridCol w="647640"/>
                <a:gridCol w="792360"/>
                <a:gridCol w="1008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50000">
                          <a:srgbClr val="cdcdcd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50000">
                          <a:srgbClr val="cdcdcd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50000">
                          <a:srgbClr val="cdcdcd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50000">
                          <a:srgbClr val="cdcdcd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99"/>
                        </a:gs>
                        <a:gs pos="50000">
                          <a:srgbClr val="9ac174"/>
                        </a:gs>
                        <a:gs pos="100000">
                          <a:srgbClr val="ccff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99"/>
                        </a:gs>
                        <a:gs pos="50000">
                          <a:srgbClr val="9ac174"/>
                        </a:gs>
                        <a:gs pos="100000">
                          <a:srgbClr val="ccff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99"/>
                        </a:gs>
                        <a:gs pos="50000">
                          <a:srgbClr val="9ac174"/>
                        </a:gs>
                        <a:gs pos="100000">
                          <a:srgbClr val="ccff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99"/>
                        </a:gs>
                        <a:gs pos="50000">
                          <a:srgbClr val="9ac174"/>
                        </a:gs>
                        <a:gs pos="100000">
                          <a:srgbClr val="ccff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50000">
                          <a:srgbClr val="cdcd7b"/>
                        </a:gs>
                        <a:gs pos="100000">
                          <a:srgbClr val="ffff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50000">
                          <a:srgbClr val="cdcd7b"/>
                        </a:gs>
                        <a:gs pos="100000">
                          <a:srgbClr val="ffff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50000">
                          <a:srgbClr val="cdcd7b"/>
                        </a:gs>
                        <a:gs pos="100000">
                          <a:srgbClr val="ffff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50000">
                          <a:srgbClr val="cdcd7b"/>
                        </a:gs>
                        <a:gs pos="100000">
                          <a:srgbClr val="ffff99"/>
                        </a:gs>
                      </a:gsLst>
                      <a:lin ang="5400000"/>
                    </a:gra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50000">
                          <a:srgbClr val="cdcdcd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50000">
                          <a:srgbClr val="cdcdcd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50000">
                          <a:srgbClr val="cdcdcd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50000">
                          <a:srgbClr val="cdcdcd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99"/>
                        </a:gs>
                        <a:gs pos="50000">
                          <a:srgbClr val="a4cd7b"/>
                        </a:gs>
                        <a:gs pos="100000">
                          <a:srgbClr val="ccff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99"/>
                        </a:gs>
                        <a:gs pos="50000">
                          <a:srgbClr val="a4cd7b"/>
                        </a:gs>
                        <a:gs pos="100000">
                          <a:srgbClr val="ccff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99"/>
                        </a:gs>
                        <a:gs pos="50000">
                          <a:srgbClr val="a4cd7b"/>
                        </a:gs>
                        <a:gs pos="100000">
                          <a:srgbClr val="ccff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99"/>
                        </a:gs>
                        <a:gs pos="50000">
                          <a:srgbClr val="a4cd7b"/>
                        </a:gs>
                        <a:gs pos="100000">
                          <a:srgbClr val="ccff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50000">
                          <a:srgbClr val="c7c777"/>
                        </a:gs>
                        <a:gs pos="100000">
                          <a:srgbClr val="ffff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50000">
                          <a:srgbClr val="c7c777"/>
                        </a:gs>
                        <a:gs pos="100000">
                          <a:srgbClr val="ffff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50000">
                          <a:srgbClr val="c7c777"/>
                        </a:gs>
                        <a:gs pos="100000">
                          <a:srgbClr val="ffff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50000">
                          <a:srgbClr val="c7c777"/>
                        </a:gs>
                        <a:gs pos="100000">
                          <a:srgbClr val="ffff99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sp>
        <p:nvSpPr>
          <p:cNvPr id="44" name="WordArt 154"/>
          <p:cNvSpPr txBox="1"/>
          <p:nvPr/>
        </p:nvSpPr>
        <p:spPr>
          <a:xfrm>
            <a:off x="2411280" y="260280"/>
            <a:ext cx="432144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Проверь себя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45" name="WordArt 215"/>
          <p:cNvSpPr txBox="1"/>
          <p:nvPr/>
        </p:nvSpPr>
        <p:spPr>
          <a:xfrm>
            <a:off x="539640" y="4149720"/>
            <a:ext cx="792000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ТРЕУГОЛЬНИК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AutoShape 4"/>
          <p:cNvSpPr/>
          <p:nvPr/>
        </p:nvSpPr>
        <p:spPr>
          <a:xfrm>
            <a:off x="1258920" y="3068640"/>
            <a:ext cx="1873080" cy="1944720"/>
          </a:xfrm>
          <a:prstGeom prst="rtTriangle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5"/>
          <p:cNvSpPr/>
          <p:nvPr/>
        </p:nvSpPr>
        <p:spPr>
          <a:xfrm rot="11676600">
            <a:off x="3492360" y="2565000"/>
            <a:ext cx="4695840" cy="631800"/>
          </a:xfrm>
          <a:prstGeom prst="triangle">
            <a:avLst>
              <a:gd name="adj" fmla="val 50000"/>
            </a:avLst>
          </a:pr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10"/>
          <p:cNvSpPr/>
          <p:nvPr/>
        </p:nvSpPr>
        <p:spPr>
          <a:xfrm>
            <a:off x="5580000" y="4365720"/>
            <a:ext cx="1297080" cy="1871640"/>
          </a:xfrm>
          <a:prstGeom prst="triangle">
            <a:avLst>
              <a:gd name="adj" fmla="val 50000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9"/>
          <p:cNvSpPr/>
          <p:nvPr/>
        </p:nvSpPr>
        <p:spPr>
          <a:xfrm>
            <a:off x="1116000" y="529128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рямоуголь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20"/>
          <p:cNvSpPr/>
          <p:nvPr/>
        </p:nvSpPr>
        <p:spPr>
          <a:xfrm>
            <a:off x="4788000" y="337644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тупоуголь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22"/>
          <p:cNvSpPr/>
          <p:nvPr/>
        </p:nvSpPr>
        <p:spPr>
          <a:xfrm>
            <a:off x="2987640" y="5877000"/>
            <a:ext cx="236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остроуголь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23"/>
          <p:cNvGrpSpPr/>
          <p:nvPr/>
        </p:nvGrpSpPr>
        <p:grpSpPr>
          <a:xfrm>
            <a:off x="9144000" y="260280"/>
            <a:ext cx="1905120" cy="1295640"/>
            <a:chOff x="9144000" y="260280"/>
            <a:chExt cx="1905120" cy="1295640"/>
          </a:xfrm>
        </p:grpSpPr>
        <p:sp>
          <p:nvSpPr>
            <p:cNvPr id="53" name="AutoShape 24"/>
            <p:cNvSpPr/>
            <p:nvPr/>
          </p:nvSpPr>
          <p:spPr>
            <a:xfrm>
              <a:off x="9144000" y="260280"/>
              <a:ext cx="190512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25"/>
            <p:cNvSpPr/>
            <p:nvPr/>
          </p:nvSpPr>
          <p:spPr>
            <a:xfrm>
              <a:off x="10042560" y="925560"/>
              <a:ext cx="620640" cy="326880"/>
            </a:xfrm>
            <a:custGeom>
              <a:avLst/>
              <a:gdLst>
                <a:gd name="textAreaLeft" fmla="*/ 0 w 620640"/>
                <a:gd name="textAreaRight" fmla="*/ 621000 w 620640"/>
                <a:gd name="textAreaTop" fmla="*/ 0 h 326880"/>
                <a:gd name="textAreaBottom" fmla="*/ 327240 h 326880"/>
              </a:gdLst>
              <a:ahLst/>
              <a:rect l="textAreaLeft" t="textAreaTop" r="textAreaRight" b="textAreaBottom"/>
              <a:pathLst>
                <a:path w="1095" h="525">
                  <a:moveTo>
                    <a:pt x="0" y="213"/>
                  </a:moveTo>
                  <a:lnTo>
                    <a:pt x="544" y="525"/>
                  </a:lnTo>
                  <a:lnTo>
                    <a:pt x="1095" y="449"/>
                  </a:lnTo>
                  <a:lnTo>
                    <a:pt x="309" y="0"/>
                  </a:lnTo>
                  <a:lnTo>
                    <a:pt x="0" y="213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26"/>
            <p:cNvSpPr/>
            <p:nvPr/>
          </p:nvSpPr>
          <p:spPr>
            <a:xfrm>
              <a:off x="9220320" y="316080"/>
              <a:ext cx="1720800" cy="1108080"/>
            </a:xfrm>
            <a:custGeom>
              <a:avLst/>
              <a:gdLst>
                <a:gd name="textAreaLeft" fmla="*/ 0 w 1720800"/>
                <a:gd name="textAreaRight" fmla="*/ 1721160 w 1720800"/>
                <a:gd name="textAreaTop" fmla="*/ 0 h 1108080"/>
                <a:gd name="textAreaBottom" fmla="*/ 1108440 h 1108080"/>
              </a:gdLst>
              <a:ahLst/>
              <a:rect l="textAreaLeft" t="textAreaTop" r="textAreaRight" b="textAreaBottom"/>
              <a:pathLst>
                <a:path w="3034" h="1783">
                  <a:moveTo>
                    <a:pt x="0" y="13"/>
                  </a:moveTo>
                  <a:lnTo>
                    <a:pt x="0" y="1783"/>
                  </a:lnTo>
                  <a:lnTo>
                    <a:pt x="3034" y="1783"/>
                  </a:lnTo>
                  <a:lnTo>
                    <a:pt x="3032" y="1732"/>
                  </a:lnTo>
                  <a:lnTo>
                    <a:pt x="2485" y="1432"/>
                  </a:lnTo>
                  <a:lnTo>
                    <a:pt x="2021" y="1352"/>
                  </a:lnTo>
                  <a:lnTo>
                    <a:pt x="1853" y="1509"/>
                  </a:lnTo>
                  <a:lnTo>
                    <a:pt x="369" y="1474"/>
                  </a:lnTo>
                  <a:lnTo>
                    <a:pt x="385" y="651"/>
                  </a:lnTo>
                  <a:lnTo>
                    <a:pt x="1539" y="1280"/>
                  </a:lnTo>
                  <a:lnTo>
                    <a:pt x="1546" y="1274"/>
                  </a:lnTo>
                  <a:lnTo>
                    <a:pt x="1555" y="1265"/>
                  </a:lnTo>
                  <a:lnTo>
                    <a:pt x="1564" y="1258"/>
                  </a:lnTo>
                  <a:lnTo>
                    <a:pt x="1575" y="1252"/>
                  </a:lnTo>
                  <a:lnTo>
                    <a:pt x="1584" y="1243"/>
                  </a:lnTo>
                  <a:lnTo>
                    <a:pt x="1593" y="1236"/>
                  </a:lnTo>
                  <a:lnTo>
                    <a:pt x="1602" y="1227"/>
                  </a:lnTo>
                  <a:lnTo>
                    <a:pt x="1613" y="1220"/>
                  </a:lnTo>
                  <a:lnTo>
                    <a:pt x="1622" y="1214"/>
                  </a:lnTo>
                  <a:lnTo>
                    <a:pt x="1630" y="1205"/>
                  </a:lnTo>
                  <a:lnTo>
                    <a:pt x="1639" y="1198"/>
                  </a:lnTo>
                  <a:lnTo>
                    <a:pt x="1650" y="1192"/>
                  </a:lnTo>
                  <a:lnTo>
                    <a:pt x="1659" y="1183"/>
                  </a:lnTo>
                  <a:lnTo>
                    <a:pt x="1668" y="1176"/>
                  </a:lnTo>
                  <a:lnTo>
                    <a:pt x="1679" y="1169"/>
                  </a:lnTo>
                  <a:lnTo>
                    <a:pt x="1688" y="1163"/>
                  </a:lnTo>
                  <a:lnTo>
                    <a:pt x="1697" y="1154"/>
                  </a:lnTo>
                  <a:lnTo>
                    <a:pt x="1708" y="1147"/>
                  </a:lnTo>
                  <a:lnTo>
                    <a:pt x="1717" y="1138"/>
                  </a:lnTo>
                  <a:lnTo>
                    <a:pt x="1728" y="1132"/>
                  </a:lnTo>
                  <a:lnTo>
                    <a:pt x="1737" y="1125"/>
                  </a:lnTo>
                  <a:lnTo>
                    <a:pt x="1748" y="1118"/>
                  </a:lnTo>
                  <a:lnTo>
                    <a:pt x="1757" y="1109"/>
                  </a:lnTo>
                  <a:lnTo>
                    <a:pt x="1768" y="1103"/>
                  </a:lnTo>
                  <a:lnTo>
                    <a:pt x="1777" y="1096"/>
                  </a:lnTo>
                  <a:lnTo>
                    <a:pt x="1786" y="1087"/>
                  </a:lnTo>
                  <a:lnTo>
                    <a:pt x="1797" y="1080"/>
                  </a:lnTo>
                  <a:lnTo>
                    <a:pt x="1806" y="1074"/>
                  </a:lnTo>
                  <a:lnTo>
                    <a:pt x="1817" y="1067"/>
                  </a:lnTo>
                  <a:lnTo>
                    <a:pt x="1826" y="1058"/>
                  </a:lnTo>
                  <a:lnTo>
                    <a:pt x="1837" y="1052"/>
                  </a:lnTo>
                  <a:lnTo>
                    <a:pt x="1846" y="1045"/>
                  </a:lnTo>
                  <a:lnTo>
                    <a:pt x="56" y="0"/>
                  </a:lnTo>
                  <a:lnTo>
                    <a:pt x="0" y="13"/>
                  </a:ln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27"/>
            <p:cNvSpPr/>
            <p:nvPr/>
          </p:nvSpPr>
          <p:spPr>
            <a:xfrm>
              <a:off x="9209160" y="282600"/>
              <a:ext cx="1763640" cy="1174680"/>
            </a:xfrm>
            <a:custGeom>
              <a:avLst/>
              <a:gdLst>
                <a:gd name="textAreaLeft" fmla="*/ 0 w 1763640"/>
                <a:gd name="textAreaRight" fmla="*/ 1764000 w 1763640"/>
                <a:gd name="textAreaTop" fmla="*/ 0 h 1174680"/>
                <a:gd name="textAreaBottom" fmla="*/ 1175040 h 1174680"/>
              </a:gdLst>
              <a:ahLst/>
              <a:rect l="textAreaLeft" t="textAreaTop" r="textAreaRight" b="textAreaBottom"/>
              <a:pathLst>
                <a:path w="3123" h="1818">
                  <a:moveTo>
                    <a:pt x="0" y="44"/>
                  </a:moveTo>
                  <a:lnTo>
                    <a:pt x="0" y="1816"/>
                  </a:lnTo>
                  <a:lnTo>
                    <a:pt x="3123" y="1818"/>
                  </a:lnTo>
                  <a:lnTo>
                    <a:pt x="3116" y="1736"/>
                  </a:lnTo>
                  <a:lnTo>
                    <a:pt x="82" y="1729"/>
                  </a:lnTo>
                  <a:lnTo>
                    <a:pt x="80" y="0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28"/>
            <p:cNvSpPr/>
            <p:nvPr/>
          </p:nvSpPr>
          <p:spPr>
            <a:xfrm>
              <a:off x="9231480" y="287280"/>
              <a:ext cx="1763640" cy="1162080"/>
            </a:xfrm>
            <a:custGeom>
              <a:avLst/>
              <a:gdLst>
                <a:gd name="textAreaLeft" fmla="*/ 0 w 1763640"/>
                <a:gd name="textAreaRight" fmla="*/ 1764000 w 1763640"/>
                <a:gd name="textAreaTop" fmla="*/ 0 h 1162080"/>
                <a:gd name="textAreaBottom" fmla="*/ 1162440 h 1162080"/>
              </a:gdLst>
              <a:ahLst/>
              <a:rect l="textAreaLeft" t="textAreaTop" r="textAreaRight" b="textAreaBottom"/>
              <a:pathLst>
                <a:path w="3112" h="1870">
                  <a:moveTo>
                    <a:pt x="20" y="0"/>
                  </a:moveTo>
                  <a:lnTo>
                    <a:pt x="3112" y="1816"/>
                  </a:lnTo>
                  <a:lnTo>
                    <a:pt x="3058" y="1870"/>
                  </a:lnTo>
                  <a:lnTo>
                    <a:pt x="0" y="96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29"/>
            <p:cNvSpPr/>
            <p:nvPr/>
          </p:nvSpPr>
          <p:spPr>
            <a:xfrm>
              <a:off x="9416880" y="692280"/>
              <a:ext cx="997200" cy="587160"/>
            </a:xfrm>
            <a:custGeom>
              <a:avLst/>
              <a:gdLst>
                <a:gd name="textAreaLeft" fmla="*/ 0 w 997200"/>
                <a:gd name="textAreaRight" fmla="*/ 997560 w 997200"/>
                <a:gd name="textAreaTop" fmla="*/ 0 h 587160"/>
                <a:gd name="textAreaBottom" fmla="*/ 587520 h 587160"/>
              </a:gdLst>
              <a:ahLst/>
              <a:rect l="textAreaLeft" t="textAreaTop" r="textAreaRight" b="textAreaBottom"/>
              <a:pathLst>
                <a:path w="1757" h="944">
                  <a:moveTo>
                    <a:pt x="0" y="0"/>
                  </a:moveTo>
                  <a:lnTo>
                    <a:pt x="0" y="907"/>
                  </a:lnTo>
                  <a:lnTo>
                    <a:pt x="1757" y="944"/>
                  </a:lnTo>
                  <a:lnTo>
                    <a:pt x="1594" y="864"/>
                  </a:lnTo>
                  <a:lnTo>
                    <a:pt x="80" y="822"/>
                  </a:lnTo>
                  <a:lnTo>
                    <a:pt x="82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30"/>
            <p:cNvSpPr/>
            <p:nvPr/>
          </p:nvSpPr>
          <p:spPr>
            <a:xfrm>
              <a:off x="9416880" y="692280"/>
              <a:ext cx="986040" cy="584280"/>
            </a:xfrm>
            <a:custGeom>
              <a:avLst/>
              <a:gdLst>
                <a:gd name="textAreaLeft" fmla="*/ 0 w 986040"/>
                <a:gd name="textAreaRight" fmla="*/ 986400 w 986040"/>
                <a:gd name="textAreaTop" fmla="*/ 0 h 584280"/>
                <a:gd name="textAreaBottom" fmla="*/ 584640 h 584280"/>
              </a:gdLst>
              <a:ahLst/>
              <a:rect l="textAreaLeft" t="textAreaTop" r="textAreaRight" b="textAreaBottom"/>
              <a:pathLst>
                <a:path w="1737" h="940">
                  <a:moveTo>
                    <a:pt x="11" y="109"/>
                  </a:moveTo>
                  <a:lnTo>
                    <a:pt x="1532" y="920"/>
                  </a:lnTo>
                  <a:lnTo>
                    <a:pt x="1737" y="940"/>
                  </a:lnTo>
                  <a:lnTo>
                    <a:pt x="0" y="0"/>
                  </a:lnTo>
                  <a:lnTo>
                    <a:pt x="11" y="10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31"/>
            <p:cNvSpPr/>
            <p:nvPr/>
          </p:nvSpPr>
          <p:spPr>
            <a:xfrm>
              <a:off x="9342360" y="1338480"/>
              <a:ext cx="46080" cy="950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80" h="153">
                  <a:moveTo>
                    <a:pt x="0" y="153"/>
                  </a:moveTo>
                  <a:lnTo>
                    <a:pt x="80" y="153"/>
                  </a:lnTo>
                  <a:lnTo>
                    <a:pt x="80" y="0"/>
                  </a:lnTo>
                  <a:lnTo>
                    <a:pt x="0" y="0"/>
                  </a:lnTo>
                  <a:lnTo>
                    <a:pt x="0" y="1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32"/>
            <p:cNvSpPr/>
            <p:nvPr/>
          </p:nvSpPr>
          <p:spPr>
            <a:xfrm>
              <a:off x="9501120" y="1338480"/>
              <a:ext cx="47520" cy="9504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82" h="155">
                  <a:moveTo>
                    <a:pt x="0" y="155"/>
                  </a:moveTo>
                  <a:lnTo>
                    <a:pt x="82" y="155"/>
                  </a:lnTo>
                  <a:lnTo>
                    <a:pt x="82" y="0"/>
                  </a:lnTo>
                  <a:lnTo>
                    <a:pt x="0" y="0"/>
                  </a:lnTo>
                  <a:lnTo>
                    <a:pt x="0" y="1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33"/>
            <p:cNvSpPr/>
            <p:nvPr/>
          </p:nvSpPr>
          <p:spPr>
            <a:xfrm>
              <a:off x="9659880" y="1338480"/>
              <a:ext cx="44640" cy="9504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79" h="155">
                  <a:moveTo>
                    <a:pt x="0" y="155"/>
                  </a:moveTo>
                  <a:lnTo>
                    <a:pt x="79" y="155"/>
                  </a:lnTo>
                  <a:lnTo>
                    <a:pt x="79" y="0"/>
                  </a:lnTo>
                  <a:lnTo>
                    <a:pt x="0" y="0"/>
                  </a:lnTo>
                  <a:lnTo>
                    <a:pt x="0" y="1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34"/>
            <p:cNvSpPr/>
            <p:nvPr/>
          </p:nvSpPr>
          <p:spPr>
            <a:xfrm>
              <a:off x="9818640" y="1338480"/>
              <a:ext cx="44640" cy="9504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80" h="155">
                  <a:moveTo>
                    <a:pt x="0" y="155"/>
                  </a:moveTo>
                  <a:lnTo>
                    <a:pt x="80" y="155"/>
                  </a:lnTo>
                  <a:lnTo>
                    <a:pt x="80" y="0"/>
                  </a:lnTo>
                  <a:lnTo>
                    <a:pt x="0" y="0"/>
                  </a:lnTo>
                  <a:lnTo>
                    <a:pt x="0" y="1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35"/>
            <p:cNvSpPr/>
            <p:nvPr/>
          </p:nvSpPr>
          <p:spPr>
            <a:xfrm>
              <a:off x="9970920" y="1338480"/>
              <a:ext cx="46080" cy="950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82" h="155">
                  <a:moveTo>
                    <a:pt x="0" y="155"/>
                  </a:moveTo>
                  <a:lnTo>
                    <a:pt x="82" y="155"/>
                  </a:lnTo>
                  <a:lnTo>
                    <a:pt x="82" y="0"/>
                  </a:lnTo>
                  <a:lnTo>
                    <a:pt x="0" y="0"/>
                  </a:lnTo>
                  <a:lnTo>
                    <a:pt x="0" y="1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36"/>
            <p:cNvSpPr/>
            <p:nvPr/>
          </p:nvSpPr>
          <p:spPr>
            <a:xfrm>
              <a:off x="10131480" y="1338480"/>
              <a:ext cx="44280" cy="9504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80" h="155">
                  <a:moveTo>
                    <a:pt x="0" y="155"/>
                  </a:moveTo>
                  <a:lnTo>
                    <a:pt x="80" y="155"/>
                  </a:lnTo>
                  <a:lnTo>
                    <a:pt x="80" y="0"/>
                  </a:lnTo>
                  <a:lnTo>
                    <a:pt x="0" y="0"/>
                  </a:lnTo>
                  <a:lnTo>
                    <a:pt x="0" y="1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37"/>
            <p:cNvSpPr/>
            <p:nvPr/>
          </p:nvSpPr>
          <p:spPr>
            <a:xfrm>
              <a:off x="10288440" y="1338480"/>
              <a:ext cx="46080" cy="950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80" h="155">
                  <a:moveTo>
                    <a:pt x="0" y="155"/>
                  </a:moveTo>
                  <a:lnTo>
                    <a:pt x="80" y="155"/>
                  </a:lnTo>
                  <a:lnTo>
                    <a:pt x="80" y="0"/>
                  </a:lnTo>
                  <a:lnTo>
                    <a:pt x="0" y="0"/>
                  </a:lnTo>
                  <a:lnTo>
                    <a:pt x="0" y="1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38"/>
            <p:cNvSpPr/>
            <p:nvPr/>
          </p:nvSpPr>
          <p:spPr>
            <a:xfrm>
              <a:off x="10449000" y="1338480"/>
              <a:ext cx="44280" cy="9504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80" h="153">
                  <a:moveTo>
                    <a:pt x="0" y="153"/>
                  </a:moveTo>
                  <a:lnTo>
                    <a:pt x="80" y="153"/>
                  </a:lnTo>
                  <a:lnTo>
                    <a:pt x="80" y="0"/>
                  </a:lnTo>
                  <a:lnTo>
                    <a:pt x="0" y="0"/>
                  </a:lnTo>
                  <a:lnTo>
                    <a:pt x="0" y="1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39"/>
            <p:cNvSpPr/>
            <p:nvPr/>
          </p:nvSpPr>
          <p:spPr>
            <a:xfrm>
              <a:off x="10609200" y="1338480"/>
              <a:ext cx="46080" cy="950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80" h="153">
                  <a:moveTo>
                    <a:pt x="0" y="153"/>
                  </a:moveTo>
                  <a:lnTo>
                    <a:pt x="80" y="153"/>
                  </a:lnTo>
                  <a:lnTo>
                    <a:pt x="80" y="0"/>
                  </a:lnTo>
                  <a:lnTo>
                    <a:pt x="0" y="0"/>
                  </a:lnTo>
                  <a:lnTo>
                    <a:pt x="0" y="1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WordArt 4"/>
          <p:cNvSpPr txBox="1"/>
          <p:nvPr/>
        </p:nvSpPr>
        <p:spPr>
          <a:xfrm>
            <a:off x="1042920" y="260280"/>
            <a:ext cx="72741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Виды треугольнико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ff"/>
                                      </p:to>
                                    </p:animClr>
                                    <p:set>
                                      <p:cBhvr>
                                        <p:cTn id="24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716 0.01064 L -0.87188 0.52452 E">
                                      <p:cBhvr>
                                        <p:cTn id="27" dur="500" fill="hold"/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500"/>
                            </p:stCondLst>
                            <p:childTnLst>
                              <p:par>
                                <p:cTn id="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2500"/>
                            </p:stCondLst>
                            <p:childTnLst>
                              <p:par>
                                <p:cTn id="3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66"/>
                                      </p:to>
                                    </p:animClr>
                                    <p:set>
                                      <p:cBhvr>
                                        <p:cTn id="3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3000"/>
                            </p:stCondLst>
                            <p:childTnLst>
                              <p:par>
                                <p:cTn id="3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733 0.02105 L -0.40729 0.70306 E">
                                      <p:cBhvr>
                                        <p:cTn id="38" dur="500" fill="hold"/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3500"/>
                            </p:stCondLst>
                            <p:childTnLst>
                              <p:par>
                                <p:cTn id="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4500"/>
                            </p:stCondLst>
                            <p:childTnLst>
                              <p:par>
                                <p:cTn id="44" nodeType="after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99"/>
                                      </p:to>
                                    </p:animClr>
                                    <p:animClr clrSpc="rgb">
                                      <p:cBhvr>
                                        <p:cTn id="4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99"/>
                                      </p:to>
                                    </p:animClr>
                                    <p:set>
                                      <p:cBhvr>
                                        <p:cTn id="4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000"/>
                            </p:stCondLst>
                            <p:childTnLst>
                              <p:par>
                                <p:cTn id="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934 0.03169 L -0.38368 0.25209 E">
                                      <p:cBhvr>
                                        <p:cTn id="50" dur="500" fill="hold"/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500"/>
                            </p:stCondLst>
                            <p:childTnLst>
                              <p:par>
                                <p:cTn id="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6500"/>
                            </p:stCondLst>
                            <p:childTnLst>
                              <p:par>
                                <p:cTn id="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503280" y="1052640"/>
            <a:ext cx="864072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реугольник, у которого две стороны равны, называется   </a:t>
            </a:r>
            <a:r>
              <a:rPr b="1" i="1" lang="ru-RU" sz="2800" spc="-1" strike="noStrike" u="sng">
                <a:solidFill>
                  <a:srgbClr val="000066"/>
                </a:solidFill>
                <a:uFillTx/>
                <a:latin typeface="Arial"/>
              </a:rPr>
              <a:t>равнобедренным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реугольник, у которого все стороны равны, называется </a:t>
            </a:r>
            <a:r>
              <a:rPr b="1" i="1" lang="ru-RU" sz="2800" spc="-1" strike="noStrike" u="sng">
                <a:solidFill>
                  <a:srgbClr val="000066"/>
                </a:solidFill>
                <a:uFillTx/>
                <a:latin typeface="Arial"/>
              </a:rPr>
              <a:t>равносторонним</a:t>
            </a:r>
            <a:r>
              <a:rPr b="1" lang="ru-RU" sz="2800" spc="-1" strike="noStrike" u="sng">
                <a:solidFill>
                  <a:srgbClr val="000066"/>
                </a:solidFill>
                <a:uFillTx/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реугольник, у которого все стороны имеют разные длины,  называется                                                         </a:t>
            </a:r>
            <a:r>
              <a:rPr b="1" i="1" lang="ru-RU" sz="2800" spc="-1" strike="noStrike" u="sng">
                <a:solidFill>
                  <a:srgbClr val="000066"/>
                </a:solidFill>
                <a:uFillTx/>
                <a:latin typeface="Arial"/>
              </a:rPr>
              <a:t>разносторонни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реугольник, у которого есть прямой угол, называется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 u="sng">
                <a:solidFill>
                  <a:srgbClr val="000066"/>
                </a:solidFill>
                <a:uFillTx/>
                <a:latin typeface="Arial"/>
              </a:rPr>
              <a:t>прямоугольны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реугольник, у которого все углы острые, называется </a:t>
            </a:r>
            <a:r>
              <a:rPr b="1" i="1" lang="ru-RU" sz="2800" spc="-1" strike="noStrike" u="sng">
                <a:solidFill>
                  <a:srgbClr val="000066"/>
                </a:solidFill>
                <a:uFillTx/>
                <a:latin typeface="Arial"/>
              </a:rPr>
              <a:t>остроугольным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реугольник, у которого есть тупой угол, называется </a:t>
            </a:r>
            <a:r>
              <a:rPr b="1" i="1" lang="ru-RU" sz="2800" spc="-1" strike="noStrike" u="sng">
                <a:solidFill>
                  <a:srgbClr val="000066"/>
                </a:solidFill>
                <a:uFillTx/>
                <a:latin typeface="Arial"/>
              </a:rPr>
              <a:t>тупоугольны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WordArt 5"/>
          <p:cNvSpPr txBox="1"/>
          <p:nvPr/>
        </p:nvSpPr>
        <p:spPr>
          <a:xfrm>
            <a:off x="3203640" y="189000"/>
            <a:ext cx="331164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Проверь себя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000"/>
                            </p:stCondLst>
                            <p:childTnLst>
                              <p:par>
                                <p:cTn id="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500"/>
                            </p:stCondLst>
                            <p:childTnLst>
                              <p:par>
                                <p:cTn id="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2000"/>
                            </p:stCondLst>
                            <p:childTnLst>
                              <p:par>
                                <p:cTn id="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2500"/>
                            </p:stCondLst>
                            <p:childTnLst>
                              <p:par>
                                <p:cTn id="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3000"/>
                            </p:stCondLst>
                            <p:childTnLst>
                              <p:par>
                                <p:cTn id="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>
            <a:off x="285840" y="1214280"/>
            <a:ext cx="3914640" cy="35006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" descr=""/>
          <p:cNvPicPr/>
          <p:nvPr/>
        </p:nvPicPr>
        <p:blipFill>
          <a:blip r:embed="rId2"/>
          <a:stretch/>
        </p:blipFill>
        <p:spPr>
          <a:xfrm>
            <a:off x="4357800" y="1214280"/>
            <a:ext cx="4383000" cy="3500640"/>
          </a:xfrm>
          <a:prstGeom prst="rect">
            <a:avLst/>
          </a:prstGeom>
          <a:ln w="0">
            <a:noFill/>
          </a:ln>
        </p:spPr>
      </p:pic>
      <p:pic>
        <p:nvPicPr>
          <p:cNvPr id="74" name="Прямоугольник 5" descr=""/>
          <p:cNvPicPr/>
          <p:nvPr/>
        </p:nvPicPr>
        <p:blipFill>
          <a:blip r:embed="rId3"/>
          <a:stretch/>
        </p:blipFill>
        <p:spPr>
          <a:xfrm>
            <a:off x="353880" y="42840"/>
            <a:ext cx="8296560" cy="1103400"/>
          </a:xfrm>
          <a:prstGeom prst="rect">
            <a:avLst/>
          </a:prstGeom>
          <a:ln w="0">
            <a:noFill/>
          </a:ln>
        </p:spPr>
      </p:pic>
      <p:pic>
        <p:nvPicPr>
          <p:cNvPr id="75" name="Прямоугольник 6" descr=""/>
          <p:cNvPicPr/>
          <p:nvPr/>
        </p:nvPicPr>
        <p:blipFill>
          <a:blip r:embed="rId4"/>
          <a:stretch/>
        </p:blipFill>
        <p:spPr>
          <a:xfrm>
            <a:off x="1085760" y="4761000"/>
            <a:ext cx="2986200" cy="407880"/>
          </a:xfrm>
          <a:prstGeom prst="rect">
            <a:avLst/>
          </a:prstGeom>
          <a:ln w="0">
            <a:noFill/>
          </a:ln>
        </p:spPr>
      </p:pic>
      <p:pic>
        <p:nvPicPr>
          <p:cNvPr id="76" name="Прямоугольник 7" descr=""/>
          <p:cNvPicPr/>
          <p:nvPr/>
        </p:nvPicPr>
        <p:blipFill>
          <a:blip r:embed="rId5"/>
          <a:stretch/>
        </p:blipFill>
        <p:spPr>
          <a:xfrm>
            <a:off x="4591080" y="4821120"/>
            <a:ext cx="2631960" cy="4096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7T14:09:44Z</dcterms:created>
  <dc:creator>Comp27</dc:creator>
  <dc:description/>
  <dc:language>en-US</dc:language>
  <cp:lastModifiedBy>dpc</cp:lastModifiedBy>
  <dcterms:modified xsi:type="dcterms:W3CDTF">2013-02-15T16:27:12Z</dcterms:modified>
  <cp:revision>13</cp:revision>
  <dc:subject/>
  <dc:title>Слайд 1</dc:title>
</cp:coreProperties>
</file>