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992B-E084-46FB-AA48-28C384B65C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6275-5C58-449F-8F6F-77F4AEF4E7D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AE23-5E19-43AD-AB3C-9AB0064427A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22A3-24E9-4B4C-9B94-A1B94DF8D8B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187-BF76-4C4A-8AF0-933B1704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45C-D70E-470F-AF29-9542BDDC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BE3-B693-4593-8688-E4A2E695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926-6ECD-486D-89AB-1916278E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69E5-4E32-4355-9CE3-E8B84CD4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3D4E-C256-4815-87CA-761FF68C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BC9B-7A4C-4812-A50C-E8A87FA8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7876-5FC3-4AB7-A7FF-B12AFE61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2541-7729-4F3A-A92E-D45BD423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EE84-E336-431C-A3F9-479FE09F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320A-3E42-49F1-8416-02F9B01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AE3-8B9D-4807-9CA6-0C905BAC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9388-D024-4CA9-8532-99514E5E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DE97-D44A-497C-B6FE-C608984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59AE-7792-4787-B4FD-7EFA37B4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4934-1100-45D8-8829-155BC6F3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AD8A-2BD1-43C0-80F7-12D346DE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5566-0FA7-4B31-9488-758C6FB2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4D94-B05E-4919-99D2-6E518283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BC38-94CB-4660-87B0-D29ADB2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4146-E146-4D56-BB7E-4D8050B9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2177-5123-4AAE-BFEF-F050486B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8E6-D5C8-4321-B86F-DACE31F6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C8AD0-E2B6-4481-9BCF-F52DFF6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A726-F34B-40A3-BDF3-75B8EE67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C76C-6D32-4E83-AEEC-52646D55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74DD-1F36-4A02-850A-A588B0F8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93D7-3E38-4EB3-9443-D256982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1539-E5B8-4FD9-85C0-C85A61D2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62B5-37B6-4DC6-9C20-537A4941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D9823-E72D-4B8C-A29F-E053B443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BFA6-7BCF-4BC3-A196-E335C991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4B6F-D4E7-4276-AE98-D2A8ED96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A67-F4F7-4D91-8E6F-755BEF0F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D5E3-1B38-43B1-9D1D-D2E547BF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7E54-5D30-47CE-B26B-5C8874FC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7515-C468-41B9-8A14-F1E3F238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5D484-1EDA-4D2D-B3D4-FE9903AA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26CA-9136-417B-A2AE-6814A03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3191D-55B8-406A-81F7-0FF342C8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C40C-7550-4DD1-8D55-CB08B06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989C4-E660-42C0-B293-7CDEC6D6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2FD3-37C8-408D-A626-B5D6AD45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710D6-BCAD-439B-BE85-C3368C3F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79A-3F42-4FC1-92E4-EDA4F355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F8110-B570-40C6-A1E9-54170E91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85F5-BF34-4AF5-A0B2-75AF514B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BAB43-EFDA-4BF0-A7C0-185FA2B3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F4758-074A-4ED4-A232-F6A0275D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C048-4B8C-4DE5-9935-AD9203C2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F5A3-0B6E-44BD-8B64-EDA02810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57278-4E50-484F-B2A6-78E88AB9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DC45-CFE3-46DA-A582-DF9E9344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46747-8259-4BD7-9504-F1B9DCDC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D3238-331E-4660-915C-F7AEC978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6F4-37E0-4DBF-B361-C000BE63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7F365-57DA-4EE1-A8C7-FB585F8F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33DE6-A416-444B-B744-122E54A5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CA2E6-F68E-4EA2-952A-ED304CE8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8CD15-E89B-4603-AD9B-0666FB27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354CA-3B77-49F3-A949-0B3A1613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C34BC-674C-4EC3-A11E-F07A4F5C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40B1-B0FF-4894-97F9-84B210D2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15271-B11E-40B9-88D6-F25AB94F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AB2A-657B-4B6D-931E-DE57D34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76C5-F458-4A70-85B9-BC4979A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AF3-1951-4D17-B677-FCCAE68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F4C01-D1E1-42C5-9D55-2ADEE930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F81F7-EB10-41BB-BC99-BCC77133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4CF6-259E-43AE-BF99-825985F0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F450-6C43-4204-9399-6E232CD7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755C3-601F-46E7-BAA2-D7C2715A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B3A8-C777-41B0-8D29-929E2309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3437-DF4B-4E14-9CBE-9223B729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09016-916E-4CF2-8029-86998F05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FAA41-B69A-4657-8FF7-979284FC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EC9B3-E2D3-43FC-8854-57CD44E4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6F8-F0E6-4B72-B11C-006234B5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50680-865B-4371-AA07-2C0C1BAA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0E4D1-7932-4FB9-8874-FBDC61AD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8C452-E066-4B2C-A0D3-AD998271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DE894-2113-4F9E-AA88-62836047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F676-3C7A-4FBA-A448-7DA5B97D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DE3CE-2D6C-4A31-9267-572961F2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62753-83A7-4E72-ACD8-204CDE70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6AF19-D236-4873-BE67-2F5D5B13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E56B5-6B72-480E-9137-577BD93B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8A7DB-2CBA-4F1F-819F-BA1E872D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8A3-5B73-47F3-9303-87B607B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2A845-48C4-4066-A25C-62046D52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5C119-FDD5-42D7-BF55-9EE8F38C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B02B8-2DBC-4AD1-BDC6-9E1DE39E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52E0A-36EB-4CEB-816E-E6072C6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52E03-2844-4AAB-BF32-AA682A7E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01A8-81C8-4E45-B458-3FB16292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5C508-18B3-42FF-9B23-E486C5D6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0550-A490-4623-8E75-20C519AC122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4F34-7C8A-4BAA-BD2E-B87F6553B03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0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0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7A2A-3C1B-4824-BB8C-921076C8DE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F1F8-97A8-4D13-954F-A400CD2F074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7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8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1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6CDF-E394-423A-BE3D-104B9E77F96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6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8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9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1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2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C968-9CFC-4883-B0FE-940FF13705D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27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9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30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34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48EA-C363-4447-BAE6-F5F50C79ADE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78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0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81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4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85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BC34-F8BF-4353-896E-DA3AB302C0C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00720" y="5445000"/>
            <a:ext cx="45352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         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Воспитатель ГБДОУ № 6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               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Низомидинова М.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36" name="Заголовок 2" descr=""/>
          <p:cNvPicPr/>
          <p:nvPr/>
        </p:nvPicPr>
        <p:blipFill>
          <a:blip r:embed="rId1"/>
          <a:stretch/>
        </p:blipFill>
        <p:spPr>
          <a:xfrm>
            <a:off x="828720" y="712800"/>
            <a:ext cx="71755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Рисунок 3" descr=""/>
          <p:cNvPicPr/>
          <p:nvPr/>
        </p:nvPicPr>
        <p:blipFill>
          <a:blip r:embed="rId1"/>
          <a:stretch/>
        </p:blipFill>
        <p:spPr>
          <a:xfrm>
            <a:off x="4621320" y="1557360"/>
            <a:ext cx="4500360" cy="25923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218916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7" descr=""/>
          <p:cNvPicPr/>
          <p:nvPr/>
        </p:nvPicPr>
        <p:blipFill>
          <a:blip r:embed="rId3"/>
          <a:stretch/>
        </p:blipFill>
        <p:spPr>
          <a:xfrm>
            <a:off x="4643280" y="4149720"/>
            <a:ext cx="4500720" cy="270828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11" descr=""/>
          <p:cNvPicPr/>
          <p:nvPr/>
        </p:nvPicPr>
        <p:blipFill>
          <a:blip r:embed="rId4"/>
          <a:stretch/>
        </p:blipFill>
        <p:spPr>
          <a:xfrm>
            <a:off x="0" y="4149720"/>
            <a:ext cx="4643280" cy="2708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D:\Documents and Settings\Admin\Рабочий стол\images.jpg"/>
          <p:cNvPicPr/>
          <p:nvPr/>
        </p:nvPicPr>
        <p:blipFill>
          <a:blip r:embed="rId5"/>
          <a:stretch/>
        </p:blipFill>
        <p:spPr>
          <a:xfrm>
            <a:off x="0" y="2168640"/>
            <a:ext cx="4643280" cy="19810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"/>
          <p:cNvSpPr/>
          <p:nvPr/>
        </p:nvSpPr>
        <p:spPr>
          <a:xfrm>
            <a:off x="4859280" y="189000"/>
            <a:ext cx="40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Красуйся град Петров, и стой Неколебимо, как Россия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Да умириться же с тобо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 побеждённая стих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499320" y="2060640"/>
            <a:ext cx="80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903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Цели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108000" y="1844640"/>
            <a:ext cx="89056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сширение кругозора детей о достопримечательностях родного гор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Знакомство детей с архитектурой гор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оспитывать любовь к родному горо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Кваша Олег - Гимн Санкт-Петербурга.mp3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4809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903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08000" y="1844640"/>
            <a:ext cx="89056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Познакомить детей с архитектурой родного города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Воспитывать любовь, уважение, любознательность к родному городу и чувство гордости за звание «петербуржец»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Развивать познавательные, интеллектуальные способности и творческий потенциал детей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Кваша Олег - Гимн Санкт-Петербурга.mp3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4809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108000" y="1484280"/>
            <a:ext cx="20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реди болот, дорог и вьюг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Как исполин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з сказк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Явился миру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етербург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олной любви обласкан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4" name="Рисунок 2" descr=""/>
          <p:cNvPicPr/>
          <p:nvPr/>
        </p:nvPicPr>
        <p:blipFill>
          <a:blip r:embed="rId1"/>
          <a:stretch/>
        </p:blipFill>
        <p:spPr>
          <a:xfrm>
            <a:off x="2268360" y="0"/>
            <a:ext cx="6888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7712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1"/>
          <p:cNvSpPr/>
          <p:nvPr/>
        </p:nvSpPr>
        <p:spPr>
          <a:xfrm>
            <a:off x="0" y="0"/>
            <a:ext cx="3868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от памятник царю Пет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 царскому кон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Его фотографирую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о двести раз на дн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пеши увидеть их, спеш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видание с ними праздни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еликий царь и гордый ко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Зовутся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Медный всадни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D:\Documents and Settings\Admin\Рабочий стол\1243859224_77357f2dfba0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"/>
          <p:cNvSpPr/>
          <p:nvPr/>
        </p:nvSpPr>
        <p:spPr>
          <a:xfrm>
            <a:off x="4606920" y="260280"/>
            <a:ext cx="44658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Ветра вой и волн свиреп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Всё видала, всё снес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Петропавловская крепо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Тучи рвущая игла..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32360" y="47520"/>
            <a:ext cx="4194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а факела, как две звезды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орят, чтоб освещались волны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оей сверкающей Невы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усть кораблям открыт наряд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гда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Ростральны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орят.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441000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4" descr=""/>
          <p:cNvPicPr/>
          <p:nvPr/>
        </p:nvPicPr>
        <p:blipFill>
          <a:blip r:embed="rId2"/>
          <a:stretch/>
        </p:blipFill>
        <p:spPr>
          <a:xfrm>
            <a:off x="4410000" y="1844640"/>
            <a:ext cx="471636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Рисунок 7" descr=""/>
          <p:cNvPicPr/>
          <p:nvPr/>
        </p:nvPicPr>
        <p:blipFill>
          <a:blip r:embed="rId1"/>
          <a:stretch/>
        </p:blipFill>
        <p:spPr>
          <a:xfrm>
            <a:off x="-181080" y="-22320"/>
            <a:ext cx="931068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TextBox 8"/>
          <p:cNvSpPr/>
          <p:nvPr/>
        </p:nvSpPr>
        <p:spPr>
          <a:xfrm>
            <a:off x="4475160" y="0"/>
            <a:ext cx="465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о дворце, где у царских семей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Зимнее было становищ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Теперь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Эрмитаж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– так зовется   музе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В котором хранятся сокровищ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5"/>
          <p:cNvSpPr/>
          <p:nvPr/>
        </p:nvSpPr>
        <p:spPr>
          <a:xfrm>
            <a:off x="4410000" y="260280"/>
            <a:ext cx="468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Город спит, и Невский стройны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Уплывает в темноту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Только кони неспокойны,  Н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Аничковом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мосту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трашно мне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Рванутся кони!  Кто таких коней догонит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6" name="Picture 6" descr="D:\Documents and Settings\Admin\Рабочий стол\anichkov_most_1 (1).jpg"/>
          <p:cNvPicPr/>
          <p:nvPr/>
        </p:nvPicPr>
        <p:blipFill>
          <a:blip r:embed="rId2"/>
          <a:stretch/>
        </p:blipFill>
        <p:spPr>
          <a:xfrm>
            <a:off x="4211640" y="1844640"/>
            <a:ext cx="493236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5:50:51Z</dcterms:created>
  <dc:creator>пк</dc:creator>
  <dc:description/>
  <dc:language>en-US</dc:language>
  <cp:lastModifiedBy>Admin</cp:lastModifiedBy>
  <dcterms:modified xsi:type="dcterms:W3CDTF">2013-12-08T15:15:04Z</dcterms:modified>
  <cp:revision>84</cp:revision>
  <dc:subject/>
  <dc:title>Санкт-Петербург «вторая столица»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70000000000010250300207f7000400038000</vt:lpwstr>
  </property>
</Properties>
</file>