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25C-11CA-405A-91D7-A8878784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DAE-D398-4494-897D-4B560A49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55A-F326-449A-8473-D1411D1A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8E5-D731-4F70-A43A-14FAA55E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2A90-0C3D-4FDF-A0C1-3B48F385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5839-C242-4AF9-8CAC-F23C2197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BBA4-DEB8-4EB3-9E66-7FAF5667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43F7-8FDD-482F-9229-F00EB913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FE6D-0AC6-4AA6-9E76-07D104D4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FA8E-229C-47F2-AC82-31176D3A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9FC5-4A44-4B2F-9243-BD8A7ABC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EBF-DCBE-45B0-9CAF-AD3EDC05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098E-B37E-48B5-8152-11E42922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DF47-7F2A-4D4F-A3E0-798DB373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8F2A-91DE-43CD-92DE-72FF43F0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9363-9DBE-448E-B2D9-2293260F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17FF-3A87-40FC-8A26-7691D7F6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35C-A037-4FBC-8B21-6B53FC4E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69E-E37D-45C2-AFE6-90C4299A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ADA-A375-490D-ACE0-0BDCE6B0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0F2-8EA9-4A62-8C8B-9C2C469C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402-2477-4AF0-A608-C8D1FDEC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FE1-CD0E-44ED-B2A8-A15CC17A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C02-EB95-4F23-8DB9-841CA59D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F27D-6D43-4F7C-86A6-221E3366CC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CB0C-890D-4079-8A2A-37A9C5F8A2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рок окружающего мир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 тему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«Наши права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4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3492360" y="589608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втор: Головченко Людмила Викторовна, МБОУ лицей «Технико-экономический» г.Новороссийск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134200" cy="46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се люди имеют право собираться и вместе орга-низовывать группы и союзы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424720" cy="40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У меня есть:</a:t>
            </a:r>
            <a:br>
              <a:rPr sz="4800"/>
            </a:b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•Право на имя,      отчество, фамилию и гражданство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424720" cy="47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аво знать своих родителей, совместно с ними проживать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• Право на общение с обоими родителями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048"/>
          <p:cNvPicPr/>
          <p:nvPr/>
        </p:nvPicPr>
        <p:blipFill>
          <a:blip r:embed="rId1"/>
          <a:stretch/>
        </p:blipFill>
        <p:spPr>
          <a:xfrm>
            <a:off x="3924360" y="3716280"/>
            <a:ext cx="3887640" cy="2914560"/>
          </a:xfrm>
          <a:prstGeom prst="rect">
            <a:avLst/>
          </a:prstGeom>
          <a:ln w="38160">
            <a:solidFill>
              <a:srgbClr val="81e7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6588000" y="3933720"/>
            <a:ext cx="1992600" cy="2460240"/>
            <a:chOff x="6588000" y="3933720"/>
            <a:chExt cx="1992600" cy="2460240"/>
          </a:xfrm>
        </p:grpSpPr>
        <p:pic>
          <p:nvPicPr>
            <p:cNvPr id="168" name="Picture 6" descr="FAMILY2"/>
            <p:cNvPicPr/>
            <p:nvPr/>
          </p:nvPicPr>
          <p:blipFill>
            <a:blip r:embed="rId1"/>
            <a:stretch/>
          </p:blipFill>
          <p:spPr>
            <a:xfrm>
              <a:off x="7715880" y="3933720"/>
              <a:ext cx="864720" cy="232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7" descr="FAMILY1"/>
            <p:cNvPicPr/>
            <p:nvPr/>
          </p:nvPicPr>
          <p:blipFill>
            <a:blip r:embed="rId2"/>
            <a:stretch/>
          </p:blipFill>
          <p:spPr>
            <a:xfrm>
              <a:off x="6588000" y="4105800"/>
              <a:ext cx="1224000" cy="228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8" descr="BL00300_"/>
          <p:cNvPicPr/>
          <p:nvPr/>
        </p:nvPicPr>
        <p:blipFill>
          <a:blip r:embed="rId3"/>
          <a:stretch/>
        </p:blipFill>
        <p:spPr>
          <a:xfrm>
            <a:off x="900000" y="3429000"/>
            <a:ext cx="3314880" cy="3008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179280" y="620640"/>
            <a:ext cx="10101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о на жизнь и личную неприкосно-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нность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о на личное имущество, на получение содержания от родителей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оро"/>
          <p:cNvPicPr/>
          <p:nvPr/>
        </p:nvPicPr>
        <p:blipFill>
          <a:blip r:embed="rId1"/>
          <a:stretch/>
        </p:blipFill>
        <p:spPr>
          <a:xfrm>
            <a:off x="6156360" y="4437000"/>
            <a:ext cx="2743200" cy="220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3" name="Text Box 6"/>
          <p:cNvSpPr/>
          <p:nvPr/>
        </p:nvSpPr>
        <p:spPr>
          <a:xfrm>
            <a:off x="468360" y="263700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аво на заботу и воспитание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аво на защиту и воспитание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7" descr="оеоооо"/>
          <p:cNvPicPr/>
          <p:nvPr/>
        </p:nvPicPr>
        <p:blipFill>
          <a:blip r:embed="rId2"/>
          <a:stretch/>
        </p:blipFill>
        <p:spPr>
          <a:xfrm>
            <a:off x="250920" y="260280"/>
            <a:ext cx="302580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116000" y="907920"/>
          <a:ext cx="6769080" cy="494028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160"/>
                <a:gridCol w="615960"/>
                <a:gridCol w="615960"/>
                <a:gridCol w="615960"/>
                <a:gridCol w="614520"/>
                <a:gridCol w="615960"/>
                <a:gridCol w="614160"/>
                <a:gridCol w="615960"/>
              </a:tblGrid>
              <a:tr h="979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87280" y="958680"/>
          <a:ext cx="6769440" cy="494064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520"/>
                <a:gridCol w="615960"/>
                <a:gridCol w="615600"/>
                <a:gridCol w="615960"/>
                <a:gridCol w="614520"/>
                <a:gridCol w="615960"/>
                <a:gridCol w="614520"/>
                <a:gridCol w="615960"/>
              </a:tblGrid>
              <a:tr h="979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187280" y="907920"/>
          <a:ext cx="6769440" cy="494028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520"/>
                <a:gridCol w="615960"/>
                <a:gridCol w="615600"/>
                <a:gridCol w="615960"/>
                <a:gridCol w="614520"/>
                <a:gridCol w="615960"/>
                <a:gridCol w="614520"/>
                <a:gridCol w="615960"/>
              </a:tblGrid>
              <a:tr h="979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187280" y="1052640"/>
          <a:ext cx="6769440" cy="484668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520"/>
                <a:gridCol w="615960"/>
                <a:gridCol w="615600"/>
                <a:gridCol w="615960"/>
                <a:gridCol w="614520"/>
                <a:gridCol w="615960"/>
                <a:gridCol w="614520"/>
                <a:gridCol w="615960"/>
              </a:tblGrid>
              <a:tr h="88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187280" y="1006560"/>
          <a:ext cx="6769440" cy="484668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520"/>
                <a:gridCol w="615960"/>
                <a:gridCol w="615600"/>
                <a:gridCol w="615960"/>
                <a:gridCol w="614520"/>
                <a:gridCol w="615960"/>
                <a:gridCol w="614520"/>
                <a:gridCol w="615960"/>
              </a:tblGrid>
              <a:tr h="88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7921440" cy="40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О мерах по профилактике безнадзорности и правона-рушений несовершеннолетних»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24360" y="-458640"/>
            <a:ext cx="9720360" cy="496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…  спр…ш…в…й, чт…  стр…н…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м…ж…т  сд…л…ть  дл…  т…б…,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спр…с…, чт…  т…  м…ж…ш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сд…л…ть  дл…  св……й  стр…н…. 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8713800" cy="46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е  спрашивай, что  страна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может  сделать  для  тебя,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спроси, что  ты  можеш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сделать  для  своей  страны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642160" cy="46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 мире есть закон, что знает ____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се его Конвенцией _____ 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храняет жизнь, здоровье ______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х права на отдых и на _____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м с тобою тот закон ______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 жизни нам поможет очень ___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52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исок литературы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Словарь русского языка  С.И.Ожег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Конвенция ООН о правах ребён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Конституция РФ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писок использованных материалов, Интернет-ресурсо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Нью-Йорк онлайн достопримечательности, история Нью-Йорк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7993080" cy="44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200"/>
                </a:solidFill>
                <a:latin typeface="Comic Sans MS"/>
              </a:rPr>
              <a:t>ООН </a:t>
            </a:r>
            <a:br>
              <a:rPr sz="4000"/>
            </a:b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(Организация Объединённых Наций)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– международная организация, главной целью которой является стремление избавить грядущие поколения от бедствий войны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42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Генеральная ассамблея ООН –</a:t>
            </a:r>
            <a:br>
              <a:rPr sz="60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обрание делегатов всех государств – членов организац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543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1959 год</a:t>
            </a: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ОН приняла 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Декларацию прав ребёнк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, провозгласив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Человечество обязано давать ребёнку лучшее, что оно имеет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342200" cy="52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Декларация 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(высказывание)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– это всего лишь </a:t>
            </a: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рекомендации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, она </a:t>
            </a: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не имеет обязательной сил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586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Конвенци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(договор, соглашение)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– это соглашение по специальному вопросу, </a:t>
            </a: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</a:rPr>
              <a:t>обязательно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для государств, которые к нему присоединились, т.е. подписали договор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52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20 ноября 1989 года</a:t>
            </a:r>
            <a:br>
              <a:rPr sz="60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нята</a:t>
            </a:r>
            <a:br>
              <a:rPr sz="4400"/>
            </a:b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Конвенция ООН о правах ребёнка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152280"/>
            <a:ext cx="7848720" cy="543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се люди рождаются свободными и равными. Все имеют одинаковое достоинство и права. Все наделены разумом и должны относиться друг к другу, как братья и сёстр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7:34:12Z</dcterms:created>
  <dc:creator>House</dc:creator>
  <dc:description/>
  <dc:language>en-US</dc:language>
  <cp:lastModifiedBy>1ъ</cp:lastModifiedBy>
  <dcterms:modified xsi:type="dcterms:W3CDTF">2012-06-28T18:35:42Z</dcterms:modified>
  <cp:revision>14</cp:revision>
  <dc:subject/>
  <dc:title>Классный час на тему:</dc:title>
</cp:coreProperties>
</file>