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104-CB50-445F-B1EE-D7E9060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A9C-37AE-461D-884B-AAE2B9C2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2E6-42DE-400E-8CC6-91AE2FAB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943-E9D9-49B7-9407-1B5C1FD2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C4D-F551-44E1-8B0F-BD236D98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C987-7D52-44CA-8977-3F22547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6A68-7BC0-4FE2-B503-559782CC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E4D-02C9-4AF1-AD82-8F3BD7DF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AAD-4687-4B71-B6CE-C298B4C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E9F8-07F6-4316-B035-2F5BFFC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69C-1E55-4231-B71D-27E7DC3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C96-285B-4F84-89DC-09A26D93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E7D-98AC-414F-8DF3-90E2399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3CB-22E2-43AE-A9DD-9F456D3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335D-2818-4FE7-8F9B-D304B97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EA3-91D5-45F8-A439-4EA809CB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25E0-9471-4E12-BBA0-32746672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146-30E9-45EA-B613-1FAF7B0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E34-78A6-4CAA-884B-E8863D6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C59-5CE5-47AE-8BCD-F625587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258-D2DD-4141-BE07-E7716CB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C51-4F11-485E-A919-13627D4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24-ED9B-4AE5-9EBD-7660247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2B1-AC95-48BF-BC20-C4A42A5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C75-6675-4CBF-A4B9-4C97E2B0AF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3A0-5AC8-4144-9D45-C1F949BCB2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окружающего мир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«Наши прав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492360" y="589608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: Головченко Людмила Викторовна, МБОУ лицей «Технико-экономический» г.Новороссийс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342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Все люди имеют право собираться и вместе орга-низовывать группы и союз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42472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 меня есть:</a:t>
            </a:r>
            <a:br>
              <a:rPr sz="4800"/>
            </a:b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•Право на имя,      отчество, фамилию и гражданство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знать своих родителей, совместно с ними прожива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Право на общение с обоими родителями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048"/>
          <p:cNvPicPr/>
          <p:nvPr/>
        </p:nvPicPr>
        <p:blipFill>
          <a:blip r:embed="rId1"/>
          <a:stretch/>
        </p:blipFill>
        <p:spPr>
          <a:xfrm>
            <a:off x="3924360" y="3716280"/>
            <a:ext cx="3887640" cy="2914560"/>
          </a:xfrm>
          <a:prstGeom prst="rect">
            <a:avLst/>
          </a:prstGeom>
          <a:ln w="38160">
            <a:solidFill>
              <a:srgbClr val="81e7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6588000" y="3933720"/>
            <a:ext cx="1992600" cy="2460240"/>
            <a:chOff x="6588000" y="3933720"/>
            <a:chExt cx="1992600" cy="2460240"/>
          </a:xfrm>
        </p:grpSpPr>
        <p:pic>
          <p:nvPicPr>
            <p:cNvPr id="168" name="Picture 6" descr="FAMILY2"/>
            <p:cNvPicPr/>
            <p:nvPr/>
          </p:nvPicPr>
          <p:blipFill>
            <a:blip r:embed="rId1"/>
            <a:stretch/>
          </p:blipFill>
          <p:spPr>
            <a:xfrm>
              <a:off x="7715880" y="3933720"/>
              <a:ext cx="864720" cy="23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FAMILY1"/>
            <p:cNvPicPr/>
            <p:nvPr/>
          </p:nvPicPr>
          <p:blipFill>
            <a:blip r:embed="rId2"/>
            <a:stretch/>
          </p:blipFill>
          <p:spPr>
            <a:xfrm>
              <a:off x="6588000" y="4105800"/>
              <a:ext cx="1224000" cy="228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8" descr="BL00300_"/>
          <p:cNvPicPr/>
          <p:nvPr/>
        </p:nvPicPr>
        <p:blipFill>
          <a:blip r:embed="rId3"/>
          <a:stretch/>
        </p:blipFill>
        <p:spPr>
          <a:xfrm>
            <a:off x="900000" y="3429000"/>
            <a:ext cx="3314880" cy="3008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179280" y="620640"/>
            <a:ext cx="101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жизнь и личную неприкосно-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нность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 на личное имущество, на получение содержания от родителей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оро"/>
          <p:cNvPicPr/>
          <p:nvPr/>
        </p:nvPicPr>
        <p:blipFill>
          <a:blip r:embed="rId1"/>
          <a:stretch/>
        </p:blipFill>
        <p:spPr>
          <a:xfrm>
            <a:off x="6156360" y="4437000"/>
            <a:ext cx="2743200" cy="220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" name="Text Box 6"/>
          <p:cNvSpPr/>
          <p:nvPr/>
        </p:nvSpPr>
        <p:spPr>
          <a:xfrm>
            <a:off x="468360" y="263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бо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аво на защиту и воспитание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оеоооо"/>
          <p:cNvPicPr/>
          <p:nvPr/>
        </p:nvPicPr>
        <p:blipFill>
          <a:blip r:embed="rId2"/>
          <a:stretch/>
        </p:blipFill>
        <p:spPr>
          <a:xfrm>
            <a:off x="250920" y="260280"/>
            <a:ext cx="30258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116000" y="907920"/>
          <a:ext cx="676908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160"/>
                <a:gridCol w="615960"/>
                <a:gridCol w="615960"/>
                <a:gridCol w="615960"/>
                <a:gridCol w="614520"/>
                <a:gridCol w="615960"/>
                <a:gridCol w="61416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87280" y="958680"/>
          <a:ext cx="6769440" cy="494064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87280" y="907920"/>
          <a:ext cx="6769440" cy="49402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97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105264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87280" y="1006560"/>
          <a:ext cx="6769440" cy="484668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520"/>
                <a:gridCol w="615960"/>
                <a:gridCol w="615600"/>
                <a:gridCol w="615960"/>
                <a:gridCol w="614520"/>
                <a:gridCol w="615960"/>
                <a:gridCol w="614520"/>
                <a:gridCol w="615960"/>
              </a:tblGrid>
              <a:tr h="88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d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703d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703d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03d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703d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92144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 мерах по профилактике безнадзорности и правона-рушений несовершеннолетн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24360" y="-458640"/>
            <a:ext cx="9720360" cy="49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…  спр…ш…в…й, чт…  стр…н…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м…ж…т  сд…л…ть  дл…  т…б…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пр…с…, чт…  т…  м…ж…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сд…л…ть  дл…  св……й  стр…н….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спрашивай, что  страна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может  сделать  для  тебя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проси, что  ты  можеш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сделать  для  своей  страны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мире есть закон, что знает 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его Конвенцией _____ 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храняет жизнь, здоровье ______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х права на отдых и на _____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м с тобою тот закон ______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жизни нам поможет очень 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52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исок литератур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ловарь русского языка  С.И.Ожег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Конвенция ООН о правах ребё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Конституция РФ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писок использованных материалов, Интернет-ресурс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Нью-Йорк онлайн достопримечательности, история Нью-Йор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200"/>
                </a:solidFill>
                <a:latin typeface="Comic Sans MS"/>
              </a:rPr>
              <a:t>ООН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(Организация Объединённых Наций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международная организация, главной целью которой является стремление избавить грядущие поколения от бедствий войны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2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Генеральная ассамблея ООН –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брание делегатов всех государств – членов организ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1959 год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ОН приняла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екларацию прав ребён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провозгласив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Человечество обязано давать ребёнку лучшее, что оно имеет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Декларация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высказыва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всего лишь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рекомендаци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, она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не имеет обязательной сил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Конвенц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(договор, соглашение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– это соглашение по специальному вопросу, </a:t>
            </a: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</a:rPr>
              <a:t>обязательно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для государств, которые к нему присоединились, т.е. подписали договор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52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dff"/>
                </a:solidFill>
                <a:latin typeface="Comic Sans MS"/>
              </a:rPr>
              <a:t>20 ноября 1989 года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нята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Конвенция ООН о правах ребён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52280"/>
            <a:ext cx="7848720" cy="54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е люди рождаются свободными и равными. Все имеют одинаковое достоинство и права. Все наделены разумом и должны относиться друг к другу, как братья и сёст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4:12Z</dcterms:created>
  <dc:creator>House</dc:creator>
  <dc:description/>
  <dc:language>en-US</dc:language>
  <cp:lastModifiedBy>1ъ</cp:lastModifiedBy>
  <dcterms:modified xsi:type="dcterms:W3CDTF">2012-06-28T18:35:42Z</dcterms:modified>
  <cp:revision>14</cp:revision>
  <dc:subject/>
  <dc:title>Классный час на тему:</dc:title>
</cp:coreProperties>
</file>