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DCF-C418-4075-ABBD-C772BC12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732-D7C1-440F-ABDD-98B57DDB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232-3ECF-40AD-9E75-07AB7058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4E9-CBCF-4475-B98A-D4F7E484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E909-5E32-42F6-83A9-46A278F7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9BA7-A451-4C0B-8A08-F99D9C2A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795D-2112-4B6E-A75C-06941553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FEFA-BBCD-4438-8B83-BB64CE3D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DD90-C678-441B-AC53-CB025A30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62DA-20D6-4D31-B31A-5347C8DC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35E5-4F09-4A45-9858-64CF8829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AEA-4B1B-4462-8C33-479CA82B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EA95-4A7D-4890-A5C8-027512AC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25D4-8977-42E1-AC85-D27EAF28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3E2C-660B-4A58-BFA3-96F08307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FB3A-1DF3-494F-905B-A561C8DB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A098-B812-4286-A985-A840257C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C86-51DC-45BE-9417-7673A78D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B0B-5221-4C29-8C47-84EACEA4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97A-37EF-472D-A4DB-BBA9619C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284-E378-4B0E-8371-2F893574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498-AE7A-4860-902A-40D00773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A25-66EC-4A11-AC14-B832101D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C70-23A6-4FC0-BFB3-BB4BDC45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5B5E-B6B1-4515-93D8-9E0609E26F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73EE-8432-4EA7-8203-733F43889D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рок окружающего мир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 тем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«Наши права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4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3492360" y="589608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втор: Головченко Людмила Викторовна, МБОУ лицей «Технико-экономический» г.Новороссийс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134200" cy="46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се люди имеют право собираться и вместе орга-низовывать группы и союзы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424720" cy="40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У меня есть:</a:t>
            </a:r>
            <a:br>
              <a:rPr sz="4800"/>
            </a:b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•Право на имя,      отчество, фамилию и гражданство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47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аво знать своих родителей, совместно с ними проживать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 Право на общение с обоими родителями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048"/>
          <p:cNvPicPr/>
          <p:nvPr/>
        </p:nvPicPr>
        <p:blipFill>
          <a:blip r:embed="rId1"/>
          <a:stretch/>
        </p:blipFill>
        <p:spPr>
          <a:xfrm>
            <a:off x="3924360" y="3716280"/>
            <a:ext cx="3887640" cy="2914560"/>
          </a:xfrm>
          <a:prstGeom prst="rect">
            <a:avLst/>
          </a:prstGeom>
          <a:ln w="38160">
            <a:solidFill>
              <a:srgbClr val="81e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6588000" y="3933720"/>
            <a:ext cx="1992600" cy="2460240"/>
            <a:chOff x="6588000" y="3933720"/>
            <a:chExt cx="1992600" cy="2460240"/>
          </a:xfrm>
        </p:grpSpPr>
        <p:pic>
          <p:nvPicPr>
            <p:cNvPr id="168" name="Picture 6" descr="FAMILY2"/>
            <p:cNvPicPr/>
            <p:nvPr/>
          </p:nvPicPr>
          <p:blipFill>
            <a:blip r:embed="rId1"/>
            <a:stretch/>
          </p:blipFill>
          <p:spPr>
            <a:xfrm>
              <a:off x="7715880" y="3933720"/>
              <a:ext cx="864720" cy="232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FAMILY1"/>
            <p:cNvPicPr/>
            <p:nvPr/>
          </p:nvPicPr>
          <p:blipFill>
            <a:blip r:embed="rId2"/>
            <a:stretch/>
          </p:blipFill>
          <p:spPr>
            <a:xfrm>
              <a:off x="6588000" y="4105800"/>
              <a:ext cx="1224000" cy="228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8" descr="BL00300_"/>
          <p:cNvPicPr/>
          <p:nvPr/>
        </p:nvPicPr>
        <p:blipFill>
          <a:blip r:embed="rId3"/>
          <a:stretch/>
        </p:blipFill>
        <p:spPr>
          <a:xfrm>
            <a:off x="900000" y="3429000"/>
            <a:ext cx="3314880" cy="3008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179280" y="620640"/>
            <a:ext cx="10101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о на жизнь и личную неприкосно-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нность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о на личное имущество, на получение содержания от родителей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оро"/>
          <p:cNvPicPr/>
          <p:nvPr/>
        </p:nvPicPr>
        <p:blipFill>
          <a:blip r:embed="rId1"/>
          <a:stretch/>
        </p:blipFill>
        <p:spPr>
          <a:xfrm>
            <a:off x="6156360" y="4437000"/>
            <a:ext cx="2743200" cy="220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3" name="Text Box 6"/>
          <p:cNvSpPr/>
          <p:nvPr/>
        </p:nvSpPr>
        <p:spPr>
          <a:xfrm>
            <a:off x="468360" y="263700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аво на заботу и воспитание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аво на защиту и воспитание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оеоооо"/>
          <p:cNvPicPr/>
          <p:nvPr/>
        </p:nvPicPr>
        <p:blipFill>
          <a:blip r:embed="rId2"/>
          <a:stretch/>
        </p:blipFill>
        <p:spPr>
          <a:xfrm>
            <a:off x="250920" y="260280"/>
            <a:ext cx="302580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116000" y="907920"/>
          <a:ext cx="6769080" cy="49402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160"/>
                <a:gridCol w="615960"/>
                <a:gridCol w="615960"/>
                <a:gridCol w="615960"/>
                <a:gridCol w="614520"/>
                <a:gridCol w="615960"/>
                <a:gridCol w="614160"/>
                <a:gridCol w="615960"/>
              </a:tblGrid>
              <a:tr h="97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87280" y="958680"/>
          <a:ext cx="6769440" cy="494064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97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187280" y="907920"/>
          <a:ext cx="6769440" cy="49402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97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187280" y="1052640"/>
          <a:ext cx="6769440" cy="48466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88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187280" y="1006560"/>
          <a:ext cx="6769440" cy="48466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88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7921440" cy="40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О мерах по профилактике безнадзорности и правона-рушений несовершеннолетних»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24360" y="-458640"/>
            <a:ext cx="9720360" cy="49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…  спр…ш…в…й, чт…  стр…н…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м…ж…т  сд…л…ть  дл…  т…б…,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спр…с…, чт…  т…  м…ж…ш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сд…л…ть  дл…  св……й  стр…н….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8713800" cy="46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е  спрашивай, что  страна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может  сделать  для  тебя,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спроси, что  ты  можеш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сделать  для  своей  страны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642160" cy="46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мире есть закон, что знает ____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е его Конвенцией _____ 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храняет жизнь, здоровье ______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х права на отдых и на _____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м с тобою тот закон ______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жизни нам поможет очень 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7993080" cy="44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200"/>
                </a:solidFill>
                <a:latin typeface="Comic Sans MS"/>
              </a:rPr>
              <a:t>ООН </a:t>
            </a:r>
            <a:br>
              <a:rPr sz="4000"/>
            </a:b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(Организация Объединённых Наций)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– международная организация, главной целью которой является стремление избавить грядущие поколения от бедствий войны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2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Генеральная ассамблея ООН –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брание делегатов всех государств – членов организ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54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1959 год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ОН приняла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Декларацию прав ребёнк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, провозгласив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Человечество обязано давать ребёнку лучшее, что оно имеет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342200" cy="52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Декларация 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(высказывание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это всего лишь 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рекомендации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, она 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не имеет обязательной сил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58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Конвенци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(договор, соглашение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это соглашение по специальному вопросу, </a:t>
            </a: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</a:rPr>
              <a:t>обязательно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для государств, которые к нему присоединились, т.е. подписали договор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52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20 ноября 1989 года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нята</a:t>
            </a:r>
            <a:br>
              <a:rPr sz="4400"/>
            </a:b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Конвенция ООН о правах ребёнка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152280"/>
            <a:ext cx="7848720" cy="54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се люди рождаются свободными и равными. Все имеют одинаковое достоинство и права. Все наделены разумом и должны относиться друг к другу, как братья и сёстр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7:34:12Z</dcterms:created>
  <dc:creator>House</dc:creator>
  <dc:description/>
  <dc:language>en-US</dc:language>
  <cp:lastModifiedBy>1ъ</cp:lastModifiedBy>
  <dcterms:modified xsi:type="dcterms:W3CDTF">2012-06-27T19:56:35Z</dcterms:modified>
  <cp:revision>11</cp:revision>
  <dc:subject/>
  <dc:title>Классный час на тему:</dc:title>
</cp:coreProperties>
</file>