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246-E16D-47AF-918F-657E13EE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881-D0EA-45D5-A3EE-8CE94643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EBE0-20AB-484D-86EF-537D4D3A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2C3-7DD7-4991-9559-F5C33F94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696A-BAED-4F75-BD47-AC95FFD0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0F3A-B08D-4EE9-B8F8-5D3CAF56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6CE7-4DBC-43D0-9BB8-81E664FE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5754-434D-431D-9751-4591C5EF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35E1-CFAB-4440-8B11-760FD2A2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70C2-4805-4F44-8F7A-757A863F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208E-6B99-45CA-9DDE-EA380C3F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9772-83D0-4C2B-8AED-BB9C0070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6EAD-B69F-4D35-AE8E-15F1590A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1F1A-8E78-4C0F-993F-A7507985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E350-6250-428D-A2DF-B34CECA0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CD64-5220-4FDD-802D-46E911EF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0C25-F855-4881-B714-8B3CFA0A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4DA5-5577-4FD2-B591-69514BCF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F2B2-E462-44B2-A106-3DD7BD5C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BD45-DD75-4A05-8326-5870362E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4671-24F0-424D-A402-80D97A50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7C9-AA9F-4E19-BCE5-4A49C2F7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96D1-922D-4FD6-90F3-1D0517A7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A281-EA3D-4BD1-9FF3-32D2DC7E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19E0-246A-41F9-9FE3-D9B860CC27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2157-7A3D-4783-B0E4-C0391637B4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66ff"/>
                </a:solidFill>
                <a:latin typeface="Comic Sans MS"/>
              </a:rPr>
              <a:t>Урок русского языка на тему «Омонимы»</a:t>
            </a:r>
            <a:br>
              <a:rPr sz="4800"/>
            </a:br>
            <a:r>
              <a:rPr b="0" lang="ru-RU" sz="4800" spc="-1" strike="noStrike">
                <a:solidFill>
                  <a:srgbClr val="cc66ff"/>
                </a:solidFill>
                <a:latin typeface="Comic Sans MS"/>
              </a:rPr>
              <a:t> 5 класс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99840" y="29714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русским языком можно творить чудеса. Нет ничего такого в жизни и в нашем сознании, что нельзя было бы передать русским слов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.Паустовск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152280" y="54864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.Н.Новикова, учитель русского языка и литературы МБОУ СОШ № 38 г. Челябинс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ибкий лук – зеленый лу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допроводный кран – подъемный кра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кусные лисички – рыжие лисич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лебный ток – электрический т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жавый ключ – скрипичный клю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счаная коса – девичья кос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Шуточные вопрос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ую строчку не сможет прочитать ни один учёный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ой бор никогда не имеет листвы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який ли барабан – музыкальный инструмент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який ли цилиндр – шляп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каких башмаков не бывает каблуков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7086600" y="990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Запишите предложения. Определите, есть ли в них омоним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темноте сидеть было неприятн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ма начала седе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пельсин – плод цитрусового дерев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 реке проплывал пло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языке есть слова, которые звучат одинаково, но пишутся по-разному в зависимости от значения, смысла слова.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Омофоны – омос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одинаковый,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фонс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зву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Найдите омофоны в следующих предложениях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не избушку отворите и капустки отварит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коро встречу я в лесу настоящую лис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ка на лавке посидел,я от снега поседе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ведём итог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ы слова из русской реч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 родного языка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динаково нас слышат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динаково нас пишу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 важна не только внешнос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тому не торопис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 всегда нужна поспешнос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ы до смысла доберис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подобие начин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мысл запрятан в серединке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ходным лицам вопре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ы по смыслу дале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Я. Козловски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должи предложе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монимы – эт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мофоны – эт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amp;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66, упр. 348, приготовить рисун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Чтобы знания были впрок, следует повторить прошлый уро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ексика – это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толковых словарях разъясняется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ова, имеющие несколько лексических значений, называются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днозначными называются слова, имеющие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ово может иметь … знач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нос названия происходит, если у предметов есть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инонимы – это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вадцатое январ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62120" y="2209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мони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лассная раб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очитайте стихотворение В. Лифшиц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ёл я с сумкой за плечом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жу, бьёт в овраге ключ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клонившись над ключом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ронил я в воду ключ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арю я в ключе по дну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д водою спину гн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ключ я не найду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 домой я попаду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j0252349"/>
          <p:cNvPicPr/>
          <p:nvPr/>
        </p:nvPicPr>
        <p:blipFill>
          <a:blip r:embed="rId1"/>
          <a:stretch/>
        </p:blipFill>
        <p:spPr>
          <a:xfrm>
            <a:off x="755640" y="914400"/>
            <a:ext cx="3054240" cy="2666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MCEN00501_0000[1]"/>
          <p:cNvPicPr/>
          <p:nvPr/>
        </p:nvPicPr>
        <p:blipFill>
          <a:blip r:embed="rId2"/>
          <a:stretch/>
        </p:blipFill>
        <p:spPr>
          <a:xfrm>
            <a:off x="4343400" y="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User\Рабочий стол\Картинки\родник.jpg"/>
          <p:cNvPicPr/>
          <p:nvPr/>
        </p:nvPicPr>
        <p:blipFill>
          <a:blip r:embed="rId3"/>
          <a:stretch/>
        </p:blipFill>
        <p:spPr>
          <a:xfrm>
            <a:off x="5303880" y="2968560"/>
            <a:ext cx="3846600" cy="3591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Documents and Settings\User\Рабочий стол\Картинки\КЛЮЧ.png"/>
          <p:cNvPicPr/>
          <p:nvPr/>
        </p:nvPicPr>
        <p:blipFill>
          <a:blip r:embed="rId4"/>
          <a:stretch/>
        </p:blipFill>
        <p:spPr>
          <a:xfrm>
            <a:off x="990720" y="4114800"/>
            <a:ext cx="35049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лова, одинаковые по звучанию и написанию, но разные по значению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монимам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от греческих слов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омос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что значит «одинаковый», и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оним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им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Сказка о том, где живут сло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большом доме – Толковом словаре – под одной крышей собралось много слов. У каждого своя квартира – словарная статья. И размещает слова Составитель словар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днажды произошел такой случай. Постучалось как-то в Словарь какое-то слов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- Кто вы? – спрашивает Составител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Я имя существительно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НАРЯД,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я обозначаю одежду, костюм. Поместите меня в словарь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 удовольствием, - ответил Составитель и отвел этому слову отдельную квартиру – словарную стать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олько закончил хлопоты, слышит опять: «Тук-тук!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то вы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Я имя существительно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НАРЯД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-129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ак?! – удивился Составитель. – Ведь я только что отвел слово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АРЯД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на его законное мест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вините, - возразило слово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АРЯД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- мы встречаемся с вами впервые. Вот моя характеристика: я имя существительное, обозначаю документ, распоряжение на выполнение какой-нибудь работы («наряд на погрузку»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се ясно, - ответил Составитель. – Вышло недоразумение. Вы действительно иное слово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НАРЯД,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днофамилец первого. Вас нужно поместить в другую словарную стать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ак и пореши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«Перевертыш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ибкий лук -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допроводный кран -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кусные лисички -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лебный ток -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жавый ключ -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счаная коса -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3" descr="C:\Documents and Settings\User\Рабочий стол\Картинки\коса1.jpg"/>
          <p:cNvPicPr/>
          <p:nvPr/>
        </p:nvPicPr>
        <p:blipFill>
          <a:blip r:embed="rId1"/>
          <a:stretch/>
        </p:blipFill>
        <p:spPr>
          <a:xfrm>
            <a:off x="5327640" y="3554280"/>
            <a:ext cx="2073240" cy="3310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MCj02935860000[1]"/>
          <p:cNvPicPr/>
          <p:nvPr/>
        </p:nvPicPr>
        <p:blipFill>
          <a:blip r:embed="rId2"/>
          <a:stretch/>
        </p:blipFill>
        <p:spPr>
          <a:xfrm>
            <a:off x="0" y="0"/>
            <a:ext cx="2016000" cy="1871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C:\Documents and Settings\User\Рабочий стол\Картинки\лук.png"/>
          <p:cNvPicPr/>
          <p:nvPr/>
        </p:nvPicPr>
        <p:blipFill>
          <a:blip r:embed="rId3"/>
          <a:stretch/>
        </p:blipFill>
        <p:spPr>
          <a:xfrm>
            <a:off x="7086600" y="914400"/>
            <a:ext cx="17733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4T12:10:4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