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0C9-B09A-4B6C-9FD8-9186A04F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E40-E137-4948-AB27-6C798A5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8B7-2831-4BED-9392-B152FFDE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E3D-ABF4-44E3-AC47-6C54AD80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E64-29AD-4D41-B855-D490B52B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214-A362-4667-B2E7-199E7DC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3CF-95A2-4CA4-9CA4-05F2164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93C-4EFD-4CDE-B18C-3F41C86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49C-7210-4875-9DBE-8481E9EB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C32-0815-4ABF-87BA-BAF1727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460-AA87-42ED-9464-3D3889C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257-35D8-4D45-81CA-5ADB2DA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5CF-1896-49BD-AACF-4BF970097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43200" y="2857680"/>
            <a:ext cx="2400480" cy="15001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158840" y="878040"/>
            <a:ext cx="68389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499920" y="4714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Кот                  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46320" y="135720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ти не сп . шите.  Сп . шите упражнение кр. с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14240" y="2857680"/>
            <a:ext cx="1067040" cy="1312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6215040" y="3214800"/>
            <a:ext cx="2044800" cy="1928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645640" y="1357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143240" y="1357200"/>
            <a:ext cx="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7143840" y="1357200"/>
            <a:ext cx="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360880" y="92880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сп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è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006800" y="85716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пЍ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1\Мои документы\Мои рисунки\матем\матем 002.jpg"/>
          <p:cNvPicPr/>
          <p:nvPr/>
        </p:nvPicPr>
        <p:blipFill>
          <a:blip r:embed="rId1"/>
          <a:srcRect l="7170" t="51923" r="13788" b="14025"/>
          <a:stretch/>
        </p:blipFill>
        <p:spPr>
          <a:xfrm>
            <a:off x="1643040" y="714240"/>
            <a:ext cx="5500800" cy="3262320"/>
          </a:xfrm>
          <a:prstGeom prst="rect">
            <a:avLst/>
          </a:prstGeom>
          <a:ln w="0">
            <a:noFill/>
          </a:ln>
        </p:spPr>
      </p:pic>
      <p:sp>
        <p:nvSpPr>
          <p:cNvPr id="53" name="Овал 2"/>
          <p:cNvSpPr/>
          <p:nvPr/>
        </p:nvSpPr>
        <p:spPr>
          <a:xfrm>
            <a:off x="3857760" y="500040"/>
            <a:ext cx="1857240" cy="57168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869560" y="421488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стречу  я  в  л . 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стоящую     л .с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502960" y="42148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8607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мама\Новая папка\Картинки\ёлки.png"/>
          <p:cNvPicPr/>
          <p:nvPr/>
        </p:nvPicPr>
        <p:blipFill>
          <a:blip r:embed="rId2"/>
          <a:srcRect l="0" t="15628" r="45366" b="0"/>
          <a:stretch/>
        </p:blipFill>
        <p:spPr>
          <a:xfrm>
            <a:off x="500040" y="928800"/>
            <a:ext cx="1428840" cy="27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мама\Новая папка\Картинки\ёлки.png"/>
          <p:cNvPicPr/>
          <p:nvPr/>
        </p:nvPicPr>
        <p:blipFill>
          <a:blip r:embed="rId3"/>
          <a:srcRect l="0" t="20983" r="39044" b="0"/>
          <a:stretch/>
        </p:blipFill>
        <p:spPr>
          <a:xfrm>
            <a:off x="7143840" y="785880"/>
            <a:ext cx="13078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\Мои документы\Мои рисунки\матем\матем 001.jpg"/>
          <p:cNvPicPr/>
          <p:nvPr/>
        </p:nvPicPr>
        <p:blipFill>
          <a:blip r:embed="rId1"/>
          <a:srcRect l="13234" t="7256" r="18749" b="62696"/>
          <a:stretch/>
        </p:blipFill>
        <p:spPr>
          <a:xfrm>
            <a:off x="3500280" y="1571760"/>
            <a:ext cx="4000680" cy="243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1\Мои документы\Мои рисунки\матем\матем 001.jpg"/>
          <p:cNvPicPr/>
          <p:nvPr/>
        </p:nvPicPr>
        <p:blipFill>
          <a:blip r:embed="rId2"/>
          <a:srcRect l="3931" t="0" r="73370" b="38056"/>
          <a:stretch/>
        </p:blipFill>
        <p:spPr>
          <a:xfrm>
            <a:off x="928800" y="1500120"/>
            <a:ext cx="1377720" cy="2733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728280" y="85716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тичка св . ла гнёзды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79560" y="85716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на св . ла козлёнка на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715000" y="857160"/>
            <a:ext cx="7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071800" y="857160"/>
            <a:ext cx="7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933200" y="42876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502600" y="50004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7:00Z</dcterms:created>
  <dc:creator>SamLab.ws</dc:creator>
  <dc:description/>
  <dc:language>en-US</dc:language>
  <cp:lastModifiedBy>user</cp:lastModifiedBy>
  <dcterms:modified xsi:type="dcterms:W3CDTF">2012-10-16T09:05:15Z</dcterms:modified>
  <cp:revision>4</cp:revision>
  <dc:subject/>
  <dc:title>Слайд 1</dc:title>
</cp:coreProperties>
</file>