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EF7-A381-447B-87A2-CF97308E3E5B}" type="slidenum">
              <a:rPr b="0" lang="ru-RU" sz="1200" spc="-1" strike="noStrike">
                <a:solidFill>
                  <a:srgbClr val="000000"/>
                </a:solidFill>
                <a:latin typeface="com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8468-97D6-4CD9-B4CF-40FCE112D427}" type="slidenum">
              <a:rPr b="0" lang="ru-RU" sz="1200" spc="-1" strike="noStrike">
                <a:solidFill>
                  <a:srgbClr val="000000"/>
                </a:solidFill>
                <a:latin typeface="com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065-76AA-485F-BF7F-B9076876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2CE-F274-40DB-B104-2F823F2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20D-BEF7-4C1F-B691-A033EAD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E4D-A1E3-49E4-9E2E-FC2FC574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912-87B3-4836-993B-EBA6F75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C53-E6E2-4B0B-949A-D5A6CC2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F1E-C943-46EE-9DED-5CE2DB29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6E8-37C7-4886-8751-87D9EAB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CC6-0336-40BC-A3CD-26CACEBC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74D-314C-4A95-A628-9F98DC0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85C-4090-4050-9AD4-3EE4C4F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CB0-67E1-4A3D-87B5-E8CD03AE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D53-2811-4504-98B9-50D820033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ru.wikipedia.org/wiki/&#1048;&#1079;&#1086;&#1073;&#1088;&#1072;&#1078;&#1077;&#1085;&#1080;&#1077;:Peter_der-Grosse_1838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ru.wikipedia.org/wiki/&#1048;&#1079;&#1086;&#1073;&#1088;&#1072;&#1078;&#1077;&#1085;&#1080;&#1077;:Peter_der-Grosse_1838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8000" y="476280"/>
            <a:ext cx="8712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"/>
              </a:rPr>
              <a:t>«Умом Россию не понять, 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"/>
              </a:rPr>
              <a:t>Аршином общим не измерить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"/>
              </a:rPr>
              <a:t>У ней особенная стать 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"/>
              </a:rPr>
              <a:t>В Россию можно только верить» 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 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Ф.И.Тютчев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ышли мышки как-то раз                                                                                                             Поглядеть, который час.                                                                                                                                              Раз, два, три, четыре                                                                                                                            Мышки дернули за гири.                                                                                                                    Вдруг раздался громкий крик                                                                                                                    Убежали мышки в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allspb.narod.ru/Foto/Peterburg.jpg"/>
          <p:cNvPicPr/>
          <p:nvPr/>
        </p:nvPicPr>
        <p:blipFill>
          <a:blip r:embed="rId1"/>
          <a:stretch/>
        </p:blipFill>
        <p:spPr>
          <a:xfrm>
            <a:off x="34920" y="236520"/>
            <a:ext cx="9109080" cy="64342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1403280" y="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mic"/>
              </a:rPr>
              <a:t>16 мая 1703год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78" name="Picture 4" descr="180px-Peter_der-Grosse_18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16280"/>
            <a:ext cx="2075040" cy="27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omic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н крепости разрабатывал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лично император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Он сделал ее в форме неправильного шестиугольника с выступающими угловыми укреплениями-бастионами, которые между собой соединены стенами-куртинами. Первоначально крепость была деревянной, но уже в 1706 году под руководством архитектора Трезини началась замена старых сооружений на новые – кирпич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comic"/>
            </a:endParaRPr>
          </a:p>
        </p:txBody>
      </p:sp>
      <p:pic>
        <p:nvPicPr>
          <p:cNvPr id="82" name="Picture 4" descr="Основание СПБ"/>
          <p:cNvPicPr/>
          <p:nvPr/>
        </p:nvPicPr>
        <p:blipFill>
          <a:blip r:embed="rId1"/>
          <a:stretch/>
        </p:blipFill>
        <p:spPr>
          <a:xfrm>
            <a:off x="34920" y="836640"/>
            <a:ext cx="9069480" cy="5661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503440" y="141120"/>
            <a:ext cx="41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omic"/>
              </a:rPr>
              <a:t>16</a:t>
            </a:r>
            <a:r>
              <a:rPr b="1" lang="ru-RU" sz="3600" spc="-1" strike="noStrike">
                <a:solidFill>
                  <a:srgbClr val="800000"/>
                </a:solidFill>
                <a:latin typeface="comic"/>
              </a:rPr>
              <a:t>мая 1703год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6585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vchera.com/uploads/12/02/23/o_%D0%BA%D1%80%D0%B5%D0%BF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 rot="20838000">
            <a:off x="-254880" y="1341360"/>
            <a:ext cx="59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Петропавловская</a:t>
            </a:r>
            <a:r>
              <a:rPr b="0" lang="ru-RU" sz="3200" spc="-1" strike="noStrike">
                <a:solidFill>
                  <a:srgbClr val="ff0000"/>
                </a:solidFill>
                <a:latin typeface="comic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крепость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allspaper.ru/uploads/gallery/comthumb/6/8107.jpg"/>
          <p:cNvPicPr/>
          <p:nvPr/>
        </p:nvPicPr>
        <p:blipFill>
          <a:blip r:embed="rId1"/>
          <a:stretch/>
        </p:blipFill>
        <p:spPr>
          <a:xfrm>
            <a:off x="4680" y="620640"/>
            <a:ext cx="9090000" cy="6048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1872360" y="-4680"/>
            <a:ext cx="53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Адмиралтейство</a:t>
            </a:r>
            <a:r>
              <a:rPr b="0" lang="ru-RU" sz="4400" spc="-1" strike="noStrike">
                <a:solidFill>
                  <a:srgbClr val="ff0000"/>
                </a:solidFill>
                <a:latin typeface="com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http://labirint.travel/images/activities/1039_05s.jpg"/>
          <p:cNvPicPr/>
          <p:nvPr/>
        </p:nvPicPr>
        <p:blipFill>
          <a:blip r:embed="rId1"/>
          <a:stretch/>
        </p:blipFill>
        <p:spPr>
          <a:xfrm>
            <a:off x="-3240" y="1468440"/>
            <a:ext cx="9147240" cy="5389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2495160" y="230040"/>
            <a:ext cx="39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"/>
              </a:rPr>
              <a:t>Кронштадт</a:t>
            </a:r>
            <a:r>
              <a:rPr b="0" lang="ru-RU" sz="4800" spc="-1" strike="noStrike">
                <a:solidFill>
                  <a:srgbClr val="ff0000"/>
                </a:solidFill>
                <a:latin typeface="comic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lifeglobe.net/media/entry/541/291959_3.jpg"/>
          <p:cNvPicPr/>
          <p:nvPr/>
        </p:nvPicPr>
        <p:blipFill>
          <a:blip r:embed="rId1"/>
          <a:stretch/>
        </p:blipFill>
        <p:spPr>
          <a:xfrm>
            <a:off x="2340000" y="9360"/>
            <a:ext cx="5010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2556000" y="307800"/>
            <a:ext cx="65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"/>
              </a:rPr>
              <a:t>Петропавловский собор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6360" y="333360"/>
            <a:ext cx="910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omic"/>
              </a:rPr>
              <a:t>Верфь </a:t>
            </a:r>
            <a:r>
              <a:rPr b="1" lang="ru-RU" sz="3200" spc="-1" strike="noStrike">
                <a:solidFill>
                  <a:srgbClr val="7030a0"/>
                </a:solidFill>
                <a:latin typeface="comic"/>
              </a:rPr>
              <a:t>– это</a:t>
            </a:r>
            <a:r>
              <a:rPr b="0" lang="ru-RU" sz="3200" spc="-1" strike="noStrike">
                <a:solidFill>
                  <a:srgbClr val="7030a0"/>
                </a:solidFill>
                <a:latin typeface="comic"/>
              </a:rPr>
              <a:t> 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где строили</a:t>
            </a:r>
            <a:r>
              <a:rPr b="0" lang="ru-RU" sz="3200" spc="-1" strike="noStrike">
                <a:solidFill>
                  <a:srgbClr val="7030a0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уда для частных лиц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95" name="Picture 4" descr="http://topwar.ru/uploads/posts/2010-09/thumbs/1284796465_kachaj-s-allday.ru-113.jpg"/>
          <p:cNvPicPr/>
          <p:nvPr/>
        </p:nvPicPr>
        <p:blipFill>
          <a:blip r:embed="rId1"/>
          <a:stretch/>
        </p:blipFill>
        <p:spPr>
          <a:xfrm>
            <a:off x="971640" y="863640"/>
            <a:ext cx="7237440" cy="59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erafim.com.ru/pixes/is_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 rot="20801400">
            <a:off x="941040" y="549360"/>
            <a:ext cx="68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Александро</a:t>
            </a:r>
            <a:r>
              <a:rPr b="0" lang="ru-RU" sz="3600" spc="-1" strike="noStrike">
                <a:solidFill>
                  <a:srgbClr val="ff00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вская</a:t>
            </a:r>
            <a:r>
              <a:rPr b="0" lang="ru-RU" sz="3600" spc="-1" strike="noStrike">
                <a:solidFill>
                  <a:srgbClr val="ff0000"/>
                </a:solidFill>
                <a:latin typeface="comic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лавра</a:t>
            </a:r>
            <a:r>
              <a:rPr b="0" lang="ru-RU" sz="3600" spc="-1" strike="noStrike">
                <a:solidFill>
                  <a:srgbClr val="ff0000"/>
                </a:solidFill>
                <a:latin typeface="com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79280" y="1988640"/>
            <a:ext cx="67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800000"/>
                </a:solidFill>
                <a:latin typeface="Harlow Solid Italic"/>
              </a:rPr>
              <a:t>Пёт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800000"/>
                </a:solidFill>
                <a:latin typeface="Harlow Solid Italic"/>
              </a:rPr>
              <a:t>Велик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petr1"/>
          <p:cNvPicPr/>
          <p:nvPr/>
        </p:nvPicPr>
        <p:blipFill>
          <a:blip r:embed="rId1"/>
          <a:stretch/>
        </p:blipFill>
        <p:spPr>
          <a:xfrm>
            <a:off x="0" y="549360"/>
            <a:ext cx="3419640" cy="44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pravznak.msk.ru/uploads_user/2000/1635/13608.jpg"/>
          <p:cNvPicPr/>
          <p:nvPr/>
        </p:nvPicPr>
        <p:blipFill>
          <a:blip r:embed="rId1"/>
          <a:stretch/>
        </p:blipFill>
        <p:spPr>
          <a:xfrm>
            <a:off x="971640" y="49320"/>
            <a:ext cx="6480000" cy="6808680"/>
          </a:xfrm>
          <a:prstGeom prst="rect">
            <a:avLst/>
          </a:prstGeom>
          <a:ln w="0">
            <a:noFill/>
          </a:ln>
        </p:spPr>
      </p:pic>
      <p:pic>
        <p:nvPicPr>
          <p:cNvPr id="99" name="lavra_duhovsk.mp3" descr=""/>
          <p:cNvPicPr/>
          <p:nvPr/>
        </p:nvPicPr>
        <p:blipFill>
          <a:blip r:embed="rId2"/>
          <a:stretch/>
        </p:blipFill>
        <p:spPr>
          <a:xfrm>
            <a:off x="6516720" y="5013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-79200" y="404640"/>
            <a:ext cx="85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comic"/>
              </a:rPr>
              <a:t>Звонница Александро</a:t>
            </a:r>
            <a:r>
              <a:rPr b="0" lang="ru-RU" sz="3200" spc="-1" strike="noStrike">
                <a:solidFill>
                  <a:srgbClr val="99cc00"/>
                </a:solidFill>
                <a:latin typeface="comic"/>
              </a:rPr>
              <a:t>-</a:t>
            </a:r>
            <a:r>
              <a:rPr b="1" lang="ru-RU" sz="3200" spc="-1" strike="noStrike">
                <a:solidFill>
                  <a:srgbClr val="99cc00"/>
                </a:solidFill>
                <a:latin typeface="comic"/>
              </a:rPr>
              <a:t>Невской</a:t>
            </a:r>
            <a:r>
              <a:rPr b="0" lang="ru-RU" sz="3200" spc="-1" strike="noStrike">
                <a:solidFill>
                  <a:srgbClr val="99cc00"/>
                </a:solidFill>
                <a:latin typeface="comic"/>
              </a:rPr>
              <a:t> </a:t>
            </a:r>
            <a:r>
              <a:rPr b="1" lang="ru-RU" sz="3200" spc="-1" strike="noStrike">
                <a:solidFill>
                  <a:srgbClr val="99cc00"/>
                </a:solidFill>
                <a:latin typeface="comic"/>
              </a:rPr>
              <a:t>Лавры</a:t>
            </a:r>
            <a:r>
              <a:rPr b="0" lang="ru-RU" sz="3200" spc="-1" strike="noStrike">
                <a:solidFill>
                  <a:srgbClr val="99cc00"/>
                </a:solidFill>
                <a:latin typeface="com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6111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avtocalendar6"/>
          <p:cNvPicPr/>
          <p:nvPr/>
        </p:nvPicPr>
        <p:blipFill>
          <a:blip r:embed="rId1"/>
          <a:stretch/>
        </p:blipFill>
        <p:spPr>
          <a:xfrm>
            <a:off x="0" y="115920"/>
            <a:ext cx="3924360" cy="294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790_so106_17"/>
          <p:cNvPicPr/>
          <p:nvPr/>
        </p:nvPicPr>
        <p:blipFill>
          <a:blip r:embed="rId2"/>
          <a:stretch/>
        </p:blipFill>
        <p:spPr>
          <a:xfrm>
            <a:off x="3924360" y="2997360"/>
            <a:ext cx="5219640" cy="37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turometr.s3.amazonaws.com/images/gallery/00/00/01/2010/04/15/3fc15a__a89a429de3_600.jpg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6067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1625760" y="515880"/>
            <a:ext cx="58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"/>
              </a:rPr>
              <a:t>Здание</a:t>
            </a:r>
            <a:r>
              <a:rPr b="0" lang="ru-RU" sz="4000" spc="-1" strike="noStrike">
                <a:solidFill>
                  <a:srgbClr val="ffff00"/>
                </a:solidFill>
                <a:latin typeface="comic"/>
              </a:rPr>
              <a:t> </a:t>
            </a:r>
            <a:r>
              <a:rPr b="1" lang="ru-RU" sz="4000" spc="-1" strike="noStrike">
                <a:solidFill>
                  <a:srgbClr val="ffff00"/>
                </a:solidFill>
                <a:latin typeface="comic"/>
              </a:rPr>
              <a:t>Кунсткамеры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08000" y="48960"/>
            <a:ext cx="513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omic"/>
              </a:rPr>
              <a:t>1721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216080" y="914400"/>
            <a:ext cx="7927920" cy="594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180px-Peter_der-Grosse_18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90800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-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.Прозвище Петр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Как назывался его пол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.Что перевезли из Владимира в лав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.Фамилия  Петр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5.В устье какой реки была построена морская крепость Кронштад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6. Почему для России  важен был фл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7.Кто занимался государственными делами, когда юный Петр стал цар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8.Что было в округе той местности, где начали строить Санкт -  Петербур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9.Как называлось то место, где начали строить суда для частных л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900igr.net/datai/istorija/TSar-Pjotr/0002-003-2.jpg"/>
          <p:cNvPicPr/>
          <p:nvPr/>
        </p:nvPicPr>
        <p:blipFill>
          <a:blip r:embed="rId1"/>
          <a:stretch/>
        </p:blipFill>
        <p:spPr>
          <a:xfrm>
            <a:off x="-36360" y="654120"/>
            <a:ext cx="3997080" cy="53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ote4estvo.ru/uploads/1307693018_imperrjman_05.jpg"/>
          <p:cNvPicPr/>
          <p:nvPr/>
        </p:nvPicPr>
        <p:blipFill>
          <a:blip r:embed="rId2"/>
          <a:stretch/>
        </p:blipFill>
        <p:spPr>
          <a:xfrm>
            <a:off x="6443640" y="49320"/>
            <a:ext cx="2698920" cy="34779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 rot="20628600">
            <a:off x="6815880" y="2243520"/>
            <a:ext cx="237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"/>
              </a:rPr>
              <a:t>Наталья Кирилловна Нарышкина  - мать императора </a:t>
            </a:r>
            <a:r>
              <a:rPr b="1" lang="ru-RU" sz="1800" spc="-1" strike="noStrike">
                <a:solidFill>
                  <a:srgbClr val="00b050"/>
                </a:solidFill>
                <a:latin typeface="comic"/>
              </a:rPr>
              <a:t>Петра</a:t>
            </a:r>
            <a:r>
              <a:rPr b="0" lang="ru-RU" sz="1800" spc="-1" strike="noStrike">
                <a:solidFill>
                  <a:srgbClr val="00b050"/>
                </a:solidFill>
                <a:latin typeface="comic"/>
              </a:rPr>
              <a:t> 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comic"/>
              </a:rPr>
              <a:t>Великого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4" name="Picture 10" descr="http://img0.liveinternet.ru/images/attach/c/4/81/77/81077320_2171891_Ivan_V_kremlin.jpg"/>
          <p:cNvPicPr/>
          <p:nvPr/>
        </p:nvPicPr>
        <p:blipFill>
          <a:blip r:embed="rId3"/>
          <a:stretch/>
        </p:blipFill>
        <p:spPr>
          <a:xfrm>
            <a:off x="6518160" y="3527280"/>
            <a:ext cx="2625840" cy="3330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 rot="20761800">
            <a:off x="6976440" y="5600520"/>
            <a:ext cx="19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omic"/>
              </a:rPr>
              <a:t>Портрет царя </a:t>
            </a:r>
            <a:r>
              <a:rPr b="1" lang="ru-RU" sz="1800" spc="-1" strike="noStrike">
                <a:solidFill>
                  <a:srgbClr val="00b0f0"/>
                </a:solidFill>
                <a:latin typeface="comic"/>
              </a:rPr>
              <a:t>Ивана</a:t>
            </a:r>
            <a:r>
              <a:rPr b="0" lang="ru-RU" sz="1800" spc="-1" strike="noStrike">
                <a:solidFill>
                  <a:srgbClr val="00b0f0"/>
                </a:solidFill>
                <a:latin typeface="comic"/>
              </a:rPr>
              <a:t> V (</a:t>
            </a:r>
            <a:r>
              <a:rPr b="1" lang="ru-RU" sz="1800" spc="-1" strike="noStrike">
                <a:solidFill>
                  <a:srgbClr val="00b0f0"/>
                </a:solidFill>
                <a:latin typeface="comic"/>
              </a:rPr>
              <a:t>брата</a:t>
            </a:r>
            <a:r>
              <a:rPr b="0" lang="ru-RU" sz="1800" spc="-1" strike="noStrike">
                <a:solidFill>
                  <a:srgbClr val="00b0f0"/>
                </a:solidFill>
                <a:latin typeface="comic"/>
              </a:rPr>
              <a:t> Петра I)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380520" y="966960"/>
            <a:ext cx="29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"/>
              </a:rPr>
              <a:t>Петр</a:t>
            </a:r>
            <a:r>
              <a:rPr b="0" lang="ru-RU" sz="2800" spc="-1" strike="noStrike">
                <a:solidFill>
                  <a:srgbClr val="ff0000"/>
                </a:solidFill>
                <a:latin typeface="comic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omic"/>
              </a:rPr>
              <a:t>Великий</a:t>
            </a:r>
            <a:r>
              <a:rPr b="0" lang="ru-RU" sz="2800" spc="-1" strike="noStrike">
                <a:solidFill>
                  <a:srgbClr val="ff0000"/>
                </a:solidFill>
                <a:latin typeface="com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7" name="Picture 12" descr="http://img1.liveinternet.ru/images/attach/c/1/49/168/49168743_Sofya_Alekseevna_e.jpg"/>
          <p:cNvPicPr/>
          <p:nvPr/>
        </p:nvPicPr>
        <p:blipFill>
          <a:blip r:embed="rId4"/>
          <a:stretch/>
        </p:blipFill>
        <p:spPr>
          <a:xfrm>
            <a:off x="3849840" y="3132000"/>
            <a:ext cx="3044520" cy="3726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3943440" y="5796000"/>
            <a:ext cx="30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Царевна </a:t>
            </a:r>
            <a:r>
              <a:rPr b="1" lang="ru-RU" sz="1800" spc="-1" strike="noStrike">
                <a:solidFill>
                  <a:srgbClr val="ff0000"/>
                </a:solidFill>
                <a:latin typeface="comic"/>
              </a:rPr>
              <a:t>Софья</a:t>
            </a: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 Алексеевна,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сводная сестра Петра  Великого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9" name="Picture 14" descr="http://www.fermer1.ru/sites/default/files/imagecache/natural/wysiwyg_imageupload/4438/tsarAM.jpg"/>
          <p:cNvPicPr/>
          <p:nvPr/>
        </p:nvPicPr>
        <p:blipFill>
          <a:blip r:embed="rId5"/>
          <a:stretch/>
        </p:blipFill>
        <p:spPr>
          <a:xfrm>
            <a:off x="3849840" y="49320"/>
            <a:ext cx="2778120" cy="337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7"/>
          <p:cNvSpPr/>
          <p:nvPr/>
        </p:nvSpPr>
        <p:spPr>
          <a:xfrm rot="20694000">
            <a:off x="3885120" y="18543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"/>
              </a:rPr>
              <a:t>Отец</a:t>
            </a: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comic"/>
              </a:rPr>
              <a:t>Петра</a:t>
            </a: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comic"/>
              </a:rPr>
              <a:t>Великого</a:t>
            </a:r>
            <a:r>
              <a:rPr b="0" lang="ru-RU" sz="1800" spc="-1" strike="noStrike">
                <a:solidFill>
                  <a:srgbClr val="ff0000"/>
                </a:solidFill>
                <a:latin typeface="comic"/>
              </a:rPr>
              <a:t>  -царь Алексей Михайлович 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omic"/>
              </a:rPr>
              <a:t>Историческая Спра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тешные по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ПОТЕШНЫЕ», отряды из детей и молодых людей, созданные в нача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80-х гг.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XVII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. для «военных потех» русского царя П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 конце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XVII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в. из них были сформированы гвардейские Преображенский и Семеновский п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лещеево 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50920" y="1074600"/>
            <a:ext cx="8424720" cy="561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comic"/>
              </a:rPr>
              <a:t>1682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-360" y="2205000"/>
            <a:ext cx="889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Harlow Solid Italic"/>
              </a:rPr>
              <a:t>«Я в учении нуждаюсь и в учителя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"/>
              </a:rPr>
              <a:t>Царь Пётр </a:t>
            </a:r>
            <a:r>
              <a:rPr b="1" i="1" lang="en-US" sz="3200" spc="-1" strike="noStrike">
                <a:solidFill>
                  <a:srgbClr val="000000"/>
                </a:solidFill>
                <a:latin typeface="comic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64000" y="-360"/>
            <a:ext cx="37800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comic"/>
              </a:rPr>
              <a:t>1696 год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comic"/>
              </a:rPr>
              <a:t>«Морским судам</a:t>
            </a:r>
            <a:r>
              <a:rPr b="1" i="1" lang="en-US" sz="44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i="1" lang="ru-RU" sz="4400" spc="-1" strike="noStrike">
                <a:solidFill>
                  <a:srgbClr val="000066"/>
                </a:solidFill>
                <a:latin typeface="comic"/>
              </a:rPr>
              <a:t>быть»   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comic"/>
              </a:rPr>
              <a:t>    </a:t>
            </a:r>
            <a:r>
              <a:rPr b="1" i="1" lang="en-US" sz="4400" spc="-1" strike="noStrike">
                <a:solidFill>
                  <a:srgbClr val="000066"/>
                </a:solidFill>
                <a:latin typeface="comic"/>
              </a:rPr>
              <a:t>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87640" y="115920"/>
            <a:ext cx="41050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 решение вынесла Боярская Дума (высший совещательный орган государства).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if1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ereslavl-83"/>
          <p:cNvPicPr/>
          <p:nvPr/>
        </p:nvPicPr>
        <p:blipFill>
          <a:blip r:embed="rId1"/>
          <a:stretch/>
        </p:blipFill>
        <p:spPr>
          <a:xfrm>
            <a:off x="-1332000" y="0"/>
            <a:ext cx="107283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757600" y="322200"/>
            <a:ext cx="52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Harlow Solid Italic"/>
              </a:rPr>
              <a:t>Бот Петра Великого «Фортуна»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korablectro"/>
          <p:cNvPicPr/>
          <p:nvPr/>
        </p:nvPicPr>
        <p:blipFill>
          <a:blip r:embed="rId1"/>
          <a:stretch/>
        </p:blipFill>
        <p:spPr>
          <a:xfrm>
            <a:off x="3059280" y="15840"/>
            <a:ext cx="608472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684360" y="189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"/>
              </a:rPr>
              <a:t>Открылось строительство кораблей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3:51:33Z</dcterms:created>
  <dc:creator>Personal Computer</dc:creator>
  <dc:description/>
  <dc:language>en-US</dc:language>
  <cp:lastModifiedBy>Игорь</cp:lastModifiedBy>
  <dcterms:modified xsi:type="dcterms:W3CDTF">2013-02-09T10:02:59Z</dcterms:modified>
  <cp:revision>68</cp:revision>
  <dc:subject/>
  <dc:title>Страницы Истории Отечества</dc:title>
</cp:coreProperties>
</file>