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9.jpeg" ContentType="image/jpeg"/>
  <Override PartName="/ppt/media/image23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2.wmf" ContentType="image/x-wmf"/>
  <Override PartName="/ppt/media/image15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3E6-98A8-42F4-A8BA-01B2A9E2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445-6A65-43FC-9B96-279C70FC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45E-16AC-4491-900E-B2B2F23B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C1B-2C80-45F6-8E9B-32E8AD92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31A-0A04-45DF-86BB-A44BFC93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490-4EA3-4721-A15E-453780E9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244-F1A7-48F9-B789-F14F3714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9D3-B135-4952-9B74-B51181D8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587-0633-431A-A909-FE5EF6F9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A2B-27E5-42A5-B316-7332E1C4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94F-7055-42AE-8B61-4EE24C81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E69-E26D-4723-991D-FFF8FBB9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671A-094A-420B-AD7B-60890E0E6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990720"/>
            <a:ext cx="7925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7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ы синтаксис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7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048120"/>
            <a:ext cx="8534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800080">
                    <a:alpha val="71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 греч. syntaxis - построение, способы 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800080">
                  <a:alpha val="71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800080">
                    <a:alpha val="71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единения слов в словосочетания и предложения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800080">
                  <a:alpha val="71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37702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27576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35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666880" y="38088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4114800"/>
            <a:ext cx="2666880" cy="20638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715000" y="4267080"/>
            <a:ext cx="3200400" cy="24782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1066680" y="2057400"/>
            <a:ext cx="3036960" cy="28195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676520" y="4559400"/>
            <a:ext cx="3352680" cy="22986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5029200" y="2209680"/>
            <a:ext cx="3048120" cy="26575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960" y="11430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0" y="10666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2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6600" y="180648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мо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8760" y="173052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оми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3760" y="302580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енн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9240" y="302580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хокк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4520" y="3962520"/>
            <a:ext cx="250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осеща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гра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люб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75480" y="4876920"/>
            <a:ext cx="1568520" cy="179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4876920"/>
            <a:ext cx="1712880" cy="168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543800" y="228600"/>
            <a:ext cx="1465200" cy="139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543800" y="2362320"/>
            <a:ext cx="1433520" cy="1676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52280" y="2438280"/>
            <a:ext cx="1657440" cy="175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152280" y="380880"/>
            <a:ext cx="153360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" y="38088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огическая задач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848720" y="380880"/>
            <a:ext cx="106812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63880" y="2209680"/>
            <a:ext cx="33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«Третий лиш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21480" y="3048120"/>
            <a:ext cx="626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питательны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правильно питаю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продукты д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103040" cy="3352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62320" y="5486400"/>
            <a:ext cx="33526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5638680"/>
            <a:ext cx="16761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5486400"/>
            <a:ext cx="16761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6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1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100"/>
                            </p:stCondLst>
                            <p:childTnLst>
                              <p:par>
                                <p:cTn id="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100"/>
                            </p:stCondLst>
                            <p:childTnLst>
                              <p:par>
                                <p:cTn id="9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0600" y="2514600"/>
            <a:ext cx="82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родукты дают питательные вещества нашему орг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86000" y="2057400"/>
            <a:ext cx="0" cy="533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2057400"/>
            <a:ext cx="2971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952880" y="2285640"/>
            <a:ext cx="0" cy="304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057400"/>
            <a:ext cx="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286000"/>
            <a:ext cx="19047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228600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057400"/>
            <a:ext cx="2514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2057400"/>
            <a:ext cx="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467480" y="2285640"/>
            <a:ext cx="0" cy="304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2286000"/>
            <a:ext cx="1143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228600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2438280"/>
            <a:ext cx="152640" cy="1526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985040" y="2434320"/>
            <a:ext cx="144720" cy="1605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490000" y="2434320"/>
            <a:ext cx="144360" cy="1605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438280"/>
            <a:ext cx="152280" cy="1526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547400" y="2434320"/>
            <a:ext cx="144360" cy="1605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2438280"/>
            <a:ext cx="152280" cy="152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12049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10280" y="3809880"/>
            <a:ext cx="1764000" cy="2318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048120" y="3124080"/>
            <a:ext cx="114588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876920" y="3352680"/>
            <a:ext cx="12175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1676520" cy="1397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447920" y="228600"/>
            <a:ext cx="2209680" cy="118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943600" y="228600"/>
            <a:ext cx="1758960" cy="1531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 flipH="1">
            <a:off x="152280" y="5123880"/>
            <a:ext cx="1447920" cy="137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010280" y="2743200"/>
            <a:ext cx="1752840" cy="1338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46000" y="165420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Гречка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аёт организму энерг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8440" y="3330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Рыба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строит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рган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83360" y="4800600"/>
            <a:ext cx="69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* Воздерживайтесь от жирной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133720"/>
            <a:ext cx="12193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809880"/>
            <a:ext cx="15238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809880"/>
            <a:ext cx="914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3886200"/>
            <a:ext cx="15238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5257800"/>
            <a:ext cx="3200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334120"/>
            <a:ext cx="3200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209680"/>
            <a:ext cx="914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133720"/>
            <a:ext cx="914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9160" y="1487520"/>
            <a:ext cx="8182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О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доровье заботятся с детства</a:t>
            </a: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ы соблюдаете реж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м питания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тер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гайтесь острого, сла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д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и с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лёног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86200" y="182844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828800"/>
            <a:ext cx="5335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38088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огическая задач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226800" y="1832040"/>
            <a:ext cx="67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ля, Маша, Даша придумали предлож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зные по цели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40" y="2971800"/>
            <a:ext cx="56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  Как быть здоровым много 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760" y="4038480"/>
            <a:ext cx="63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 Здоровье сохрани и болезни побе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8680" y="5181480"/>
            <a:ext cx="79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 Мои знания помогут мне сохран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72760" y="28954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Д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33240" y="39625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М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01360" y="49528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20040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548640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4267080"/>
            <a:ext cx="13716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83480" y="0"/>
            <a:ext cx="106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78480" y="128412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000" y="358128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7200" y="2286000"/>
            <a:ext cx="80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итя взял кусочек хлеба и скатал в ша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9800" y="464832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етя и Маша плакали от б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743200"/>
            <a:ext cx="914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2819520"/>
            <a:ext cx="914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743200"/>
            <a:ext cx="8384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743200"/>
            <a:ext cx="14479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819520"/>
            <a:ext cx="14479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5105520"/>
            <a:ext cx="228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5105520"/>
            <a:ext cx="914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105520"/>
            <a:ext cx="838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518148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510552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209680"/>
            <a:ext cx="152280" cy="152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209680"/>
            <a:ext cx="152280" cy="152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64832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08-11-04T22:54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