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670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670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10154880"/>
            <a:ext cx="32670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4880"/>
            <a:ext cx="32670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65652-134C-4427-9470-BFB4D721FF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7141A-0772-45B0-A4EB-B20A16E73B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78C6D-17D6-4717-84A6-2ED83076AE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92060-6B30-482E-9FDA-FF516B245B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2F494-B3F5-4E0C-967A-699FDAC9D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4B67B-156F-413F-9E09-2213C69BCE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13439-8F11-4FE5-A613-5C963CB3B7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6D58A-52B6-47D1-8996-D912C0012E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D0104-D3BF-4B51-83E1-DB80D1285A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D1F60-5D73-4541-B95D-2941C27A24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E9736-7B6F-4B91-91D3-2920BA72E3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9E20D-44C6-45E3-916B-10515B22FF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D1906-E621-4BB9-8A34-7E0BCB9DA6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DED1-2F01-40D9-87E0-8BBC01605A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0240" cy="4003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6B19-A69D-48C0-95BC-04B66E91A5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0D95A-D957-4031-A40F-BCC26E8DC9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C0D84-9EB1-48D4-85F1-120C16ADBB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238D3-A5F0-47B5-8ABC-80CF84AC99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A0D05-B323-4425-ABD4-A250CEB6DD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CE77B-0692-475F-A749-2F321ACE40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0880" cy="3997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3"/>
          <p:cNvSpPr/>
          <p:nvPr/>
        </p:nvSpPr>
        <p:spPr>
          <a:xfrm>
            <a:off x="4280040" y="10155240"/>
            <a:ext cx="32670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048C3-E595-421F-ACEA-391A52FB2C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AA7-2E24-49CB-8AE2-4B543791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F49-44F2-4246-A7D3-BD84C86D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E0D-81B1-4227-9016-186B8839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367880"/>
            <a:ext cx="291636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2B4-A636-46C1-B20E-AD7DA465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97D-1EA4-41E2-B6CF-F2C9A70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3A21-A481-48C6-99A0-45CFD478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F6BE-BECE-4215-8CBF-A95B9A5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CAC-B644-48E3-8E48-D53B997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80D-C9EB-460B-A84E-46E53E70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1B7-C104-49EA-942B-A794750D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36788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EC7-DF61-42DA-8F68-E4BCD1F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7880"/>
            <a:ext cx="9058320" cy="23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DF3-0284-4103-A413-74B1BE1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97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0B5A9B-5182-4972-B88E-3DD4FF0448B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4452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Самостоятельная музыкальная деятельность как приём развития музыкальных способностей детей.</a:t>
            </a:r>
            <a:br>
              <a:rPr sz="4000"/>
            </a:br>
            <a:r>
              <a:rPr b="1" i="1" lang="ru-RU" sz="2000" spc="-1" strike="noStrike">
                <a:solidFill>
                  <a:srgbClr val="5e11a6"/>
                </a:solidFill>
                <a:latin typeface="Arial"/>
              </a:rPr>
              <a:t>Музыкальный руководитель МБДОУ д/с  «Березка» </a:t>
            </a:r>
            <a:br>
              <a:rPr sz="2000"/>
            </a:br>
            <a:r>
              <a:rPr b="1" i="1" lang="ru-RU" sz="2000" spc="-1" strike="noStrike">
                <a:solidFill>
                  <a:srgbClr val="5e11a6"/>
                </a:solidFill>
                <a:latin typeface="Arial"/>
              </a:rPr>
              <a:t>Тамбовская область, р. п. Дмитриевка</a:t>
            </a:r>
            <a:br>
              <a:rPr sz="2000"/>
            </a:br>
            <a:r>
              <a:rPr b="1" i="1" lang="ru-RU" sz="2000" spc="-1" strike="noStrike">
                <a:solidFill>
                  <a:srgbClr val="5e11a6"/>
                </a:solidFill>
                <a:latin typeface="Arial"/>
              </a:rPr>
              <a:t>Ленкова Евгения Олег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Admin\Рабочий стол\пед\Рисунок1.jpg"/>
          <p:cNvPicPr/>
          <p:nvPr/>
        </p:nvPicPr>
        <p:blipFill>
          <a:blip r:embed="rId1"/>
          <a:stretch/>
        </p:blipFill>
        <p:spPr>
          <a:xfrm>
            <a:off x="3095640" y="3564000"/>
            <a:ext cx="4032360" cy="28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1960" y="17892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Показатели успешности музыкального разви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11640" y="1440000"/>
            <a:ext cx="4788000" cy="5526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64080" bIns="36000" anchor="t">
            <a:normAutofit/>
          </a:bodyPr>
          <a:p>
            <a:pPr marL="3430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оявление новых элементов при создании простейших форм песенного, инструментального, танцевального и игрового твор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C:\Documents and Settings\Admin\Рабочий стол\пед\Рисунок6.jpg"/>
          <p:cNvPicPr/>
          <p:nvPr/>
        </p:nvPicPr>
        <p:blipFill>
          <a:blip r:embed="rId1"/>
          <a:stretch/>
        </p:blipFill>
        <p:spPr>
          <a:xfrm>
            <a:off x="1182600" y="1851120"/>
            <a:ext cx="31719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Показатели успешности музыкального творч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800000"/>
            <a:ext cx="31687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воеобразие детской продукции, оригинальные приемы решения творческих зад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Documents and Settings\Admin\Рабочий стол\пед\Рисунок7.jpg"/>
          <p:cNvPicPr/>
          <p:nvPr/>
        </p:nvPicPr>
        <p:blipFill>
          <a:blip r:embed="rId1"/>
          <a:stretch/>
        </p:blipFill>
        <p:spPr>
          <a:xfrm>
            <a:off x="4183200" y="2208240"/>
            <a:ext cx="49291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360000"/>
            <a:ext cx="90680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Психолого-педагогическое обоснование детского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400" cy="5432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64080" bIns="36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еобходимое условие возникновения детского творчества - накопление впечатлений от восприятия искусства, которое является образцом для творчества, его источн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Documents and Settings\Admin\Рабочий стол\пед\Рисунок8.jpg"/>
          <p:cNvPicPr/>
          <p:nvPr/>
        </p:nvPicPr>
        <p:blipFill>
          <a:blip r:embed="rId1"/>
          <a:stretch/>
        </p:blipFill>
        <p:spPr>
          <a:xfrm>
            <a:off x="5611680" y="1779480"/>
            <a:ext cx="361476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290520"/>
            <a:ext cx="906768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Условие детского музыкального творчества - накопление опыта исполни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360" y="1618920"/>
            <a:ext cx="30607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 импровизациях ребенок эмоционально, непосредственно применяет все то, что усвоил в процессе обуч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C:\Documents and Settings\Admin\Рабочий стол\пед\Рисунок9.jpg"/>
          <p:cNvPicPr/>
          <p:nvPr/>
        </p:nvPicPr>
        <p:blipFill>
          <a:blip r:embed="rId1"/>
          <a:stretch/>
        </p:blipFill>
        <p:spPr>
          <a:xfrm>
            <a:off x="325440" y="1433520"/>
            <a:ext cx="3571920" cy="267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Documents and Settings\Admin\Рабочий стол\пед\Рисунок10.jpg"/>
          <p:cNvPicPr/>
          <p:nvPr/>
        </p:nvPicPr>
        <p:blipFill>
          <a:blip r:embed="rId2"/>
          <a:stretch/>
        </p:blipFill>
        <p:spPr>
          <a:xfrm>
            <a:off x="2325600" y="4208400"/>
            <a:ext cx="445788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Песенно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91640" y="1763280"/>
            <a:ext cx="3816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Успешность творческих проявлений детей зависит от прочности певческих навыков, умения выражать в пении определенные чувства, настроения, петь чисто и вырази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Admin\Рабочий стол\пед\Рисунок11.jpg"/>
          <p:cNvPicPr/>
          <p:nvPr/>
        </p:nvPicPr>
        <p:blipFill>
          <a:blip r:embed="rId1"/>
          <a:stretch/>
        </p:blipFill>
        <p:spPr>
          <a:xfrm>
            <a:off x="4897440" y="206532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Музыкально-игровое и танцевальное твор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618920"/>
            <a:ext cx="360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0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тремление к самостоятельному выразительному исполнению движений, соответствующих характеру, образам песни, инструментальной пьесы- воспитывать у детей творческое отношение к музы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:\Documents and Settings\Admin\Рабочий стол\пед\Рисунок12.jpg"/>
          <p:cNvPicPr/>
          <p:nvPr/>
        </p:nvPicPr>
        <p:blipFill>
          <a:blip r:embed="rId1"/>
          <a:stretch/>
        </p:blipFill>
        <p:spPr>
          <a:xfrm>
            <a:off x="5111640" y="1141560"/>
            <a:ext cx="3857760" cy="2900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Documents and Settings\Admin\Рабочий стол\пед\Рисунок13.jpg"/>
          <p:cNvPicPr/>
          <p:nvPr/>
        </p:nvPicPr>
        <p:blipFill>
          <a:blip r:embed="rId2"/>
          <a:stretch/>
        </p:blipFill>
        <p:spPr>
          <a:xfrm>
            <a:off x="4111560" y="4181400"/>
            <a:ext cx="364320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02920" y="539640"/>
            <a:ext cx="3600360" cy="6120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080" bIns="180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Классическая и современная музыка обогащает музыкальные впечатления, воспитывает эстетический вкус на лучших образцах музыкального искус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C:\Documents and Settings\Admin\Рабочий стол\пед\Рисунок14.jpg"/>
          <p:cNvPicPr/>
          <p:nvPr/>
        </p:nvPicPr>
        <p:blipFill>
          <a:blip r:embed="rId1"/>
          <a:stretch/>
        </p:blipFill>
        <p:spPr>
          <a:xfrm>
            <a:off x="4540320" y="1636560"/>
            <a:ext cx="4722840" cy="49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90520"/>
            <a:ext cx="906768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Творчество детей в игре на музыкальных инстр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96000" y="1800360"/>
            <a:ext cx="3097440" cy="534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ладение элементарными навыками игры на музыкальных инструментах- обеспечивает успешное инструментальное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Documents and Settings\Admin\Рабочий стол\пед\100_5647.JPG"/>
          <p:cNvPicPr/>
          <p:nvPr/>
        </p:nvPicPr>
        <p:blipFill>
          <a:blip r:embed="rId1"/>
          <a:stretch/>
        </p:blipFill>
        <p:spPr>
          <a:xfrm>
            <a:off x="468360" y="1797120"/>
            <a:ext cx="3500280" cy="2622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C:\Documents and Settings\Admin\Рабочий стол\пед\100_5665.JPG"/>
          <p:cNvPicPr/>
          <p:nvPr/>
        </p:nvPicPr>
        <p:blipFill>
          <a:blip r:embed="rId2"/>
          <a:stretch/>
        </p:blipFill>
        <p:spPr>
          <a:xfrm>
            <a:off x="2254320" y="4565520"/>
            <a:ext cx="3714840" cy="27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Импров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332000"/>
            <a:ext cx="453708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Ситуации, придуманные самими детьми или подсказанные педагогом, наталки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80"/>
                </a:solidFill>
                <a:latin typeface="Times New Roman"/>
              </a:rPr>
              <a:t>ребят на поиск выразительных средств, наиболее подходящих для конкретного об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:\Documents and Settings\Admin\Рабочий стол\пед\100_5654.JPG"/>
          <p:cNvPicPr/>
          <p:nvPr/>
        </p:nvPicPr>
        <p:blipFill>
          <a:blip r:embed="rId1"/>
          <a:stretch/>
        </p:blipFill>
        <p:spPr>
          <a:xfrm>
            <a:off x="5326200" y="2637000"/>
            <a:ext cx="45781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999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дагогическая цель- преобразование, которое совершается с детьми в процессе творческого поис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Admin\Рабочий стол\пед\Рисунок16.jpg"/>
          <p:cNvPicPr/>
          <p:nvPr/>
        </p:nvPicPr>
        <p:blipFill>
          <a:blip r:embed="rId1"/>
          <a:stretch/>
        </p:blipFill>
        <p:spPr>
          <a:xfrm>
            <a:off x="1611360" y="1262160"/>
            <a:ext cx="6786360" cy="50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16000" y="2700360"/>
            <a:ext cx="5689440" cy="38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80"/>
                </a:solidFill>
                <a:latin typeface="Arial"/>
              </a:rPr>
              <a:t>Знакомство  с видами развития музыкальных способностей дошкольников в музы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2952720" y="1619280"/>
            <a:ext cx="485640" cy="792000"/>
          </a:xfrm>
          <a:prstGeom prst="downArrow">
            <a:avLst>
              <a:gd name="adj1" fmla="val 50000"/>
              <a:gd name="adj2" fmla="val 4077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1440000" y="395280"/>
            <a:ext cx="698472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сооб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C:\Documents and Settings\Admin\Рабочий стол\пед\Рисунок2.jpg"/>
          <p:cNvPicPr/>
          <p:nvPr/>
        </p:nvPicPr>
        <p:blipFill>
          <a:blip r:embed="rId1"/>
          <a:stretch/>
        </p:blipFill>
        <p:spPr>
          <a:xfrm>
            <a:off x="5969160" y="2065320"/>
            <a:ext cx="3200400" cy="38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16000" y="1187280"/>
            <a:ext cx="4248000" cy="6048720"/>
          </a:xfrm>
          <a:prstGeom prst="rect">
            <a:avLst/>
          </a:prstGeom>
          <a:noFill/>
          <a:ln w="36000">
            <a:solidFill>
              <a:srgbClr val="9999ff"/>
            </a:solidFill>
            <a:round/>
          </a:ln>
        </p:spPr>
        <p:txBody>
          <a:bodyPr lIns="18000" rIns="18000" tIns="46080" bIns="18000" anchor="t">
            <a:normAutofit/>
          </a:bodyPr>
          <a:p>
            <a:pPr marL="3430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i="1" lang="ru-RU" sz="2400" spc="-1" strike="noStrike">
                <a:solidFill>
                  <a:srgbClr val="4700b8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Детское творчество, детские находки, детские мысли, - вот что создает атмосферу радости на занятиях, формирует личность, оптимизирует развитие созидательных и музыкальных способностей.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311640" y="466560"/>
            <a:ext cx="324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6" descr="C:\Documents and Settings\Admin\Рабочий стол\пед\100_5627.JPG"/>
          <p:cNvPicPr/>
          <p:nvPr/>
        </p:nvPicPr>
        <p:blipFill>
          <a:blip r:embed="rId1"/>
          <a:stretch/>
        </p:blipFill>
        <p:spPr>
          <a:xfrm>
            <a:off x="4968720" y="1851120"/>
            <a:ext cx="481968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1"/>
          <p:cNvSpPr/>
          <p:nvPr/>
        </p:nvSpPr>
        <p:spPr>
          <a:xfrm>
            <a:off x="647640" y="250920"/>
            <a:ext cx="9001080" cy="1368360"/>
          </a:xfrm>
          <a:prstGeom prst="wedgeRectCallout">
            <a:avLst>
              <a:gd name="adj1" fmla="val 20333"/>
              <a:gd name="adj2" fmla="val 10266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1295280" y="466560"/>
            <a:ext cx="77058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Творческие способности человека следует признать самой существенной частью его интелл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968720" y="2411280"/>
            <a:ext cx="489600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"Надо развивать творческое начало у всех, чтобы мир не оставался таким, какой он ес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а преображался.                        Преображался к лучшему:"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Джанни Родари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C:\Documents and Settings\Admin\Рабочий стол\пед\100_5665.JPG"/>
          <p:cNvPicPr/>
          <p:nvPr/>
        </p:nvPicPr>
        <p:blipFill>
          <a:blip r:embed="rId1"/>
          <a:stretch/>
        </p:blipFill>
        <p:spPr>
          <a:xfrm>
            <a:off x="254160" y="2351160"/>
            <a:ext cx="47638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5688000" y="900000"/>
            <a:ext cx="403236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Творческое начало у детей  может проявляться в пении простейших мотивов, часто возникающих непроизвольно, по собственной инициати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C:\Documents and Settings\Admin\Рабочий стол\пед\Рисунок4.jpg"/>
          <p:cNvPicPr/>
          <p:nvPr/>
        </p:nvPicPr>
        <p:blipFill>
          <a:blip r:embed="rId1"/>
          <a:stretch/>
        </p:blipFill>
        <p:spPr>
          <a:xfrm>
            <a:off x="1039680" y="922320"/>
            <a:ext cx="3333960" cy="49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1"/>
          <p:cNvSpPr/>
          <p:nvPr/>
        </p:nvSpPr>
        <p:spPr>
          <a:xfrm>
            <a:off x="396720" y="279360"/>
            <a:ext cx="9433080" cy="1440000"/>
          </a:xfrm>
          <a:prstGeom prst="flowChartPreparation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для положительного влияния музыкаль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2"/>
          <p:cNvSpPr/>
          <p:nvPr/>
        </p:nvSpPr>
        <p:spPr>
          <a:xfrm rot="2820000">
            <a:off x="6768000" y="1915200"/>
            <a:ext cx="574560" cy="414000"/>
          </a:xfrm>
          <a:custGeom>
            <a:avLst/>
            <a:gdLst>
              <a:gd name="textAreaLeft" fmla="*/ 71640 w 574560"/>
              <a:gd name="textAreaRight" fmla="*/ 502920 w 574560"/>
              <a:gd name="textAreaTop" fmla="*/ 103320 h 414000"/>
              <a:gd name="textAreaBottom" fmla="*/ 310680 h 41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3"/>
          <p:cNvSpPr/>
          <p:nvPr/>
        </p:nvSpPr>
        <p:spPr>
          <a:xfrm rot="5400000">
            <a:off x="4633560" y="3140280"/>
            <a:ext cx="1368360" cy="48564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 rot="6960000">
            <a:off x="2649240" y="1998360"/>
            <a:ext cx="657000" cy="485640"/>
          </a:xfrm>
          <a:custGeom>
            <a:avLst/>
            <a:gdLst>
              <a:gd name="textAreaLeft" fmla="*/ 82080 w 657000"/>
              <a:gd name="textAreaRight" fmla="*/ 574920 w 65700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16000" y="2700360"/>
            <a:ext cx="4103640" cy="2556000"/>
          </a:xfrm>
          <a:prstGeom prst="wedgeEllipseCallout">
            <a:avLst>
              <a:gd name="adj1" fmla="val 18300"/>
              <a:gd name="adj2" fmla="val -41791"/>
            </a:avLst>
          </a:prstGeom>
          <a:gradFill rotWithShape="0">
            <a:gsLst>
              <a:gs pos="0">
                <a:srgbClr val="ffffff"/>
              </a:gs>
              <a:gs pos="100000">
                <a:srgbClr val="23ff23"/>
              </a:gs>
            </a:gsLst>
            <a:lin ang="36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>
            <a:off x="6264360" y="2340000"/>
            <a:ext cx="3816360" cy="2448000"/>
          </a:xfrm>
          <a:prstGeom prst="wedgeEllipseCallout">
            <a:avLst>
              <a:gd name="adj1" fmla="val -14736"/>
              <a:gd name="adj2" fmla="val -26476"/>
            </a:avLst>
          </a:prstGeom>
          <a:gradFill rotWithShape="0">
            <a:gsLst>
              <a:gs pos="0">
                <a:srgbClr val="ffffff"/>
              </a:gs>
              <a:gs pos="100000">
                <a:srgbClr val="23ff23"/>
              </a:gs>
            </a:gsLst>
            <a:lin ang="36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095640" y="4572000"/>
            <a:ext cx="4753080" cy="2735280"/>
          </a:xfrm>
          <a:prstGeom prst="wedgeEllipseCallout">
            <a:avLst>
              <a:gd name="adj1" fmla="val -18444"/>
              <a:gd name="adj2" fmla="val -12152"/>
            </a:avLst>
          </a:prstGeom>
          <a:gradFill rotWithShape="0">
            <a:gsLst>
              <a:gs pos="0">
                <a:srgbClr val="ffffff"/>
              </a:gs>
              <a:gs pos="100000">
                <a:srgbClr val="23ff23"/>
              </a:gs>
            </a:gsLst>
            <a:lin ang="36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76360" y="3348000"/>
            <a:ext cx="33130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должна вызывать положительные эмоции, удоволь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335640" y="2843280"/>
            <a:ext cx="3745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ребенка должна быть по возможности творческ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672000" y="5219640"/>
            <a:ext cx="40305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ь ребенка организованна должна быть так, чтобы он преследовал цели, всегда немного превосходящие его наличные возм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252000"/>
            <a:ext cx="9069480" cy="13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Цели для работы по развитию музыкально-творчески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"/>
          <p:cNvSpPr/>
          <p:nvPr/>
        </p:nvSpPr>
        <p:spPr>
          <a:xfrm>
            <a:off x="431640" y="2195640"/>
            <a:ext cx="3313440" cy="2738160"/>
          </a:xfrm>
          <a:prstGeom prst="cloudCallout">
            <a:avLst>
              <a:gd name="adj1" fmla="val 58337"/>
              <a:gd name="adj2" fmla="val -55509"/>
            </a:avLst>
          </a:prstGeom>
          <a:solidFill>
            <a:srgbClr val="00b8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60120" bIns="60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ь условия для развития личности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6119640" y="2340000"/>
            <a:ext cx="3672000" cy="2663640"/>
          </a:xfrm>
          <a:prstGeom prst="cloudCallout">
            <a:avLst>
              <a:gd name="adj1" fmla="val -50689"/>
              <a:gd name="adj2" fmla="val -57689"/>
            </a:avLst>
          </a:prstGeom>
          <a:solidFill>
            <a:srgbClr val="00b8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60120" bIns="60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ть мотивации личности к познанию и творчест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024360" y="4427640"/>
            <a:ext cx="3671640" cy="2808360"/>
          </a:xfrm>
          <a:prstGeom prst="cloudCallout">
            <a:avLst>
              <a:gd name="adj1" fmla="val -2226"/>
              <a:gd name="adj2" fmla="val -91888"/>
            </a:avLst>
          </a:prstGeom>
          <a:solidFill>
            <a:srgbClr val="00b8ff"/>
          </a:solidFill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60120" bIns="6012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ить эмоциональное благополучие реб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360360" y="179280"/>
            <a:ext cx="9288360" cy="1943280"/>
          </a:xfrm>
          <a:prstGeom prst="pi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е зада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15640" y="2195280"/>
            <a:ext cx="9504360" cy="5040360"/>
          </a:xfrm>
          <a:prstGeom prst="rect">
            <a:avLst/>
          </a:prstGeom>
          <a:solidFill>
            <a:srgbClr val="ffcc99"/>
          </a:solidFill>
          <a:ln w="36000">
            <a:solidFill>
              <a:srgbClr val="ff3399"/>
            </a:solidFill>
            <a:round/>
          </a:ln>
        </p:spPr>
        <p:txBody>
          <a:bodyPr lIns="0" rIns="0" tIns="28080" bIns="0" anchor="t">
            <a:normAutofit/>
          </a:bodyPr>
          <a:p>
            <a:pPr marL="1994040" indent="-19940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"/>
              <a:tabLst>
                <a:tab algn="l" pos="199404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736200"/>
                <a:tab algn="l" pos="10185480"/>
                <a:tab algn="l" pos="106347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ть у детей первоначальное представление о музыке, пении, театрально-танцев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"/>
              <a:tabLst>
                <a:tab algn="l" pos="199404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736200"/>
                <a:tab algn="l" pos="10185480"/>
                <a:tab algn="l" pos="106347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овать общему развитию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"/>
              <a:tabLst>
                <a:tab algn="l" pos="199404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736200"/>
                <a:tab algn="l" pos="10185480"/>
                <a:tab algn="l" pos="106347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музыкально-эстетическое восприятие мира, творчество детей в области музыкального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"/>
              <a:tabLst>
                <a:tab algn="l" pos="199404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736200"/>
                <a:tab algn="l" pos="10185480"/>
                <a:tab algn="l" pos="106347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кать детей к постановке музыкальных спектаклей, мюзик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"/>
              <a:tabLst>
                <a:tab algn="l" pos="1994040"/>
                <a:tab algn="l" pos="2098800"/>
                <a:tab algn="l" pos="2548080"/>
                <a:tab algn="l" pos="2997360"/>
                <a:tab algn="l" pos="3446640"/>
                <a:tab algn="l" pos="3895560"/>
                <a:tab algn="l" pos="4344840"/>
                <a:tab algn="l" pos="4794120"/>
                <a:tab algn="l" pos="5243400"/>
                <a:tab algn="l" pos="5692680"/>
                <a:tab algn="l" pos="6141960"/>
                <a:tab algn="l" pos="6591240"/>
                <a:tab algn="l" pos="7040520"/>
                <a:tab algn="l" pos="7489800"/>
                <a:tab algn="l" pos="7939080"/>
                <a:tab algn="l" pos="8388360"/>
                <a:tab algn="l" pos="8837640"/>
                <a:tab algn="l" pos="9286920"/>
                <a:tab algn="l" pos="9736200"/>
                <a:tab algn="l" pos="10185480"/>
                <a:tab algn="l" pos="1063476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 дошкольников творчеству в различных видах музык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60360" y="1767960"/>
            <a:ext cx="9360000" cy="5432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ccffff"/>
              </a:gs>
              <a:gs pos="100000">
                <a:srgbClr val="ffff66"/>
              </a:gs>
            </a:gsLst>
            <a:lin ang="3600000"/>
          </a:gra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узык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к комплекс эмоциональных и слуховых компонентов, позволяющих успешно решать все творческие зада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ворческие способн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ющиеся в увлеченности деятельностью, в переработке жизненного, музыкального опы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ндивидуально-характерологические особенности личн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ющие качество ее эмоциональной и волевой 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31640" y="130320"/>
            <a:ext cx="9069480" cy="136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5400000"/>
          </a:gradFill>
          <a:ln w="284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сылки возникновения и развития музыкально-творческих способ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0047"/>
                </a:solidFill>
                <a:latin typeface="Times New Roman"/>
                <a:ea typeface="Times New Roman"/>
              </a:rPr>
              <a:t>Показатели успешности музыкального развит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54007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18576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ахождение детьми выразительных средств для воплощения образа в мелодиях и дви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Admin\Рабочий стол\пед\Рисунок5.jpg"/>
          <p:cNvPicPr/>
          <p:nvPr/>
        </p:nvPicPr>
        <p:blipFill>
          <a:blip r:embed="rId1"/>
          <a:stretch/>
        </p:blipFill>
        <p:spPr>
          <a:xfrm>
            <a:off x="5754600" y="3208320"/>
            <a:ext cx="3864240" cy="290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4:43:04Z</dcterms:created>
  <dc:creator/>
  <dc:description/>
  <dc:language>en-US</dc:language>
  <cp:lastModifiedBy>DNA7 X86</cp:lastModifiedBy>
  <dcterms:modified xsi:type="dcterms:W3CDTF">2014-11-27T17:24:54Z</dcterms:modified>
  <cp:revision>17</cp:revision>
  <dc:subject/>
  <dc:title>Развитие музыкально-творческих способностей детей</dc:title>
</cp:coreProperties>
</file>