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8C4601-76AA-4908-8D4D-FB8EEA05C3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4E14E-ED77-4C9C-B431-0CC18DC9A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F5D96-68CC-4D99-AEA4-62B9F7A33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6CED7-1158-4509-85E2-15A37AF73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7BCAE-D2F2-489C-A595-4B482A8C0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4649A-749C-4F9F-B52A-6DDDA0DCB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9611E-8C0A-42D6-ADA9-0E272C05B5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1ABCD-4714-4623-9890-64692B418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BF3F-4558-47DE-BC71-5E3945AB4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120EE-D0BE-417C-9A66-6478999A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72012-2D42-4471-B6BF-17C0F227B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633BD-90EE-43D9-BC93-F9BF02B97C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83F4-666B-415E-8B3D-85DBB38F12C5}" type="slidenum">
              <a:rPr b="0" lang="ru-RU"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
          <p:cNvSpPr/>
          <p:nvPr/>
        </p:nvSpPr>
        <p:spPr>
          <a:xfrm>
            <a:off x="428760" y="514440"/>
            <a:ext cx="8215200" cy="314136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ea typeface="Times New Roman"/>
              </a:rPr>
              <a:t>Привить ребенку вкус к чтению –</a:t>
            </a:r>
            <a:br>
              <a:rPr sz="4000"/>
            </a:br>
            <a:r>
              <a:rPr b="1" lang="ru-RU" sz="4000" spc="-1" strike="noStrike">
                <a:solidFill>
                  <a:srgbClr val="000000"/>
                </a:solidFill>
                <a:latin typeface="Calibri"/>
                <a:ea typeface="Times New Roman"/>
              </a:rPr>
              <a:t>лучший подарок, который мы можем</a:t>
            </a:r>
            <a:br>
              <a:rPr sz="4000"/>
            </a:br>
            <a:r>
              <a:rPr b="1" lang="ru-RU" sz="4000" spc="-1" strike="noStrike">
                <a:solidFill>
                  <a:srgbClr val="000000"/>
                </a:solidFill>
                <a:latin typeface="Calibri"/>
                <a:ea typeface="Times New Roman"/>
              </a:rPr>
              <a:t>ему сделать. </a:t>
            </a:r>
            <a:br>
              <a:rPr sz="4000"/>
            </a:br>
            <a:r>
              <a:rPr b="1" lang="ru-RU" sz="4000" spc="-1" strike="noStrike">
                <a:solidFill>
                  <a:srgbClr val="000000"/>
                </a:solidFill>
                <a:latin typeface="Calibri"/>
                <a:ea typeface="Times New Roman"/>
              </a:rPr>
              <a:t>С. Лупан</a:t>
            </a:r>
            <a:endParaRPr b="0" lang="en-US" sz="4000" spc="-1" strike="noStrike">
              <a:solidFill>
                <a:srgbClr val="000000"/>
              </a:solidFill>
              <a:latin typeface="Arial"/>
            </a:endParaRPr>
          </a:p>
        </p:txBody>
      </p:sp>
      <p:pic>
        <p:nvPicPr>
          <p:cNvPr id="42" name="Picture 3" descr=""/>
          <p:cNvPicPr/>
          <p:nvPr/>
        </p:nvPicPr>
        <p:blipFill>
          <a:blip r:embed="rId1"/>
          <a:stretch/>
        </p:blipFill>
        <p:spPr>
          <a:xfrm>
            <a:off x="920880" y="2066760"/>
            <a:ext cx="2004840" cy="2773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214200" y="20160"/>
            <a:ext cx="5286600" cy="4667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Значение книги в жизни человека огромно. Однако педагоги и психологи констатируют, что дети, едва научившись читать в начальной школе, к седьмому – восьмому классу читают все хуже и хуже. Замедленность процесса чтения, отсутствие интереса к чтению приводит к тому, что процессы интеллектуальной деятельности тоже замедляются. Ребята медленнее прочитывают условие задачи, упражнения, забывают его суть прежде, чем начнут выполнять. Многие термины и понятия, о которых они должны иметь представление в этом возрасте, им просто неизвестны и неинтересны.</a:t>
            </a:r>
            <a:endParaRPr b="0" lang="en-US" sz="2000" spc="-1" strike="noStrike">
              <a:solidFill>
                <a:srgbClr val="000000"/>
              </a:solidFill>
              <a:latin typeface="Arial"/>
            </a:endParaRPr>
          </a:p>
        </p:txBody>
      </p:sp>
      <p:pic>
        <p:nvPicPr>
          <p:cNvPr id="44" name="Picture 3" descr=""/>
          <p:cNvPicPr/>
          <p:nvPr/>
        </p:nvPicPr>
        <p:blipFill>
          <a:blip r:embed="rId1"/>
          <a:stretch/>
        </p:blipFill>
        <p:spPr>
          <a:xfrm>
            <a:off x="5357880" y="285840"/>
            <a:ext cx="3409920" cy="28922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1"/>
          <p:cNvSpPr/>
          <p:nvPr/>
        </p:nvSpPr>
        <p:spPr>
          <a:xfrm>
            <a:off x="428760" y="27360"/>
            <a:ext cx="8143920" cy="563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Ни для кого ни секрет, что желание читать, стойкий интерес к чтению формируется в семье и основа его – привычка ребенка читать. Приучение детей к чтению потребует времени и усилий. Никто за родителей этого не сделает. Сегодня, когда наши дети только постигают азы чтения, необходимо помочь им полюбить книгу, так как неумение читать не только отрицательно влияет на успеваемость ребенка, но и на его общее развит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ea typeface="Times New Roman"/>
              </a:rPr>
              <a:t>Опыт показывает: надо как можно раньше приобщить ребенка к книге и чтению – кладезю знаний, идей, мудрости и опы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0" y="31320"/>
            <a:ext cx="914400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Сейчас много идет разговоров о том, что традиционная система оценок успеваемости школьников, т.е. пятибалльная система – изживает себя. На смену ей идет другая, основанная на накоплении учеником достижений в той или иной области знаний, которая может быть выражена в участии детей в олимпиадах, конкурсах, турнирах и т.д., как в рамках школьной программы, так и вне ее. Все это будет требовать эрудиции, творческого мышления, а значит – начитанност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Есть дети, для которых книга – органическая часть их жизни. К сожалению, таких детей, кто не мыслит жизнь без чтения, с каждым годом становится все меньше. Зато возрастает процент тех, для кого чтение – тяжкая повинность. Они не осознают его не только как средство общекультурного развития, но и как средство, гарантирующее учебные успехи по всем предметам. Ведь чтение является основой для изучения всех дисциплин, даже математики. И большую помощь в этом вопросе могут и должны оказать родители, те, кто более всего заинтересован в качестве образования своих дет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0" y="-128880"/>
            <a:ext cx="9144000" cy="5582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Большое влияние на качество восприятия книги оказывают мотивы чтени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Принудительное чтение, как правило, неплодотворное. Плодотворным оно становится тогда, когда ребенок читает в силу интереса. Интерес – это единственный из всех мотивов, который поддерживает чтение во включенном режиме, т.е. обеспечивает влияние книги на читателя. Чтение, мотивированное любознательностью, интересом, особенно значимо, потому что становится для детей занятием приятным и желанным.</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Для нас, как и для предыдущих поколений, книга была единственным источником знаний. Но времена изменились: современные технологии – от аудиоплееров до компьютеров – стремительно шагнули вперед, а дети – что удивительно! – быстро их освоили. Возникает вопрос: нужны ли ребенку книг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Способность тщательно «переваривать» в мозгу информацию и анализировать ее можно развить только благодаря чтению книг. Прочитанные сведения лучше запоминаются. Над страницей можно остановиться, вдуматься, перечитать ее. Пересказ учит анализировать текст, относиться к нему критически. Чтение развивает воображение: ребенок сам представляет героев, а не принимает созданный другими образ.</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571680" y="18720"/>
            <a:ext cx="542916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Что же мешает чтению детей? Просто сейчас детских развлечений стало гораздо больш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Бесконечное сидение перед телевизором и столько же бесконечное щелканье пультом. Необходимо помнить о том, что влияние телевидения на детей резко отличается от влияния на психику взрослых. Первоклассники не могут четко определить, где – правда, а где – ложь. Они слепо доверяют всему тому, что видят на экране. Ими легко управлять, манипулировать их эмоциями и чувствами. Лишь с 11-12 лет ребята начинают не столь доверительно относиться к тому, что есть на экране.</a:t>
            </a:r>
            <a:endParaRPr b="0" lang="en-US" sz="2000" spc="-1" strike="noStrike">
              <a:solidFill>
                <a:srgbClr val="000000"/>
              </a:solidFill>
              <a:latin typeface="Arial"/>
            </a:endParaRPr>
          </a:p>
        </p:txBody>
      </p:sp>
      <p:pic>
        <p:nvPicPr>
          <p:cNvPr id="49" name="Picture 3" descr=""/>
          <p:cNvPicPr/>
          <p:nvPr/>
        </p:nvPicPr>
        <p:blipFill>
          <a:blip r:embed="rId1"/>
          <a:stretch/>
        </p:blipFill>
        <p:spPr>
          <a:xfrm>
            <a:off x="6022800" y="706320"/>
            <a:ext cx="2889360" cy="1957680"/>
          </a:xfrm>
          <a:prstGeom prst="rect">
            <a:avLst/>
          </a:prstGeom>
          <a:ln w="0">
            <a:noFill/>
          </a:ln>
        </p:spPr>
      </p:pic>
      <p:pic>
        <p:nvPicPr>
          <p:cNvPr id="50" name="Picture 4" descr=""/>
          <p:cNvPicPr/>
          <p:nvPr/>
        </p:nvPicPr>
        <p:blipFill>
          <a:blip r:embed="rId2"/>
          <a:stretch/>
        </p:blipFill>
        <p:spPr>
          <a:xfrm>
            <a:off x="6066000" y="3565440"/>
            <a:ext cx="2633400" cy="1762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285840" y="30240"/>
            <a:ext cx="571500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Правила борьбы с телеманией.</a:t>
            </a:r>
            <a:endParaRPr b="0" lang="en-US" sz="2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Совместное определение и обсуждение телепередач для просмотра.</a:t>
            </a:r>
            <a:endParaRPr b="0" lang="en-US" sz="2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Выбор для просмотра учебно-образовательных и познавательно-просветительных программ.</a:t>
            </a:r>
            <a:endParaRPr b="0" lang="en-US" sz="2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Телевизор не должен быть значимой частью в жизни родителей, тогда это станет положительным примером для ребенка.</a:t>
            </a:r>
            <a:endParaRPr b="0" lang="en-US" sz="20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Ребенок, который ежедневно смотрит сцены насилия, убийства, свыкается с ними и даже испытывает при этом удовольствие. Необходимо исключить их из просмотра малышам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ea typeface="Times New Roman"/>
              </a:rPr>
              <a:t>Неоднозначное влияние на детей оказывает и компьютер. С одной стороны через Интернет он открыл ребенку доступ к мировым запасам информации, а с другой -  дети играют только в игры, причем самые примитивные. Если они и развивают что-то у детей, то только быстроту реакции. Возьмите под строгий контроль игры, в которые играют ваши дети. Пусть среди них будут хорошие развивающие, познавательные игры.</a:t>
            </a:r>
            <a:endParaRPr b="0" lang="en-US" sz="2000" spc="-1" strike="noStrike">
              <a:solidFill>
                <a:srgbClr val="000000"/>
              </a:solidFill>
              <a:latin typeface="Arial"/>
            </a:endParaRPr>
          </a:p>
        </p:txBody>
      </p:sp>
      <p:pic>
        <p:nvPicPr>
          <p:cNvPr id="52" name="Picture 4" descr=""/>
          <p:cNvPicPr/>
          <p:nvPr/>
        </p:nvPicPr>
        <p:blipFill>
          <a:blip r:embed="rId1"/>
          <a:stretch/>
        </p:blipFill>
        <p:spPr>
          <a:xfrm>
            <a:off x="5851440" y="633240"/>
            <a:ext cx="2951280" cy="2195640"/>
          </a:xfrm>
          <a:prstGeom prst="rect">
            <a:avLst/>
          </a:prstGeom>
          <a:ln w="0">
            <a:noFill/>
          </a:ln>
        </p:spPr>
      </p:pic>
      <p:pic>
        <p:nvPicPr>
          <p:cNvPr id="53" name="Picture 5" descr=""/>
          <p:cNvPicPr/>
          <p:nvPr/>
        </p:nvPicPr>
        <p:blipFill>
          <a:blip r:embed="rId2"/>
          <a:stretch/>
        </p:blipFill>
        <p:spPr>
          <a:xfrm>
            <a:off x="5900760" y="4780080"/>
            <a:ext cx="3084480" cy="1858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428760" y="35280"/>
            <a:ext cx="821520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Calibri"/>
                <a:ea typeface="Times New Roman"/>
              </a:rPr>
              <a:t>Как же привить детям интерес к чтению и любовь к книгам? </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Никогда не наказывайте за проступки чтением. Это грубая ошибка воспитания и лучший способ вызвать отвращение к книге.</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Читайте сами. Если ребенок никогда не видел маму и папу с книгой в руках, то откуда же у него родится любовь к чтению?</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Читайте вместе с ребенком. Обсуждайте прочитанное. Выясняйте значение трудных или незнакомых слов. Читайте попеременно, часть читает взрослый, часть – ребенок. Вспоминая позже детство, он непременно вспомнит часы совместного с вами чтения и задушевной беседы, и это согреет его сердце. </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Берите для первых чтений только подходящие книги – яркие, с крупным шрифтом, где много картинок и сюжет, за которым интересно следить.</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Используйте такой прием. На самом интересном месте остановитесь. Заинтригованный ребенок вынужден дочитать до конца, чтобы выяснить, что же произошло с героем. Или такой. Вы моете посуду, готовите ужин, а ребенок читает вслух.</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Устраивайте выставку рисунков по мотивам прочитанных книг.</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Поощряйте ребенка в посещении библиотеки, ходите вместе с ним.</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Следите за тем, чтобы чтение было систематическим – каждый день по 15-20 минут, причем чтение должно быть обязательно вслух. Это сформирует у ребенка привычку ежедневного общения с книгой.</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Не нужно насиловать детей в этой первой работе по грамотности, но не следует поощрять и некоторую лень, возникающую в борьбе с трудностями.</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Покупая книгу в подарок, сделайте дарственную надпись добрыми и теплыми пожеланиями. Спустя годы это станет счастливым напоминанием о родном доме, его традициях, дорогих и близких людях.</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1T03:06:24Z</dcterms:created>
  <dc:creator>Сергей</dc:creator>
  <dc:description/>
  <dc:language>en-US</dc:language>
  <cp:lastModifiedBy>Сергей</cp:lastModifiedBy>
  <dcterms:modified xsi:type="dcterms:W3CDTF">2005-01-01T04:26:16Z</dcterms:modified>
  <cp:revision>31</cp:revision>
  <dc:subject/>
  <dc:title>Слайд 1</dc:title>
</cp:coreProperties>
</file>