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1.jpeg" ContentType="image/jpeg"/>
  <Override PartName="/ppt/media/image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6.jpeg" ContentType="image/jpeg"/>
  <Override PartName="/ppt/media/wind.wav" ContentType="audio/x-wav"/>
  <Override PartName="/ppt/media/image12.jpeg" ContentType="image/jpeg"/>
  <Override PartName="/ppt/media/image1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649-A049-4CBD-A07B-532220FCE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AF8-DA31-4167-93CA-509DB1B645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F4B-0E53-4639-B1F1-476B4A13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E8A-5C0A-4853-A0D7-50367BA8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5AD-A31B-4BC1-AA84-63A68F74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5D6-9781-4618-B1C7-561D547D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D0D-6B4B-4811-8D5E-474624F5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415-A5FD-4AA3-9C8A-7071454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383-CC91-4C59-A936-6171E5A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D45-63FC-45A3-9372-0C1A721E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6A4-E967-4EE2-8441-4F3630BC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24D-DA4F-4AC7-B2C0-7534E48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C2A-9FA3-4094-AEEB-A8E4F45D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269-B086-4890-84EA-2539288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F893-B1CA-413C-A7FD-C8DC0EE07A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81200" y="493560"/>
            <a:ext cx="824040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609480" y="1670040"/>
            <a:ext cx="7998120" cy="2463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picture.gif"/>
          <p:cNvPicPr/>
          <p:nvPr/>
        </p:nvPicPr>
        <p:blipFill>
          <a:blip r:embed="rId3"/>
          <a:stretch/>
        </p:blipFill>
        <p:spPr>
          <a:xfrm>
            <a:off x="2500200" y="3571920"/>
            <a:ext cx="4367160" cy="3000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2643120" y="6429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онкурс чтецов п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2"/>
          <p:cNvSpPr/>
          <p:nvPr/>
        </p:nvSpPr>
        <p:spPr>
          <a:xfrm>
            <a:off x="4214880" y="150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ccff"/>
                </a:solidFill>
                <a:latin typeface="Times New Roman"/>
              </a:rPr>
              <a:t>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8000" y="1599840"/>
            <a:ext cx="4387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http://img59.imageshack.us/img59/3747/34501627.png"/>
          <p:cNvPicPr/>
          <p:nvPr/>
        </p:nvPicPr>
        <p:blipFill>
          <a:blip r:embed="rId2"/>
          <a:stretch/>
        </p:blipFill>
        <p:spPr>
          <a:xfrm>
            <a:off x="5500800" y="2071800"/>
            <a:ext cx="2160360" cy="35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rnns.ru/uploads/posts/2011-11/1320244154_a5c973e85352ec6ab6cd3f9579d.jpg"/>
          <p:cNvPicPr/>
          <p:nvPr/>
        </p:nvPicPr>
        <p:blipFill>
          <a:blip r:embed="rId3"/>
          <a:stretch/>
        </p:blipFill>
        <p:spPr>
          <a:xfrm>
            <a:off x="250920" y="1341360"/>
            <a:ext cx="410508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55160" cy="1206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4143240" y="17146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ff"/>
                </a:solidFill>
                <a:latin typeface="Arial"/>
              </a:rPr>
              <a:t>«Книга - чистейшая сущ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ccff"/>
                </a:solidFill>
                <a:latin typeface="Arial"/>
              </a:rPr>
              <a:t>человеческой душ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9" descr="http://im6-tub-ru.yandex.net/i?id=82018494-09-72&amp;n=21"/>
          <p:cNvPicPr/>
          <p:nvPr/>
        </p:nvPicPr>
        <p:blipFill>
          <a:blip r:embed="rId2"/>
          <a:stretch/>
        </p:blipFill>
        <p:spPr>
          <a:xfrm>
            <a:off x="539640" y="1268280"/>
            <a:ext cx="3888000" cy="532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http://www.knigograd.com.ua/images/detailed/213478890245057278018691.jpg"/>
          <p:cNvPicPr/>
          <p:nvPr/>
        </p:nvPicPr>
        <p:blipFill>
          <a:blip r:embed="rId3"/>
          <a:stretch/>
        </p:blipFill>
        <p:spPr>
          <a:xfrm>
            <a:off x="5214960" y="2500200"/>
            <a:ext cx="2305080" cy="3122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4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0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mamamidetkam.ru/uploads/posts/2013-08/1375453272_lindgren2.jpg"/>
          <p:cNvPicPr/>
          <p:nvPr/>
        </p:nvPicPr>
        <p:blipFill>
          <a:blip r:embed="rId2"/>
          <a:stretch/>
        </p:blipFill>
        <p:spPr>
          <a:xfrm rot="250200">
            <a:off x="52560" y="1418760"/>
            <a:ext cx="4316400" cy="523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9" descr="http://www.libex.ru/dimg/2ff2c.jpg"/>
          <p:cNvPicPr/>
          <p:nvPr/>
        </p:nvPicPr>
        <p:blipFill>
          <a:blip r:embed="rId3"/>
          <a:stretch/>
        </p:blipFill>
        <p:spPr>
          <a:xfrm rot="20883000">
            <a:off x="5646240" y="2153880"/>
            <a:ext cx="256860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8836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6" descr="Без именирррп.png"/>
          <p:cNvPicPr/>
          <p:nvPr/>
        </p:nvPicPr>
        <p:blipFill>
          <a:blip r:embed="rId2"/>
          <a:stretch/>
        </p:blipFill>
        <p:spPr>
          <a:xfrm>
            <a:off x="285840" y="1214280"/>
            <a:ext cx="3854520" cy="5500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"/>
          <p:cNvSpPr/>
          <p:nvPr/>
        </p:nvSpPr>
        <p:spPr>
          <a:xfrm>
            <a:off x="2286000" y="269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4643280" y="114300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e005f"/>
                </a:solidFill>
                <a:latin typeface="Arial"/>
              </a:rPr>
              <a:t>«Писатель должен уметь прямо говорить читателю правду, как бы она горька ни бы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xxlbook.ru/imgh152764.png"/>
          <p:cNvPicPr/>
          <p:nvPr/>
        </p:nvPicPr>
        <p:blipFill>
          <a:blip r:embed="rId3"/>
          <a:stretch/>
        </p:blipFill>
        <p:spPr>
          <a:xfrm>
            <a:off x="6804000" y="3573360"/>
            <a:ext cx="2095560" cy="3135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img-fotki.yandex.ru/get/4510/larisa4223850.1a/0_144a39_ff7c8e93_XL"/>
          <p:cNvPicPr/>
          <p:nvPr/>
        </p:nvPicPr>
        <p:blipFill>
          <a:blip r:embed="rId4"/>
          <a:stretch/>
        </p:blipFill>
        <p:spPr>
          <a:xfrm>
            <a:off x="4284720" y="2421000"/>
            <a:ext cx="221940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1:03Z</dcterms:created>
  <dc:creator>user</dc:creator>
  <dc:description/>
  <dc:language>en-US</dc:language>
  <cp:lastModifiedBy>я</cp:lastModifiedBy>
  <dcterms:modified xsi:type="dcterms:W3CDTF">2016-01-31T10:28:47Z</dcterms:modified>
  <cp:revision>32</cp:revision>
  <dc:subject/>
  <dc:title> </dc:title>
</cp:coreProperties>
</file>