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E0F-B67B-4482-8B7D-052EA76A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D74-18A0-45F3-888C-4F73BA9D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9BD-1A20-4336-BB40-8634F167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4D5-9129-43AF-9785-0678FC49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7EA-BDA1-4902-AAE7-DE0E636A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388-B387-46F2-AF8A-0C0EF3F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E43-D075-4BA1-BC9C-FA95685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E34-A87C-4C02-9707-63E0E4A3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11A-8F6C-4B58-8957-3F5A72D9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743-EE1C-4409-96F9-50F91FB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8BB-0D45-4F47-B96C-B2B1FC7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492-611C-4D6C-B869-15BF066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9D01-772A-4AEA-97B2-F1AF15932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92000" y="4000680"/>
            <a:ext cx="608004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ая игра по русскому языку для 6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русского языка и литературы МБОУ «Учхозская СОШ»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ослободского райо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спублики 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илина Галина Олеговн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58920" y="333360"/>
            <a:ext cx="6481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73964" dir="3536435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рь 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73964" dir="3536435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24000" y="2924280"/>
            <a:ext cx="8477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53966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Вселенная в алфавитном поряд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53966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писок литерату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Даль В.И.Толковый словарь живого великорусского языка. - М. : ОЛМА Медиа Групп, 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Ожегов С.И. Толковый словарь русского языка.- М. : Оникс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Шанский Н.М. Школьный этимологический словарь русского языка.— М.: Дрофа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Ушаков Д. И., Крючков С. Е. –М: Дрофа, 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Львов М.Р. Словарь антонимов русского языка. –М: Дрофа, 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Фразеологический словарь под редакцией А.И.Молоткова.-М: Дрофа, 199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лковом словаре живого великорусского языка Владимира Ивановича Даля собрано 200 тысяч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 словаре С. И. Ожегова около 57 тысяч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68360" y="404640"/>
            <a:ext cx="813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навательн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7" name="Picture 7" descr="Безымянный"/>
          <p:cNvPicPr/>
          <p:nvPr/>
        </p:nvPicPr>
        <p:blipFill>
          <a:blip r:embed="rId1"/>
          <a:stretch/>
        </p:blipFill>
        <p:spPr>
          <a:xfrm>
            <a:off x="6429240" y="1428840"/>
            <a:ext cx="1944720" cy="190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1\Рабочий стол\default.9jpeg.jpeg"/>
          <p:cNvPicPr/>
          <p:nvPr/>
        </p:nvPicPr>
        <p:blipFill>
          <a:blip r:embed="rId2"/>
          <a:stretch/>
        </p:blipFill>
        <p:spPr>
          <a:xfrm>
            <a:off x="4643280" y="3500280"/>
            <a:ext cx="2297160" cy="297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 тур. Задание по орфографическому словарю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Расставьте слова в алфавит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густ, авеню, ави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тер, март, ма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Вставьте пропущенные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..хол, ч..рнила, р..мень, р..сцвет, сп..ртакиада, с..лют, п..ан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Documents and Settings\1\Рабочий стол\defa3ult.jpeg"/>
          <p:cNvPicPr/>
          <p:nvPr/>
        </p:nvPicPr>
        <p:blipFill>
          <a:blip r:embed="rId1"/>
          <a:stretch/>
        </p:blipFill>
        <p:spPr>
          <a:xfrm>
            <a:off x="1285920" y="1357200"/>
            <a:ext cx="3054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 тур. Задание по этимологическому словар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Что общего между словам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дведь и ведь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ебедь и лебе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1\Рабочий стол\defaul7t.jpeg"/>
          <p:cNvPicPr/>
          <p:nvPr/>
        </p:nvPicPr>
        <p:blipFill>
          <a:blip r:embed="rId1"/>
          <a:srcRect l="13338" t="9995" r="0" b="0"/>
          <a:stretch/>
        </p:blipFill>
        <p:spPr>
          <a:xfrm>
            <a:off x="4429080" y="1714680"/>
            <a:ext cx="1857600" cy="192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Documents and Settings\1\Рабочий стол\images9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1\Рабочий стол\defaul1t.jpeg"/>
          <p:cNvPicPr/>
          <p:nvPr/>
        </p:nvPicPr>
        <p:blipFill>
          <a:blip r:embed="rId3"/>
          <a:stretch/>
        </p:blipFill>
        <p:spPr>
          <a:xfrm>
            <a:off x="3643200" y="435780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Documents and Settings\1\Рабочий стол\defau2lt.jpeg"/>
          <p:cNvPicPr/>
          <p:nvPr/>
        </p:nvPicPr>
        <p:blipFill>
          <a:blip r:embed="rId4"/>
          <a:stretch/>
        </p:blipFill>
        <p:spPr>
          <a:xfrm>
            <a:off x="6929280" y="40006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 тур. Задание по толковому словар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ушайте диалог и ответьте, почему он смеш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-Обижают большие мальчи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-Да. Согнали с кач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-А ты сумей за себя посто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-Нет, нет не буду я стоять! Так я до самой ночи простою, а они качатьс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:\Documents and Settings\1\Рабочий стол\default5.jpeg"/>
          <p:cNvPicPr/>
          <p:nvPr/>
        </p:nvPicPr>
        <p:blipFill>
          <a:blip r:embed="rId1"/>
          <a:stretch/>
        </p:blipFill>
        <p:spPr>
          <a:xfrm>
            <a:off x="428760" y="1714680"/>
            <a:ext cx="4014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 тур. Задание по словарю антоним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имы к следующим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Щедрый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Длительный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охва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авдивый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оявлятьс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Documents and Settings\1\Рабочий стол\d4efault.jpeg"/>
          <p:cNvPicPr/>
          <p:nvPr/>
        </p:nvPicPr>
        <p:blipFill>
          <a:blip r:embed="rId1"/>
          <a:stretch/>
        </p:blipFill>
        <p:spPr>
          <a:xfrm>
            <a:off x="1071720" y="1643040"/>
            <a:ext cx="30416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 тур. Задание по фразеологическому словар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значают устойчивые соче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т в мешк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 двумя зайцам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1\Рабочий стол\images3.jpeg"/>
          <p:cNvPicPr/>
          <p:nvPr/>
        </p:nvPicPr>
        <p:blipFill>
          <a:blip r:embed="rId1"/>
          <a:srcRect l="0" t="0" r="0" b="4659"/>
          <a:stretch/>
        </p:blipFill>
        <p:spPr>
          <a:xfrm>
            <a:off x="857160" y="3786120"/>
            <a:ext cx="434016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1\Рабочий стол\defaul4t.jpeg"/>
          <p:cNvPicPr/>
          <p:nvPr/>
        </p:nvPicPr>
        <p:blipFill>
          <a:blip r:embed="rId2"/>
          <a:stretch/>
        </p:blipFill>
        <p:spPr>
          <a:xfrm>
            <a:off x="1785960" y="1214280"/>
            <a:ext cx="2658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99cc00"/>
                </a:solidFill>
                <a:uFillTx/>
                <a:latin typeface="Arial"/>
              </a:rPr>
              <a:t>Подумай и отв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такое слов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ловарь – это сборник слов алфавитном порядке, с пояснениями, толкованием или переводом на друго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чем нам нужны слова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овите известные вам словар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слово9"/>
          <p:cNvPicPr/>
          <p:nvPr/>
        </p:nvPicPr>
        <p:blipFill>
          <a:blip r:embed="rId1"/>
          <a:stretch/>
        </p:blipFill>
        <p:spPr>
          <a:xfrm>
            <a:off x="3851280" y="4653000"/>
            <a:ext cx="2305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Запомни! Словари - наши верные друзья и помощ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258920" y="620640"/>
            <a:ext cx="66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7" descr="слово2"/>
          <p:cNvPicPr/>
          <p:nvPr/>
        </p:nvPicPr>
        <p:blipFill>
          <a:blip r:embed="rId1"/>
          <a:stretch/>
        </p:blipFill>
        <p:spPr>
          <a:xfrm>
            <a:off x="357120" y="2214720"/>
            <a:ext cx="1409760" cy="179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слово1"/>
          <p:cNvPicPr/>
          <p:nvPr/>
        </p:nvPicPr>
        <p:blipFill>
          <a:blip r:embed="rId2"/>
          <a:stretch/>
        </p:blipFill>
        <p:spPr>
          <a:xfrm>
            <a:off x="6804000" y="2637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:\Documents and Settings\1\Рабочий стол\defa4ult.jpeg"/>
          <p:cNvPicPr/>
          <p:nvPr/>
        </p:nvPicPr>
        <p:blipFill>
          <a:blip r:embed="rId3"/>
          <a:srcRect l="16664" t="0" r="16664" b="0"/>
          <a:stretch/>
        </p:blipFill>
        <p:spPr>
          <a:xfrm>
            <a:off x="6000840" y="442908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:\Documents and Settings\1\Рабочий стол\defa7ult.jpeg"/>
          <p:cNvPicPr/>
          <p:nvPr/>
        </p:nvPicPr>
        <p:blipFill>
          <a:blip r:embed="rId4"/>
          <a:stretch/>
        </p:blipFill>
        <p:spPr>
          <a:xfrm>
            <a:off x="3286080" y="2725560"/>
            <a:ext cx="2643120" cy="19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C:\Documents and Settings\1\Рабочий стол\def8ault.jpeg"/>
          <p:cNvPicPr/>
          <p:nvPr/>
        </p:nvPicPr>
        <p:blipFill>
          <a:blip r:embed="rId5"/>
          <a:stretch/>
        </p:blipFill>
        <p:spPr>
          <a:xfrm>
            <a:off x="1214280" y="4214880"/>
            <a:ext cx="18860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2:20:00Z</dcterms:created>
  <dc:creator>Ученик</dc:creator>
  <dc:description/>
  <dc:language>en-US</dc:language>
  <cp:lastModifiedBy>1</cp:lastModifiedBy>
  <dcterms:modified xsi:type="dcterms:W3CDTF">2013-11-06T18:41:46Z</dcterms:modified>
  <cp:revision>20</cp:revision>
  <dc:subject/>
  <dc:title>Слайд 1</dc:title>
</cp:coreProperties>
</file>