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C3DE3-216F-4442-BA23-F8E2DAD04C5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CE421-4649-4B6C-A3C0-D384A854F1B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F975-22CA-4FD1-9FBD-91414BEA6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C20C-8117-4933-9DEA-46B36A3B6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81DB-97A7-42EF-A419-D0201DC9F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3140-EDD2-44DD-9CD2-83246CBA1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E029C-3FAC-4349-92E5-98C6D8C14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FF6D1-A831-4611-9DB6-75D91904F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E0D7D-EEAE-471F-B7F6-45B8EE1F0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B73EB-D7BD-4085-B990-4ED495F0D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40849-2D9D-4C5C-9830-586247025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A2DAD-8D5E-4825-85CC-545FDF9C5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F4E4D-9BAD-4159-9D67-B0874A698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CE51-DDCA-4538-8150-573AE3457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80C98-9CB3-4F7D-BCAA-7FB1405C7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A5D3D-43DD-4F0E-8825-7B68809F1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9E696-E0E8-4D03-A5AD-5698879AE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69050-F211-43EC-8504-DD1F7B78E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A8C8B-224A-4DA8-BA6F-83FA1B323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E1BF93-602A-4A35-A8EF-614407754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DADB02-121E-4051-8BA0-C1EC8C5B1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2D9D05-CC23-4DC2-BA7C-1D9100805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A85F2D-BDED-4E65-B933-6845EB1AE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C3954F-E8A0-440C-9765-514A7FA53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6382-0D7B-4944-99A1-1E56E9996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2FBCB7-50EE-4008-B0A2-1D46CAC34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2364DA-801D-4C66-BA71-790428641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0EA2A0-FAB9-4568-8E38-6F143D7C5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6381FF-5AFE-4717-94BD-F518D9742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83BC1D-7A89-4E89-83FA-CFBF8995F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B20D16-01E2-4E8A-BDFE-1F219033C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2944AB-0805-475B-9F50-D8F585DC6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26B1D2-54CD-4CDE-93F1-3FB0055F4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302B65-47CA-429D-AEA4-4D13E3CF3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047E2A-F7AA-4F9E-A31F-7D3D50B7F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1652-0853-4215-BBA8-13B48A333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363E6B-887A-428E-9990-192716B4A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9FE057-B5DF-43E5-9052-21A24158B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3973F4-7B01-433E-86A8-9E87C3FE8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43FEC7-4FD6-4185-B2AA-8F0EB9B74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88AB44-7A4A-42D7-BC9D-BED1A9A3F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B04AEE-42D2-4673-A849-9378FB35D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F3CE54-120C-4723-95D8-25A1345DE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655A04-0A5D-4615-83CD-857A42A35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18F49F-B52D-4EA2-8307-E770DCD57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0D45BA-8C84-4259-85B0-A52BA314D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4A7D-AAC3-4E91-9684-109A1583F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401F01-C922-4703-B525-993AAE5FB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89A56F-FCC1-4F50-9908-508080E3A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59F24C-404A-40A8-A15C-5747035F4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999420-E710-47E1-BECA-FD432BF2C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A99F33-9348-445C-A86D-6D2BDC9CA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286BE5-4B25-497F-9271-E2EE49EDF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D1C423-4687-4B88-AA7C-4E68DABED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94CB50-13CC-406C-9628-0BC56CE3F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8BB889-1A38-48DB-8259-85CCF29BB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93B7CF-5862-413E-B51F-1AD605652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7147-3CF4-4982-8A70-626FC6C9A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F6B4B9-019D-441D-BF3A-D7682227E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B4207C-57E9-4CA9-8E2A-BF0E01712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E2E6D0-2933-4D14-8AD7-3972283DD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BC9099-0662-43C2-84EA-30F63709C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D9673B-8893-491B-AD03-FD9693716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E1EBB3-8C70-4CEE-AEBB-87DF0F381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DD3113-9AE8-460A-8231-3DCBA5BB5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455512-9B03-48BD-9B3E-62AE87C17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1FB9B8-820B-4379-B3BE-11249B17F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68F9BE-4A01-43B2-95EB-F33703986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77B6-C766-4FA6-989B-6FCDD33FC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8654F8-526B-471A-AF0D-D0D6F9114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5A10AB-794B-4E32-84BE-65733C70F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7275CF-A80E-419D-A679-F71AEF004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D80B-77FC-452B-9B5F-F9D79662E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4837-02D7-49F2-BD88-47938EB5F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C1D57-4F4E-41C5-9511-1C40882E4A0D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D58EC-CEC5-48AE-AE6E-488FD524E044}" type="slidenum">
              <a:rPr b="0" lang="ru-RU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09675-4AEF-456B-8A31-F38ED40072E6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C9261-8741-4ADC-8EE3-CB8F44E520D4}" type="slidenum">
              <a:rPr b="0" lang="ru-RU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43D7E-11BF-4ADF-A812-37A972F17FFD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22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A3832-1A17-4192-A234-F232B081D7C8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Заголовок 1" descr=""/>
          <p:cNvPicPr/>
          <p:nvPr/>
        </p:nvPicPr>
        <p:blipFill>
          <a:blip r:embed="rId1"/>
          <a:stretch/>
        </p:blipFill>
        <p:spPr>
          <a:xfrm>
            <a:off x="165240" y="407880"/>
            <a:ext cx="8515080" cy="4176720"/>
          </a:xfrm>
          <a:prstGeom prst="rect">
            <a:avLst/>
          </a:prstGeom>
          <a:ln w="0">
            <a:noFill/>
          </a:ln>
        </p:spPr>
      </p:pic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826560" y="4797360"/>
            <a:ext cx="7921800" cy="1656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df9307"/>
                </a:solidFill>
                <a:latin typeface="Trebuchet MS"/>
              </a:rPr>
              <a:t>6 класс</a:t>
            </a:r>
            <a:endParaRPr b="0" lang="en-US" sz="39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eee0f1"/>
                </a:solidFill>
                <a:latin typeface="Trebuchet MS"/>
              </a:rPr>
              <a:t>Автор: учитель русского языка и литературы </a:t>
            </a:r>
            <a:r>
              <a:rPr b="1" lang="ru-RU" sz="2900" spc="-1" strike="noStrike">
                <a:solidFill>
                  <a:srgbClr val="eee0f1"/>
                </a:solidFill>
                <a:latin typeface="Trebuchet MS"/>
              </a:rPr>
              <a:t>Коршунова М.В</a:t>
            </a:r>
            <a:r>
              <a:rPr b="1" lang="ru-RU" sz="2900" spc="-1" strike="noStrike">
                <a:solidFill>
                  <a:srgbClr val="eee0f1"/>
                </a:solidFill>
                <a:latin typeface="Trebuchet MS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eee0f1"/>
                </a:solidFill>
                <a:latin typeface="Trebuchet MS"/>
              </a:rPr>
              <a:t>МБОУ «СОШ №10»,г. Инта, Республика Коми</a:t>
            </a: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F47D8-E092-4BF2-AE1D-5AE2F3D83E04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Rectangle 3" descr=""/>
          <p:cNvPicPr/>
          <p:nvPr/>
        </p:nvPicPr>
        <p:blipFill>
          <a:blip r:embed="rId1"/>
          <a:stretch/>
        </p:blipFill>
        <p:spPr>
          <a:xfrm>
            <a:off x="219240" y="554040"/>
            <a:ext cx="8443800" cy="1603440"/>
          </a:xfrm>
          <a:prstGeom prst="rect">
            <a:avLst/>
          </a:prstGeom>
          <a:ln w="0">
            <a:noFill/>
          </a:ln>
        </p:spPr>
      </p:pic>
      <p:sp>
        <p:nvSpPr>
          <p:cNvPr id="317" name="Прямоугольник 7"/>
          <p:cNvSpPr/>
          <p:nvPr/>
        </p:nvSpPr>
        <p:spPr>
          <a:xfrm>
            <a:off x="428760" y="1857240"/>
            <a:ext cx="75610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rebuchet MS"/>
              </a:rPr>
              <a:t>Зада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rebuchet MS"/>
              </a:rPr>
              <a:t>1 группа. </a:t>
            </a: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Вступление с опорой на стихотворение А.Барт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rebuchet MS"/>
              </a:rPr>
              <a:t>2 группа. </a:t>
            </a: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Эмоциональное вступление, обозначающее важность поставленной те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rebuchet MS"/>
              </a:rPr>
              <a:t>3 и 4 группы. </a:t>
            </a: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Доказательство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rebuchet MS"/>
              </a:rPr>
              <a:t>5 и 6 группы.  </a:t>
            </a: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Доказательство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Заголовок 1" descr=""/>
          <p:cNvPicPr/>
          <p:nvPr/>
        </p:nvPicPr>
        <p:blipFill>
          <a:blip r:embed="rId1"/>
          <a:stretch/>
        </p:blipFill>
        <p:spPr>
          <a:xfrm>
            <a:off x="469800" y="3638520"/>
            <a:ext cx="7753320" cy="2749680"/>
          </a:xfrm>
          <a:prstGeom prst="rect">
            <a:avLst/>
          </a:prstGeom>
          <a:ln w="0">
            <a:noFill/>
          </a:ln>
        </p:spPr>
      </p:pic>
      <p:sp>
        <p:nvSpPr>
          <p:cNvPr id="319" name="Rectangle 1"/>
          <p:cNvSpPr/>
          <p:nvPr/>
        </p:nvSpPr>
        <p:spPr>
          <a:xfrm>
            <a:off x="900000" y="347040"/>
            <a:ext cx="6767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  <a:ea typeface="Calibri"/>
              </a:rPr>
              <a:t>Для того, чтобы ваше сочинение пробудило сердца читателей, постарайтесь использовать больше теплых слов, т.е. добрых, сердечных,  по отношению к своим близк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 txBox="1"/>
          <p:nvPr/>
        </p:nvSpPr>
        <p:spPr>
          <a:xfrm>
            <a:off x="457200" y="2071440"/>
            <a:ext cx="7238880" cy="43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Напишите </a:t>
            </a:r>
            <a:r>
              <a:rPr b="0" lang="ru-RU" sz="2600" spc="-1" strike="noStrike" u="sng">
                <a:solidFill>
                  <a:srgbClr val="0000ff"/>
                </a:solidFill>
                <a:uFillTx/>
                <a:latin typeface="Trebuchet MS"/>
              </a:rPr>
              <a:t>сочинение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на тему: 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Trebuchet MS"/>
              </a:rPr>
              <a:t>«</a:t>
            </a:r>
            <a:r>
              <a:rPr b="0" lang="ru-RU" sz="2600" spc="-1" strike="noStrike" u="sng">
                <a:solidFill>
                  <a:srgbClr val="0000ff"/>
                </a:solidFill>
                <a:uFillTx/>
                <a:latin typeface="Trebuchet MS"/>
              </a:rPr>
              <a:t>Я и самый близкий мне человек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» (можете заголовок придумать сами). Оформите работу на двойных листках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При желании можете приложить к работе рисунок или фотографию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Заголовок 1" descr=""/>
          <p:cNvPicPr/>
          <p:nvPr/>
        </p:nvPicPr>
        <p:blipFill>
          <a:blip r:embed="rId1"/>
          <a:stretch/>
        </p:blipFill>
        <p:spPr>
          <a:xfrm>
            <a:off x="244440" y="291960"/>
            <a:ext cx="7461360" cy="117648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 txBox="1"/>
          <p:nvPr/>
        </p:nvSpPr>
        <p:spPr>
          <a:xfrm>
            <a:off x="428760" y="164268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Ф.И.______________________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324" name=""/>
          <p:cNvGraphicFramePr/>
          <p:nvPr/>
        </p:nvGraphicFramePr>
        <p:xfrm>
          <a:off x="357120" y="2643120"/>
          <a:ext cx="7715160" cy="3486240"/>
        </p:xfrm>
        <a:graphic>
          <a:graphicData uri="http://schemas.openxmlformats.org/drawingml/2006/table">
            <a:tbl>
              <a:tblPr/>
              <a:tblGrid>
                <a:gridCol w="5286600"/>
                <a:gridCol w="1214280"/>
                <a:gridCol w="1214280"/>
              </a:tblGrid>
              <a:tr h="915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ритери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 за каждый критерий 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т 0 до 5 баллов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оя оцен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ценка групп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</a:tr>
              <a:tr h="370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 внес(ла) большой вклад в работу групп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610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 умею выслушивать и принимать точку зрения другог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610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 умею убедительно доказывать свою точку зр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370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 пытаюсь понять все задания и выполнить и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610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 умею работать в команде и чувствую себя комфортн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88272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 txBox="1"/>
          <p:nvPr/>
        </p:nvSpPr>
        <p:spPr>
          <a:xfrm>
            <a:off x="468360" y="126792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Какие  компоненты сочинения-рассуждения  мы вспомнили на уроке? Запомнили вы их?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53440" indent="-25344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Поняли ли вы, как работать по алгоритму написания сочинения-рассуждения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53440" indent="-25344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Уяснили ли вы, как пользоваться клише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53440" indent="-25344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Можете ли устанавливать причинно-следственные связи,  приводя доказательства и делая выводы?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53440" indent="-25344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Умеете ли вы подбирать средства выразительности для раскрытия идеи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Номер слайда 5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5090B-854D-4C66-B8F1-A164D1DBC8F6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Rectangle 3" descr=""/>
          <p:cNvPicPr/>
          <p:nvPr/>
        </p:nvPicPr>
        <p:blipFill>
          <a:blip r:embed="rId1"/>
          <a:stretch/>
        </p:blipFill>
        <p:spPr>
          <a:xfrm>
            <a:off x="420840" y="353880"/>
            <a:ext cx="8242200" cy="841680"/>
          </a:xfrm>
          <a:prstGeom prst="rect">
            <a:avLst/>
          </a:prstGeom>
          <a:ln w="0">
            <a:noFill/>
          </a:ln>
        </p:spPr>
      </p:pic>
      <p:sp>
        <p:nvSpPr>
          <p:cNvPr id="275" name="Rectangle 9"/>
          <p:cNvSpPr/>
          <p:nvPr/>
        </p:nvSpPr>
        <p:spPr>
          <a:xfrm>
            <a:off x="357120" y="2786040"/>
            <a:ext cx="27370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10"/>
          <p:cNvSpPr/>
          <p:nvPr/>
        </p:nvSpPr>
        <p:spPr>
          <a:xfrm>
            <a:off x="3429000" y="2428920"/>
            <a:ext cx="2736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11"/>
          <p:cNvSpPr/>
          <p:nvPr/>
        </p:nvSpPr>
        <p:spPr>
          <a:xfrm>
            <a:off x="6357960" y="2357280"/>
            <a:ext cx="257184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rebuchet MS"/>
              </a:rPr>
              <a:t>рассужд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12"/>
          <p:cNvSpPr/>
          <p:nvPr/>
        </p:nvSpPr>
        <p:spPr>
          <a:xfrm rot="2459400">
            <a:off x="2558520" y="955800"/>
            <a:ext cx="301680" cy="1164960"/>
          </a:xfrm>
          <a:prstGeom prst="downArrow">
            <a:avLst>
              <a:gd name="adj1" fmla="val 50000"/>
              <a:gd name="adj2" fmla="val 104799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13"/>
          <p:cNvSpPr/>
          <p:nvPr/>
        </p:nvSpPr>
        <p:spPr>
          <a:xfrm>
            <a:off x="4572000" y="1214280"/>
            <a:ext cx="431640" cy="792360"/>
          </a:xfrm>
          <a:prstGeom prst="downArrow">
            <a:avLst>
              <a:gd name="adj1" fmla="val 50000"/>
              <a:gd name="adj2" fmla="val 85062"/>
            </a:avLst>
          </a:prstGeom>
          <a:solidFill>
            <a:srgbClr val="f4e7e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14"/>
          <p:cNvSpPr/>
          <p:nvPr/>
        </p:nvSpPr>
        <p:spPr>
          <a:xfrm rot="19093200">
            <a:off x="6529320" y="999720"/>
            <a:ext cx="360360" cy="1511280"/>
          </a:xfrm>
          <a:prstGeom prst="downArrow">
            <a:avLst>
              <a:gd name="adj1" fmla="val 50000"/>
              <a:gd name="adj2" fmla="val 104845"/>
            </a:avLst>
          </a:prstGeom>
          <a:solidFill>
            <a:srgbClr val="f4e7e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13"/>
          <p:cNvSpPr/>
          <p:nvPr/>
        </p:nvSpPr>
        <p:spPr>
          <a:xfrm>
            <a:off x="214200" y="2143080"/>
            <a:ext cx="2808360" cy="2226960"/>
          </a:xfrm>
          <a:prstGeom prst="rect">
            <a:avLst/>
          </a:prstGeom>
          <a:solidFill>
            <a:srgbClr val="f2f2f2"/>
          </a:solidFill>
          <a:ln w="93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0000"/>
                </a:solidFill>
                <a:uFillTx/>
                <a:latin typeface="Trebuchet MS"/>
              </a:rPr>
              <a:t>повеств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rebuchet MS"/>
              </a:rPr>
              <a:t>- рассказ о действиях и события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14"/>
          <p:cNvSpPr/>
          <p:nvPr/>
        </p:nvSpPr>
        <p:spPr>
          <a:xfrm>
            <a:off x="3143160" y="2071800"/>
            <a:ext cx="3143520" cy="2654280"/>
          </a:xfrm>
          <a:prstGeom prst="rect">
            <a:avLst/>
          </a:prstGeom>
          <a:solidFill>
            <a:srgbClr val="f2f2f2"/>
          </a:solidFill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b050"/>
                </a:solidFill>
                <a:uFillTx/>
                <a:latin typeface="Trebuchet MS"/>
              </a:rPr>
              <a:t>опис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Trebuchet MS"/>
              </a:rPr>
              <a:t>- словесное изображение предметов, явлений, животных, чело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Прямоугольник 12"/>
          <p:cNvSpPr/>
          <p:nvPr/>
        </p:nvSpPr>
        <p:spPr>
          <a:xfrm>
            <a:off x="500040" y="4500720"/>
            <a:ext cx="7786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e387e"/>
                </a:solidFill>
                <a:latin typeface="Arial"/>
              </a:rPr>
              <a:t>Тема урока:</a:t>
            </a:r>
            <a:r>
              <a:rPr b="0" lang="ru-RU" sz="3200" spc="-1" strike="noStrike">
                <a:solidFill>
                  <a:srgbClr val="df9307"/>
                </a:solidFill>
                <a:latin typeface="Arial"/>
              </a:rPr>
              <a:t> </a:t>
            </a:r>
            <a:br>
              <a:rPr sz="3200"/>
            </a:b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Подготовка к написанию</a:t>
            </a:r>
            <a:br>
              <a:rPr sz="3200"/>
            </a:b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сочинения-рассуждения  « … 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Заголовок 1" descr=""/>
          <p:cNvPicPr/>
          <p:nvPr/>
        </p:nvPicPr>
        <p:blipFill>
          <a:blip r:embed="rId1"/>
          <a:stretch/>
        </p:blipFill>
        <p:spPr>
          <a:xfrm>
            <a:off x="285840" y="176040"/>
            <a:ext cx="7419960" cy="181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5" name=""/>
          <p:cNvGraphicFramePr/>
          <p:nvPr/>
        </p:nvGraphicFramePr>
        <p:xfrm>
          <a:off x="324000" y="2050920"/>
          <a:ext cx="7993080" cy="4040280"/>
        </p:xfrm>
        <a:graphic>
          <a:graphicData uri="http://schemas.openxmlformats.org/drawingml/2006/table">
            <a:tbl>
              <a:tblPr/>
              <a:tblGrid>
                <a:gridCol w="2385720"/>
                <a:gridCol w="5607360"/>
              </a:tblGrid>
              <a:tr h="968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 Вспомнить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4e7e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о алгоритму написания рассужд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4e7ed"/>
                    </a:solidFill>
                  </a:tcPr>
                </a:tc>
              </a:tr>
              <a:tr h="841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 Учиться работа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ричинно-следственные связи,  приводя доказательства и делая вывод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420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 Применять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компоненты сочинения-рассужд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841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 Устанавлива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редства  выразительности, необходимые для раскрытия идеи текс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968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. Учиться подбирать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клише для написания рассужд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7" name=""/>
          <p:cNvGraphicFramePr/>
          <p:nvPr/>
        </p:nvGraphicFramePr>
        <p:xfrm>
          <a:off x="250920" y="1484280"/>
          <a:ext cx="7643880" cy="4206960"/>
        </p:xfrm>
        <a:graphic>
          <a:graphicData uri="http://schemas.openxmlformats.org/drawingml/2006/table">
            <a:tbl>
              <a:tblPr/>
              <a:tblGrid>
                <a:gridCol w="2531880"/>
                <a:gridCol w="5112000"/>
              </a:tblGrid>
              <a:tr h="420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 Вспомнить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4e7e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компоненты сочинения-рассужд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4e7ed"/>
                    </a:solidFill>
                  </a:tcPr>
                </a:tc>
              </a:tr>
              <a:tr h="841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 Учиться работа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о алгоритму написания рассужд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420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 Применять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клише для написания рассужд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1262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 Устанавлива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ричинно-следственные связи,  приводя доказательства и делая выводы;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1262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. Учиться подбирать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редства  выразительности, необходимые для раскрытия идеи текс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Заголовок 1" descr=""/>
          <p:cNvPicPr/>
          <p:nvPr/>
        </p:nvPicPr>
        <p:blipFill>
          <a:blip r:embed="rId1"/>
          <a:stretch/>
        </p:blipFill>
        <p:spPr>
          <a:xfrm>
            <a:off x="285840" y="317520"/>
            <a:ext cx="7419960" cy="115092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 txBox="1"/>
          <p:nvPr/>
        </p:nvSpPr>
        <p:spPr>
          <a:xfrm>
            <a:off x="457200" y="2060640"/>
            <a:ext cx="7238880" cy="43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Trebuchet MS"/>
              </a:rPr>
              <a:t>Теплота</a:t>
            </a:r>
            <a:r>
              <a:rPr b="1" i="1" lang="ru-RU" sz="3200" spc="-1" strike="noStrike">
                <a:solidFill>
                  <a:srgbClr val="ff0000"/>
                </a:solidFill>
                <a:latin typeface="Trebuchet MS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Trebuchet MS"/>
              </a:rPr>
              <a:t>–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rebuchet MS"/>
              </a:rPr>
              <a:t>1. Форма движения материи – энергия, создаваемая движением частиц тела.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rebuchet MS"/>
              </a:rPr>
              <a:t>2. </a:t>
            </a:r>
            <a:r>
              <a:rPr b="1" i="1" lang="ru-RU" sz="3200" spc="-1" strike="noStrike">
                <a:solidFill>
                  <a:srgbClr val="51253a"/>
                </a:solidFill>
                <a:latin typeface="Trebuchet MS"/>
              </a:rPr>
              <a:t>Нагретое состояние чего-н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rebuchet MS"/>
              </a:rPr>
              <a:t>3. перен. Доброе, сердечное отношение к кому-л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Заголовок 1" descr=""/>
          <p:cNvPicPr/>
          <p:nvPr/>
        </p:nvPicPr>
        <p:blipFill>
          <a:blip r:embed="rId1"/>
          <a:stretch/>
        </p:blipFill>
        <p:spPr>
          <a:xfrm>
            <a:off x="244440" y="291960"/>
            <a:ext cx="7461360" cy="117648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Подготовка к сочинению-рассуждению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ff"/>
                </a:solidFill>
                <a:latin typeface="Trebuchet MS"/>
              </a:rPr>
              <a:t>«Мы и наши близкие»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92" name="Picture 3" descr=""/>
          <p:cNvPicPr/>
          <p:nvPr/>
        </p:nvPicPr>
        <p:blipFill>
          <a:blip r:embed="rId2"/>
          <a:stretch/>
        </p:blipFill>
        <p:spPr>
          <a:xfrm>
            <a:off x="468360" y="2781360"/>
            <a:ext cx="4103640" cy="2833560"/>
          </a:xfrm>
          <a:prstGeom prst="rect">
            <a:avLst/>
          </a:prstGeom>
          <a:ln w="0">
            <a:noFill/>
          </a:ln>
        </p:spPr>
      </p:pic>
      <p:sp>
        <p:nvSpPr>
          <p:cNvPr id="293" name="TextBox 4"/>
          <p:cNvSpPr/>
          <p:nvPr/>
        </p:nvSpPr>
        <p:spPr>
          <a:xfrm>
            <a:off x="4716360" y="3429000"/>
            <a:ext cx="4032360" cy="3506760"/>
          </a:xfrm>
          <a:prstGeom prst="rect">
            <a:avLst/>
          </a:prstGeom>
          <a:solidFill>
            <a:srgbClr val="f4e7ed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rebuchet MS"/>
              </a:rPr>
              <a:t>Помните, что заголовок в вашем сочинении может быть  другим! Главное, чтобы он подчинялся общей теме нашего рассужд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Номер слайда 5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374BB-FCB4-4000-9BDC-93D6C181219B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6"/>
          <p:cNvSpPr/>
          <p:nvPr/>
        </p:nvSpPr>
        <p:spPr>
          <a:xfrm>
            <a:off x="500040" y="428760"/>
            <a:ext cx="7632720" cy="2214360"/>
          </a:xfrm>
          <a:prstGeom prst="rect">
            <a:avLst/>
          </a:prstGeom>
          <a:solidFill>
            <a:srgbClr val="f4e7ed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rebuchet MS"/>
              </a:rPr>
              <a:t>Рассуждение</a:t>
            </a: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словесное изложение, разъяснени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подтверждение или опроверже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какой-либо мысл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Прямоугольник 4"/>
          <p:cNvSpPr/>
          <p:nvPr/>
        </p:nvSpPr>
        <p:spPr>
          <a:xfrm>
            <a:off x="714240" y="2928960"/>
            <a:ext cx="75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Arial"/>
              </a:rPr>
              <a:t>Структура сочинения-рассужд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4"/>
          <p:cNvSpPr/>
          <p:nvPr/>
        </p:nvSpPr>
        <p:spPr>
          <a:xfrm>
            <a:off x="2000160" y="3429000"/>
            <a:ext cx="3889440" cy="7920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50000">
                <a:srgbClr val="ffffff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rebuchet MS"/>
              </a:rPr>
              <a:t>тези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5"/>
          <p:cNvSpPr/>
          <p:nvPr/>
        </p:nvSpPr>
        <p:spPr>
          <a:xfrm>
            <a:off x="2000160" y="4714920"/>
            <a:ext cx="3889440" cy="7920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50000">
                <a:srgbClr val="ffffff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rebuchet MS"/>
              </a:rPr>
              <a:t>аргумен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6"/>
          <p:cNvSpPr/>
          <p:nvPr/>
        </p:nvSpPr>
        <p:spPr>
          <a:xfrm>
            <a:off x="2000160" y="5857920"/>
            <a:ext cx="3889440" cy="7920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50000">
                <a:srgbClr val="ffffff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rebuchet MS"/>
              </a:rPr>
              <a:t>выв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AutoShape 9"/>
          <p:cNvSpPr/>
          <p:nvPr/>
        </p:nvSpPr>
        <p:spPr>
          <a:xfrm>
            <a:off x="5929200" y="3571920"/>
            <a:ext cx="1168560" cy="3286080"/>
          </a:xfrm>
          <a:custGeom>
            <a:avLst/>
            <a:gdLst>
              <a:gd name="textAreaLeft" fmla="*/ 156600 w 1168560"/>
              <a:gd name="textAreaRight" fmla="*/ 1011960 w 1168560"/>
              <a:gd name="textAreaTop" fmla="*/ 614520 h 3286080"/>
              <a:gd name="textAreaBottom" fmla="*/ 2395800 h 3286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082" stAng="-5400000" swAng="5400000"/>
                <a:lnTo>
                  <a:pt x="21600" y="11707"/>
                </a:lnTo>
                <a:arcTo wR="21600" hR="8082" stAng="0" swAng="2797245"/>
                <a:lnTo>
                  <a:pt x="7200" y="21138"/>
                </a:lnTo>
                <a:lnTo>
                  <a:pt x="0" y="17976"/>
                </a:lnTo>
                <a:lnTo>
                  <a:pt x="7200" y="13889"/>
                </a:lnTo>
                <a:lnTo>
                  <a:pt x="7200" y="15701"/>
                </a:lnTo>
                <a:arcTo wR="21600" hR="8082" stAng="2797245" swAng="-2501964"/>
                <a:lnTo>
                  <a:pt x="21050" y="9894"/>
                </a:lnTo>
                <a:arcTo wR="21600" hR="8082" stAng="-295281" swAng="-5104719"/>
                <a:close/>
              </a:path>
              <a:path fill="darkenLess" w="21600" h="21600">
                <a:moveTo>
                  <a:pt x="0" y="0"/>
                </a:moveTo>
                <a:arcTo wR="21600" hR="8082" stAng="-5400000" swAng="5400000"/>
                <a:lnTo>
                  <a:pt x="21600" y="11707"/>
                </a:lnTo>
                <a:arcTo wR="21600" hR="8082" stAng="0" swAng="-295281"/>
                <a:lnTo>
                  <a:pt x="21050" y="9894"/>
                </a:lnTo>
                <a:arcTo wR="21600" hR="8082" stAng="-295281" swAng="-5104719"/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50000">
                <a:srgbClr val="ff7777"/>
              </a:gs>
              <a:gs pos="100000">
                <a:srgbClr val="ff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utoShape 7"/>
          <p:cNvSpPr/>
          <p:nvPr/>
        </p:nvSpPr>
        <p:spPr>
          <a:xfrm>
            <a:off x="3786120" y="4143240"/>
            <a:ext cx="432000" cy="571680"/>
          </a:xfrm>
          <a:prstGeom prst="downArrow">
            <a:avLst>
              <a:gd name="adj1" fmla="val 50000"/>
              <a:gd name="adj2" fmla="val 41722"/>
            </a:avLst>
          </a:prstGeom>
          <a:gradFill rotWithShape="0">
            <a:gsLst>
              <a:gs pos="0">
                <a:srgbClr val="ff0000"/>
              </a:gs>
              <a:gs pos="50000">
                <a:srgbClr val="ff8e8e"/>
              </a:gs>
              <a:gs pos="100000">
                <a:srgbClr val="ff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AutoShape 7"/>
          <p:cNvSpPr/>
          <p:nvPr/>
        </p:nvSpPr>
        <p:spPr>
          <a:xfrm>
            <a:off x="3786120" y="5500800"/>
            <a:ext cx="432000" cy="428400"/>
          </a:xfrm>
          <a:prstGeom prst="downArrow">
            <a:avLst>
              <a:gd name="adj1" fmla="val 50000"/>
              <a:gd name="adj2" fmla="val 41727"/>
            </a:avLst>
          </a:prstGeom>
          <a:gradFill rotWithShape="0">
            <a:gsLst>
              <a:gs pos="0">
                <a:srgbClr val="ff0000"/>
              </a:gs>
              <a:gs pos="50000">
                <a:srgbClr val="ff8e8e"/>
              </a:gs>
              <a:gs pos="100000">
                <a:srgbClr val="ff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оугольник 3"/>
          <p:cNvSpPr/>
          <p:nvPr/>
        </p:nvSpPr>
        <p:spPr>
          <a:xfrm>
            <a:off x="684360" y="285840"/>
            <a:ext cx="731664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a2e4e"/>
                </a:solidFill>
                <a:latin typeface="Trebuchet MS"/>
              </a:rPr>
              <a:t>Тезис</a:t>
            </a: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 – основная мысль, требующая доказательств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3"/>
          <p:cNvSpPr/>
          <p:nvPr/>
        </p:nvSpPr>
        <p:spPr>
          <a:xfrm>
            <a:off x="500040" y="1857240"/>
            <a:ext cx="7643880" cy="14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a2e4e"/>
                </a:solidFill>
                <a:latin typeface="Trebuchet MS"/>
              </a:rPr>
              <a:t>Аргументы</a:t>
            </a: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 – доводы, доказательства, позволяющие обосновать свою точку зр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Rectangle 4" descr=""/>
          <p:cNvPicPr/>
          <p:nvPr/>
        </p:nvPicPr>
        <p:blipFill>
          <a:blip r:embed="rId1"/>
          <a:stretch/>
        </p:blipFill>
        <p:spPr>
          <a:xfrm>
            <a:off x="281160" y="3565440"/>
            <a:ext cx="7497720" cy="897120"/>
          </a:xfrm>
          <a:prstGeom prst="rect">
            <a:avLst/>
          </a:prstGeom>
          <a:ln w="0">
            <a:noFill/>
          </a:ln>
        </p:spPr>
      </p:pic>
      <p:sp>
        <p:nvSpPr>
          <p:cNvPr id="306" name="Rectangle 7"/>
          <p:cNvSpPr/>
          <p:nvPr/>
        </p:nvSpPr>
        <p:spPr>
          <a:xfrm>
            <a:off x="642960" y="4776840"/>
            <a:ext cx="6786720" cy="15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9640" indent="-539640">
              <a:lnSpc>
                <a:spcPct val="100000"/>
              </a:lnSpc>
              <a:buClr>
                <a:srgbClr val="cc0000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От количества и качества аргументов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9640" indent="-539640">
              <a:lnSpc>
                <a:spcPct val="100000"/>
              </a:lnSpc>
              <a:buClr>
                <a:srgbClr val="cc0000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от порядка изложения аргументов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9640" indent="-539640">
              <a:lnSpc>
                <a:spcPct val="100000"/>
              </a:lnSpc>
              <a:buClr>
                <a:srgbClr val="cc0000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от формы их изложени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77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Прямоугольник 1"/>
          <p:cNvSpPr/>
          <p:nvPr/>
        </p:nvSpPr>
        <p:spPr>
          <a:xfrm>
            <a:off x="1116000" y="1268280"/>
            <a:ext cx="6769080" cy="1125720"/>
          </a:xfrm>
          <a:prstGeom prst="rect">
            <a:avLst/>
          </a:prstGeom>
          <a:solidFill>
            <a:srgbClr val="6666ff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rebuchet MS"/>
              </a:rPr>
              <a:t>Тезис:</a:t>
            </a: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 наши близкие нуждаются в забо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3"/>
          <p:cNvSpPr/>
          <p:nvPr/>
        </p:nvSpPr>
        <p:spPr>
          <a:xfrm>
            <a:off x="285840" y="3143160"/>
            <a:ext cx="3714840" cy="1368360"/>
          </a:xfrm>
          <a:prstGeom prst="rect">
            <a:avLst/>
          </a:prstGeom>
          <a:solidFill>
            <a:srgbClr val="f4e7ed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Д1: 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Как мы заботимся о своих близких и как бываем несправедливы по отношени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к ним? (Примеры и комментари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4"/>
          <p:cNvSpPr/>
          <p:nvPr/>
        </p:nvSpPr>
        <p:spPr>
          <a:xfrm>
            <a:off x="4500720" y="3071880"/>
            <a:ext cx="3859200" cy="1584360"/>
          </a:xfrm>
          <a:prstGeom prst="rect">
            <a:avLst/>
          </a:prstGeom>
          <a:solidFill>
            <a:srgbClr val="f4e7ed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Д2: 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Какие примеры в литературе доказывают нам, что нелегко жить, потеряв близкого человека? (Примеры и комментари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5"/>
          <p:cNvSpPr/>
          <p:nvPr/>
        </p:nvSpPr>
        <p:spPr>
          <a:xfrm>
            <a:off x="642960" y="5286240"/>
            <a:ext cx="7143840" cy="855720"/>
          </a:xfrm>
          <a:prstGeom prst="rect">
            <a:avLst/>
          </a:prstGeom>
          <a:solidFill>
            <a:srgbClr val="00b0f0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Вывод: </a:t>
            </a: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Берегите своих близких, заботьтесь о них, старайтесь  не огорч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Box 6"/>
          <p:cNvSpPr/>
          <p:nvPr/>
        </p:nvSpPr>
        <p:spPr>
          <a:xfrm>
            <a:off x="755640" y="260280"/>
            <a:ext cx="684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a2e4e"/>
                </a:solidFill>
                <a:latin typeface="Trebuchet MS"/>
              </a:rPr>
              <a:t>Составим развернутый план, опираясь на структур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Стрелка вниз 8"/>
          <p:cNvSpPr/>
          <p:nvPr/>
        </p:nvSpPr>
        <p:spPr>
          <a:xfrm>
            <a:off x="2500200" y="2428920"/>
            <a:ext cx="42876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Стрелка вправо 9"/>
          <p:cNvSpPr/>
          <p:nvPr/>
        </p:nvSpPr>
        <p:spPr>
          <a:xfrm>
            <a:off x="4000680" y="3714840"/>
            <a:ext cx="500040" cy="428400"/>
          </a:xfrm>
          <a:prstGeom prst="rightArrow">
            <a:avLst>
              <a:gd name="adj1" fmla="val 50000"/>
              <a:gd name="adj2" fmla="val 50023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Стрелка вниз 10"/>
          <p:cNvSpPr/>
          <p:nvPr/>
        </p:nvSpPr>
        <p:spPr>
          <a:xfrm>
            <a:off x="5357880" y="4643280"/>
            <a:ext cx="357120" cy="642960"/>
          </a:xfrm>
          <a:prstGeom prst="downArrow">
            <a:avLst>
              <a:gd name="adj1" fmla="val 50000"/>
              <a:gd name="adj2" fmla="val 50011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31T07:29:42Z</dcterms:created>
  <dc:creator>Алексей</dc:creator>
  <dc:description/>
  <dc:language>en-US</dc:language>
  <cp:lastModifiedBy>Алексей</cp:lastModifiedBy>
  <dcterms:modified xsi:type="dcterms:W3CDTF">2013-11-15T07:54:11Z</dcterms:modified>
  <cp:revision>115</cp:revision>
  <dc:subject/>
  <dc:title>Урок развития Подготовка к  сочинению-рассуждению на нравственно- этическому воспитанию</dc:title>
</cp:coreProperties>
</file>