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3.jpeg" ContentType="image/jpeg"/>
  <Override PartName="/ppt/media/image9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9.jpeg" ContentType="image/jpeg"/>
  <Override PartName="/ppt/media/image5.png" ContentType="image/png"/>
  <Override PartName="/ppt/media/image2.gif" ContentType="image/gif"/>
  <Override PartName="/ppt/media/image4.png" ContentType="image/png"/>
  <Override PartName="/ppt/media/image12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wmf" ContentType="image/x-wmf"/>
  <Override PartName="/ppt/media/image21.png" ContentType="image/png"/>
  <Override PartName="/ppt/media/image22.jpeg" ContentType="image/jpeg"/>
  <Override PartName="/ppt/media/image27.gif" ContentType="image/gif"/>
  <Override PartName="/ppt/media/image23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C49-05AD-4D95-9C9A-F5B9FB50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C5F-8F23-4536-A140-60B4087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2DE-ED06-4651-8184-F6E0720D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361-4F7A-4D2C-AC10-667A4ACE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3F8-7A82-4DC2-820C-08A36D70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1943-29CC-4D4E-8AEA-ADBDE68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285-05B7-4FEC-89E2-9EF8E1B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268A-83E7-44C1-AAA0-119CD3A1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D520-B300-4254-BB81-4F44205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AAA-6DCA-411F-826C-20F29EB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35C-F7C1-4717-84F0-3232D5F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D63-BE23-4FCE-BB01-3016283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13C-FA0E-4B83-AC1C-B50781A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AB6-55EE-42EB-86A2-39AB848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1659-35AA-41AE-B76A-4E9D3CA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F5E5-C00D-4190-9CBA-9401F307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2BC8-30B2-42D8-A395-509C017C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BA3-E521-4924-B265-9CEB0F1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F37-CDF2-4675-9C62-1CD7EEF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58A-6BE0-4F99-BC70-345574A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4C4-E918-4C89-9CCF-39DABDF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FFA-C50A-4C89-B5A6-5001EE14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B9A-1C95-4DFD-93EC-62E9474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9DE-9845-4692-8FA5-61EF6B9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2315-854D-481A-B927-971C781A2D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1BD-3C4E-40ED-98C0-D26ED4B040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igpi.biysk.ru/encicl/articles/40/1004000/PH0736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2002-06.photosight.ru/29/1628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miles.rc-mir.com/smile.44102.html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uspresents.com/shop_osc/images/23081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ostashkov.ru/foto/Foto15809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f.convex.ru/marser/avtor/photos/photo/big/stasverb_big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travel.romance.iki.rssi.ru/photo/albums/userpics/10137/419/IMG_0188f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ff99"/>
                </a:solidFill>
                <a:latin typeface="Arial"/>
              </a:rPr>
              <a:t>Путешествие по стране Царицы-водиц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окружающего мира во 2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Пискунова Л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547640" y="1700280"/>
            <a:ext cx="633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Угадай-ка"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71640" cy="158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Отгадай загадк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ё на свете отража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оит и освеж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сё время убег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 никак не убеж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Ре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Картинка 13 из 594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442880"/>
            <a:ext cx="6875640" cy="5415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земли пробилс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сердечко бьё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ы в жару напилс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другой напьё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Руч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Картинка 160 из 104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486080"/>
            <a:ext cx="7164360" cy="53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ом узнаешь без труд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четырёх стенах – вод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 журавль у вход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здаёт всем вод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Arial"/>
              </a:rPr>
              <a:t>Колодец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159080" cy="5516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211640" y="3165480"/>
            <a:ext cx="4932360" cy="3692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добрые дела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гадайте кроссворд на с.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лажд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целя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те, кому и для чего нужна в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т ли обойтись без воды автомобиль, велосипед, подводная лодка, фабрика игруше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звуки издаёт вода? Какими словами можно описать в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ещ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льк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л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Разгадайте ребус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её -  бе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 её – бе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а нам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е, чем 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082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03280" y="620640"/>
            <a:ext cx="655344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тановк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Подумай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2" name="HTMLImage1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2771640" cy="27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используется вода в доме?        (с.54,№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чём предупреждает Мойдодыр? (с.55,№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087960" y="2571840"/>
            <a:ext cx="3056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Советы доктора Вод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413000"/>
            <a:ext cx="4876920" cy="544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какого доктора засохли бы все деревья, кусты и мы не смогли бы ж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 и для чего животные купаются и чистят своё тел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плохо быть грязнул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больше всего скапливается грязи на теле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заботитесь о чистоте тел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ем советы доктора 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 в неделю мойся основ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ром, после сна, мой руки, лицо, шею, 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день мой ноги и руки перед с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тельно мой руки после уборки комнаты, туалета, игр, общения с животными, работы на огороде, поездки в транспор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д краном руки мы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лицо помыть забы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идал меня Трезо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ичал: «Какой…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629320" y="1268280"/>
            <a:ext cx="351468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15080" y="1268280"/>
            <a:ext cx="4228920" cy="5305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39640" y="404640"/>
            <a:ext cx="41817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Остановка «Сказочна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Картинка 14 из 2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24128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ff99"/>
                </a:solidFill>
                <a:latin typeface="Arial"/>
              </a:rPr>
              <a:t>Сказка о микробах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-были микробы – разносчики  разных болезней. Больше всего на свете они любили грязь. Чем грязнее, тем им было приятнее и тем больше их становилось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923000" y="1700280"/>
            <a:ext cx="3603600" cy="4610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348000" y="5186520"/>
            <a:ext cx="1403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36100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на столе кто-то оставил невымытые тарелки, крошки, кусочки хлеба. Тут как тут —  муха. А на ее лапках — сотни  микробов, особенно если она прилетела с помой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516720" y="4627440"/>
            <a:ext cx="2376360" cy="2230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анимашка муха комар"/>
          <p:cNvPicPr/>
          <p:nvPr/>
        </p:nvPicPr>
        <p:blipFill>
          <a:blip r:embed="rId3"/>
          <a:stretch/>
        </p:blipFill>
        <p:spPr>
          <a:xfrm>
            <a:off x="5940360" y="692280"/>
            <a:ext cx="1656000" cy="1255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575160" y="2492280"/>
            <a:ext cx="2225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970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а улетела, а микробы остались на столе,  на тарелке, на ложках, на хлебе. Сидят и думают: «Как хорошо, что на свете есть грязнули и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хи»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тало микробам раздолье. И на руки можно  попасть, и в рот к человеку.  А там уж до болезни рукой подат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Картинка 5 из 11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620640"/>
            <a:ext cx="4284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Сколько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 времени можно прожить без вод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ловек – 3 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рблюд – 8 дн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ловек должен употреблять в сутки не менее 3 литров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484360" cy="248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5080" cy="3573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684360" y="2565360"/>
            <a:ext cx="8064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ка "Учебная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ша местность богата водой. Встречаются разные водоёмы: источники, ручьи, реки, озёра, пруды. Все они имеют важное значение для людей и широко используются. Водоёмы украшают нашу местность. Мы должны следить за тем, чтобы они оставались чистыми и красивыми.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верблюд – живое чуд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 горба есть у верблю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осталь он пока напьётс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выпить полколод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зато  потом в пусты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воды нет и в поми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он по многу д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евожиться о 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блюд за 10 минут выпивает 135 литров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Картинка 1 из 69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0"/>
            <a:ext cx="6553440" cy="490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жи «родник»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от возник, бежит в зелёной чащ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ёлый ключ журчащ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и родник зовём клю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юч от двер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т ни при чё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а 12 из 67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3147840"/>
            <a:ext cx="5580000" cy="3710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3:28:33Z</dcterms:created>
  <dc:creator>Миха</dc:creator>
  <dc:description/>
  <cp:keywords/>
  <dc:language>en-US</dc:language>
  <cp:lastModifiedBy>Миха</cp:lastModifiedBy>
  <dcterms:modified xsi:type="dcterms:W3CDTF">2007-12-01T21:04:41Z</dcterms:modified>
  <cp:revision>40</cp:revision>
  <dc:subject/>
  <dc:title>Путешествие по стране Царицы-вод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49</vt:lpwstr>
  </property>
</Properties>
</file>