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4B8-8F44-4CAB-804D-48D5FBB3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336-4FFF-4264-9294-1F475653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D8C-6930-4240-A3B6-88626E0D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110-24E8-4B43-AAA4-1892FF61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AF5-F4E6-49A7-BB06-78BCEAE1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839-A3B7-43C8-8E6D-1D376F8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F8C-320B-49A0-855F-B0BAACA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8E1-E618-47CD-BAB6-2791B365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D29-7D5A-4A76-90DB-944C088E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B9B-769A-4005-9840-922E10B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BBA-B750-4BE2-AACD-2A3A804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39E-876C-47FB-8695-DDFF689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6BBB-C400-4338-BA7B-4D5D1FCB8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еев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СОШ «Центр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. Варлам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 для группы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анализируйте, какой жизненный опыт получит ребенок, когда родители помогают ему выполнять домашние задания и когда не помог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 для группы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 Как должны вести себя родители, увидев в работе ребенка ошиб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 для группы 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Ребенок просит маму отпустить его к   другу поиграть в новую игру, а уроки он сделает потом. Как поступить в такой ситуации? Можно ли верить обещани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учащих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ак приучить ребенка к самостоятельности в приготовлении уроков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Ты-высказывания»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ы всегда оставляешь в комнате грязь». В результате ребенок чувствует, что он плохой, и обижается.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«Я-высказывания»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очень устала и огорчена, что ты не успел сделать домашнее задание к моему приходу. Как бы ты мог быстро решить эту проблему? » Этот способ решать проблемы менее конфликт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90720" y="-96840"/>
            <a:ext cx="1066824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952488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448920" cy="689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94489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42840"/>
            <a:ext cx="952488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6012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1036332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100584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959120"/>
            <a:ext cx="914400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7:40:13Z</dcterms:created>
  <dc:creator>Екатерина</dc:creator>
  <dc:description/>
  <dc:language>en-US</dc:language>
  <cp:lastModifiedBy>Екатерина</cp:lastModifiedBy>
  <dcterms:modified xsi:type="dcterms:W3CDTF">2016-02-18T18:05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