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25F-429B-4492-A383-46CEC933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752-6939-4E3E-83B6-AFD6DD97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6CE6-5580-4320-837A-99169E43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D26-C813-4085-83D6-4902AB20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127-EB8A-4EE0-8761-5B4DFE1D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442-2F90-4D08-9621-7218AF41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307-1348-40FA-BF5D-0C804510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F97-C159-4303-8611-3AC7EA0B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A4E-4A6F-4B45-B396-F6B3D981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68A-96B3-4030-BADD-051B8EDD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926-0EA4-4317-93A5-6793C31D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FE6-EBBF-4CA4-96F2-605301EF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5D11-E3F5-4991-B8DA-A5F06E57D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Nicholas_II_of_Russia01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009.radikal.ru/0903/48/ed95bd990d77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shpatliovka.moy.su/_si/0/2500201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redwhite.ru/upload/main/47e/ugfjqnr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53;&#1080;&#1082;&#1086;&#1083;&#1072;&#1081;_II_&#1080;_&#1080;&#1084;&#1087;&#1077;&#1088;&#1072;&#1090;&#1088;&#1080;&#1094;&#1072;_&#1040;&#1083;&#1077;&#1082;&#1089;&#1072;&#1085;&#1076;&#1088;&#1072;_&#1060;&#1077;&#1076;&#1086;&#1088;&#1086;&#1074;&#1085;&#1072;._1896_&#1075;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-fotki.yandex.ru/get/32/marinazima.10/0_13554_65f116f2_X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074.radikal.ru/1005/fc/968ca73b15be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002.radikal.ru/1005/5a/0995bfe8dd6f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g1.liveinternet.ru/images/attach/c/1/56/599/56599347_AlexeiNicholas19171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operkor.files.wordpress.com/2010/09/1-d186d0b0d180d181d0bad0b0d18f-d0bcd0b0d188d0b8d0bdd0b0-d181d0be-d181d0b2d0b0d181d182d0b8d0bad0bed0b92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vpressa.ru/photo/16368-4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g0.liveinternet.ru/images/attach/c/1/49/832/49832553_Look_at_the_camera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rulex.ru/rpg/WebPict/fullpic/0119-023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s39.radikal.ru/i085/1004/0d/48453f7670c9.jpg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egalife.com.ua/uploads/posts/2010-12/1293691243_k06-13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g12.nnm.ru/b/c/b/0/9/27c582716e8def17cd232161bb2_prev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c/cd/&#1048;&#1084;&#1087;&#1077;&#1088;&#1072;&#1090;&#1086;&#1088;_&#1053;&#1080;&#1082;&#1086;&#1083;&#1072;&#1081;_II_&#1080;_&#1082;&#1086;&#1084;&#1072;&#1085;&#1076;&#1091;&#1102;&#1097;&#1080;&#1077;_&#1092;&#1088;&#1086;&#1085;&#1090;&#1072;&#1084;&#1080;_&#1085;&#1072;_&#1079;&#1072;&#1089;&#1077;&#1076;&#1072;&#1085;&#1080;&#1080;_&#1057;&#1090;&#1072;&#1074;&#1082;&#1080;._1916.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upload.wikimedia.org/wikipedia/commons/e/e8/&#1054;&#1090;&#1088;&#1077;&#1095;&#1077;&#1085;&#1080;&#1077;_&#1086;&#1090;_&#1087;&#1088;&#1077;&#1089;&#1090;&#1086;&#1083;&#1072;_&#1080;&#1084;&#1087;&#1077;&#1088;&#1072;&#1090;&#1086;&#1088;&#1072;_&#1053;&#1080;&#1082;&#1086;&#1083;&#1072;&#1103;_II._2_&#1084;&#1072;&#1088;&#1090;&#1072;_1917.jpg" TargetMode="External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c/c9/&#1055;&#1072;&#1084;&#1103;&#1090;&#1085;&#1080;&#1082;&#1053;&#1080;&#1082;&#1086;&#1083;&#1072;&#1102;II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7920" y="-720"/>
            <a:ext cx="916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ледний русский царь Николай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револю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36240" y="913680"/>
            <a:ext cx="41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лан учебного зан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5960" y="152280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Последний русский царь Николай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3080" y="1980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Революция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4880" y="24372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Конец династии Романовых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200400"/>
            <a:ext cx="5486400" cy="180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посягнувшие на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яты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ихристы пролили кр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инной чист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Николай IIНиколай Александрович Роман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990720"/>
            <a:ext cx="3200400" cy="419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26 из 49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990720"/>
            <a:ext cx="4495680" cy="420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ртинка 2 из 72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762120"/>
            <a:ext cx="3733920" cy="4647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Картинка 8 из 72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86200" y="762120"/>
            <a:ext cx="4876920" cy="4647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600200" y="54864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94 - 1917</a:t>
            </a:r>
            <a:endParaRPr b="1" lang="en-US" sz="4400" spc="1" strike="noStrike">
              <a:ln w="284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068840"/>
            <a:ext cx="71625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4-1905гг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ско-японская во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5-1907гг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русская револю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6-1911гг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ление П.А.Столып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4-1918гг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мировая во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7г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вральская и октябрьская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04920"/>
            <a:ext cx="44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сновные собы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3964320"/>
            <a:ext cx="76201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О.Макаров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андующий Тихоокеанской эскад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А.Столыпин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окий реформа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А.Брусилов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нерал перв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Ф.Керенский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едатель Временного прави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680" y="3200400"/>
            <a:ext cx="25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Лич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14600" y="-720"/>
            <a:ext cx="401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лай I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32080"/>
            <a:ext cx="876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лай II Александрович (6 (18) мая 1868, Царское Село — 17 июля 1918, Екатеринбург) — Император Всероссийский, Царь Польский и Великий Князь Финляндский, последний Император Российской Империи (20 октября (1 ноября) 1894 — 2 (15) марта 1917). Из династии Романовых. Прославлен в лике святых Русской православной церковью как страстотерпец 20 августа 200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360880"/>
            <a:ext cx="853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связи с событиями на Ходынке и 9 января 1905 года прозван радикальной оппозицией «Николаем Кровавым»; с таким прозвищем фигурировал в советской популярной историографии. Супруга приватно звала его «Ники» (общение между ними было преимущественно на английском языке). Кавказские горцы, проходившие службу в Кавказской туземной конной дивизии императорской армии, величали государя Николая II «Белым Падишахом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7995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лай II отрёкся от престола в ходе Февральской революции 1917 года и находился вместе с семьей под домашним арес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том 1917 года, по решению Временного правительства, был вместе с семьей отправлен в ссылку в Тобольск, а весной 1918 года перемещён большевиками в Екатеринбург, где был расстрелян вместе с семьёй и приближенными в июле 1918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381880" cy="6477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937080" y="6190200"/>
            <a:ext cx="740448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ператор Николай II и императрица Александра Федоровна. 1896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55 из 49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28600"/>
            <a:ext cx="8381880" cy="6477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85800" y="5050440"/>
            <a:ext cx="8077320" cy="15541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 ноября 1894 года состоялось бракосочетание Николая II с немецкой принцессой Алисой Гессенской, принявшей после миропомазания (совершено 21 октября 1894 года в Ливадии) имя Александры Фёдоровны. В последующие годы у них родились четыре дочери — Ольга (3 ноября 1895), Татьяна (29 мая 1897), Мария (14 июня 1899) и Анастасия (5 июня 1901). 30 июля (12 августа) 1904 года в Петергофе появился пятый ребёнок и единственный сын — цесаревич Алексей Николае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Картинка 75 из 49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28600"/>
            <a:ext cx="8381880" cy="6477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483480"/>
            <a:ext cx="8156520" cy="588744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ный титул Николая II как императора: «Божиею поспешествующею милостию Николай Вторый, император и самодержец Всероссийский, Московский, Киевский, Владимирский, Новгородский; царь Казанский, царь Астраханский, царь Польский, царь Сибирский, царь Херсонеса Таврического, царь Грузинский; государь Псковский и великий князь Смоленский, Литовский, Волынский, Подольский и Финляндский; князь Эстляндский, Лифляндский, Курляндский и Семигальский, Самогитский, Белостокский, Корельский, Тверский, Югорский, Пермский, Вятский, Болгарский и иных; государь и великий князь Новагорода низовския земли́, Черниговский, Рязанский, Полотский, Ростовский, Ярославский, Белозерский, Удорский, Обдорский, Кондийский, Витебский, Мстиславский и всея северныя страны́ повелитель; и государь Иверския, Карталинския и Кабардинския земли́ и области Арменския; Черкасских и Горских князей и иных наследный государь и обладатель, государь Туркестанский; наследник Норвежский, герцог Шлезвиг-Голштейнский, Стормарнский, Дитмарсенский и Ольденбургский и прочая, и прочая, и проча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124800" y="-3060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лай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83640"/>
            <a:ext cx="8153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ую часть времени Николай II жил с семьёй в Александровском дворце (Царское Село) или Петергофе. Летом отдыхал в Крыму в Ливадийском дворце. Для отдыха также ежегодно совершал двухнедельные поездки по Финскому заливу и Балтийскому морю на яхте «Штандарт». Читал как лёгкую развлекательную литературу, так и серьёзные научные труды, русские и зарубежные газеты и журналы. Курил папиросы. Увлекался фотографией, любил также смотреть кинофильмы;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фотографировали также и все его дети. В 1900-е увлёкся новым тогда видом транспорта - автомобилями. Официальный правительственный орган печати в 1913 году в очерке о бытовой и семейной стороне жизни императора писал, в частности: «Государь не любит так называемых светских удовольствий. Любимым Его развлечением является наследственная страсть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х царей 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хота. Устраивается она как в постоянных местах Царского пребывания, так и в особых для того приспособленных места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9 лет начал вести дневник.   В архиве хранятся 50 объёмистых тетрадей — подлинник дневника за 1882-1918 годы; часть их была опубликов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а 108 из 49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762120"/>
            <a:ext cx="8001000" cy="5790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295280" y="6037920"/>
            <a:ext cx="6937560" cy="3988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 императора Николая II на прогулке в Гатчинс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150 из 49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762120"/>
            <a:ext cx="8001000" cy="5790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676520" y="6037920"/>
            <a:ext cx="5867280" cy="3988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ператор любил чистить снег и колоть дров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Картинка 107 из 49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762120"/>
            <a:ext cx="8001000" cy="5790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09680" y="6037920"/>
            <a:ext cx="4800600" cy="3988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лечение Николая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автомоби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800" y="-3060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лай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9120" y="379800"/>
            <a:ext cx="71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Личностные оценки знавших его современник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7621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наче я себе не могу объяснить, почему государь не решился на диктатуру, так как он, как слабый человек, более всего верит в физическую силу (других, конечно), т.-е. силу, его защищающую и уничтожающую всех его действительных и подозреваемых врагов, причём, конечно, враги существующего неограниченного, самопроизвольного и крепостнического режима, по его убеждению, суть и его враги».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инистр, граф С. Ю. Витте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36232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У него была удивительная память. Он знал массу лиц, служивших в Гвардии или почему-либо им виденных, помнил боевые подвиги отдельных лиц и войсковых частей, знал части, бунтовавшие и оставшиеся верными во время беспорядков, знал номер и название каждого полка, состав каждой дивизии и корпуса, места расположения многих частей… Он мне говорил, что в редких случаях бессонницы, он начинает перечислять в памяти полки по порядку номеров и обыкновенно засыпает». /</a:t>
            </a: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Генерал А. Ф. Редигер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426708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оего собеседника он ставил в строго определённые рамки. Разговор начинался исключительно аполитичный. Государь проявлял большое внимание и интерес к личности собеседника: к этапам его службы, к подвигам и заслугам. Но стоило собеседнику выйти из этих рамок - коснуться каких-либо недугов текущей жизни, как государь тотчас менял или прямо прекращал разговор». /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ященник Георгий Шавельский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59432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о многом Государь до пожилого возраста сохранил детские вкусы и наклонности». /с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енатор Владимир Гурко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артинка 171 из 49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6095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124080" y="6037920"/>
            <a:ext cx="3200400" cy="3988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адьба императора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533520"/>
            <a:ext cx="8229600" cy="6095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09680" y="6037920"/>
            <a:ext cx="4419720" cy="3988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имая среда – среди офиц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Картинка 312 из 49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533520"/>
            <a:ext cx="822960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39240" y="6113880"/>
            <a:ext cx="5662440" cy="3988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ператор в Спасо - Яковлевском монасты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Картинка 320 из 493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" y="533520"/>
            <a:ext cx="8229600" cy="6095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47920" y="6190920"/>
            <a:ext cx="6472080" cy="329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23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ем в честь германского императора Вильгельма 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52480" y="-360"/>
            <a:ext cx="55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лай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революци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3388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ойна, в ходе которой происходила широкая мобилизация трудоспособного мужского населения, лошадей и массовая реквизиция скота и сельскохозяйственных продуктов, пагубно сказывалась на экономике, особенно на селе. В среде политизированного петроградского общества власть оказалась дискредитирована скандалами (в частности, связанными с влиянием Г. Е. Распутина и его ставленников — «тёмных сил») и подозрениями в измене; декларативная приверженность Николая идее «самодержавной» власти вступала в острое противоречие с либеральными и левыми устремлениями значительной части думцев и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216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 настроениях в армии свидетельствовал после революции генер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. И. Деникин: «Что касается отношения к трону, то, как явление общее, в офицерском корпусе было стремление выделить особу государя от той придворной грязи, которая его окружала, от политических ошибок и преступлений царского правительства, которое явно и неуклонно вело к разрушению страну и к поражению армию. Государю прощали, его старались оправдать. Как увидим ниже, к 1917 году и это отношение в известной части офицерства поколебалось, вызвав то явление, которое князь Волконский называл „революцией справа“, но уже на почве чисто политическ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54090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декабря 1916 года в придворной и политической среде ожидался «переворот» в той или иной форме, возможное отречение императора в пользу цесаревича Алексея при регентстве великого князя Михаила Александро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Картинка 156 из 26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8458200" cy="6248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457200" y="6441120"/>
            <a:ext cx="8458200" cy="3988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скредитации царской семьи способствовало появление в ней Г. Распу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Картинка 2 из 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609480"/>
            <a:ext cx="8458200" cy="6248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69640" y="6509880"/>
            <a:ext cx="4420440" cy="329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23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атание немецких и русских солд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52480" y="-360"/>
            <a:ext cx="55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лай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революци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53352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тавка узнаёт о начале революции с опозданием на два дня, по донесениям генерала С. С. Хабалова, военного министра Беляева и министра внутренних дел Протопопова. Первая телеграмма, сообщающая о начале революции, поступает генералу Алексееву только 25 февраля в 18:08: </a:t>
            </a:r>
            <a:r>
              <a:rPr b="1" i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«Доношу, что 23 и 24 февраля, вследствие недостатка хлеба, на многих заводах возникла забастовка…»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133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6 февраля в 17-00 приходит телеграмма Родзянко: «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ожение серьёз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столице анархия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6665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7 февраля в 19-22 в Ставку приходит телеграмма военного министра Беляева, заявляющего о практически поголовном переходе Петроградского гарнизона на сторону револю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42864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февраля в 5 утра царь отбыл в Царское Село, но проехать не смог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8 февраля на 1 марта царь приказывает развернуться обратно на Бологое и оттуда на Пс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32828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марта великий князь Николай Николаевич заявил, что «как верноподданный считаю коленопреклонённо молить государя отречься от короны, чтобы спасти Россию и династию». Около 15.00 генерал Рузский вошёл в царю в сопровождении генералов Данилова Ю. Н. и Савича. Николай II попросил генералов высказаться; все они высказались за отре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961600"/>
            <a:ext cx="8382240" cy="7038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(15) марта в 23 часа 40 минут   Николай передал Гучкову и Шульгину Манифест об отречении от прест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Файл:Император Николай II и командующие фронтами на заседании Ставки. 1916.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609480"/>
            <a:ext cx="8458200" cy="6096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6800" y="6171480"/>
            <a:ext cx="7677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ператор Николай II и командующие фронтами на заседании Ста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80880" y="685800"/>
            <a:ext cx="8458200" cy="6019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3429000" y="6113520"/>
            <a:ext cx="2362320" cy="45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волюция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Файл:Отречение от престола императора Николая II. 2 марта 1917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609480"/>
            <a:ext cx="8458200" cy="6096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18960" y="6247800"/>
            <a:ext cx="67158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ечение от престола императора Николая II. 2 марта 1917г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380880" y="609480"/>
            <a:ext cx="8458200" cy="6096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676520" y="6172200"/>
            <a:ext cx="591480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агон, в котором состоялось отречение Николая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52480" y="-360"/>
            <a:ext cx="55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ец династии Романовых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09120"/>
            <a:ext cx="85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9 марта по 14 августа 1917 года Николай Романов, его жена и дети жили под арестом в Александровском дворце Царского С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2193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конце марта министр Временного правительства П. Н. Милюков пытался отправить Николая и его семью в Англию, на попечение Георга V, на что было получено предварительное согласие британской стороны; но в апреле, вследствие нестабильной внутриполитической ситуации в самой Англии, король предпочёл отказаться от такого пл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666880"/>
            <a:ext cx="854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виду усиления революционного движения и анархии в Петрограде, Временное правительство, опасаясь за жизнь арестантов, решило перевести их вглубь России, в Тобольск. Семья Романовых разместилась в доме губерна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й разрешили ходить через улицу и бульвар на богослужение в церковь Благовещенья. Режим охраны здесь был гораздо более легкий, чем в Царском Селе. Семья вела спокойную, размеренну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343400"/>
            <a:ext cx="842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е апреля 1918 года Президиум Всероссийского Центрального исполнительного комитета (ВЦИК) санкционировал перевод Романовых в Москву с целью проведения суда над ними. В конце апреля 1918 года арестанты были перевезены в Екатеринбург, где для размещения Романовых был реквизирован частный дом. Здесь же с ними проживали пять человек обслуживающего персонала: врач Боткин, лакей Трупп, комнатная девушка Демидова, повар Харитонов и поварёнок Седнё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55520"/>
            <a:ext cx="8534160" cy="643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юля 1918 года Уральский Совет рабочих, крестьянских и солдатских депутатов, в условиях отступления большевиков под натиском белых войск и лояльного Комитета членов Учредительного собрания Чехословацкого корпуса, принял постановление о казни всей семьи. Николай Романов, Александра Фёдоровна, их дети, доктор Боткин и три человека прислуги (кроме поварёнка Седнёва) были расстреляны в «Доме особого назначения» — особняке Ипатьева в Екатеринбурге в ночь с 16 на 17 июля 1918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Файл:ПамятникНиколаюI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534160" cy="6477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8600" y="6095160"/>
            <a:ext cx="56595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 Императору Николаю II в Белгра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Файл:UkkelOrthodKerk.jpg"/>
          <p:cNvPicPr/>
          <p:nvPr/>
        </p:nvPicPr>
        <p:blipFill>
          <a:blip r:embed="rId3"/>
          <a:stretch/>
        </p:blipFill>
        <p:spPr>
          <a:xfrm>
            <a:off x="304920" y="152280"/>
            <a:ext cx="8534160" cy="6477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5562360"/>
            <a:ext cx="81532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рам-памятник «во имя праведного Иова Многострадальн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амять Царя-Мученика Николая II и всех русских людей, богоборческой властию в смуте убиенных» в брюссельском районе Укк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Файл:Yekaterinburg cathedral on the blood 2007.jpg"/>
          <p:cNvPicPr/>
          <p:nvPr/>
        </p:nvPicPr>
        <p:blipFill>
          <a:blip r:embed="rId4"/>
          <a:stretch/>
        </p:blipFill>
        <p:spPr>
          <a:xfrm>
            <a:off x="304920" y="152280"/>
            <a:ext cx="8534160" cy="6553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480" y="5943240"/>
            <a:ext cx="79250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рам-на-Крови в Екатеринбурге — построен на месте дома инженера Ипатьева, где 17 июля 1918 года был расстрелян Николай II и его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Файл:Grabraum Nikolaus II.JPG"/>
          <p:cNvPicPr/>
          <p:nvPr/>
        </p:nvPicPr>
        <p:blipFill>
          <a:blip r:embed="rId5"/>
          <a:stretch/>
        </p:blipFill>
        <p:spPr>
          <a:xfrm>
            <a:off x="304920" y="152280"/>
            <a:ext cx="8534160" cy="6553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38080" y="5272560"/>
            <a:ext cx="7696440" cy="131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хоронение (1998) предполагаемых останков Николая II, Александры Федоровны, великих княжон Анастасии, Татьяны, Ольги. а также их слуг в Екатерининском приделе Петропавловского собора (юго-западная часть собо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6680" y="10666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Спасибо за работ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274320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подав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ствоведческих дисцип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ОУ НПО ПУ №16 г.Строитель Бабынин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343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8:32:11Z</dcterms:created>
  <dc:creator>User</dc:creator>
  <dc:description/>
  <dc:language>en-US</dc:language>
  <cp:lastModifiedBy>User</cp:lastModifiedBy>
  <dcterms:modified xsi:type="dcterms:W3CDTF">2011-04-05T21:04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