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6D8A-2198-47BC-8F43-6832AA506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9364-8C34-4AD9-8E21-E2560663E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0D04-ABFC-4907-8FD9-21AC273BA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25E2-E855-4405-B648-935D8CBAF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25ACE-1364-4BEB-884F-6F66AF901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93C1E-C954-4DC5-A600-9305C2E59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EBD09-88F8-41B5-9D2C-AD19DB803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6CCEC-8924-49CD-9478-845BA84C2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354EB-C7C4-407B-86EB-3BF979F61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08559-242C-4EFE-B420-044D683D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F82FA-F82F-44BB-8BB7-36B85391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9B03-DB8B-48FF-85BA-DEC879137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61D2B-424A-4319-AFEF-1BDBFFD9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90E4D-26F8-4BB3-9467-C64D821A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659AE-14AA-4FC8-BE61-A99427CA8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EA5F3-A3A0-41DF-B382-4B210CFF2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57EEA-E852-4054-B76A-CE9FC0415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FF8A0D-EB89-40DB-884E-292799AA8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24BC0D-4EA6-4CD3-80ED-ACE3DA442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F648FE-62AF-4612-9238-11B052109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02E380-F3B2-4624-8FE8-8A0970B98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5BA38F-E9D2-460B-9869-A77DD0CC4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BCA7-F8AA-4F31-A02F-A27642628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C136DF-0BDD-4553-A46C-53FF71156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D15A25-52B8-4985-8F5B-B3D1FDF2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CFCA2E-46BA-4A05-888A-C60A106F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DE01B5-169A-44AC-9348-0DBE44B4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5C1203-B864-475C-91DF-098B02515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D848B6-481E-408C-8AAC-B895240AB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F48E10-332D-4AD0-91E0-9FCABD20B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EC42D3-FCBD-4794-87F1-4B2EF15E7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873D6F-FE14-4433-9661-CA3B797DA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56DEE2-2617-4B13-9C5C-F3A642606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D91E-3EA9-4273-81B9-282D7BC29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87C6C7-1B36-4F84-B7D9-D794F3F1E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D82D3C-5CFD-451C-90C1-7A889F433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A20253-2FA7-481C-A090-AAC2E9A24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21AA48-DD89-4D7B-85F1-D09E4365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55C771-DBA3-4905-8FC6-613730DE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4BCEAF-2C71-4A90-A12D-056D44DD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AF54FB-8311-4DA9-A70A-9138654F3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622CE7-6DAB-4A69-83CE-2BC3018B5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D5B90E-E4B3-4ABB-90B7-98500475E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C0D3D73-AA2D-4B5A-8CDE-5F019D49C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3CE5-543A-4DA8-B655-1F01EE7BF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C9DBFEB-97BB-41DC-9FAA-77207C5A9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4BFDEC-6C93-4FA9-A72C-BDDA24EBE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870CE2-FE86-415C-95EA-4C96C0E84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962367-6C3A-40D2-8EE6-F2E4548F0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75F90A-F69E-4AA1-9841-5BA62E849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A8B5437-0DD4-494F-9C4D-ECF1D789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90B2FC-FF16-40D9-BCC4-446E7B15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0F69D71-9830-4765-92C9-6EB9866C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6A43CF-AA35-4482-AC67-A4D0DB022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6E4224-E611-4C5C-AC66-08C426B95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7DA2-9973-46A1-8185-439DC32A4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3A3E2B-B345-47B9-B9B9-9738AEF09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4DE92C-0B31-4549-96FD-2229FA704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62766C-C710-4697-9115-ABF34824B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BEE3032-64FD-4D07-91A4-9257D774C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9C4EE4-20AD-439C-903C-D35CCE63E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2E3802-E488-403F-88E8-E6A81734F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F6928F-B3AF-47A6-BED2-D2BD808A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5989AF3-9073-43C8-B024-D622DD63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4D212E-1FE0-4C98-BC90-6C079CFB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FAD761-6453-4261-85FB-C6D13BBF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D338-7816-4CB5-A448-995ECF41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46AB70-731B-4E8E-B153-CC43F7A45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E78F60-273C-4CD9-BA5A-7FE2E6079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53BAE20-8192-402F-A6A6-969B21D7D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7222-5037-42DC-8689-09916D73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0E27-32FA-4968-830B-353635AF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E315C-F447-426F-9A03-A79471A9B06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8B53A-4450-4A14-9F86-5C355F62463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C7F24-58DD-46B1-BC27-070BB8D8FA8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E5944-EB16-4807-833F-D7A59FA0418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C0505-9529-43A2-BE13-401A720BDD3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9F9B1-B3EC-4446-B3E0-15852799303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9.jpe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Иван Андреевич Крылов - русский баснописец начала 19 ве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Picture 4" descr="Briullov_Karl_Pavlovich_The_Portrait_of_the_Fabulist_Ivan_Andrejevich_Krylov_oil_painting_reproduction_p[1]"/>
          <p:cNvPicPr/>
          <p:nvPr/>
        </p:nvPicPr>
        <p:blipFill>
          <a:blip r:embed="rId1"/>
          <a:stretch/>
        </p:blipFill>
        <p:spPr>
          <a:xfrm>
            <a:off x="2700360" y="1916280"/>
            <a:ext cx="3747960" cy="44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0" y="25992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Басня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это краткий рассказ (чаще в стихотворной форме), носящий поучительный смысл, высмеивающий человеческие поро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Rectangle 8"/>
          <p:cNvSpPr/>
          <p:nvPr/>
        </p:nvSpPr>
        <p:spPr>
          <a:xfrm>
            <a:off x="324000" y="2708280"/>
            <a:ext cx="78120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32523"/>
                </a:solidFill>
                <a:latin typeface="Arial"/>
              </a:rPr>
              <a:t>Признаки жанра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той сюжет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осказательност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рал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сонажи(чаще всего животные и растения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Не плюй в колодец – пригодится воды напитьс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Picture 6" descr="Сканировать07-08-21 1403"/>
          <p:cNvPicPr/>
          <p:nvPr/>
        </p:nvPicPr>
        <p:blipFill>
          <a:blip r:embed="rId1"/>
          <a:stretch/>
        </p:blipFill>
        <p:spPr>
          <a:xfrm>
            <a:off x="457200" y="2368440"/>
            <a:ext cx="4038480" cy="299736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614560" y="2492280"/>
            <a:ext cx="352908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винья под дуб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0" y="225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отнеси русские народные пословицы с баснями Крылов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Не место красит человека, а человек место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6" descr="Snap1"/>
          <p:cNvPicPr/>
          <p:nvPr/>
        </p:nvPicPr>
        <p:blipFill>
          <a:blip r:embed="rId1"/>
          <a:stretch/>
        </p:blipFill>
        <p:spPr>
          <a:xfrm>
            <a:off x="457200" y="2384280"/>
            <a:ext cx="4038480" cy="296568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652800" y="3149280"/>
            <a:ext cx="1941480" cy="6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варте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0" y="225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отнеси русские народные пословицы с баснями Крылов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Собака лает – ветер носит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Picture 6" descr="Слон и Моська"/>
          <p:cNvPicPr/>
          <p:nvPr/>
        </p:nvPicPr>
        <p:blipFill>
          <a:blip r:embed="rId1"/>
          <a:stretch/>
        </p:blipFill>
        <p:spPr>
          <a:xfrm>
            <a:off x="1042920" y="2492280"/>
            <a:ext cx="2852640" cy="388944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642920" y="242100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лон и Мось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5"/>
          <p:cNvSpPr/>
          <p:nvPr/>
        </p:nvSpPr>
        <p:spPr>
          <a:xfrm>
            <a:off x="0" y="225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отнеси русские народные пословицы с баснями Крылов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Лишнее говорить – себе вредить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1" name="Picture 7" descr="fox03[1]"/>
          <p:cNvPicPr/>
          <p:nvPr/>
        </p:nvPicPr>
        <p:blipFill>
          <a:blip r:embed="rId1"/>
          <a:stretch/>
        </p:blipFill>
        <p:spPr>
          <a:xfrm>
            <a:off x="971640" y="2133720"/>
            <a:ext cx="3240000" cy="381132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642920" y="242100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рона и Лисиц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0" y="225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отнеси русские народные пословицы с баснями Крылов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Баснописцы - класс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Picture 9" descr="esop"/>
          <p:cNvPicPr/>
          <p:nvPr/>
        </p:nvPicPr>
        <p:blipFill>
          <a:blip r:embed="rId1"/>
          <a:stretch/>
        </p:blipFill>
        <p:spPr>
          <a:xfrm>
            <a:off x="536400" y="1844640"/>
            <a:ext cx="1443240" cy="19479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1" descr="Лафонтен"/>
          <p:cNvPicPr/>
          <p:nvPr/>
        </p:nvPicPr>
        <p:blipFill>
          <a:blip r:embed="rId2"/>
          <a:stretch/>
        </p:blipFill>
        <p:spPr>
          <a:xfrm>
            <a:off x="3708360" y="1628640"/>
            <a:ext cx="1666800" cy="22384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4" descr="10"/>
          <p:cNvPicPr/>
          <p:nvPr/>
        </p:nvPicPr>
        <p:blipFill>
          <a:blip r:embed="rId3"/>
          <a:stretch/>
        </p:blipFill>
        <p:spPr>
          <a:xfrm>
            <a:off x="6878520" y="1844640"/>
            <a:ext cx="1641600" cy="19828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7" descr="Сканировать07-08-23 1958"/>
          <p:cNvPicPr/>
          <p:nvPr/>
        </p:nvPicPr>
        <p:blipFill>
          <a:blip r:embed="rId4"/>
          <a:stretch/>
        </p:blipFill>
        <p:spPr>
          <a:xfrm>
            <a:off x="5148360" y="4508640"/>
            <a:ext cx="1496880" cy="198108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21"/>
          <p:cNvSpPr/>
          <p:nvPr/>
        </p:nvSpPr>
        <p:spPr>
          <a:xfrm>
            <a:off x="539640" y="39337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Эзоп, Др. Грец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Text Box 22"/>
          <p:cNvSpPr/>
          <p:nvPr/>
        </p:nvSpPr>
        <p:spPr>
          <a:xfrm>
            <a:off x="3276720" y="386064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Лафонтен Франция, 17 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Text Box 23"/>
          <p:cNvSpPr/>
          <p:nvPr/>
        </p:nvSpPr>
        <p:spPr>
          <a:xfrm>
            <a:off x="6659640" y="3860640"/>
            <a:ext cx="24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рылов Россия, 19 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Text Box 25"/>
          <p:cNvSpPr/>
          <p:nvPr/>
        </p:nvSpPr>
        <p:spPr>
          <a:xfrm>
            <a:off x="2556000" y="5661000"/>
            <a:ext cx="180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Л. Н. Толсто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оссия, 19 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Text Box 26"/>
          <p:cNvSpPr/>
          <p:nvPr/>
        </p:nvSpPr>
        <p:spPr>
          <a:xfrm>
            <a:off x="6732720" y="5734080"/>
            <a:ext cx="1942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. В. Михалков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оссия, 20 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4" name="Picture 27" descr="Толстой Л Н"/>
          <p:cNvPicPr/>
          <p:nvPr/>
        </p:nvPicPr>
        <p:blipFill>
          <a:blip r:embed="rId5"/>
          <a:stretch/>
        </p:blipFill>
        <p:spPr>
          <a:xfrm>
            <a:off x="1042920" y="4508640"/>
            <a:ext cx="1484280" cy="208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227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6" descr="в Летнем саду"/>
          <p:cNvPicPr/>
          <p:nvPr/>
        </p:nvPicPr>
        <p:blipFill>
          <a:blip r:embed="rId1"/>
          <a:stretch/>
        </p:blipFill>
        <p:spPr>
          <a:xfrm>
            <a:off x="468360" y="476280"/>
            <a:ext cx="4199040" cy="568944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355640" y="765000"/>
            <a:ext cx="453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Памятник Крылову в Санкт-Петербурге в Летнем сад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’’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Квартет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’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Picture 5" descr="kryl2"/>
          <p:cNvPicPr/>
          <p:nvPr/>
        </p:nvPicPr>
        <p:blipFill>
          <a:blip r:embed="rId1"/>
          <a:stretch/>
        </p:blipFill>
        <p:spPr>
          <a:xfrm>
            <a:off x="250920" y="1484280"/>
            <a:ext cx="3960720" cy="29703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0" descr="Snap1"/>
          <p:cNvPicPr/>
          <p:nvPr/>
        </p:nvPicPr>
        <p:blipFill>
          <a:blip r:embed="rId2"/>
          <a:stretch/>
        </p:blipFill>
        <p:spPr>
          <a:xfrm>
            <a:off x="4284720" y="3124080"/>
            <a:ext cx="4581360" cy="343692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646160" y="1600200"/>
            <a:ext cx="40402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 А вы, друзья, как ни садитесь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ё в музыканты не годитесь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Древнегреческий баснописец Эзо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Picture 7" descr="Эзоп"/>
          <p:cNvPicPr/>
          <p:nvPr/>
        </p:nvPicPr>
        <p:blipFill>
          <a:blip r:embed="rId1"/>
          <a:stretch/>
        </p:blipFill>
        <p:spPr>
          <a:xfrm>
            <a:off x="1328760" y="1600200"/>
            <a:ext cx="2295360" cy="45259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2" descr="esop"/>
          <p:cNvPicPr/>
          <p:nvPr/>
        </p:nvPicPr>
        <p:blipFill>
          <a:blip r:embed="rId2"/>
          <a:stretch/>
        </p:blipFill>
        <p:spPr>
          <a:xfrm>
            <a:off x="5216400" y="1916280"/>
            <a:ext cx="283068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’’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Ворона и Лисица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’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" name="Picture 6" descr="fox03[1]"/>
          <p:cNvPicPr/>
          <p:nvPr/>
        </p:nvPicPr>
        <p:blipFill>
          <a:blip r:embed="rId1"/>
          <a:stretch/>
        </p:blipFill>
        <p:spPr>
          <a:xfrm>
            <a:off x="4932360" y="4005360"/>
            <a:ext cx="1619280" cy="19047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1" descr="БЛСШI 14 КРЬШОВА"/>
          <p:cNvPicPr/>
          <p:nvPr/>
        </p:nvPicPr>
        <p:blipFill>
          <a:blip r:embed="rId2"/>
          <a:stretch/>
        </p:blipFill>
        <p:spPr>
          <a:xfrm>
            <a:off x="324000" y="1916280"/>
            <a:ext cx="3359160" cy="432108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40040" y="1623960"/>
            <a:ext cx="4041720" cy="18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 Уж сколько раз твердили миру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то лесть гнусна, вредн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о только все не впрок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в сердце льстец всегда отыщет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голок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Французский поэт 17 века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Жан де Лафонте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Picture 8" descr="Лафонтен"/>
          <p:cNvPicPr/>
          <p:nvPr/>
        </p:nvPicPr>
        <p:blipFill>
          <a:blip r:embed="rId1"/>
          <a:stretch/>
        </p:blipFill>
        <p:spPr>
          <a:xfrm>
            <a:off x="549360" y="1781280"/>
            <a:ext cx="3043080" cy="40258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1" descr="Иллюстрации Доре для басен Лафонтена"/>
          <p:cNvPicPr/>
          <p:nvPr/>
        </p:nvPicPr>
        <p:blipFill>
          <a:blip r:embed="rId2"/>
          <a:stretch/>
        </p:blipFill>
        <p:spPr>
          <a:xfrm>
            <a:off x="5294160" y="1701720"/>
            <a:ext cx="3179880" cy="425124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12"/>
          <p:cNvSpPr/>
          <p:nvPr/>
        </p:nvSpPr>
        <p:spPr>
          <a:xfrm>
            <a:off x="5435640" y="595008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ллюстрации Доре для басен Лафонтен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Text Box 13"/>
          <p:cNvSpPr/>
          <p:nvPr/>
        </p:nvSpPr>
        <p:spPr>
          <a:xfrm>
            <a:off x="826920" y="5877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Жан де Лафонтен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’’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Слон и Моська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’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7" name="Picture 5" descr="Слон и Моська"/>
          <p:cNvPicPr/>
          <p:nvPr/>
        </p:nvPicPr>
        <p:blipFill>
          <a:blip r:embed="rId1"/>
          <a:stretch/>
        </p:blipFill>
        <p:spPr>
          <a:xfrm>
            <a:off x="831960" y="1606680"/>
            <a:ext cx="3006720" cy="452916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068720" y="2409480"/>
            <a:ext cx="4167360" cy="21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… совсем без драки,    могу попасть в большие забияки.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’’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Свинья под дубом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’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0" name="Picture 13" descr="Сканировать07-08-21 1409"/>
          <p:cNvPicPr/>
          <p:nvPr/>
        </p:nvPicPr>
        <p:blipFill>
          <a:blip r:embed="rId1"/>
          <a:stretch/>
        </p:blipFill>
        <p:spPr>
          <a:xfrm>
            <a:off x="539640" y="1773360"/>
            <a:ext cx="3303720" cy="45352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5" descr="Сканировать07-08-21 1403"/>
          <p:cNvPicPr/>
          <p:nvPr/>
        </p:nvPicPr>
        <p:blipFill>
          <a:blip r:embed="rId2"/>
          <a:stretch/>
        </p:blipFill>
        <p:spPr>
          <a:xfrm>
            <a:off x="4716360" y="4005360"/>
            <a:ext cx="2951280" cy="219060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995640" y="1915920"/>
            <a:ext cx="4859280" cy="18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 Невежда так же в ослеплень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ранит науки и учень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все учёные труды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 чувствуя, что он вкушает их плоды.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’’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Стрекоза и Муравей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’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4" name="Picture 6" descr=""/>
          <p:cNvPicPr/>
          <p:nvPr/>
        </p:nvPicPr>
        <p:blipFill>
          <a:blip r:embed="rId1"/>
          <a:stretch/>
        </p:blipFill>
        <p:spPr>
          <a:xfrm>
            <a:off x="479520" y="1846440"/>
            <a:ext cx="5064120" cy="381600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651280" y="2781360"/>
            <a:ext cx="3492360" cy="13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Ты всё пела? Это дело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ак поди же, попляши!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9T08:37:25Z</dcterms:created>
  <dc:creator>Лапин</dc:creator>
  <dc:description/>
  <dc:language>en-US</dc:language>
  <cp:lastModifiedBy>Игорь</cp:lastModifiedBy>
  <dcterms:modified xsi:type="dcterms:W3CDTF">2015-11-01T14:11:43Z</dcterms:modified>
  <cp:revision>96</cp:revision>
  <dc:subject/>
  <dc:title>И. А. Крыл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