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53E-E255-4FD1-B499-5F989137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D9F-16B8-4E0B-9FB4-F9BC6D75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37C5-CCF8-4776-836D-DA29CFD8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3DA-3DA2-4A84-8FD9-7774FA75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889-A3BA-4A34-B282-1546D280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02D-1183-4600-A66C-803BAAC3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B4A-C626-4B77-80CA-0B16E1D6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3C84-78DE-4EC2-89D3-61F7A9D3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B7B-C08F-48D6-BE8E-AD3AFF93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D6A-343F-4C3A-91F1-C330CFAB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3561-53F2-486E-B232-47A4A3CD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D7B-8913-436E-9652-49BBD3EE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4B35-BBEB-4DA3-BFB1-2B8FD54B24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User\Desktop\к уроку истории\история фото\3ц5.bmp"/>
          <p:cNvPicPr/>
          <p:nvPr/>
        </p:nvPicPr>
        <p:blipFill>
          <a:blip r:embed="rId1"/>
          <a:stretch/>
        </p:blipFill>
        <p:spPr>
          <a:xfrm>
            <a:off x="1265400" y="928800"/>
            <a:ext cx="70354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08:13:34Z</dcterms:created>
  <dc:creator>User</dc:creator>
  <dc:description/>
  <dc:language>en-US</dc:language>
  <cp:lastModifiedBy>User</cp:lastModifiedBy>
  <dcterms:modified xsi:type="dcterms:W3CDTF">2008-03-05T08:14:18Z</dcterms:modified>
  <cp:revision>1</cp:revision>
  <dc:subject/>
  <dc:title>Слайд 1</dc:title>
</cp:coreProperties>
</file>