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368-B22F-4B55-9DB9-C15DB215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266-4D59-401D-9EE9-6E4B03A7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52B-F95A-495D-AFAF-A948242E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FB5-298B-411C-90FC-2FC1CB53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8C7A-CBFB-4DA5-B120-4C7B8225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7DA5-B00A-4D3E-94EA-600EB36F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7D1C-3836-4C9B-947C-5B7F7FA5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1FFD-10AF-466A-A2CE-419536DE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2019-86A4-446E-8263-CDCCDFDA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D519-73BD-4405-98E0-B4A999D1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B67C-89AC-4064-AC85-DF1BDAF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287-5087-4930-835C-419CD01E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DC28-4C0D-4547-9BCB-68BC1F3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EA6C-7D4E-471F-9587-5BD8A74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F92D-B97C-4AB1-A3FE-34FE16A7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BC3B-1287-4FC8-9468-666EA696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612F-CED3-4219-9D26-F26BB5C0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DB12-5D43-4ED8-BD44-B011A92D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43D3-84A4-4272-8839-130260CB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C64D0-825E-43E0-BA06-CF749CD6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06AA-7D4D-472E-9EF5-4FA747A0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99CE2-8560-4224-96CD-CC6C1707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026-4E6F-4E53-B177-3D1B0DEB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2CB6-03C7-4CEE-AFF7-A946BC2D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6973-DA8F-4D31-805E-C8CC714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5FA9-577D-4DC1-A65B-C00EA013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59EA0-368C-4081-B24F-C93B6E33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1E0B-202C-4A0E-8C6C-DAD54797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93A2-11ED-4079-84F5-D6A7C567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A8ED2-E62D-48B0-B73C-0304AC44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003-BE5B-4558-AF20-554F36DD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B30-4C93-459A-8700-D19C42AA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C91-3039-4FDA-B52D-0C2D3AB1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EFA-2177-4FA6-AE1D-10FEA728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0E1-2024-44B6-A1E2-D79E3FBE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326-0C15-4970-9715-985A8B3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91AB-CB59-4877-A4E4-7990EF765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37F3-D3BB-49C7-91DC-6D2D861413B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70B2-EDF3-4B0D-AE36-5E9AF515AA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rskmedia.ru/wp-content/uploads/2010/09/granica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tatar.16206s024.edusite.ru/images/p1_1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d.wmsite.ru/_mod_files/ce_images/arsk_0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03.olx.ru/ui/9/42/65/1287378994_129763765_1----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info.tatcenter.ru/images/article/drugoe-1kvartal2011/3cbf624270d2660be5831937c5a9daf0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stik68.narod.ru/rt/IMG_2520m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ld.ru/sites/default/files/images/0000.preview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ytatarstan.com/_ph/9/2/556054935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rskmedia.ru/wp-content/uploads/2010/09/sportk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jpeg"/><Relationship Id="rId3" Type="http://schemas.openxmlformats.org/officeDocument/2006/relationships/slide" Target="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skmedia.ru/wp-content/uploads/2010/09/x_e7e9cfd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rodokk.ru/fotosmall.php?foto=city/Arsk_01.jpg&amp;w=50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02944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« Арская начальная общеобразовательная школа №3»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Й РОДНОЙ ГОРОД –АРС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00720" y="5229360"/>
            <a:ext cx="4248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учитель татарского языка и литературы  в начальных классах Закирова Гульшат Ками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Картинка 13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3286080"/>
            <a:ext cx="2484360" cy="179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im6-tub-ru.yandex.net/i?id=317731967-60-72"/>
          <p:cNvPicPr/>
          <p:nvPr/>
        </p:nvPicPr>
        <p:blipFill>
          <a:blip r:embed="rId3"/>
          <a:stretch/>
        </p:blipFill>
        <p:spPr>
          <a:xfrm>
            <a:off x="212760" y="4005360"/>
            <a:ext cx="4035240" cy="223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Картинка 5 из 42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716280"/>
            <a:ext cx="41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ТКРЫТИЕ АСФАЛЬТНОГО ЗАВ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2" descr="Картинка 99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74720"/>
            <a:ext cx="705816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КОМБИНАТ СТРОИТЕЛЬНЫХ МАТЕРИАЛ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2" descr="Картинка 63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916280"/>
            <a:ext cx="7056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ЖЕЛЕЗНОДОРОЖНЫЙ ВОКЗА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http://www.mytatarstan.com/_ph/9/739122466.jpg"/>
          <p:cNvPicPr/>
          <p:nvPr/>
        </p:nvPicPr>
        <p:blipFill>
          <a:blip r:embed="rId1"/>
          <a:stretch/>
        </p:blipFill>
        <p:spPr>
          <a:xfrm>
            <a:off x="1116000" y="1305000"/>
            <a:ext cx="66247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НТЕРЕР ВОКЗАЛ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2" descr="Фото интерьер ЖД фокзала Арс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1557360"/>
            <a:ext cx="36385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МУЗЕИ АРС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узей Г. Тукая                               Краеведческий муз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2" descr="http://im6-tub-ru.yandex.net/i?id=356348919-36-72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324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Картинка 73 из 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628640"/>
            <a:ext cx="38401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МУЗЕЙ ИСКУССТ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Картинка 32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459080"/>
            <a:ext cx="61930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М КУЛЬТУР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2" descr="Картинка 29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69631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М ПРАВОСУД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2" descr="Картинка 70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773360"/>
            <a:ext cx="57945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ПОРТИВНЫЙ КОМПЛЕКС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2" descr="Картинка 28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622520"/>
            <a:ext cx="64818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ГОРОДСКАЯ БАШН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2" descr="http://content.foto.mail.ru/mail/romalaw-007/3614/i-3637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2133720"/>
            <a:ext cx="3338640" cy="2503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Фото без названия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1125360"/>
            <a:ext cx="39258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 чего начинается Родина?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 картинки в твоем букваре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 хороших и верных товарищей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Живущих в соседнем дво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6" descr="Картинка 54 из 41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708280"/>
            <a:ext cx="5076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ЦЕРКОВЬ АРС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2" descr="Картинка 9 из 4224"/>
          <p:cNvPicPr/>
          <p:nvPr/>
        </p:nvPicPr>
        <p:blipFill>
          <a:blip r:embed="rId1"/>
          <a:stretch/>
        </p:blipFill>
        <p:spPr>
          <a:xfrm>
            <a:off x="2484360" y="1844640"/>
            <a:ext cx="3382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ЦЕНТРАЛЬНАЯ УЛИЦА ГОР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2" descr="Картинка 5 из 4224"/>
          <p:cNvPicPr/>
          <p:nvPr/>
        </p:nvPicPr>
        <p:blipFill>
          <a:blip r:embed="rId1"/>
          <a:stretch/>
        </p:blipFill>
        <p:spPr>
          <a:xfrm>
            <a:off x="1042920" y="1844640"/>
            <a:ext cx="6765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АМЯТН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2" descr="http://content.foto.mail.ru/mail/romalaw-007/3614/p-3638.jpg"/>
          <p:cNvPicPr/>
          <p:nvPr/>
        </p:nvPicPr>
        <p:blipFill>
          <a:blip r:embed="rId1"/>
          <a:stretch/>
        </p:blipFill>
        <p:spPr>
          <a:xfrm>
            <a:off x="900000" y="162864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://content.foto.mail.ru/mail/romalaw-007/3614/p-3640.jpg"/>
          <p:cNvPicPr/>
          <p:nvPr/>
        </p:nvPicPr>
        <p:blipFill>
          <a:blip r:embed="rId2"/>
          <a:stretch/>
        </p:blipFill>
        <p:spPr>
          <a:xfrm>
            <a:off x="5724360" y="1700280"/>
            <a:ext cx="2799000" cy="2800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content.foto.mail.ru/mail/romalaw-007/3614/p-3641.jpg"/>
          <p:cNvPicPr/>
          <p:nvPr/>
        </p:nvPicPr>
        <p:blipFill>
          <a:blip r:embed="rId3"/>
          <a:stretch/>
        </p:blipFill>
        <p:spPr>
          <a:xfrm>
            <a:off x="6084720" y="4653000"/>
            <a:ext cx="1943280" cy="1944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://content.foto.mail.ru/mail/romalaw-007/3614/p-3642.jpg"/>
          <p:cNvPicPr/>
          <p:nvPr/>
        </p:nvPicPr>
        <p:blipFill>
          <a:blip r:embed="rId4"/>
          <a:stretch/>
        </p:blipFill>
        <p:spPr>
          <a:xfrm>
            <a:off x="1979640" y="4986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Картинка 79 из 84"/>
          <p:cNvPicPr/>
          <p:nvPr/>
        </p:nvPicPr>
        <p:blipFill>
          <a:blip r:embed="rId5"/>
          <a:stretch/>
        </p:blipFill>
        <p:spPr>
          <a:xfrm>
            <a:off x="4033800" y="1663560"/>
            <a:ext cx="15462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 Арске открыт памятник Учителю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2" descr="Картинка 1 из 64"/>
          <p:cNvPicPr/>
          <p:nvPr/>
        </p:nvPicPr>
        <p:blipFill>
          <a:blip r:embed="rId1"/>
          <a:stretch/>
        </p:blipFill>
        <p:spPr>
          <a:xfrm>
            <a:off x="1979640" y="1916280"/>
            <a:ext cx="5076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рский район – край великолепной прир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большие деревеньки, утопающие в зелени, ивы и березы, приветствующие путников ласковым шелестом листвы, журчание Казанки… В Арске ее исток, она здесь только набирает силу, ведь ее цель – столица Татарстана. Маленький ручеек, постепенно разрастаясь, петляет среди холмов – Казанка добежит до Каза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357280" y="3929040"/>
            <a:ext cx="5000760" cy="235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Третья остановка. Рекламная пауз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7172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смотр видеоролика « Отдых в городе Арск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855800" y="2135160"/>
            <a:ext cx="5716440" cy="4151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Четвертая остановка. Великие и знаменитые люди моего района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855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дивительно, что именно эта земля является родиной великого татарского поэта, создателя татарского литературного языка. Габдулла Тукай, «татарский Пушкин», родился в семье приходского муллы в небольшом селении Кушлауч, что располагается совсем недалеко от Арс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. Тукай ( 1886 – 1913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286680" y="3286080"/>
            <a:ext cx="2357280" cy="2990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2" descr="Картинка 6 из 35"/>
          <p:cNvPicPr/>
          <p:nvPr/>
        </p:nvPicPr>
        <p:blipFill>
          <a:blip r:embed="rId1"/>
          <a:stretch/>
        </p:blipFill>
        <p:spPr>
          <a:xfrm>
            <a:off x="1643040" y="-1440"/>
            <a:ext cx="62866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ИСАТЕЛИ И ПОЭТЫ АРСКОГО РАЙО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2" descr="Картинка 71 из 84"/>
          <p:cNvPicPr/>
          <p:nvPr/>
        </p:nvPicPr>
        <p:blipFill>
          <a:blip r:embed="rId1"/>
          <a:stretch/>
        </p:blipFill>
        <p:spPr>
          <a:xfrm>
            <a:off x="755640" y="1773360"/>
            <a:ext cx="1847880" cy="2512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Картинка 26 из 82"/>
          <p:cNvPicPr/>
          <p:nvPr/>
        </p:nvPicPr>
        <p:blipFill>
          <a:blip r:embed="rId2"/>
          <a:stretch/>
        </p:blipFill>
        <p:spPr>
          <a:xfrm>
            <a:off x="3492360" y="1844640"/>
            <a:ext cx="1878120" cy="244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Картинка 39 из 50"/>
          <p:cNvPicPr/>
          <p:nvPr/>
        </p:nvPicPr>
        <p:blipFill>
          <a:blip r:embed="rId3"/>
          <a:stretch/>
        </p:blipFill>
        <p:spPr>
          <a:xfrm>
            <a:off x="6084720" y="1844640"/>
            <a:ext cx="2292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сточн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Прямоугольник 3"/>
          <p:cNvSpPr/>
          <p:nvPr/>
        </p:nvSpPr>
        <p:spPr>
          <a:xfrm>
            <a:off x="826920" y="1844640"/>
            <a:ext cx="59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ttp://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900000" y="256536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2.Города России. Энциклопедия — М.: Большая Российская Энциклопедия. И. Кондратьева. 1994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Гор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Арск, административный центр Арского муниципального района Татарстана, расположен на берегу реки Казанка, в 60 км от столицы республики. В ней на данный момент проживает 20 тысяч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4323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рвая остановка « История гор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389480" y="90360"/>
            <a:ext cx="3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Картинка 35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421000"/>
            <a:ext cx="3000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УТЕШЕСТВИЕ ПО АРСКОМУ РАЙОНУ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6429600" cy="4329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Город Арск был основан в средневековье как пограничная крепость форпост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C:\Users\Гульшат Закирова\Pictures\630b7478ce28.jpg"/>
          <p:cNvPicPr/>
          <p:nvPr/>
        </p:nvPicPr>
        <p:blipFill>
          <a:blip r:embed="rId1"/>
          <a:stretch/>
        </p:blipFill>
        <p:spPr>
          <a:xfrm>
            <a:off x="900000" y="1484280"/>
            <a:ext cx="71424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Арские земли – древнейшие в Казанском ханстве. Когда-то именно здесь, на живописном берегу реки Казанка, размещались личные владения казанских правителей и знати.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" descr="C:\Users\Гульшат Закирова\Pictures\8653fed0340et.jpg"/>
          <p:cNvPicPr/>
          <p:nvPr/>
        </p:nvPicPr>
        <p:blipFill>
          <a:blip r:embed="rId1"/>
          <a:stretch/>
        </p:blipFill>
        <p:spPr>
          <a:xfrm>
            <a:off x="1042920" y="1484280"/>
            <a:ext cx="69804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ерб и флаг Арс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йма, выполненная из хлебных колосьев и цветков астры обозначает сельское хозяйство - основу современной экономики района. Астра олицетворяет солнце и долголетие. Серебро - символ чистоты, совершенства, благополучия, мира и взаимопонимания. Золото - символ урожая, богатства, стабильности, интеллекта и уважения. Зелёный цвет - символ природы, здоровья, жизненного ро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2" descr="C:\Users\Гульшат Закирова\Pictures\герб.jpg"/>
          <p:cNvPicPr/>
          <p:nvPr/>
        </p:nvPicPr>
        <p:blipFill>
          <a:blip r:embed="rId1"/>
          <a:stretch/>
        </p:blipFill>
        <p:spPr>
          <a:xfrm>
            <a:off x="1332000" y="3141720"/>
            <a:ext cx="2438280" cy="3251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Гульшат Закирова\Pictures\флаг.jpg"/>
          <p:cNvPicPr/>
          <p:nvPr/>
        </p:nvPicPr>
        <p:blipFill>
          <a:blip r:embed="rId2"/>
          <a:stretch/>
        </p:blipFill>
        <p:spPr>
          <a:xfrm>
            <a:off x="5076720" y="3645000"/>
            <a:ext cx="3527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торая остановка « Достопримечательности моего города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rcRect l="0" t="0" r="0" b="10772"/>
          <a:stretch/>
        </p:blipFill>
        <p:spPr>
          <a:xfrm>
            <a:off x="857160" y="3714840"/>
            <a:ext cx="3786120" cy="23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4210200" y="1631880"/>
            <a:ext cx="4219560" cy="251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торая остановка « Достопримечательности моего города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tt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79280" y="3860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http://aspksbit.narod2.ru/ASPK.jpg?rand=72902794736858"/>
          <p:cNvPicPr/>
          <p:nvPr/>
        </p:nvPicPr>
        <p:blipFill>
          <a:blip r:embed="rId1"/>
          <a:stretch/>
        </p:blipFill>
        <p:spPr>
          <a:xfrm>
            <a:off x="826920" y="2637000"/>
            <a:ext cx="7480440" cy="3600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185760" y="1518840"/>
            <a:ext cx="780984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31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рпич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АО "АСПК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7:31:33Z</dcterms:created>
  <dc:creator>Admin</dc:creator>
  <dc:description/>
  <dc:language>en-US</dc:language>
  <cp:lastModifiedBy>Закиров Булат Рафаэлевич</cp:lastModifiedBy>
  <dcterms:modified xsi:type="dcterms:W3CDTF">2011-10-28T09:56:12Z</dcterms:modified>
  <cp:revision>32</cp:revision>
  <dc:subject/>
  <dc:title>Слайд 1</dc:title>
</cp:coreProperties>
</file>