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192-C26C-4561-9DD7-87B055DE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A83-A18E-41B2-8B00-4EF4A1CA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C9B-95FD-4771-8953-BE242365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DF8-1696-4481-B67A-F8D1CFC5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2424-C81A-4017-8118-BDDAEF90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9AAC-DE7E-43EA-B10F-535840C0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DDDC-D023-4016-B025-66B9503A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BBE8-7EA1-4E5C-863B-5D337070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F9C4-A2C2-4D47-B008-6CB9A2BD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FE4-4487-43D9-9AB7-33BD7D3D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8E0F-5787-48BC-90AA-B8C235C1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7FB-6042-4B66-A91B-3EC2DD24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7E42-95F4-4C95-A8F4-2D08161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B916-F58E-48A8-A83E-D55C8A57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3725-ABE7-40B9-8B13-18F20745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4515-D8C9-48B9-A97D-EA857744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05DA-1092-4D19-B51D-EC59522C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933-2DF3-43B6-A1A1-421F8E79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BB4-FE29-428C-BB6A-C117B640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CD2-DBD3-4D95-B488-F20D18CD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D6F-E805-4596-A8A6-023D7449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BAA-3464-4C4B-AEEC-73D4F48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0D3-CA85-4EBC-9F89-9504007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69C-6139-4D31-A720-4A8BC3E1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4F95-1905-45B0-8F24-6B2B16EF8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22B0-F3A1-4CAB-AAA8-1641D6B71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74808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утешествие в сказк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11640" y="2670120"/>
            <a:ext cx="46800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равни числа, используя слово «больше»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, 16,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554508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СЕ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Ф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РЕЗ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3960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обо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д волком не дрожа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 медведя убежа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лисице на з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е ж попался …(колобок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716360" y="1628640"/>
          <a:ext cx="4248360" cy="44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628640"/>
                    <a:ext cx="424836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должай-не зевай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Цепоч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2- 8+ 4+ 6-10+ 2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Замени двузначное число парой однозначных чисел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глянуло солнышко.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ифра,загляни в окошко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42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7 =15,       8 + … = 12,       3 - … = 0,           12- … = 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38163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а №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изминут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1197000"/>
            <a:ext cx="9540720" cy="6605640"/>
            <a:chOff x="0" y="1197000"/>
            <a:chExt cx="9540720" cy="66056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9540720" cy="660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0" y="1197000"/>
              <a:ext cx="9540720" cy="66056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равнения №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ши уравнения №5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2:58:31Z</dcterms:created>
  <dc:creator>Солодиенко А.С.</dc:creator>
  <dc:description/>
  <dc:language>en-US</dc:language>
  <cp:lastModifiedBy>Максяковы</cp:lastModifiedBy>
  <dcterms:modified xsi:type="dcterms:W3CDTF">2013-04-07T18:11:07Z</dcterms:modified>
  <cp:revision>58</cp:revision>
  <dc:subject/>
  <dc:title>Путешествие в сказку</dc:title>
</cp:coreProperties>
</file>