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.gif" ContentType="image/gif"/>
  <Override PartName="/ppt/media/image11.jpeg" ContentType="image/jpeg"/>
  <Override PartName="/ppt/media/image18.gif" ContentType="image/gif"/>
  <Override PartName="/ppt/media/image17.png" ContentType="image/png"/>
  <Override PartName="/ppt/media/image4.jpeg" ContentType="image/jpeg"/>
  <Override PartName="/ppt/media/image16.png" ContentType="image/png"/>
  <Override PartName="/ppt/media/image7.gif" ContentType="image/gif"/>
  <Override PartName="/ppt/media/image15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F89-C1C8-4D29-A50E-13CE71DB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C5F-B5AA-4D6A-AF75-FAF0B1FF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06C-2ED4-49B5-AA06-9A80C876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9C6-D29A-42D8-B6FB-20700FB7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573-70BA-410B-A671-AD3ED7B2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6B0-E940-4726-AF4C-E67C8557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208-51F6-4F4F-BE24-5D528363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699-95E6-498E-A1FB-BA241538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76D-5528-4BA8-978F-A228D2A6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DFA-4EFE-40C6-92DC-5912B710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6FA-F813-44EB-A1C1-B7EAB973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FFD-9DD7-4B6F-93DF-AB5D4E60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EA15-DA32-4E34-BDDD-B4AA9D1C6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a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gnom12"/>
          <p:cNvPicPr/>
          <p:nvPr/>
        </p:nvPicPr>
        <p:blipFill>
          <a:blip r:embed="rId2"/>
          <a:stretch/>
        </p:blipFill>
        <p:spPr>
          <a:xfrm>
            <a:off x="250920" y="4005360"/>
            <a:ext cx="1912680" cy="237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gnom11"/>
          <p:cNvPicPr/>
          <p:nvPr/>
        </p:nvPicPr>
        <p:blipFill>
          <a:blip r:embed="rId3"/>
          <a:stretch/>
        </p:blipFill>
        <p:spPr>
          <a:xfrm>
            <a:off x="6948360" y="4437000"/>
            <a:ext cx="3006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Oval 2"/>
          <p:cNvSpPr/>
          <p:nvPr/>
        </p:nvSpPr>
        <p:spPr>
          <a:xfrm>
            <a:off x="250920" y="1557360"/>
            <a:ext cx="936360" cy="86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1476360" y="1557360"/>
            <a:ext cx="936720" cy="86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7667640" y="1484280"/>
            <a:ext cx="936720" cy="86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6300720" y="1484280"/>
            <a:ext cx="936720" cy="86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2484360" y="1557360"/>
            <a:ext cx="936720" cy="86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3635280" y="1557360"/>
            <a:ext cx="936720" cy="86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4932360" y="1484280"/>
            <a:ext cx="936720" cy="865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179280" y="3357720"/>
            <a:ext cx="936720" cy="865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"/>
          <p:cNvSpPr/>
          <p:nvPr/>
        </p:nvSpPr>
        <p:spPr>
          <a:xfrm>
            <a:off x="1403280" y="3429000"/>
            <a:ext cx="936720" cy="865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2556000" y="3429000"/>
            <a:ext cx="936360" cy="865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3780000" y="3357720"/>
            <a:ext cx="936360" cy="865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5076720" y="3357720"/>
            <a:ext cx="936720" cy="865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4"/>
          <p:cNvSpPr/>
          <p:nvPr/>
        </p:nvSpPr>
        <p:spPr>
          <a:xfrm>
            <a:off x="6443640" y="3357720"/>
            <a:ext cx="936720" cy="865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7596360" y="3357720"/>
            <a:ext cx="936360" cy="865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3" descr="cdolls118.gif"/>
          <p:cNvPicPr/>
          <p:nvPr/>
        </p:nvPicPr>
        <p:blipFill>
          <a:blip r:embed="rId1"/>
          <a:stretch/>
        </p:blipFill>
        <p:spPr>
          <a:xfrm>
            <a:off x="3708360" y="4869000"/>
            <a:ext cx="2962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2565360"/>
            <a:ext cx="8713800" cy="107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68436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91636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334800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378000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421164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464328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7672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50872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601200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644364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687708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104292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140328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176364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7"/>
          <p:cNvSpPr/>
          <p:nvPr/>
        </p:nvSpPr>
        <p:spPr>
          <a:xfrm>
            <a:off x="212400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2484360" y="25653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53964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  2   3   4   5    6    7    8    9    10  11  12  13   14   15  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>
            <a:off x="4211640" y="2205000"/>
            <a:ext cx="431640" cy="287280"/>
          </a:xfrm>
          <a:custGeom>
            <a:avLst/>
            <a:gdLst>
              <a:gd name="textAreaLeft" fmla="*/ 63000 w 431640"/>
              <a:gd name="textAreaRight" fmla="*/ 368640 w 431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780000" y="2205000"/>
            <a:ext cx="431640" cy="287280"/>
          </a:xfrm>
          <a:custGeom>
            <a:avLst/>
            <a:gdLst>
              <a:gd name="textAreaLeft" fmla="*/ 63000 w 431640"/>
              <a:gd name="textAreaRight" fmla="*/ 368640 w 431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3348000" y="2205000"/>
            <a:ext cx="432000" cy="287280"/>
          </a:xfrm>
          <a:custGeom>
            <a:avLst/>
            <a:gdLst>
              <a:gd name="textAreaLeft" fmla="*/ 63000 w 432000"/>
              <a:gd name="textAreaRight" fmla="*/ 369000 w 43200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2916360" y="2276640"/>
            <a:ext cx="431640" cy="287280"/>
          </a:xfrm>
          <a:custGeom>
            <a:avLst/>
            <a:gdLst>
              <a:gd name="textAreaLeft" fmla="*/ 63000 w 431640"/>
              <a:gd name="textAreaRight" fmla="*/ 368640 w 431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5508720" y="2276640"/>
            <a:ext cx="431640" cy="287280"/>
          </a:xfrm>
          <a:custGeom>
            <a:avLst/>
            <a:gdLst>
              <a:gd name="textAreaLeft" fmla="*/ 63000 w 431640"/>
              <a:gd name="textAreaRight" fmla="*/ 368640 w 4316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5076720" y="2205000"/>
            <a:ext cx="432000" cy="287280"/>
          </a:xfrm>
          <a:custGeom>
            <a:avLst/>
            <a:gdLst>
              <a:gd name="textAreaLeft" fmla="*/ 63000 w 432000"/>
              <a:gd name="textAreaRight" fmla="*/ 369000 w 43200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4643280" y="2276640"/>
            <a:ext cx="432000" cy="287280"/>
          </a:xfrm>
          <a:custGeom>
            <a:avLst/>
            <a:gdLst>
              <a:gd name="textAreaLeft" fmla="*/ 63000 w 432000"/>
              <a:gd name="textAreaRight" fmla="*/ 369000 w 43200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cdolls118.gif"/>
          <p:cNvPicPr/>
          <p:nvPr/>
        </p:nvPicPr>
        <p:blipFill>
          <a:blip r:embed="rId1"/>
          <a:stretch/>
        </p:blipFill>
        <p:spPr>
          <a:xfrm>
            <a:off x="3203640" y="4797360"/>
            <a:ext cx="29620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39640" y="620640"/>
            <a:ext cx="8136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+   7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3   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 flipH="1">
            <a:off x="2916000" y="1844640"/>
            <a:ext cx="93492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3995640" y="1844640"/>
            <a:ext cx="93672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0" y="404640"/>
            <a:ext cx="3635280" cy="4464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9640" y="620640"/>
            <a:ext cx="8136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+   7 = 14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16000" y="1341360"/>
            <a:ext cx="6912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11   15    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14   12    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57" name="Line 3"/>
          <p:cNvSpPr/>
          <p:nvPr/>
        </p:nvSpPr>
        <p:spPr>
          <a:xfrm flipH="1" flipV="1">
            <a:off x="0" y="1844640"/>
            <a:ext cx="2124000" cy="720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H="1" flipV="1">
            <a:off x="-360" y="764640"/>
            <a:ext cx="2195640" cy="1584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 flipH="1" flipV="1">
            <a:off x="-360" y="-360"/>
            <a:ext cx="2268360" cy="2133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 flipV="1">
            <a:off x="1116000" y="0"/>
            <a:ext cx="1224000" cy="1844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 flipH="1" flipV="1">
            <a:off x="2124000" y="0"/>
            <a:ext cx="432000" cy="1628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0" y="2708280"/>
            <a:ext cx="212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0" y="2997360"/>
            <a:ext cx="2124000" cy="43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2916360" y="0"/>
            <a:ext cx="142920" cy="1341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 flipV="1">
            <a:off x="3348000" y="-100080"/>
            <a:ext cx="432000" cy="1225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2"/>
          <p:cNvSpPr/>
          <p:nvPr/>
        </p:nvSpPr>
        <p:spPr>
          <a:xfrm flipV="1">
            <a:off x="3708360" y="0"/>
            <a:ext cx="863640" cy="1125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-360" y="3284640"/>
            <a:ext cx="2195640" cy="1439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 flipH="1">
            <a:off x="-360" y="3716280"/>
            <a:ext cx="2484360" cy="2089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 flipV="1">
            <a:off x="4356000" y="0"/>
            <a:ext cx="1584360" cy="1341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-360" y="4076640"/>
            <a:ext cx="2700360" cy="2781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 flipH="1">
            <a:off x="1042560" y="4221000"/>
            <a:ext cx="2016360" cy="2637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 flipV="1">
            <a:off x="4788000" y="-360"/>
            <a:ext cx="3168720" cy="1700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9"/>
          <p:cNvSpPr/>
          <p:nvPr/>
        </p:nvSpPr>
        <p:spPr>
          <a:xfrm flipH="1">
            <a:off x="2484000" y="4365720"/>
            <a:ext cx="863640" cy="2492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1222962368_12b8c3f32109202b9a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gnom11"/>
          <p:cNvPicPr/>
          <p:nvPr/>
        </p:nvPicPr>
        <p:blipFill>
          <a:blip r:embed="rId2"/>
          <a:stretch/>
        </p:blipFill>
        <p:spPr>
          <a:xfrm>
            <a:off x="6804000" y="4437000"/>
            <a:ext cx="30067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79" name="Line 3"/>
          <p:cNvSpPr/>
          <p:nvPr/>
        </p:nvSpPr>
        <p:spPr>
          <a:xfrm flipH="1" flipV="1">
            <a:off x="-360" y="-360"/>
            <a:ext cx="2268360" cy="1989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 flipH="1" flipV="1">
            <a:off x="-360" y="1267920"/>
            <a:ext cx="2195640" cy="1008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 flipH="1" flipV="1">
            <a:off x="0" y="2276280"/>
            <a:ext cx="2124000" cy="215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0" y="2708280"/>
            <a:ext cx="2124000" cy="144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 flipH="1">
            <a:off x="0" y="2924280"/>
            <a:ext cx="2124000" cy="57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-360" y="3213000"/>
            <a:ext cx="2195640" cy="936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 flipV="1">
            <a:off x="1042560" y="0"/>
            <a:ext cx="1368360" cy="1773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H="1" flipV="1">
            <a:off x="2050560" y="0"/>
            <a:ext cx="576360" cy="1557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H="1">
            <a:off x="-360" y="3429000"/>
            <a:ext cx="2268360" cy="1368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H="1">
            <a:off x="0" y="3645000"/>
            <a:ext cx="2340000" cy="2089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>
            <a:off x="0" y="3860640"/>
            <a:ext cx="2556000" cy="2448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H="1">
            <a:off x="-360" y="4076640"/>
            <a:ext cx="2700360" cy="2781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H="1">
            <a:off x="826920" y="4149720"/>
            <a:ext cx="2089440" cy="2708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 flipH="1">
            <a:off x="1547640" y="4292640"/>
            <a:ext cx="1656000" cy="2565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 flipH="1">
            <a:off x="2410920" y="4292640"/>
            <a:ext cx="1008360" cy="2565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2843280" y="-360"/>
            <a:ext cx="0" cy="1413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3276720" y="4365720"/>
            <a:ext cx="358560" cy="2492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V="1">
            <a:off x="3203640" y="-360"/>
            <a:ext cx="504720" cy="1197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3635280" y="0"/>
            <a:ext cx="1224000" cy="1125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3851280" y="4365720"/>
            <a:ext cx="720720" cy="2492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 flipV="1">
            <a:off x="4140360" y="-360"/>
            <a:ext cx="1726920" cy="1197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4500720" y="-360"/>
            <a:ext cx="2376360" cy="1484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V="1">
            <a:off x="4716360" y="-360"/>
            <a:ext cx="3743280" cy="1700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4932360" y="1052280"/>
            <a:ext cx="4211640" cy="93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 flipV="1">
            <a:off x="5003640" y="2060640"/>
            <a:ext cx="4140360" cy="288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5076720" y="2708280"/>
            <a:ext cx="4067280" cy="36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9"/>
          <p:cNvSpPr/>
          <p:nvPr/>
        </p:nvSpPr>
        <p:spPr>
          <a:xfrm>
            <a:off x="5076720" y="2997360"/>
            <a:ext cx="4067280" cy="1223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5076720" y="3284640"/>
            <a:ext cx="4067280" cy="2089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4427640" y="4076640"/>
            <a:ext cx="1296720" cy="2781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22962490_63549e2d68319008c8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0" y="486900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0" y="522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MCj03496570000[1]"/>
          <p:cNvPicPr/>
          <p:nvPr/>
        </p:nvPicPr>
        <p:blipFill>
          <a:blip r:embed="rId2"/>
          <a:stretch/>
        </p:blipFill>
        <p:spPr>
          <a:xfrm rot="5643600">
            <a:off x="3679560" y="4538520"/>
            <a:ext cx="987480" cy="17938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0" y="4869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24000" y="522936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 +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gnom6"/>
          <p:cNvPicPr/>
          <p:nvPr/>
        </p:nvPicPr>
        <p:blipFill>
          <a:blip r:embed="rId3"/>
          <a:stretch/>
        </p:blipFill>
        <p:spPr>
          <a:xfrm>
            <a:off x="0" y="907920"/>
            <a:ext cx="3605040" cy="453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MCWB00572_0000[1]"/>
          <p:cNvPicPr/>
          <p:nvPr/>
        </p:nvPicPr>
        <p:blipFill>
          <a:blip r:embed="rId4"/>
          <a:stretch/>
        </p:blipFill>
        <p:spPr>
          <a:xfrm>
            <a:off x="7704000" y="6105600"/>
            <a:ext cx="1440000" cy="752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MCWB00561_0000[1]"/>
          <p:cNvPicPr/>
          <p:nvPr/>
        </p:nvPicPr>
        <p:blipFill>
          <a:blip r:embed="rId5"/>
          <a:stretch/>
        </p:blipFill>
        <p:spPr>
          <a:xfrm rot="19611600">
            <a:off x="6948360" y="6021000"/>
            <a:ext cx="1657440" cy="631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MCWB00625_0000[1]"/>
          <p:cNvPicPr/>
          <p:nvPr/>
        </p:nvPicPr>
        <p:blipFill>
          <a:blip r:embed="rId6"/>
          <a:stretch/>
        </p:blipFill>
        <p:spPr>
          <a:xfrm>
            <a:off x="8669160" y="6383160"/>
            <a:ext cx="47484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1222962490_63549e2d68319008c8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0" y="486900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522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MCj03496570000[1]"/>
          <p:cNvPicPr/>
          <p:nvPr/>
        </p:nvPicPr>
        <p:blipFill>
          <a:blip r:embed="rId2"/>
          <a:stretch/>
        </p:blipFill>
        <p:spPr>
          <a:xfrm rot="5643600">
            <a:off x="402840" y="4105080"/>
            <a:ext cx="987120" cy="17938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0" y="4869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50920" y="4581360"/>
            <a:ext cx="115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MCWB00572_0000[1]"/>
          <p:cNvPicPr/>
          <p:nvPr/>
        </p:nvPicPr>
        <p:blipFill>
          <a:blip r:embed="rId3"/>
          <a:stretch/>
        </p:blipFill>
        <p:spPr>
          <a:xfrm>
            <a:off x="7128000" y="5805360"/>
            <a:ext cx="2016000" cy="1052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MCWB00625_0000[1]"/>
          <p:cNvPicPr/>
          <p:nvPr/>
        </p:nvPicPr>
        <p:blipFill>
          <a:blip r:embed="rId4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MCWB00561_0000[1]"/>
          <p:cNvPicPr/>
          <p:nvPr/>
        </p:nvPicPr>
        <p:blipFill>
          <a:blip r:embed="rId5"/>
          <a:stretch/>
        </p:blipFill>
        <p:spPr>
          <a:xfrm rot="19983600">
            <a:off x="6551280" y="5444640"/>
            <a:ext cx="259236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222962374_22c56816bb710ecfbd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gnom11"/>
          <p:cNvPicPr/>
          <p:nvPr/>
        </p:nvPicPr>
        <p:blipFill>
          <a:blip r:embed="rId2"/>
          <a:stretch/>
        </p:blipFill>
        <p:spPr>
          <a:xfrm>
            <a:off x="6804000" y="4724280"/>
            <a:ext cx="3006720" cy="2579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0" y="404640"/>
            <a:ext cx="8964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88960" y="-34920"/>
            <a:ext cx="855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6ff66"/>
                </a:solidFill>
                <a:latin typeface="Arial Rounded MT Bold"/>
              </a:rPr>
              <a:t>Математическ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6ff66"/>
                </a:solidFill>
                <a:latin typeface="Arial Rounded MT Bold"/>
              </a:rPr>
              <a:t>путешеств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1222962490_63549e2d68319008c8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0" y="486900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MCj03496570000[1]"/>
          <p:cNvPicPr/>
          <p:nvPr/>
        </p:nvPicPr>
        <p:blipFill>
          <a:blip r:embed="rId2"/>
          <a:stretch/>
        </p:blipFill>
        <p:spPr>
          <a:xfrm flipH="1" rot="5400000">
            <a:off x="2238120" y="4538160"/>
            <a:ext cx="987480" cy="1793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0" y="522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0" y="4869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50920" y="386064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124000" y="479736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3 + 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MCWB00572_0000[1]"/>
          <p:cNvPicPr/>
          <p:nvPr/>
        </p:nvPicPr>
        <p:blipFill>
          <a:blip r:embed="rId3"/>
          <a:stretch/>
        </p:blipFill>
        <p:spPr>
          <a:xfrm>
            <a:off x="7128000" y="5805360"/>
            <a:ext cx="2016000" cy="1052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MCWB00561_0000[1]"/>
          <p:cNvPicPr/>
          <p:nvPr/>
        </p:nvPicPr>
        <p:blipFill>
          <a:blip r:embed="rId4"/>
          <a:stretch/>
        </p:blipFill>
        <p:spPr>
          <a:xfrm rot="19983600">
            <a:off x="6551280" y="5444640"/>
            <a:ext cx="2592360" cy="98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MCWB00625_0000[1]"/>
          <p:cNvPicPr/>
          <p:nvPr/>
        </p:nvPicPr>
        <p:blipFill>
          <a:blip r:embed="rId5"/>
          <a:stretch/>
        </p:blipFill>
        <p:spPr>
          <a:xfrm>
            <a:off x="8669160" y="6383160"/>
            <a:ext cx="47484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1222962490_63549e2d68319008c8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0" y="486900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MCj03496570000[1]"/>
          <p:cNvPicPr/>
          <p:nvPr/>
        </p:nvPicPr>
        <p:blipFill>
          <a:blip r:embed="rId2"/>
          <a:stretch/>
        </p:blipFill>
        <p:spPr>
          <a:xfrm flipH="1" rot="5400000">
            <a:off x="2238120" y="4538160"/>
            <a:ext cx="987480" cy="17938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0" y="522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MCj03496570000[1]"/>
          <p:cNvPicPr/>
          <p:nvPr/>
        </p:nvPicPr>
        <p:blipFill>
          <a:blip r:embed="rId3"/>
          <a:stretch/>
        </p:blipFill>
        <p:spPr>
          <a:xfrm rot="5643600">
            <a:off x="402840" y="4105080"/>
            <a:ext cx="987120" cy="17938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9"/>
          <p:cNvSpPr/>
          <p:nvPr/>
        </p:nvSpPr>
        <p:spPr>
          <a:xfrm>
            <a:off x="0" y="4869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79280" y="3789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763640" y="4653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cc00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2" descr="MCWB00572_0000[1]"/>
          <p:cNvPicPr/>
          <p:nvPr/>
        </p:nvPicPr>
        <p:blipFill>
          <a:blip r:embed="rId4"/>
          <a:stretch/>
        </p:blipFill>
        <p:spPr>
          <a:xfrm>
            <a:off x="7128000" y="5805360"/>
            <a:ext cx="2016000" cy="1052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MCWB00561_0000[1]"/>
          <p:cNvPicPr/>
          <p:nvPr/>
        </p:nvPicPr>
        <p:blipFill>
          <a:blip r:embed="rId5"/>
          <a:stretch/>
        </p:blipFill>
        <p:spPr>
          <a:xfrm rot="19983600">
            <a:off x="6551280" y="5444640"/>
            <a:ext cx="2592360" cy="989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MCWB00625_0000[1]"/>
          <p:cNvPicPr/>
          <p:nvPr/>
        </p:nvPicPr>
        <p:blipFill>
          <a:blip r:embed="rId6"/>
          <a:stretch/>
        </p:blipFill>
        <p:spPr>
          <a:xfrm>
            <a:off x="8669160" y="6383160"/>
            <a:ext cx="47484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1222962490_63549e2d68319008c8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0" y="486900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MCj03496570000[1]"/>
          <p:cNvPicPr/>
          <p:nvPr/>
        </p:nvPicPr>
        <p:blipFill>
          <a:blip r:embed="rId2"/>
          <a:stretch/>
        </p:blipFill>
        <p:spPr>
          <a:xfrm rot="5643600">
            <a:off x="4038120" y="4681440"/>
            <a:ext cx="987480" cy="17938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0" y="522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0" y="4869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79280" y="386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780000" y="4797360"/>
            <a:ext cx="28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9 + 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4" descr="MCWB00572_0000[1]"/>
          <p:cNvPicPr/>
          <p:nvPr/>
        </p:nvPicPr>
        <p:blipFill>
          <a:blip r:embed="rId3"/>
          <a:stretch/>
        </p:blipFill>
        <p:spPr>
          <a:xfrm>
            <a:off x="7128000" y="5805360"/>
            <a:ext cx="2016000" cy="1052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MCWB00561_0000[1]"/>
          <p:cNvPicPr/>
          <p:nvPr/>
        </p:nvPicPr>
        <p:blipFill>
          <a:blip r:embed="rId4"/>
          <a:stretch/>
        </p:blipFill>
        <p:spPr>
          <a:xfrm rot="19983600">
            <a:off x="6551280" y="5444640"/>
            <a:ext cx="2592360" cy="989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MCWB00625_0000[1]"/>
          <p:cNvPicPr/>
          <p:nvPr/>
        </p:nvPicPr>
        <p:blipFill>
          <a:blip r:embed="rId5"/>
          <a:stretch/>
        </p:blipFill>
        <p:spPr>
          <a:xfrm>
            <a:off x="8669160" y="638316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MCj03496570000[1]"/>
          <p:cNvPicPr/>
          <p:nvPr/>
        </p:nvPicPr>
        <p:blipFill>
          <a:blip r:embed="rId6"/>
          <a:stretch/>
        </p:blipFill>
        <p:spPr>
          <a:xfrm rot="5643600">
            <a:off x="650520" y="4230720"/>
            <a:ext cx="987480" cy="1793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MCj03496570000[1]"/>
          <p:cNvPicPr/>
          <p:nvPr/>
        </p:nvPicPr>
        <p:blipFill>
          <a:blip r:embed="rId7"/>
          <a:stretch/>
        </p:blipFill>
        <p:spPr>
          <a:xfrm flipH="1" rot="5400000">
            <a:off x="2117520" y="5025600"/>
            <a:ext cx="987480" cy="17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1222962490_63549e2d68319008c8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0" y="486900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MCj03496570000[1]"/>
          <p:cNvPicPr/>
          <p:nvPr/>
        </p:nvPicPr>
        <p:blipFill>
          <a:blip r:embed="rId2"/>
          <a:stretch/>
        </p:blipFill>
        <p:spPr>
          <a:xfrm rot="5643600">
            <a:off x="4038120" y="4681440"/>
            <a:ext cx="987480" cy="17938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0" y="522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0" y="4869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79280" y="3860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851280" y="443700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8800" spc="-1" strike="noStrike">
                <a:solidFill>
                  <a:srgbClr val="00cc00"/>
                </a:solidFill>
                <a:latin typeface="Arial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4" descr="MCWB00572_0000[1]"/>
          <p:cNvPicPr/>
          <p:nvPr/>
        </p:nvPicPr>
        <p:blipFill>
          <a:blip r:embed="rId3"/>
          <a:stretch/>
        </p:blipFill>
        <p:spPr>
          <a:xfrm>
            <a:off x="7128000" y="5805360"/>
            <a:ext cx="2016000" cy="1052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MCWB00561_0000[1]"/>
          <p:cNvPicPr/>
          <p:nvPr/>
        </p:nvPicPr>
        <p:blipFill>
          <a:blip r:embed="rId4"/>
          <a:stretch/>
        </p:blipFill>
        <p:spPr>
          <a:xfrm rot="19983600">
            <a:off x="6551280" y="5444640"/>
            <a:ext cx="2592360" cy="989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MCWB00625_0000[1]"/>
          <p:cNvPicPr/>
          <p:nvPr/>
        </p:nvPicPr>
        <p:blipFill>
          <a:blip r:embed="rId5"/>
          <a:stretch/>
        </p:blipFill>
        <p:spPr>
          <a:xfrm>
            <a:off x="8669160" y="638316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MCj03496570000[1]"/>
          <p:cNvPicPr/>
          <p:nvPr/>
        </p:nvPicPr>
        <p:blipFill>
          <a:blip r:embed="rId6"/>
          <a:stretch/>
        </p:blipFill>
        <p:spPr>
          <a:xfrm rot="5643600">
            <a:off x="436320" y="4230720"/>
            <a:ext cx="987480" cy="1793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MCj03496570000[1]"/>
          <p:cNvPicPr/>
          <p:nvPr/>
        </p:nvPicPr>
        <p:blipFill>
          <a:blip r:embed="rId7"/>
          <a:stretch/>
        </p:blipFill>
        <p:spPr>
          <a:xfrm flipH="1" rot="5400000">
            <a:off x="2045880" y="5025600"/>
            <a:ext cx="9874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1222962490_63549e2d68319008c8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0" y="486900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MCj03496570000[1]"/>
          <p:cNvPicPr/>
          <p:nvPr/>
        </p:nvPicPr>
        <p:blipFill>
          <a:blip r:embed="rId2"/>
          <a:stretch/>
        </p:blipFill>
        <p:spPr>
          <a:xfrm flipH="1" rot="5400000">
            <a:off x="5968440" y="4460760"/>
            <a:ext cx="1000080" cy="1793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9"/>
          <p:cNvSpPr/>
          <p:nvPr/>
        </p:nvSpPr>
        <p:spPr>
          <a:xfrm>
            <a:off x="0" y="522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0" y="4869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250920" y="371628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3780000" y="43657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5143680" y="4143240"/>
            <a:ext cx="29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8 + 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MCWB00572_0000[1]"/>
          <p:cNvPicPr/>
          <p:nvPr/>
        </p:nvPicPr>
        <p:blipFill>
          <a:blip r:embed="rId3"/>
          <a:stretch/>
        </p:blipFill>
        <p:spPr>
          <a:xfrm>
            <a:off x="7128000" y="5805360"/>
            <a:ext cx="2016000" cy="1052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MCWB00561_0000[1]"/>
          <p:cNvPicPr/>
          <p:nvPr/>
        </p:nvPicPr>
        <p:blipFill>
          <a:blip r:embed="rId4"/>
          <a:stretch/>
        </p:blipFill>
        <p:spPr>
          <a:xfrm rot="19983600">
            <a:off x="6443640" y="5300280"/>
            <a:ext cx="2592360" cy="988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MCWB00625_0000[1]"/>
          <p:cNvPicPr/>
          <p:nvPr/>
        </p:nvPicPr>
        <p:blipFill>
          <a:blip r:embed="rId5"/>
          <a:stretch/>
        </p:blipFill>
        <p:spPr>
          <a:xfrm>
            <a:off x="8669160" y="638316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MCj03496570000[1]"/>
          <p:cNvPicPr/>
          <p:nvPr/>
        </p:nvPicPr>
        <p:blipFill>
          <a:blip r:embed="rId6"/>
          <a:stretch/>
        </p:blipFill>
        <p:spPr>
          <a:xfrm rot="5643600">
            <a:off x="1864800" y="4302000"/>
            <a:ext cx="987480" cy="1793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MCj03496570000[1]"/>
          <p:cNvPicPr/>
          <p:nvPr/>
        </p:nvPicPr>
        <p:blipFill>
          <a:blip r:embed="rId7"/>
          <a:stretch/>
        </p:blipFill>
        <p:spPr>
          <a:xfrm flipH="1" rot="5400000">
            <a:off x="3831840" y="4740120"/>
            <a:ext cx="987120" cy="1793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MCj03496570000[1]"/>
          <p:cNvPicPr/>
          <p:nvPr/>
        </p:nvPicPr>
        <p:blipFill>
          <a:blip r:embed="rId8"/>
          <a:stretch/>
        </p:blipFill>
        <p:spPr>
          <a:xfrm flipH="1" rot="5400000">
            <a:off x="402840" y="4882680"/>
            <a:ext cx="9874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1222962490_63549e2d68319008c8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0" y="4869000"/>
            <a:ext cx="24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3496570000[1]"/>
          <p:cNvPicPr/>
          <p:nvPr/>
        </p:nvPicPr>
        <p:blipFill>
          <a:blip r:embed="rId2"/>
          <a:stretch/>
        </p:blipFill>
        <p:spPr>
          <a:xfrm rot="5643600">
            <a:off x="4079520" y="4230720"/>
            <a:ext cx="987480" cy="1793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MCj03496570000[1]"/>
          <p:cNvPicPr/>
          <p:nvPr/>
        </p:nvPicPr>
        <p:blipFill>
          <a:blip r:embed="rId3"/>
          <a:stretch/>
        </p:blipFill>
        <p:spPr>
          <a:xfrm flipH="1" rot="5400000">
            <a:off x="2260080" y="4811400"/>
            <a:ext cx="987480" cy="1793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MCj03496570000[1]"/>
          <p:cNvPicPr/>
          <p:nvPr/>
        </p:nvPicPr>
        <p:blipFill>
          <a:blip r:embed="rId4"/>
          <a:stretch/>
        </p:blipFill>
        <p:spPr>
          <a:xfrm flipH="1" rot="5400000">
            <a:off x="5974920" y="4882680"/>
            <a:ext cx="987480" cy="1793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522936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0" descr="MCj03496570000[1]"/>
          <p:cNvPicPr/>
          <p:nvPr/>
        </p:nvPicPr>
        <p:blipFill>
          <a:blip r:embed="rId5"/>
          <a:stretch/>
        </p:blipFill>
        <p:spPr>
          <a:xfrm rot="5643600">
            <a:off x="402840" y="3962520"/>
            <a:ext cx="987480" cy="17938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1"/>
          <p:cNvSpPr/>
          <p:nvPr/>
        </p:nvSpPr>
        <p:spPr>
          <a:xfrm>
            <a:off x="0" y="4869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250920" y="371628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3851280" y="43657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5580000" y="4005360"/>
            <a:ext cx="1584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8800" spc="-1" strike="noStrike">
                <a:solidFill>
                  <a:srgbClr val="00cc00"/>
                </a:solidFill>
                <a:latin typeface="Arial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6" descr="MCWB00572_0000[1]"/>
          <p:cNvPicPr/>
          <p:nvPr/>
        </p:nvPicPr>
        <p:blipFill>
          <a:blip r:embed="rId6"/>
          <a:stretch/>
        </p:blipFill>
        <p:spPr>
          <a:xfrm>
            <a:off x="7128000" y="5805360"/>
            <a:ext cx="2016000" cy="1052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7" descr="MCWB00561_0000[1]"/>
          <p:cNvPicPr/>
          <p:nvPr/>
        </p:nvPicPr>
        <p:blipFill>
          <a:blip r:embed="rId7"/>
          <a:stretch/>
        </p:blipFill>
        <p:spPr>
          <a:xfrm rot="19983600">
            <a:off x="6551280" y="5444640"/>
            <a:ext cx="2592360" cy="989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8" descr="MCWB00625_0000[1]"/>
          <p:cNvPicPr/>
          <p:nvPr/>
        </p:nvPicPr>
        <p:blipFill>
          <a:blip r:embed="rId8"/>
          <a:stretch/>
        </p:blipFill>
        <p:spPr>
          <a:xfrm>
            <a:off x="8669160" y="6383160"/>
            <a:ext cx="47484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94920" cy="832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536849127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692360" y="494172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684360" y="494172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Arial"/>
              </a:rPr>
              <a:t>Спасибо!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солнышко"/>
          <p:cNvPicPr/>
          <p:nvPr/>
        </p:nvPicPr>
        <p:blipFill>
          <a:blip r:embed="rId1"/>
          <a:stretch/>
        </p:blipFill>
        <p:spPr>
          <a:xfrm>
            <a:off x="0" y="692280"/>
            <a:ext cx="89647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516720" y="5300640"/>
            <a:ext cx="172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солнышко"/>
          <p:cNvPicPr/>
          <p:nvPr/>
        </p:nvPicPr>
        <p:blipFill>
          <a:blip r:embed="rId1"/>
          <a:stretch/>
        </p:blipFill>
        <p:spPr>
          <a:xfrm>
            <a:off x="0" y="571680"/>
            <a:ext cx="8964720" cy="46288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4"/>
          <p:cNvSpPr/>
          <p:nvPr/>
        </p:nvSpPr>
        <p:spPr>
          <a:xfrm>
            <a:off x="34920" y="404640"/>
            <a:ext cx="4626000" cy="2765520"/>
          </a:xfrm>
          <a:custGeom>
            <a:avLst/>
            <a:gdLst>
              <a:gd name="textAreaLeft" fmla="*/ 0 w 4626000"/>
              <a:gd name="textAreaRight" fmla="*/ 4626360 w 4626000"/>
              <a:gd name="textAreaTop" fmla="*/ 0 h 2765520"/>
              <a:gd name="textAreaBottom" fmla="*/ 2765880 h 2765520"/>
            </a:gdLst>
            <a:ahLst/>
            <a:rect l="textAreaLeft" t="textAreaTop" r="textAreaRight" b="textAreaBottom"/>
            <a:pathLst>
              <a:path w="2914" h="1742">
                <a:moveTo>
                  <a:pt x="820" y="194"/>
                </a:moveTo>
                <a:cubicBezTo>
                  <a:pt x="851" y="130"/>
                  <a:pt x="909" y="96"/>
                  <a:pt x="978" y="86"/>
                </a:cubicBezTo>
                <a:cubicBezTo>
                  <a:pt x="1014" y="75"/>
                  <a:pt x="1050" y="69"/>
                  <a:pt x="1086" y="57"/>
                </a:cubicBezTo>
                <a:cubicBezTo>
                  <a:pt x="1211" y="67"/>
                  <a:pt x="1318" y="69"/>
                  <a:pt x="1446" y="64"/>
                </a:cubicBezTo>
                <a:cubicBezTo>
                  <a:pt x="1709" y="36"/>
                  <a:pt x="1965" y="26"/>
                  <a:pt x="2231" y="14"/>
                </a:cubicBezTo>
                <a:cubicBezTo>
                  <a:pt x="2287" y="6"/>
                  <a:pt x="2303" y="0"/>
                  <a:pt x="2368" y="14"/>
                </a:cubicBezTo>
                <a:cubicBezTo>
                  <a:pt x="2409" y="23"/>
                  <a:pt x="2450" y="51"/>
                  <a:pt x="2490" y="64"/>
                </a:cubicBezTo>
                <a:cubicBezTo>
                  <a:pt x="2566" y="115"/>
                  <a:pt x="2644" y="111"/>
                  <a:pt x="2735" y="122"/>
                </a:cubicBezTo>
                <a:cubicBezTo>
                  <a:pt x="2744" y="137"/>
                  <a:pt x="2757" y="149"/>
                  <a:pt x="2764" y="165"/>
                </a:cubicBezTo>
                <a:cubicBezTo>
                  <a:pt x="2770" y="179"/>
                  <a:pt x="2778" y="208"/>
                  <a:pt x="2778" y="208"/>
                </a:cubicBezTo>
                <a:cubicBezTo>
                  <a:pt x="2786" y="259"/>
                  <a:pt x="2779" y="315"/>
                  <a:pt x="2807" y="360"/>
                </a:cubicBezTo>
                <a:cubicBezTo>
                  <a:pt x="2818" y="407"/>
                  <a:pt x="2835" y="444"/>
                  <a:pt x="2850" y="489"/>
                </a:cubicBezTo>
                <a:cubicBezTo>
                  <a:pt x="2846" y="662"/>
                  <a:pt x="2914" y="835"/>
                  <a:pt x="2735" y="878"/>
                </a:cubicBezTo>
                <a:cubicBezTo>
                  <a:pt x="2701" y="899"/>
                  <a:pt x="2675" y="930"/>
                  <a:pt x="2641" y="950"/>
                </a:cubicBezTo>
                <a:cubicBezTo>
                  <a:pt x="2621" y="962"/>
                  <a:pt x="2563" y="963"/>
                  <a:pt x="2555" y="964"/>
                </a:cubicBezTo>
                <a:cubicBezTo>
                  <a:pt x="2548" y="969"/>
                  <a:pt x="2539" y="973"/>
                  <a:pt x="2533" y="979"/>
                </a:cubicBezTo>
                <a:cubicBezTo>
                  <a:pt x="2527" y="985"/>
                  <a:pt x="2526" y="996"/>
                  <a:pt x="2519" y="1000"/>
                </a:cubicBezTo>
                <a:cubicBezTo>
                  <a:pt x="2471" y="1028"/>
                  <a:pt x="2433" y="1032"/>
                  <a:pt x="2389" y="1065"/>
                </a:cubicBezTo>
                <a:cubicBezTo>
                  <a:pt x="2336" y="1105"/>
                  <a:pt x="2291" y="1157"/>
                  <a:pt x="2224" y="1173"/>
                </a:cubicBezTo>
                <a:cubicBezTo>
                  <a:pt x="2206" y="1191"/>
                  <a:pt x="2152" y="1202"/>
                  <a:pt x="2152" y="1202"/>
                </a:cubicBezTo>
                <a:cubicBezTo>
                  <a:pt x="2102" y="1249"/>
                  <a:pt x="2036" y="1228"/>
                  <a:pt x="1965" y="1231"/>
                </a:cubicBezTo>
                <a:cubicBezTo>
                  <a:pt x="1921" y="1262"/>
                  <a:pt x="1885" y="1299"/>
                  <a:pt x="1842" y="1332"/>
                </a:cubicBezTo>
                <a:cubicBezTo>
                  <a:pt x="1799" y="1418"/>
                  <a:pt x="1677" y="1508"/>
                  <a:pt x="1583" y="1526"/>
                </a:cubicBezTo>
                <a:cubicBezTo>
                  <a:pt x="1464" y="1584"/>
                  <a:pt x="1475" y="1570"/>
                  <a:pt x="1295" y="1584"/>
                </a:cubicBezTo>
                <a:cubicBezTo>
                  <a:pt x="1256" y="1591"/>
                  <a:pt x="1226" y="1606"/>
                  <a:pt x="1187" y="1612"/>
                </a:cubicBezTo>
                <a:cubicBezTo>
                  <a:pt x="1130" y="1641"/>
                  <a:pt x="1185" y="1616"/>
                  <a:pt x="1093" y="1641"/>
                </a:cubicBezTo>
                <a:cubicBezTo>
                  <a:pt x="1041" y="1655"/>
                  <a:pt x="995" y="1675"/>
                  <a:pt x="942" y="1684"/>
                </a:cubicBezTo>
                <a:cubicBezTo>
                  <a:pt x="897" y="1701"/>
                  <a:pt x="946" y="1684"/>
                  <a:pt x="870" y="1699"/>
                </a:cubicBezTo>
                <a:cubicBezTo>
                  <a:pt x="846" y="1704"/>
                  <a:pt x="822" y="1715"/>
                  <a:pt x="798" y="1720"/>
                </a:cubicBezTo>
                <a:cubicBezTo>
                  <a:pt x="781" y="1723"/>
                  <a:pt x="764" y="1724"/>
                  <a:pt x="748" y="1728"/>
                </a:cubicBezTo>
                <a:cubicBezTo>
                  <a:pt x="733" y="1731"/>
                  <a:pt x="705" y="1742"/>
                  <a:pt x="705" y="1742"/>
                </a:cubicBezTo>
                <a:cubicBezTo>
                  <a:pt x="678" y="1737"/>
                  <a:pt x="651" y="1737"/>
                  <a:pt x="625" y="1728"/>
                </a:cubicBezTo>
                <a:cubicBezTo>
                  <a:pt x="605" y="1721"/>
                  <a:pt x="547" y="1672"/>
                  <a:pt x="525" y="1656"/>
                </a:cubicBezTo>
                <a:cubicBezTo>
                  <a:pt x="448" y="1601"/>
                  <a:pt x="366" y="1551"/>
                  <a:pt x="294" y="1490"/>
                </a:cubicBezTo>
                <a:cubicBezTo>
                  <a:pt x="267" y="1467"/>
                  <a:pt x="238" y="1429"/>
                  <a:pt x="208" y="1411"/>
                </a:cubicBezTo>
                <a:cubicBezTo>
                  <a:pt x="161" y="1382"/>
                  <a:pt x="118" y="1349"/>
                  <a:pt x="85" y="1303"/>
                </a:cubicBezTo>
                <a:cubicBezTo>
                  <a:pt x="76" y="1275"/>
                  <a:pt x="49" y="1224"/>
                  <a:pt x="49" y="1224"/>
                </a:cubicBezTo>
                <a:cubicBezTo>
                  <a:pt x="40" y="1188"/>
                  <a:pt x="26" y="1151"/>
                  <a:pt x="13" y="1116"/>
                </a:cubicBezTo>
                <a:cubicBezTo>
                  <a:pt x="4" y="1039"/>
                  <a:pt x="0" y="961"/>
                  <a:pt x="21" y="885"/>
                </a:cubicBezTo>
                <a:cubicBezTo>
                  <a:pt x="23" y="861"/>
                  <a:pt x="23" y="837"/>
                  <a:pt x="28" y="813"/>
                </a:cubicBezTo>
                <a:cubicBezTo>
                  <a:pt x="34" y="787"/>
                  <a:pt x="69" y="740"/>
                  <a:pt x="85" y="712"/>
                </a:cubicBezTo>
                <a:cubicBezTo>
                  <a:pt x="94" y="696"/>
                  <a:pt x="96" y="676"/>
                  <a:pt x="107" y="662"/>
                </a:cubicBezTo>
                <a:cubicBezTo>
                  <a:pt x="125" y="640"/>
                  <a:pt x="163" y="632"/>
                  <a:pt x="186" y="619"/>
                </a:cubicBezTo>
                <a:cubicBezTo>
                  <a:pt x="235" y="591"/>
                  <a:pt x="260" y="568"/>
                  <a:pt x="316" y="554"/>
                </a:cubicBezTo>
                <a:cubicBezTo>
                  <a:pt x="348" y="533"/>
                  <a:pt x="380" y="525"/>
                  <a:pt x="417" y="518"/>
                </a:cubicBezTo>
                <a:cubicBezTo>
                  <a:pt x="442" y="501"/>
                  <a:pt x="451" y="479"/>
                  <a:pt x="474" y="460"/>
                </a:cubicBezTo>
                <a:cubicBezTo>
                  <a:pt x="521" y="422"/>
                  <a:pt x="579" y="392"/>
                  <a:pt x="618" y="345"/>
                </a:cubicBezTo>
                <a:cubicBezTo>
                  <a:pt x="655" y="301"/>
                  <a:pt x="693" y="255"/>
                  <a:pt x="741" y="223"/>
                </a:cubicBezTo>
                <a:cubicBezTo>
                  <a:pt x="754" y="214"/>
                  <a:pt x="762" y="198"/>
                  <a:pt x="777" y="194"/>
                </a:cubicBezTo>
                <a:cubicBezTo>
                  <a:pt x="798" y="188"/>
                  <a:pt x="820" y="189"/>
                  <a:pt x="841" y="187"/>
                </a:cubicBezTo>
                <a:cubicBezTo>
                  <a:pt x="855" y="173"/>
                  <a:pt x="863" y="165"/>
                  <a:pt x="863" y="144"/>
                </a:cubicBezTo>
              </a:path>
            </a:pathLst>
          </a:custGeom>
          <a:solidFill>
            <a:srgbClr val="8dc6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2327400" y="2239920"/>
            <a:ext cx="6130800" cy="3371760"/>
          </a:xfrm>
          <a:custGeom>
            <a:avLst/>
            <a:gdLst>
              <a:gd name="textAreaLeft" fmla="*/ 0 w 6130800"/>
              <a:gd name="textAreaRight" fmla="*/ 6131160 w 6130800"/>
              <a:gd name="textAreaTop" fmla="*/ 0 h 3371760"/>
              <a:gd name="textAreaBottom" fmla="*/ 3372120 h 3371760"/>
            </a:gdLst>
            <a:ahLst/>
            <a:rect l="textAreaLeft" t="textAreaTop" r="textAreaRight" b="textAreaBottom"/>
            <a:pathLst>
              <a:path w="3862" h="2124">
                <a:moveTo>
                  <a:pt x="521" y="1267"/>
                </a:moveTo>
                <a:cubicBezTo>
                  <a:pt x="526" y="1214"/>
                  <a:pt x="526" y="1161"/>
                  <a:pt x="536" y="1109"/>
                </a:cubicBezTo>
                <a:cubicBezTo>
                  <a:pt x="546" y="1056"/>
                  <a:pt x="607" y="991"/>
                  <a:pt x="636" y="951"/>
                </a:cubicBezTo>
                <a:cubicBezTo>
                  <a:pt x="649" y="933"/>
                  <a:pt x="659" y="905"/>
                  <a:pt x="680" y="893"/>
                </a:cubicBezTo>
                <a:cubicBezTo>
                  <a:pt x="700" y="881"/>
                  <a:pt x="758" y="880"/>
                  <a:pt x="766" y="879"/>
                </a:cubicBezTo>
                <a:cubicBezTo>
                  <a:pt x="793" y="869"/>
                  <a:pt x="817" y="857"/>
                  <a:pt x="845" y="850"/>
                </a:cubicBezTo>
                <a:cubicBezTo>
                  <a:pt x="889" y="806"/>
                  <a:pt x="870" y="721"/>
                  <a:pt x="903" y="670"/>
                </a:cubicBezTo>
                <a:cubicBezTo>
                  <a:pt x="923" y="640"/>
                  <a:pt x="954" y="617"/>
                  <a:pt x="982" y="598"/>
                </a:cubicBezTo>
                <a:cubicBezTo>
                  <a:pt x="1058" y="546"/>
                  <a:pt x="1090" y="503"/>
                  <a:pt x="1184" y="490"/>
                </a:cubicBezTo>
                <a:cubicBezTo>
                  <a:pt x="1219" y="418"/>
                  <a:pt x="1271" y="396"/>
                  <a:pt x="1342" y="367"/>
                </a:cubicBezTo>
                <a:cubicBezTo>
                  <a:pt x="1405" y="341"/>
                  <a:pt x="1464" y="303"/>
                  <a:pt x="1529" y="281"/>
                </a:cubicBezTo>
                <a:cubicBezTo>
                  <a:pt x="1553" y="259"/>
                  <a:pt x="1580" y="242"/>
                  <a:pt x="1601" y="216"/>
                </a:cubicBezTo>
                <a:cubicBezTo>
                  <a:pt x="1618" y="194"/>
                  <a:pt x="1637" y="174"/>
                  <a:pt x="1652" y="151"/>
                </a:cubicBezTo>
                <a:cubicBezTo>
                  <a:pt x="1658" y="142"/>
                  <a:pt x="1659" y="131"/>
                  <a:pt x="1666" y="123"/>
                </a:cubicBezTo>
                <a:cubicBezTo>
                  <a:pt x="1677" y="110"/>
                  <a:pt x="1703" y="102"/>
                  <a:pt x="1716" y="94"/>
                </a:cubicBezTo>
                <a:cubicBezTo>
                  <a:pt x="1740" y="78"/>
                  <a:pt x="1759" y="61"/>
                  <a:pt x="1788" y="51"/>
                </a:cubicBezTo>
                <a:cubicBezTo>
                  <a:pt x="1935" y="61"/>
                  <a:pt x="2060" y="20"/>
                  <a:pt x="2206" y="0"/>
                </a:cubicBezTo>
                <a:cubicBezTo>
                  <a:pt x="2360" y="2"/>
                  <a:pt x="2513" y="2"/>
                  <a:pt x="2667" y="7"/>
                </a:cubicBezTo>
                <a:cubicBezTo>
                  <a:pt x="2695" y="8"/>
                  <a:pt x="2712" y="41"/>
                  <a:pt x="2732" y="43"/>
                </a:cubicBezTo>
                <a:cubicBezTo>
                  <a:pt x="2816" y="50"/>
                  <a:pt x="2900" y="48"/>
                  <a:pt x="2984" y="51"/>
                </a:cubicBezTo>
                <a:cubicBezTo>
                  <a:pt x="3068" y="93"/>
                  <a:pt x="3143" y="131"/>
                  <a:pt x="3236" y="151"/>
                </a:cubicBezTo>
                <a:cubicBezTo>
                  <a:pt x="3288" y="205"/>
                  <a:pt x="3264" y="181"/>
                  <a:pt x="3308" y="223"/>
                </a:cubicBezTo>
                <a:cubicBezTo>
                  <a:pt x="3314" y="229"/>
                  <a:pt x="3315" y="240"/>
                  <a:pt x="3322" y="245"/>
                </a:cubicBezTo>
                <a:cubicBezTo>
                  <a:pt x="3328" y="250"/>
                  <a:pt x="3337" y="249"/>
                  <a:pt x="3344" y="252"/>
                </a:cubicBezTo>
                <a:cubicBezTo>
                  <a:pt x="3377" y="268"/>
                  <a:pt x="3415" y="287"/>
                  <a:pt x="3444" y="310"/>
                </a:cubicBezTo>
                <a:cubicBezTo>
                  <a:pt x="3475" y="335"/>
                  <a:pt x="3497" y="367"/>
                  <a:pt x="3531" y="389"/>
                </a:cubicBezTo>
                <a:cubicBezTo>
                  <a:pt x="3561" y="450"/>
                  <a:pt x="3588" y="512"/>
                  <a:pt x="3624" y="569"/>
                </a:cubicBezTo>
                <a:cubicBezTo>
                  <a:pt x="3636" y="613"/>
                  <a:pt x="3663" y="648"/>
                  <a:pt x="3689" y="684"/>
                </a:cubicBezTo>
                <a:cubicBezTo>
                  <a:pt x="3699" y="725"/>
                  <a:pt x="3722" y="728"/>
                  <a:pt x="3740" y="771"/>
                </a:cubicBezTo>
                <a:cubicBezTo>
                  <a:pt x="3776" y="857"/>
                  <a:pt x="3833" y="933"/>
                  <a:pt x="3862" y="1023"/>
                </a:cubicBezTo>
                <a:cubicBezTo>
                  <a:pt x="3855" y="1058"/>
                  <a:pt x="3850" y="1070"/>
                  <a:pt x="3826" y="1095"/>
                </a:cubicBezTo>
                <a:cubicBezTo>
                  <a:pt x="3805" y="1178"/>
                  <a:pt x="3735" y="1184"/>
                  <a:pt x="3675" y="1224"/>
                </a:cubicBezTo>
                <a:cubicBezTo>
                  <a:pt x="3620" y="1261"/>
                  <a:pt x="3582" y="1318"/>
                  <a:pt x="3516" y="1339"/>
                </a:cubicBezTo>
                <a:cubicBezTo>
                  <a:pt x="3461" y="1398"/>
                  <a:pt x="3561" y="1294"/>
                  <a:pt x="3473" y="1368"/>
                </a:cubicBezTo>
                <a:cubicBezTo>
                  <a:pt x="3419" y="1413"/>
                  <a:pt x="3494" y="1370"/>
                  <a:pt x="3444" y="1404"/>
                </a:cubicBezTo>
                <a:cubicBezTo>
                  <a:pt x="3363" y="1459"/>
                  <a:pt x="3288" y="1511"/>
                  <a:pt x="3192" y="1534"/>
                </a:cubicBezTo>
                <a:cubicBezTo>
                  <a:pt x="3075" y="1530"/>
                  <a:pt x="2968" y="1516"/>
                  <a:pt x="2854" y="1527"/>
                </a:cubicBezTo>
                <a:cubicBezTo>
                  <a:pt x="2783" y="1596"/>
                  <a:pt x="2749" y="1606"/>
                  <a:pt x="2652" y="1642"/>
                </a:cubicBezTo>
                <a:cubicBezTo>
                  <a:pt x="2440" y="1720"/>
                  <a:pt x="2215" y="1753"/>
                  <a:pt x="1990" y="1771"/>
                </a:cubicBezTo>
                <a:cubicBezTo>
                  <a:pt x="1913" y="1789"/>
                  <a:pt x="1847" y="1795"/>
                  <a:pt x="1767" y="1800"/>
                </a:cubicBezTo>
                <a:cubicBezTo>
                  <a:pt x="1717" y="1810"/>
                  <a:pt x="1663" y="1835"/>
                  <a:pt x="1616" y="1858"/>
                </a:cubicBezTo>
                <a:cubicBezTo>
                  <a:pt x="1586" y="1873"/>
                  <a:pt x="1561" y="1899"/>
                  <a:pt x="1529" y="1908"/>
                </a:cubicBezTo>
                <a:cubicBezTo>
                  <a:pt x="1411" y="1940"/>
                  <a:pt x="1281" y="1967"/>
                  <a:pt x="1169" y="2016"/>
                </a:cubicBezTo>
                <a:cubicBezTo>
                  <a:pt x="1109" y="2042"/>
                  <a:pt x="1027" y="2092"/>
                  <a:pt x="960" y="2095"/>
                </a:cubicBezTo>
                <a:cubicBezTo>
                  <a:pt x="795" y="2102"/>
                  <a:pt x="629" y="2100"/>
                  <a:pt x="464" y="2103"/>
                </a:cubicBezTo>
                <a:cubicBezTo>
                  <a:pt x="371" y="2118"/>
                  <a:pt x="355" y="2124"/>
                  <a:pt x="219" y="2095"/>
                </a:cubicBezTo>
                <a:cubicBezTo>
                  <a:pt x="176" y="2086"/>
                  <a:pt x="138" y="2038"/>
                  <a:pt x="96" y="2023"/>
                </a:cubicBezTo>
                <a:cubicBezTo>
                  <a:pt x="77" y="1998"/>
                  <a:pt x="56" y="1984"/>
                  <a:pt x="39" y="1959"/>
                </a:cubicBezTo>
                <a:cubicBezTo>
                  <a:pt x="11" y="1871"/>
                  <a:pt x="0" y="1945"/>
                  <a:pt x="24" y="1771"/>
                </a:cubicBezTo>
                <a:cubicBezTo>
                  <a:pt x="25" y="1764"/>
                  <a:pt x="35" y="1763"/>
                  <a:pt x="39" y="1757"/>
                </a:cubicBezTo>
                <a:cubicBezTo>
                  <a:pt x="50" y="1741"/>
                  <a:pt x="59" y="1724"/>
                  <a:pt x="68" y="1707"/>
                </a:cubicBezTo>
                <a:cubicBezTo>
                  <a:pt x="97" y="1653"/>
                  <a:pt x="139" y="1607"/>
                  <a:pt x="183" y="1563"/>
                </a:cubicBezTo>
                <a:cubicBezTo>
                  <a:pt x="201" y="1545"/>
                  <a:pt x="212" y="1520"/>
                  <a:pt x="233" y="1505"/>
                </a:cubicBezTo>
                <a:cubicBezTo>
                  <a:pt x="249" y="1494"/>
                  <a:pt x="268" y="1487"/>
                  <a:pt x="284" y="1476"/>
                </a:cubicBezTo>
                <a:cubicBezTo>
                  <a:pt x="318" y="1424"/>
                  <a:pt x="271" y="1490"/>
                  <a:pt x="327" y="1433"/>
                </a:cubicBezTo>
                <a:cubicBezTo>
                  <a:pt x="362" y="1397"/>
                  <a:pt x="349" y="1382"/>
                  <a:pt x="406" y="1368"/>
                </a:cubicBezTo>
                <a:cubicBezTo>
                  <a:pt x="436" y="1339"/>
                  <a:pt x="445" y="1314"/>
                  <a:pt x="485" y="1303"/>
                </a:cubicBezTo>
                <a:cubicBezTo>
                  <a:pt x="494" y="1290"/>
                  <a:pt x="512" y="1282"/>
                  <a:pt x="514" y="1267"/>
                </a:cubicBezTo>
                <a:cubicBezTo>
                  <a:pt x="520" y="1227"/>
                  <a:pt x="515" y="1185"/>
                  <a:pt x="521" y="1145"/>
                </a:cubicBezTo>
                <a:cubicBezTo>
                  <a:pt x="525" y="1121"/>
                  <a:pt x="530" y="1123"/>
                  <a:pt x="543" y="1123"/>
                </a:cubicBezTo>
              </a:path>
            </a:pathLst>
          </a:custGeom>
          <a:solidFill>
            <a:srgbClr val="96969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87480" y="1546200"/>
            <a:ext cx="113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195640" y="69228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219480" y="1197000"/>
            <a:ext cx="7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479840" y="3592440"/>
            <a:ext cx="11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564000" y="429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500720" y="3141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156360" y="2781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-0.36233 -0.29398 E">
                                      <p:cBhvr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35 0.2625 E">
                                      <p:cBhvr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222962582_bdc7d07568e9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nom6"/>
          <p:cNvPicPr/>
          <p:nvPr/>
        </p:nvPicPr>
        <p:blipFill>
          <a:blip r:embed="rId2"/>
          <a:stretch/>
        </p:blipFill>
        <p:spPr>
          <a:xfrm>
            <a:off x="3635280" y="836640"/>
            <a:ext cx="2266920" cy="3789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79280" y="620640"/>
            <a:ext cx="388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995640" y="765000"/>
            <a:ext cx="55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012000" y="2637000"/>
            <a:ext cx="792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gnom11"/>
          <p:cNvPicPr/>
          <p:nvPr/>
        </p:nvPicPr>
        <p:blipFill>
          <a:blip r:embed="rId3"/>
          <a:stretch/>
        </p:blipFill>
        <p:spPr>
          <a:xfrm>
            <a:off x="6137280" y="4278240"/>
            <a:ext cx="3006720" cy="2579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gnom12"/>
          <p:cNvPicPr/>
          <p:nvPr/>
        </p:nvPicPr>
        <p:blipFill>
          <a:blip r:embed="rId4"/>
          <a:stretch/>
        </p:blipFill>
        <p:spPr>
          <a:xfrm>
            <a:off x="250920" y="4005360"/>
            <a:ext cx="1912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523880" y="333360"/>
          <a:ext cx="6096240" cy="56167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5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9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5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9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Oval 18"/>
          <p:cNvSpPr/>
          <p:nvPr/>
        </p:nvSpPr>
        <p:spPr>
          <a:xfrm>
            <a:off x="2627280" y="333360"/>
            <a:ext cx="208764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>
            <a:off x="3635280" y="1268280"/>
            <a:ext cx="2448000" cy="865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0"/>
          <p:cNvSpPr/>
          <p:nvPr/>
        </p:nvSpPr>
        <p:spPr>
          <a:xfrm>
            <a:off x="2627280" y="2205000"/>
            <a:ext cx="2448000" cy="86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1"/>
          <p:cNvSpPr/>
          <p:nvPr/>
        </p:nvSpPr>
        <p:spPr>
          <a:xfrm>
            <a:off x="1547640" y="3141720"/>
            <a:ext cx="2448000" cy="86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2"/>
          <p:cNvSpPr/>
          <p:nvPr/>
        </p:nvSpPr>
        <p:spPr>
          <a:xfrm>
            <a:off x="3635280" y="4076640"/>
            <a:ext cx="2448000" cy="86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3"/>
          <p:cNvSpPr/>
          <p:nvPr/>
        </p:nvSpPr>
        <p:spPr>
          <a:xfrm>
            <a:off x="1476360" y="5013360"/>
            <a:ext cx="2448000" cy="86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4000" y="333360"/>
          <a:ext cx="1176120" cy="5616720"/>
        </p:xfrm>
        <a:graphic>
          <a:graphicData uri="http://schemas.openxmlformats.org/drawingml/2006/table">
            <a:tbl>
              <a:tblPr/>
              <a:tblGrid>
                <a:gridCol w="11761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80" name="Line 3"/>
          <p:cNvSpPr/>
          <p:nvPr/>
        </p:nvSpPr>
        <p:spPr>
          <a:xfrm flipH="1" flipV="1">
            <a:off x="0" y="189000"/>
            <a:ext cx="2340000" cy="1727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 flipH="1" flipV="1">
            <a:off x="1116000" y="0"/>
            <a:ext cx="1295280" cy="1773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 flipH="1" flipV="1">
            <a:off x="2124000" y="0"/>
            <a:ext cx="503280" cy="1628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 flipH="1" flipV="1">
            <a:off x="2771280" y="0"/>
            <a:ext cx="71640" cy="1341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V="1">
            <a:off x="3203640" y="-360"/>
            <a:ext cx="144360" cy="1197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3635280" y="0"/>
            <a:ext cx="792360" cy="1125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H="1" flipV="1">
            <a:off x="-360" y="1413000"/>
            <a:ext cx="2195640" cy="792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 flipH="1">
            <a:off x="0" y="2565360"/>
            <a:ext cx="212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0" y="2852640"/>
            <a:ext cx="2124000" cy="720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солнышко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90" name="Line 3"/>
          <p:cNvSpPr/>
          <p:nvPr/>
        </p:nvSpPr>
        <p:spPr>
          <a:xfrm flipH="1" flipV="1">
            <a:off x="0" y="189000"/>
            <a:ext cx="2340000" cy="1727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 flipH="1" flipV="1">
            <a:off x="1116000" y="0"/>
            <a:ext cx="1295280" cy="1773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 flipH="1" flipV="1">
            <a:off x="2124000" y="0"/>
            <a:ext cx="503280" cy="1628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H="1" flipV="1">
            <a:off x="2771280" y="0"/>
            <a:ext cx="71640" cy="1341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3203640" y="-360"/>
            <a:ext cx="144360" cy="1197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3635280" y="0"/>
            <a:ext cx="792360" cy="1125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H="1" flipV="1">
            <a:off x="-360" y="1413000"/>
            <a:ext cx="2195640" cy="792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0" y="2565360"/>
            <a:ext cx="212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0" y="2852640"/>
            <a:ext cx="2124000" cy="720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2"/>
          <p:cNvSpPr/>
          <p:nvPr/>
        </p:nvSpPr>
        <p:spPr>
          <a:xfrm>
            <a:off x="3924360" y="3645000"/>
            <a:ext cx="4626000" cy="2765160"/>
          </a:xfrm>
          <a:custGeom>
            <a:avLst/>
            <a:gdLst>
              <a:gd name="textAreaLeft" fmla="*/ 0 w 4626000"/>
              <a:gd name="textAreaRight" fmla="*/ 4626360 w 4626000"/>
              <a:gd name="textAreaTop" fmla="*/ 0 h 2765160"/>
              <a:gd name="textAreaBottom" fmla="*/ 2765160 h 2765160"/>
            </a:gdLst>
            <a:ahLst/>
            <a:rect l="textAreaLeft" t="textAreaTop" r="textAreaRight" b="textAreaBottom"/>
            <a:pathLst>
              <a:path w="2914" h="1742">
                <a:moveTo>
                  <a:pt x="820" y="194"/>
                </a:moveTo>
                <a:cubicBezTo>
                  <a:pt x="851" y="130"/>
                  <a:pt x="909" y="96"/>
                  <a:pt x="978" y="86"/>
                </a:cubicBezTo>
                <a:cubicBezTo>
                  <a:pt x="1014" y="75"/>
                  <a:pt x="1050" y="69"/>
                  <a:pt x="1086" y="57"/>
                </a:cubicBezTo>
                <a:cubicBezTo>
                  <a:pt x="1211" y="67"/>
                  <a:pt x="1318" y="69"/>
                  <a:pt x="1446" y="64"/>
                </a:cubicBezTo>
                <a:cubicBezTo>
                  <a:pt x="1709" y="36"/>
                  <a:pt x="1965" y="26"/>
                  <a:pt x="2231" y="14"/>
                </a:cubicBezTo>
                <a:cubicBezTo>
                  <a:pt x="2287" y="6"/>
                  <a:pt x="2303" y="0"/>
                  <a:pt x="2368" y="14"/>
                </a:cubicBezTo>
                <a:cubicBezTo>
                  <a:pt x="2409" y="23"/>
                  <a:pt x="2450" y="51"/>
                  <a:pt x="2490" y="64"/>
                </a:cubicBezTo>
                <a:cubicBezTo>
                  <a:pt x="2566" y="115"/>
                  <a:pt x="2644" y="111"/>
                  <a:pt x="2735" y="122"/>
                </a:cubicBezTo>
                <a:cubicBezTo>
                  <a:pt x="2744" y="137"/>
                  <a:pt x="2757" y="149"/>
                  <a:pt x="2764" y="165"/>
                </a:cubicBezTo>
                <a:cubicBezTo>
                  <a:pt x="2770" y="179"/>
                  <a:pt x="2778" y="208"/>
                  <a:pt x="2778" y="208"/>
                </a:cubicBezTo>
                <a:cubicBezTo>
                  <a:pt x="2786" y="259"/>
                  <a:pt x="2779" y="315"/>
                  <a:pt x="2807" y="360"/>
                </a:cubicBezTo>
                <a:cubicBezTo>
                  <a:pt x="2818" y="407"/>
                  <a:pt x="2835" y="444"/>
                  <a:pt x="2850" y="489"/>
                </a:cubicBezTo>
                <a:cubicBezTo>
                  <a:pt x="2846" y="662"/>
                  <a:pt x="2914" y="835"/>
                  <a:pt x="2735" y="878"/>
                </a:cubicBezTo>
                <a:cubicBezTo>
                  <a:pt x="2701" y="899"/>
                  <a:pt x="2675" y="930"/>
                  <a:pt x="2641" y="950"/>
                </a:cubicBezTo>
                <a:cubicBezTo>
                  <a:pt x="2621" y="962"/>
                  <a:pt x="2563" y="963"/>
                  <a:pt x="2555" y="964"/>
                </a:cubicBezTo>
                <a:cubicBezTo>
                  <a:pt x="2548" y="969"/>
                  <a:pt x="2539" y="973"/>
                  <a:pt x="2533" y="979"/>
                </a:cubicBezTo>
                <a:cubicBezTo>
                  <a:pt x="2527" y="985"/>
                  <a:pt x="2526" y="996"/>
                  <a:pt x="2519" y="1000"/>
                </a:cubicBezTo>
                <a:cubicBezTo>
                  <a:pt x="2471" y="1028"/>
                  <a:pt x="2433" y="1032"/>
                  <a:pt x="2389" y="1065"/>
                </a:cubicBezTo>
                <a:cubicBezTo>
                  <a:pt x="2336" y="1105"/>
                  <a:pt x="2291" y="1157"/>
                  <a:pt x="2224" y="1173"/>
                </a:cubicBezTo>
                <a:cubicBezTo>
                  <a:pt x="2206" y="1191"/>
                  <a:pt x="2152" y="1202"/>
                  <a:pt x="2152" y="1202"/>
                </a:cubicBezTo>
                <a:cubicBezTo>
                  <a:pt x="2102" y="1249"/>
                  <a:pt x="2036" y="1228"/>
                  <a:pt x="1965" y="1231"/>
                </a:cubicBezTo>
                <a:cubicBezTo>
                  <a:pt x="1921" y="1262"/>
                  <a:pt x="1885" y="1299"/>
                  <a:pt x="1842" y="1332"/>
                </a:cubicBezTo>
                <a:cubicBezTo>
                  <a:pt x="1799" y="1418"/>
                  <a:pt x="1677" y="1508"/>
                  <a:pt x="1583" y="1526"/>
                </a:cubicBezTo>
                <a:cubicBezTo>
                  <a:pt x="1464" y="1584"/>
                  <a:pt x="1475" y="1570"/>
                  <a:pt x="1295" y="1584"/>
                </a:cubicBezTo>
                <a:cubicBezTo>
                  <a:pt x="1256" y="1591"/>
                  <a:pt x="1226" y="1606"/>
                  <a:pt x="1187" y="1612"/>
                </a:cubicBezTo>
                <a:cubicBezTo>
                  <a:pt x="1130" y="1641"/>
                  <a:pt x="1185" y="1616"/>
                  <a:pt x="1093" y="1641"/>
                </a:cubicBezTo>
                <a:cubicBezTo>
                  <a:pt x="1041" y="1655"/>
                  <a:pt x="995" y="1675"/>
                  <a:pt x="942" y="1684"/>
                </a:cubicBezTo>
                <a:cubicBezTo>
                  <a:pt x="897" y="1701"/>
                  <a:pt x="946" y="1684"/>
                  <a:pt x="870" y="1699"/>
                </a:cubicBezTo>
                <a:cubicBezTo>
                  <a:pt x="846" y="1704"/>
                  <a:pt x="822" y="1715"/>
                  <a:pt x="798" y="1720"/>
                </a:cubicBezTo>
                <a:cubicBezTo>
                  <a:pt x="781" y="1723"/>
                  <a:pt x="764" y="1724"/>
                  <a:pt x="748" y="1728"/>
                </a:cubicBezTo>
                <a:cubicBezTo>
                  <a:pt x="733" y="1731"/>
                  <a:pt x="705" y="1742"/>
                  <a:pt x="705" y="1742"/>
                </a:cubicBezTo>
                <a:cubicBezTo>
                  <a:pt x="678" y="1737"/>
                  <a:pt x="651" y="1737"/>
                  <a:pt x="625" y="1728"/>
                </a:cubicBezTo>
                <a:cubicBezTo>
                  <a:pt x="605" y="1721"/>
                  <a:pt x="547" y="1672"/>
                  <a:pt x="525" y="1656"/>
                </a:cubicBezTo>
                <a:cubicBezTo>
                  <a:pt x="448" y="1601"/>
                  <a:pt x="366" y="1551"/>
                  <a:pt x="294" y="1490"/>
                </a:cubicBezTo>
                <a:cubicBezTo>
                  <a:pt x="267" y="1467"/>
                  <a:pt x="238" y="1429"/>
                  <a:pt x="208" y="1411"/>
                </a:cubicBezTo>
                <a:cubicBezTo>
                  <a:pt x="161" y="1382"/>
                  <a:pt x="118" y="1349"/>
                  <a:pt x="85" y="1303"/>
                </a:cubicBezTo>
                <a:cubicBezTo>
                  <a:pt x="76" y="1275"/>
                  <a:pt x="49" y="1224"/>
                  <a:pt x="49" y="1224"/>
                </a:cubicBezTo>
                <a:cubicBezTo>
                  <a:pt x="40" y="1188"/>
                  <a:pt x="26" y="1151"/>
                  <a:pt x="13" y="1116"/>
                </a:cubicBezTo>
                <a:cubicBezTo>
                  <a:pt x="4" y="1039"/>
                  <a:pt x="0" y="961"/>
                  <a:pt x="21" y="885"/>
                </a:cubicBezTo>
                <a:cubicBezTo>
                  <a:pt x="23" y="861"/>
                  <a:pt x="23" y="837"/>
                  <a:pt x="28" y="813"/>
                </a:cubicBezTo>
                <a:cubicBezTo>
                  <a:pt x="34" y="787"/>
                  <a:pt x="69" y="740"/>
                  <a:pt x="85" y="712"/>
                </a:cubicBezTo>
                <a:cubicBezTo>
                  <a:pt x="94" y="696"/>
                  <a:pt x="96" y="676"/>
                  <a:pt x="107" y="662"/>
                </a:cubicBezTo>
                <a:cubicBezTo>
                  <a:pt x="125" y="640"/>
                  <a:pt x="163" y="632"/>
                  <a:pt x="186" y="619"/>
                </a:cubicBezTo>
                <a:cubicBezTo>
                  <a:pt x="235" y="591"/>
                  <a:pt x="260" y="568"/>
                  <a:pt x="316" y="554"/>
                </a:cubicBezTo>
                <a:cubicBezTo>
                  <a:pt x="348" y="533"/>
                  <a:pt x="380" y="525"/>
                  <a:pt x="417" y="518"/>
                </a:cubicBezTo>
                <a:cubicBezTo>
                  <a:pt x="442" y="501"/>
                  <a:pt x="451" y="479"/>
                  <a:pt x="474" y="460"/>
                </a:cubicBezTo>
                <a:cubicBezTo>
                  <a:pt x="521" y="422"/>
                  <a:pt x="579" y="392"/>
                  <a:pt x="618" y="345"/>
                </a:cubicBezTo>
                <a:cubicBezTo>
                  <a:pt x="655" y="301"/>
                  <a:pt x="693" y="255"/>
                  <a:pt x="741" y="223"/>
                </a:cubicBezTo>
                <a:cubicBezTo>
                  <a:pt x="754" y="214"/>
                  <a:pt x="762" y="198"/>
                  <a:pt x="777" y="194"/>
                </a:cubicBezTo>
                <a:cubicBezTo>
                  <a:pt x="798" y="188"/>
                  <a:pt x="820" y="189"/>
                  <a:pt x="841" y="187"/>
                </a:cubicBezTo>
                <a:cubicBezTo>
                  <a:pt x="855" y="173"/>
                  <a:pt x="863" y="165"/>
                  <a:pt x="863" y="144"/>
                </a:cubicBezTo>
              </a:path>
            </a:pathLst>
          </a:custGeom>
          <a:solidFill>
            <a:srgbClr val="8dc6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797800" y="39877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4718160" y="464796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222962368_12b8c3f32109202b9a-kop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gnom11"/>
          <p:cNvPicPr/>
          <p:nvPr/>
        </p:nvPicPr>
        <p:blipFill>
          <a:blip r:embed="rId2"/>
          <a:stretch/>
        </p:blipFill>
        <p:spPr>
          <a:xfrm>
            <a:off x="6804000" y="4437000"/>
            <a:ext cx="3006720" cy="2579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643120" y="57168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7 +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1280" y="285264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j0343363"/>
          <p:cNvPicPr/>
          <p:nvPr/>
        </p:nvPicPr>
        <p:blipFill>
          <a:blip r:embed="rId3"/>
          <a:stretch/>
        </p:blipFill>
        <p:spPr>
          <a:xfrm>
            <a:off x="2700360" y="4108320"/>
            <a:ext cx="30481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8:43:30Z</dcterms:created>
  <dc:creator>777</dc:creator>
  <dc:description/>
  <dc:language>en-US</dc:language>
  <cp:lastModifiedBy>XP GAME 2008</cp:lastModifiedBy>
  <dcterms:modified xsi:type="dcterms:W3CDTF">2012-04-18T17:04:05Z</dcterms:modified>
  <cp:revision>17</cp:revision>
  <dc:subject/>
  <dc:title>Слайд 1</dc:title>
</cp:coreProperties>
</file>