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3B3-5A51-4FE0-BF24-361141B3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33D-E2DC-41AC-8867-0CD52F5C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EB6-6CE2-4022-ABE2-7E9E5A34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781-416A-493F-9E40-3B3E18C3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170-DA7D-4AAF-A2EE-E0914296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857-7F9C-40AB-BF77-7324994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91D-DD6D-439F-B793-63FED18E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E04-81CA-4390-93D2-5D392AE7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916-2C69-408D-824E-AE9B8ECD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EF3-A8BD-43B0-AE12-57D157EC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5A5-4BC7-43FE-BBD6-16D0439E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483-1256-4CF8-804E-A9DE7F73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0DFC-69A3-4B31-A96C-53A33A77A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sportal.ru/shkola/algebra/library/razrabotka-otkrytogo-uroka-matematiki-po-teme-uravneniya-5-klass" TargetMode="External"/><Relationship Id="rId2" Type="http://schemas.openxmlformats.org/officeDocument/2006/relationships/hyperlink" Target="http://omnopol.ru/kliparty-vektornye/filmy-i-multfilmy-vektor/5944-kartinki-personazhi-multfilma-po-doroge-s-oblakami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5"/>
          <p:cNvSpPr/>
          <p:nvPr/>
        </p:nvSpPr>
        <p:spPr>
          <a:xfrm>
            <a:off x="285840" y="285840"/>
            <a:ext cx="8643960" cy="621504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Georgia"/>
              </a:rPr>
              <a:t>Решение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3880" y="3143160"/>
            <a:ext cx="80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Georgia"/>
              </a:rPr>
              <a:t>Состави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66"/>
                </a:solidFill>
                <a:latin typeface="Georgia"/>
              </a:rPr>
              <a:t>Шурыгина Ирина Владимировн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Georgia"/>
              </a:rPr>
              <a:t>учитель математик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Georgia"/>
              </a:rPr>
              <a:t>МБОУ СОШ № 8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Georgia"/>
              </a:rPr>
              <a:t>Елабужского муниципального района Р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3"/>
          <p:cNvSpPr/>
          <p:nvPr/>
        </p:nvSpPr>
        <p:spPr>
          <a:xfrm>
            <a:off x="285840" y="214200"/>
            <a:ext cx="8572320" cy="64296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Решение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усть в корзине было </a:t>
            </a:r>
            <a:r>
              <a:rPr b="0" i="1" lang="ru-RU" sz="3200" spc="-1" strike="noStrike">
                <a:solidFill>
                  <a:srgbClr val="002060"/>
                </a:solidFill>
                <a:latin typeface="Georgia"/>
              </a:rPr>
              <a:t>х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грибов, когда положили еще 27 грибов, там стало  75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х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 + 27 = 7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х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= 75 – 2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х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 = 4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Ответ: в корзине было 48 гриб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 корзине было несколько грибов. После того как в нее положили еще 27 грибов, их стало 75. Сколько грибов было в корзине?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212" descr=""/>
          <p:cNvPicPr/>
          <p:nvPr/>
        </p:nvPicPr>
        <p:blipFill>
          <a:blip r:embed="rId1"/>
          <a:stretch/>
        </p:blipFill>
        <p:spPr>
          <a:xfrm>
            <a:off x="571680" y="4357800"/>
            <a:ext cx="152388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3"/>
          <p:cNvSpPr/>
          <p:nvPr/>
        </p:nvSpPr>
        <p:spPr>
          <a:xfrm>
            <a:off x="214200" y="214200"/>
            <a:ext cx="8715600" cy="650088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eorgia"/>
              </a:rPr>
              <a:t>Выполните самостоятельн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57120" y="1143000"/>
          <a:ext cx="8501040" cy="505944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e5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e5ed"/>
                    </a:solidFill>
                  </a:tcPr>
                </a:tc>
              </a:tr>
              <a:tr h="52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Решите уравн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 ) ( а + 25) + 34 = 152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 67 +(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24 ) = 23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Решите задачу уравнение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В кармане было 157 рублей. После того как некоторую сумму потратили, там осталось  69 рублей. Сколько рублей потрати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В классе было несколько учеников. После того как 7 учеников вошли и 9 вышли, в классе стало 31. Сколько учеников было первоначально в класс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решите уравн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( х + 34) – 18 = 68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89+ (15 + к ) = 21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Решите задачу уравнение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В пакете было несколько конфет.  Когда Таня съела 12 штук, там осталось 45. Сколько конфет было в пакете первоначаль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В автоколонне было несколько машин. После того как получили 35 новых машин и 12машин списали, в автоколонне стало 93 машины. Сколько машин было в колонне?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3"/>
          <p:cNvSpPr/>
          <p:nvPr/>
        </p:nvSpPr>
        <p:spPr>
          <a:xfrm>
            <a:off x="357120" y="214200"/>
            <a:ext cx="8501040" cy="6286680"/>
          </a:xfrm>
          <a:prstGeom prst="roundRect">
            <a:avLst>
              <a:gd name="adj" fmla="val 16667"/>
            </a:avLst>
          </a:prstGeom>
          <a:solidFill>
            <a:srgbClr val="d9e3eb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400800" cy="39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14240" y="1071720"/>
          <a:ext cx="7786800" cy="478620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2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 93 – корень уравнен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192 – корень  уравн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Ответ: 88 рублей потраче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Ответ: 33 ученика было в классе первоначаль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52 – корень уравнен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115 – корень уравн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Ответ: 57 конфет было в кармане первоначаль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Ответ: 70 машин было в колонн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3"/>
          <p:cNvSpPr/>
          <p:nvPr/>
        </p:nvSpPr>
        <p:spPr>
          <a:xfrm>
            <a:off x="571680" y="214200"/>
            <a:ext cx="8572320" cy="6357960"/>
          </a:xfrm>
          <a:prstGeom prst="roundRect">
            <a:avLst>
              <a:gd name="adj" fmla="val 16667"/>
            </a:avLst>
          </a:prstGeom>
          <a:solidFill>
            <a:srgbClr val="d9e3eb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eorgia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56800" y="1571400"/>
            <a:ext cx="735804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3d54"/>
                </a:solidFill>
                <a:latin typeface="Georgia"/>
              </a:rPr>
              <a:t>Продолжите фраз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3d54"/>
                </a:solidFill>
                <a:latin typeface="Georgia"/>
              </a:rPr>
              <a:t>На уроке я узнал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3d54"/>
                </a:solidFill>
                <a:latin typeface="Georgia"/>
              </a:rPr>
              <a:t>На уроке я научился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3d54"/>
                </a:solidFill>
                <a:latin typeface="Georgia"/>
              </a:rPr>
              <a:t>Пожелан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3d54"/>
                </a:solidFill>
                <a:latin typeface="Georgia"/>
              </a:rPr>
              <a:t>когда у тебя получается, помоги другому. Протяни  руку ближнем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Песни из мультфильмов - Песня о дороге добра (mp3cut.ru).mp3" descr=""/>
          <p:cNvPicPr/>
          <p:nvPr/>
        </p:nvPicPr>
        <p:blipFill>
          <a:blip r:embed="rId1"/>
          <a:stretch/>
        </p:blipFill>
        <p:spPr>
          <a:xfrm>
            <a:off x="7143840" y="521496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F:\Desktop\13.jpg"/>
          <p:cNvPicPr/>
          <p:nvPr/>
        </p:nvPicPr>
        <p:blipFill>
          <a:blip r:embed="rId2"/>
          <a:stretch/>
        </p:blipFill>
        <p:spPr>
          <a:xfrm>
            <a:off x="5643720" y="1357200"/>
            <a:ext cx="253980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3461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3"/>
          <p:cNvSpPr/>
          <p:nvPr/>
        </p:nvSpPr>
        <p:spPr>
          <a:xfrm>
            <a:off x="428760" y="285840"/>
            <a:ext cx="8501040" cy="6215040"/>
          </a:xfrm>
          <a:prstGeom prst="roundRect">
            <a:avLst>
              <a:gd name="adj" fmla="val 16667"/>
            </a:avLst>
          </a:prstGeom>
          <a:solidFill>
            <a:srgbClr val="e3e5ed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eorgia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56800" y="2857320"/>
            <a:ext cx="735804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b292ca"/>
                </a:solidFill>
                <a:uFillTx/>
                <a:latin typeface="Calibri"/>
                <a:hlinkClick r:id="rId1"/>
              </a:rPr>
              <a:t>http://nsportal.ru/shkola/algebra/library/razrabotka-otkrytogo-uroka-matematiki-po-teme-uravneniya-5-klass</a:t>
            </a: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b292ca"/>
                </a:solidFill>
                <a:uFillTx/>
                <a:latin typeface="Calibri"/>
                <a:hlinkClick r:id="rId2"/>
              </a:rPr>
              <a:t>http://omnopol.ru/kliparty-vektornye/filmy-i-multfilmy-vektor/5944-kartinki-personazhi-multfilma-po-doroge-s-oblakami.html</a:t>
            </a: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4"/>
          <p:cNvSpPr/>
          <p:nvPr/>
        </p:nvSpPr>
        <p:spPr>
          <a:xfrm>
            <a:off x="142920" y="0"/>
            <a:ext cx="9001080" cy="68580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F:\Desktop\i.jpg"/>
          <p:cNvPicPr/>
          <p:nvPr/>
        </p:nvPicPr>
        <p:blipFill>
          <a:blip r:embed="rId1"/>
          <a:stretch/>
        </p:blipFill>
        <p:spPr>
          <a:xfrm>
            <a:off x="4286160" y="3643200"/>
            <a:ext cx="3786120" cy="3021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Девиз урока: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дорогу осилит идущий по ней челове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680" y="221472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329"/>
                </a:solidFill>
                <a:latin typeface="Georgia"/>
              </a:rPr>
              <a:t>Друзья, сегодня вместе с героями мультфильма «По дороге с облаками» мы с вами продолжим решать уравнения. Успехов ва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из мф - По дороге с облаками (mp3cut.ru).mp3" descr=""/>
          <p:cNvPicPr/>
          <p:nvPr/>
        </p:nvPicPr>
        <p:blipFill>
          <a:blip r:embed="rId2"/>
          <a:stretch/>
        </p:blipFill>
        <p:spPr>
          <a:xfrm>
            <a:off x="714240" y="5376960"/>
            <a:ext cx="928800" cy="928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138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22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6858000" y="214200"/>
            <a:ext cx="211464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Распределите предложенные примеры по столбик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85840" y="4357800"/>
          <a:ext cx="8429400" cy="50004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098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вые выра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квенные выра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sp>
        <p:nvSpPr>
          <p:cNvPr id="53" name="Скругленный прямоугольник 5"/>
          <p:cNvSpPr/>
          <p:nvPr/>
        </p:nvSpPr>
        <p:spPr>
          <a:xfrm>
            <a:off x="285840" y="142920"/>
            <a:ext cx="46080" cy="46080"/>
          </a:xfrm>
          <a:prstGeom prst="roundRect">
            <a:avLst>
              <a:gd name="adj" fmla="val 16667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607680" y="185724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274+323):3;</a:t>
            </a:r>
            <a:r>
              <a:rPr b="0" lang="ru-RU" sz="1800" spc="-1" strike="noStrike">
                <a:solidFill>
                  <a:srgbClr val="232329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57184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х+184) – 6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4878720" y="1857240"/>
            <a:ext cx="21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316 – 18) – 11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471240" y="235728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х + 25) – 13=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3008880" y="2428920"/>
            <a:ext cx="15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</a:t>
            </a:r>
            <a:r>
              <a:rPr b="1" lang="en-US" sz="2000" spc="-1" strike="noStrike">
                <a:solidFill>
                  <a:srgbClr val="232329"/>
                </a:solidFill>
                <a:latin typeface="Georgia"/>
              </a:rPr>
              <a:t>m</a:t>
            </a: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+ 42):</a:t>
            </a:r>
            <a:r>
              <a:rPr b="1" lang="en-US" sz="2000" spc="-1" strike="noStrike">
                <a:solidFill>
                  <a:srgbClr val="232329"/>
                </a:solidFill>
                <a:latin typeface="Georgia"/>
              </a:rPr>
              <a:t>n</a:t>
            </a: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929120" y="24289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275- у=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6858000" y="2643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2329"/>
                </a:solidFill>
                <a:latin typeface="Georgia"/>
              </a:rPr>
              <a:t>m</a:t>
            </a:r>
            <a:r>
              <a:rPr b="1" lang="ru-RU" sz="1800" spc="-1" strike="noStrike">
                <a:solidFill>
                  <a:srgbClr val="232329"/>
                </a:solidFill>
                <a:latin typeface="Georgia"/>
              </a:rPr>
              <a:t>:3+</a:t>
            </a:r>
            <a:r>
              <a:rPr b="1" lang="en-US" sz="1800" spc="-1" strike="noStrike">
                <a:solidFill>
                  <a:srgbClr val="232329"/>
                </a:solidFill>
                <a:latin typeface="Georgia"/>
              </a:rPr>
              <a:t>n</a:t>
            </a:r>
            <a:r>
              <a:rPr b="1" lang="ru-RU" sz="1800" spc="-1" strike="noStrike">
                <a:solidFill>
                  <a:srgbClr val="232329"/>
                </a:solidFill>
                <a:latin typeface="Georgia"/>
              </a:rPr>
              <a:t>: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608400" y="307188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742+856)+ (134+14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561240" y="37861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(4789 +</a:t>
            </a:r>
            <a:r>
              <a:rPr b="1" lang="en-US" sz="2000" spc="-1" strike="noStrike">
                <a:solidFill>
                  <a:srgbClr val="232329"/>
                </a:solidFill>
                <a:latin typeface="Georgia"/>
              </a:rPr>
              <a:t>d</a:t>
            </a: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) – 178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0"/>
          <p:cNvSpPr/>
          <p:nvPr/>
        </p:nvSpPr>
        <p:spPr>
          <a:xfrm>
            <a:off x="3143160" y="371484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2329"/>
                </a:solidFill>
                <a:latin typeface="Georgia"/>
              </a:rPr>
              <a:t>638+ х = 8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47919E-006 L 0.00799 0.46207 E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15747 0.57755 E">
                                      <p:cBhvr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4 0.06336 L -0.49931 0.50382 E">
                                      <p:cBhvr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3261 L 0.62639 0.38946 E">
                                      <p:cBhvr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-0.07214 L 0.01719 0.37873 E">
                                      <p:cBhvr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8 0.04324 L 0.16354 0.46266 E">
                                      <p:cBhvr>
                                        <p:cTn id="3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2 -0.02774 L -0.37535 0.42335 E">
                                      <p:cBhvr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L 8.33333E-007 0.3883 E">
                                      <p:cBhvr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17 0.05526 L 0.30903 0.36994 E">
                                      <p:cBhvr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0.04463 L 0.35017 0.35931 E">
                                      <p:cBhvr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4"/>
          <p:cNvSpPr/>
          <p:nvPr/>
        </p:nvSpPr>
        <p:spPr>
          <a:xfrm>
            <a:off x="428760" y="214200"/>
            <a:ext cx="8501040" cy="64296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396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2329"/>
                </a:solidFill>
                <a:latin typeface="Georgia"/>
              </a:rPr>
              <a:t>Итак, какие выражения называют числовыми выражениями; буквенными выражения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28400" y="3886200"/>
            <a:ext cx="6357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eorgia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6500880" y="3286080"/>
            <a:ext cx="221436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3"/>
          <p:cNvSpPr/>
          <p:nvPr/>
        </p:nvSpPr>
        <p:spPr>
          <a:xfrm>
            <a:off x="428760" y="285840"/>
            <a:ext cx="8358120" cy="61434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Подскажи словечко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28400" y="1356840"/>
            <a:ext cx="83581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Когда уравнение решаешь дружок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Ты должен найти у него________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Значение буквы проверить несложн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Подставь в______ его осторожн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Коль верное _______ выйдет у вас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То _______значенье зовите тотчас 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Georgia"/>
              </a:rPr>
              <a:t>Подсказка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Georgia"/>
              </a:rPr>
              <a:t>корешок, выражение,равенство, корне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Скругленный прямоугольник 3"/>
          <p:cNvSpPr/>
          <p:nvPr/>
        </p:nvSpPr>
        <p:spPr>
          <a:xfrm>
            <a:off x="357120" y="285840"/>
            <a:ext cx="8501040" cy="621504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eorgia"/>
              </a:rPr>
              <a:t>Устно: решит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56760" y="1500120"/>
            <a:ext cx="85726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с + 10= 90;         а-5 =45;     40+у =80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                            </a:t>
            </a: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24 – а =12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а+15 = 100;        х- 10= 10;   30+с=70;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                            </a:t>
            </a: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40 – х = 30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у + 8 =12;        </a:t>
            </a:r>
            <a:r>
              <a:rPr b="0" lang="en-US" sz="3600" spc="-1" strike="noStrike">
                <a:solidFill>
                  <a:srgbClr val="232329"/>
                </a:solidFill>
                <a:latin typeface="Georgia"/>
              </a:rPr>
              <a:t>b</a:t>
            </a: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 – 9=9;    6+ а =14;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                             </a:t>
            </a: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с -7 =13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120 – у =20;    </a:t>
            </a:r>
            <a:r>
              <a:rPr b="0" lang="en-US" sz="3600" spc="-1" strike="noStrike">
                <a:solidFill>
                  <a:srgbClr val="232329"/>
                </a:solidFill>
                <a:latin typeface="Georgia"/>
              </a:rPr>
              <a:t>b</a:t>
            </a: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+ 25 = 100;      </a:t>
            </a:r>
            <a:r>
              <a:rPr b="0" lang="en-US" sz="3600" spc="-1" strike="noStrike">
                <a:solidFill>
                  <a:srgbClr val="232329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232329"/>
                </a:solidFill>
                <a:latin typeface="Georgia"/>
              </a:rPr>
              <a:t> – 78=0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кругленный прямоугольник 25"/>
          <p:cNvSpPr/>
          <p:nvPr/>
        </p:nvSpPr>
        <p:spPr>
          <a:xfrm>
            <a:off x="214200" y="0"/>
            <a:ext cx="8715600" cy="664380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с двумя скругленными противолежащими углами 23"/>
          <p:cNvSpPr/>
          <p:nvPr/>
        </p:nvSpPr>
        <p:spPr>
          <a:xfrm>
            <a:off x="357120" y="1357200"/>
            <a:ext cx="8286840" cy="928800"/>
          </a:xfrm>
          <a:prstGeom prst="pie">
            <a:avLst/>
          </a:prstGeom>
          <a:solidFill>
            <a:srgbClr val="aab0c8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01b1d"/>
                </a:solidFill>
                <a:latin typeface="Georgia"/>
              </a:rPr>
              <a:t>(у+64</a:t>
            </a:r>
            <a:r>
              <a:rPr b="0" lang="en-US" sz="6600" spc="-1" strike="noStrike">
                <a:solidFill>
                  <a:srgbClr val="101b1d"/>
                </a:solidFill>
                <a:latin typeface="Georgia"/>
              </a:rPr>
              <a:t> </a:t>
            </a:r>
            <a:r>
              <a:rPr b="0" lang="ru-RU" sz="6600" spc="-1" strike="noStrike">
                <a:solidFill>
                  <a:srgbClr val="101b1d"/>
                </a:solidFill>
                <a:latin typeface="Georgia"/>
              </a:rPr>
              <a:t>) – 38  = 4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22"/>
          <p:cNvSpPr/>
          <p:nvPr/>
        </p:nvSpPr>
        <p:spPr>
          <a:xfrm>
            <a:off x="1643040" y="0"/>
            <a:ext cx="6572160" cy="1214280"/>
          </a:xfrm>
          <a:prstGeom prst="ellipse">
            <a:avLst/>
          </a:prstGeom>
          <a:solidFill>
            <a:srgbClr val="aab0c8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Georgia"/>
              </a:rPr>
              <a:t>Решите урав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4572000" y="1357200"/>
            <a:ext cx="1428840" cy="1071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42920" y="3357720"/>
            <a:ext cx="2714760" cy="1571400"/>
          </a:xfrm>
          <a:prstGeom prst="rect">
            <a:avLst/>
          </a:prstGeom>
          <a:solidFill>
            <a:srgbClr val="d9e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1714680" y="2357280"/>
            <a:ext cx="1214280" cy="1000440"/>
          </a:xfrm>
          <a:prstGeom prst="pie">
            <a:avLst/>
          </a:prstGeom>
          <a:noFill/>
          <a:ln w="47520">
            <a:solidFill>
              <a:srgbClr val="2323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071880" y="3286080"/>
            <a:ext cx="3000240" cy="571680"/>
          </a:xfrm>
          <a:prstGeom prst="rect">
            <a:avLst/>
          </a:prstGeom>
          <a:solidFill>
            <a:srgbClr val="ecf1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ычит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 flipH="1">
            <a:off x="5071320" y="2214720"/>
            <a:ext cx="71640" cy="1143000"/>
          </a:xfrm>
          <a:prstGeom prst="pie">
            <a:avLst/>
          </a:prstGeom>
          <a:noFill/>
          <a:ln w="47520">
            <a:solidFill>
              <a:srgbClr val="2323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5572080" y="3929040"/>
            <a:ext cx="3357720" cy="1071720"/>
          </a:xfrm>
          <a:prstGeom prst="rect">
            <a:avLst/>
          </a:prstGeom>
          <a:solidFill>
            <a:srgbClr val="d9e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"/>
          <p:cNvSpPr/>
          <p:nvPr/>
        </p:nvSpPr>
        <p:spPr>
          <a:xfrm>
            <a:off x="7786800" y="2428920"/>
            <a:ext cx="71280" cy="1500120"/>
          </a:xfrm>
          <a:prstGeom prst="pie">
            <a:avLst/>
          </a:prstGeom>
          <a:noFill/>
          <a:ln w="47520">
            <a:solidFill>
              <a:srgbClr val="2323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4"/>
          <p:cNvSpPr/>
          <p:nvPr/>
        </p:nvSpPr>
        <p:spPr>
          <a:xfrm>
            <a:off x="214200" y="0"/>
            <a:ext cx="46080" cy="21420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6" descr=""/>
          <p:cNvPicPr/>
          <p:nvPr/>
        </p:nvPicPr>
        <p:blipFill>
          <a:blip r:embed="rId1"/>
          <a:stretch/>
        </p:blipFill>
        <p:spPr>
          <a:xfrm>
            <a:off x="3286080" y="4143240"/>
            <a:ext cx="185760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3"/>
          <p:cNvSpPr/>
          <p:nvPr/>
        </p:nvSpPr>
        <p:spPr>
          <a:xfrm>
            <a:off x="214200" y="214200"/>
            <a:ext cx="8715600" cy="635796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28760" y="285480"/>
            <a:ext cx="828648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у+64 = 48 +38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у+64 = 86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у =  86– 64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у = 22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Ответ: 22 – корень уравн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2 спосо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(у+ 64) – 38= 48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у +(64 – 38) =48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у + 26 = 48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у = 48 - 26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у = 22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1b1d"/>
                </a:solidFill>
                <a:latin typeface="Georgia"/>
              </a:rPr>
              <a:t>Ответ: 22 – корень уравн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>
            <a:off x="6786720" y="2714760"/>
            <a:ext cx="171432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3"/>
          <p:cNvSpPr/>
          <p:nvPr/>
        </p:nvSpPr>
        <p:spPr>
          <a:xfrm>
            <a:off x="214200" y="0"/>
            <a:ext cx="8786880" cy="6500880"/>
          </a:xfrm>
          <a:prstGeom prst="roundRect">
            <a:avLst>
              <a:gd name="adj" fmla="val 16667"/>
            </a:avLst>
          </a:prstGeom>
          <a:solidFill>
            <a:srgbClr val="c7cbda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Решить в классе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а) (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+ 98) + 14 = 169 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твет: 57 – корен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уравнения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) ( 35 + у) – 15 = 31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твет: 11 – корень урав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Рисунок 5" descr=""/>
          <p:cNvPicPr/>
          <p:nvPr/>
        </p:nvPicPr>
        <p:blipFill>
          <a:blip r:embed="rId1"/>
          <a:stretch/>
        </p:blipFill>
        <p:spPr>
          <a:xfrm>
            <a:off x="6357960" y="1143000"/>
            <a:ext cx="2000160" cy="2162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3:38:30Z</dcterms:created>
  <dc:creator>ШурыгинаИВ</dc:creator>
  <dc:description/>
  <dc:language>en-US</dc:language>
  <cp:lastModifiedBy>ШурыгинаИВ</cp:lastModifiedBy>
  <dcterms:modified xsi:type="dcterms:W3CDTF">2013-10-23T15:58:41Z</dcterms:modified>
  <cp:revision>36</cp:revision>
  <dc:subject/>
  <dc:title>Решение уравнений</dc:title>
</cp:coreProperties>
</file>