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3.wmf" ContentType="image/x-wmf"/>
  <Override PartName="/ppt/media/image8.wmf" ContentType="image/x-wmf"/>
  <Override PartName="/ppt/media/image17.gif" ContentType="image/gif"/>
  <Override PartName="/ppt/media/image2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1.jpeg" ContentType="image/jpeg"/>
  <Override PartName="/ppt/media/image3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4.jpeg" ContentType="image/jpeg"/>
  <Override PartName="/ppt/media/image10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A632-11C7-44A0-9FD9-F807E466C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533C-620C-4C4E-B500-C7786CE8D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1803-2C5A-46CC-916E-0CE1CA35B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B991-185A-4B09-AF15-6042FE94B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086A-AB5C-49CA-89CC-4B517A6AF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D699-9C6F-480A-97DD-66904F1EC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A2F1-7779-4D73-AFB8-26840FD08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54EE-20ED-4605-B870-9E34462B0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5AFA-7FFA-40C2-9CE2-2A47F9522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E555-C7AA-47B3-9A3F-3041690B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5DBE-0B53-4259-BA5F-738F0E69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163B-7D3A-475C-8F13-86B93540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FC63-39D0-4BC6-A260-DAD8EB483F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000391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ebeb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7" descr="512_212"/>
          <p:cNvPicPr/>
          <p:nvPr/>
        </p:nvPicPr>
        <p:blipFill>
          <a:blip r:embed="rId1"/>
          <a:stretch/>
        </p:blipFill>
        <p:spPr>
          <a:xfrm>
            <a:off x="7121520" y="4149720"/>
            <a:ext cx="2022480" cy="27082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/>
          <p:cNvSpPr/>
          <p:nvPr/>
        </p:nvSpPr>
        <p:spPr>
          <a:xfrm>
            <a:off x="539640" y="1446840"/>
            <a:ext cx="8136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ород тянулся к  лесу, протягивал в чащи мрачные щупальца дорог, тянул паутины проводов,  дышал гарью тяжкого дых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ес не умел ни бояться, ни роптать, но он мог лишь жить и ждать своего часа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1187280" y="333360"/>
            <a:ext cx="72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Georgia"/>
              </a:rPr>
              <a:t>Сравните строение предложений, рисующих действия города и ле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ccccff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"/>
          <p:cNvSpPr/>
          <p:nvPr/>
        </p:nvSpPr>
        <p:spPr>
          <a:xfrm>
            <a:off x="684360" y="477360"/>
            <a:ext cx="8064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ес и город. Город и лес. Торжество человека и торжество природы. Кто знает, как долго  будут они считаться неравными и почти врагами с тех еще пор, когда рожденное лесом косматое существо подняло на него свою лапу с камнем-рубилом и первое дерево со стоном пало к его ногам. Кто знает, сколько еще будет длиться наступление человечества на то, что было от века его жильем, пищей, прибежищем, одевало, хранило, грело, давало дышать и ж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1187280" y="790920"/>
            <a:ext cx="7201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ждый из нас должен помнить, что является частью огромного мира и не может растрачивать и уничтожать то, что сам не создавал. Автор привлекает внимание читателя к проблеме уничтожения человеком живой природы, его естественной среды обит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Biz00017"/>
          <p:cNvPicPr/>
          <p:nvPr/>
        </p:nvPicPr>
        <p:blipFill>
          <a:blip r:embed="rId2"/>
          <a:stretch/>
        </p:blipFill>
        <p:spPr>
          <a:xfrm>
            <a:off x="250920" y="3716280"/>
            <a:ext cx="468792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"/>
          <p:cNvSpPr/>
          <p:nvPr/>
        </p:nvSpPr>
        <p:spPr>
          <a:xfrm>
            <a:off x="611280" y="403560"/>
            <a:ext cx="8532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Для меня природа – это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Бывая в лесу, я всегда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Чтобы сохранить природу, надо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eeee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971640" y="1580040"/>
            <a:ext cx="7561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Georgia"/>
              </a:rPr>
              <a:t>1.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Напишите сочинение на  тему: </a:t>
            </a:r>
            <a:r>
              <a:rPr b="1" lang="ru-RU" sz="2800" spc="-1" strike="noStrike">
                <a:solidFill>
                  <a:srgbClr val="006600"/>
                </a:solidFill>
                <a:latin typeface="Georgia"/>
              </a:rPr>
              <a:t>«Однажды осенним днем», «Прогулка в школьном  парке », «Мы – часть природ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Georgia"/>
              </a:rPr>
              <a:t>*2.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Напишите небольшой рассказ на экологическую тему: </a:t>
            </a:r>
            <a:r>
              <a:rPr b="1" lang="ru-RU" sz="2800" spc="-1" strike="noStrike">
                <a:solidFill>
                  <a:srgbClr val="006600"/>
                </a:solidFill>
                <a:latin typeface="Georgia"/>
              </a:rPr>
              <a:t>«Живи, природа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5"/>
          <p:cNvSpPr txBox="1"/>
          <p:nvPr/>
        </p:nvSpPr>
        <p:spPr>
          <a:xfrm>
            <a:off x="1692360" y="333360"/>
            <a:ext cx="5975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006699"/>
                    </a:gs>
                  </a:gsLst>
                  <a:lin ang="27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омашнее задание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100000">
                    <a:srgbClr val="006699"/>
                  </a:gs>
                </a:gsLst>
                <a:lin ang="27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1"/>
          <a:stretch/>
        </p:blipFill>
        <p:spPr>
          <a:xfrm>
            <a:off x="5192640" y="5013360"/>
            <a:ext cx="395136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1890foto44"/>
          <p:cNvPicPr/>
          <p:nvPr/>
        </p:nvPicPr>
        <p:blipFill>
          <a:blip r:embed="rId1"/>
          <a:srcRect l="0" t="16290" r="0" b="265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HH00546_"/>
          <p:cNvPicPr/>
          <p:nvPr/>
        </p:nvPicPr>
        <p:blipFill>
          <a:blip r:embed="rId2"/>
          <a:stretch/>
        </p:blipFill>
        <p:spPr>
          <a:xfrm>
            <a:off x="0" y="3141720"/>
            <a:ext cx="3633840" cy="371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0018BD5ABB93_89"/>
          <p:cNvPicPr/>
          <p:nvPr/>
        </p:nvPicPr>
        <p:blipFill>
          <a:blip r:embed="rId3"/>
          <a:stretch/>
        </p:blipFill>
        <p:spPr>
          <a:xfrm>
            <a:off x="2340000" y="260280"/>
            <a:ext cx="47530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512_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512_8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512_194"/>
          <p:cNvPicPr/>
          <p:nvPr/>
        </p:nvPicPr>
        <p:blipFill>
          <a:blip r:embed="rId3">
            <a:lum contrast="-6000"/>
          </a:blip>
          <a:stretch/>
        </p:blipFill>
        <p:spPr>
          <a:xfrm>
            <a:off x="0" y="0"/>
            <a:ext cx="9144000" cy="68295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520_217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00039143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500"/>
                            </p:stCondLst>
                            <p:childTnLst>
                              <p:par>
                                <p:cTn id="11" nodeType="afterEffect" fill="hold" presetClass="entr" presetID="5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" nodeType="afterEffect" fill="hold" presetClass="entr" presetID="5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500"/>
                            </p:stCondLst>
                            <p:childTnLst>
                              <p:par>
                                <p:cTn id="23" nodeType="afterEffect" fill="hold" presetClass="entr" presetID="5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520_217"/>
          <p:cNvPicPr/>
          <p:nvPr/>
        </p:nvPicPr>
        <p:blipFill>
          <a:blip r:embed="rId2"/>
          <a:stretch/>
        </p:blipFill>
        <p:spPr>
          <a:xfrm>
            <a:off x="4572000" y="189000"/>
            <a:ext cx="4356000" cy="3203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512_80"/>
          <p:cNvPicPr/>
          <p:nvPr/>
        </p:nvPicPr>
        <p:blipFill>
          <a:blip r:embed="rId3"/>
          <a:stretch/>
        </p:blipFill>
        <p:spPr>
          <a:xfrm>
            <a:off x="179280" y="189000"/>
            <a:ext cx="4284720" cy="3240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512_80"/>
          <p:cNvPicPr/>
          <p:nvPr/>
        </p:nvPicPr>
        <p:blipFill>
          <a:blip r:embed="rId4"/>
          <a:stretch/>
        </p:blipFill>
        <p:spPr>
          <a:xfrm>
            <a:off x="4643280" y="3591000"/>
            <a:ext cx="4356360" cy="3267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512_194"/>
          <p:cNvPicPr/>
          <p:nvPr/>
        </p:nvPicPr>
        <p:blipFill>
          <a:blip r:embed="rId5"/>
          <a:stretch/>
        </p:blipFill>
        <p:spPr>
          <a:xfrm>
            <a:off x="179280" y="3591000"/>
            <a:ext cx="432144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395280" y="404640"/>
            <a:ext cx="86407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Georgia"/>
              </a:rPr>
              <a:t>Двадцать пятое октябр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Georgia"/>
              </a:rPr>
              <a:t>Классная рабо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Georgia"/>
              </a:rPr>
              <a:t>Лингвистический анализ художественного текс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cccff"/>
            </a:gs>
            <a:gs pos="100000">
              <a:srgbClr val="cc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4"/>
          <p:cNvSpPr/>
          <p:nvPr/>
        </p:nvSpPr>
        <p:spPr>
          <a:xfrm>
            <a:off x="250920" y="1135080"/>
            <a:ext cx="6070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. Определите начальную форму слов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 протягивал     Б) проводов    В) выброс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2. Подберите антонимы к словам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чистый     Б) тяжелый     В) ра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3. Найдите лишнее: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 неподвижно     Б) ненасытно     В) недол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4. Какое слово соответствует схем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7"/>
          <p:cNvGrpSpPr/>
          <p:nvPr/>
        </p:nvGrpSpPr>
        <p:grpSpPr>
          <a:xfrm>
            <a:off x="1000080" y="3143160"/>
            <a:ext cx="4176720" cy="457200"/>
            <a:chOff x="1000080" y="3143160"/>
            <a:chExt cx="4176720" cy="457200"/>
          </a:xfrm>
        </p:grpSpPr>
        <p:sp>
          <p:nvSpPr>
            <p:cNvPr id="54" name="AutoShape 13"/>
            <p:cNvSpPr/>
            <p:nvPr/>
          </p:nvSpPr>
          <p:spPr>
            <a:xfrm>
              <a:off x="1000080" y="3143160"/>
              <a:ext cx="4176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12"/>
            <p:cNvSpPr/>
            <p:nvPr/>
          </p:nvSpPr>
          <p:spPr>
            <a:xfrm>
              <a:off x="1000080" y="3257280"/>
              <a:ext cx="23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1"/>
            <p:cNvSpPr/>
            <p:nvPr/>
          </p:nvSpPr>
          <p:spPr>
            <a:xfrm flipV="1">
              <a:off x="1239840" y="3257280"/>
              <a:ext cx="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AutoShape 10"/>
            <p:cNvSpPr/>
            <p:nvPr/>
          </p:nvSpPr>
          <p:spPr>
            <a:xfrm>
              <a:off x="1287720" y="3143160"/>
              <a:ext cx="431640" cy="3427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9"/>
            <p:cNvSpPr/>
            <p:nvPr/>
          </p:nvSpPr>
          <p:spPr>
            <a:xfrm flipV="1">
              <a:off x="1863720" y="3257280"/>
              <a:ext cx="14472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8"/>
            <p:cNvSpPr/>
            <p:nvPr/>
          </p:nvSpPr>
          <p:spPr>
            <a:xfrm flipH="1" flipV="1">
              <a:off x="2008080" y="3257280"/>
              <a:ext cx="9684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7"/>
            <p:cNvSpPr/>
            <p:nvPr/>
          </p:nvSpPr>
          <p:spPr>
            <a:xfrm flipV="1">
              <a:off x="2200320" y="3257280"/>
              <a:ext cx="14472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6"/>
            <p:cNvSpPr/>
            <p:nvPr/>
          </p:nvSpPr>
          <p:spPr>
            <a:xfrm flipH="1" flipV="1">
              <a:off x="2345040" y="3257280"/>
              <a:ext cx="14256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5"/>
            <p:cNvSpPr/>
            <p:nvPr/>
          </p:nvSpPr>
          <p:spPr>
            <a:xfrm>
              <a:off x="2584440" y="3287520"/>
              <a:ext cx="23976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Rectangle 15"/>
          <p:cNvSpPr/>
          <p:nvPr/>
        </p:nvSpPr>
        <p:spPr>
          <a:xfrm>
            <a:off x="478080" y="3506760"/>
            <a:ext cx="4559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неподвижно    Б) постирал    В) ропт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5. Определите разницу в значе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 написании слов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Зеленый лес -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Лез на крышу -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16"/>
          <p:cNvSpPr txBox="1"/>
          <p:nvPr/>
        </p:nvSpPr>
        <p:spPr>
          <a:xfrm>
            <a:off x="5651640" y="404640"/>
            <a:ext cx="259236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006699"/>
                    </a:gs>
                  </a:gsLst>
                  <a:lin ang="27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ы: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100000">
                    <a:srgbClr val="006699"/>
                  </a:gs>
                </a:gsLst>
                <a:lin ang="27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5" name="WordArt 18"/>
          <p:cNvSpPr txBox="1"/>
          <p:nvPr/>
        </p:nvSpPr>
        <p:spPr>
          <a:xfrm>
            <a:off x="1908000" y="333360"/>
            <a:ext cx="197496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Тес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6" name="Text Box 20"/>
          <p:cNvSpPr/>
          <p:nvPr/>
        </p:nvSpPr>
        <p:spPr>
          <a:xfrm>
            <a:off x="5472000" y="1125360"/>
            <a:ext cx="3672000" cy="46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) протяги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про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выброс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) гряз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лег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одинак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3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5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)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леный лес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множество деревьев, растущих на небольшом пространст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з на крышу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збирался, поднимался, карабкалс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e8e8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430200" y="763200"/>
            <a:ext cx="87138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с и город. Город и лес. Разные порождения одной Вселенной. Такие разные и никак не совмещающиеся по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род тянулся к  лесу, протягивал в чащи мрачные щупальца дорог, тянул паутины проводов,  дышал гарью тяжкого дыхания.  А лес неподвижно смотрел на его осторожное, но настойчивое приближение. Лес не умел ни бояться, ни роптать, но он мог лишь жить и ждать своего часа. Лес рассеивал дым, разлагал едкий газ, возвращал городу чистыми ночными ветрами. Лес по каплям копил чистую влагу и слал ее городу, а город пил ее ненасытно и выбрасывал грязной рек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с и город. Город и лес. Торжество человека и торжество природы. Кто знает, как долго  будут они считаться неравными и почти врагами с тех еще пор, когда рожденное лесом косматое существо подняло на него свою лапу с камнем-рубилом и первое дерево со стоном пало к его ногам. Кто знает, сколько еще будет длиться наступление человечества на то, что было от века его жильем, пищей, прибежищем, одевало, хранило, грело, давало дышать и жи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3"/>
          <p:cNvSpPr txBox="1"/>
          <p:nvPr/>
        </p:nvSpPr>
        <p:spPr>
          <a:xfrm>
            <a:off x="2916360" y="260280"/>
            <a:ext cx="3456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ес и город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"/>
          <p:cNvPicPr/>
          <p:nvPr/>
        </p:nvPicPr>
        <p:blipFill>
          <a:blip r:embed="rId2"/>
          <a:stretch/>
        </p:blipFill>
        <p:spPr>
          <a:xfrm>
            <a:off x="3071880" y="5214960"/>
            <a:ext cx="3000240" cy="1309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" name=""/>
          <p:cNvGraphicFramePr/>
          <p:nvPr/>
        </p:nvGraphicFramePr>
        <p:xfrm>
          <a:off x="357120" y="500040"/>
          <a:ext cx="8429760" cy="3417840"/>
        </p:xfrm>
        <a:graphic>
          <a:graphicData uri="http://schemas.openxmlformats.org/drawingml/2006/table">
            <a:tbl>
              <a:tblPr/>
              <a:tblGrid>
                <a:gridCol w="4281480"/>
                <a:gridCol w="4148280"/>
              </a:tblGrid>
              <a:tr h="66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Горо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Ле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1" name="Picture 8" descr="520_217"/>
          <p:cNvPicPr/>
          <p:nvPr/>
        </p:nvPicPr>
        <p:blipFill>
          <a:blip r:embed="rId3"/>
          <a:stretch/>
        </p:blipFill>
        <p:spPr>
          <a:xfrm>
            <a:off x="179280" y="4437000"/>
            <a:ext cx="3032280" cy="22287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512_80"/>
          <p:cNvPicPr/>
          <p:nvPr/>
        </p:nvPicPr>
        <p:blipFill>
          <a:blip r:embed="rId4"/>
          <a:stretch/>
        </p:blipFill>
        <p:spPr>
          <a:xfrm>
            <a:off x="6012000" y="4437000"/>
            <a:ext cx="300024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ebff"/>
            </a:gs>
            <a:gs pos="50000">
              <a:srgbClr val="ccccff"/>
            </a:gs>
            <a:gs pos="100000">
              <a:srgbClr val="ebe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324000" y="549360"/>
          <a:ext cx="8507160" cy="3797280"/>
        </p:xfrm>
        <a:graphic>
          <a:graphicData uri="http://schemas.openxmlformats.org/drawingml/2006/table">
            <a:tbl>
              <a:tblPr/>
              <a:tblGrid>
                <a:gridCol w="4321080"/>
                <a:gridCol w="4186080"/>
              </a:tblGrid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Горо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Ле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рачные щупальца доро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арь тяжкого дых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утины провод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янул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тягив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ыш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брасыва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тые ночные вет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тая вла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мотре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г жить и жд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сеив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лага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вращ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4" name="Picture 6" descr=""/>
          <p:cNvPicPr/>
          <p:nvPr/>
        </p:nvPicPr>
        <p:blipFill>
          <a:blip r:embed="rId1"/>
          <a:stretch/>
        </p:blipFill>
        <p:spPr>
          <a:xfrm>
            <a:off x="6012000" y="5584680"/>
            <a:ext cx="2916000" cy="12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e2e2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Group 4"/>
          <p:cNvGrpSpPr/>
          <p:nvPr/>
        </p:nvGrpSpPr>
        <p:grpSpPr>
          <a:xfrm>
            <a:off x="971640" y="1628640"/>
            <a:ext cx="7848360" cy="1149120"/>
            <a:chOff x="971640" y="1628640"/>
            <a:chExt cx="7848360" cy="1149120"/>
          </a:xfrm>
        </p:grpSpPr>
        <p:sp>
          <p:nvSpPr>
            <p:cNvPr id="76" name="AutoShape 5"/>
            <p:cNvSpPr/>
            <p:nvPr/>
          </p:nvSpPr>
          <p:spPr>
            <a:xfrm>
              <a:off x="971640" y="1628640"/>
              <a:ext cx="7848360" cy="11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6"/>
            <p:cNvSpPr/>
            <p:nvPr/>
          </p:nvSpPr>
          <p:spPr>
            <a:xfrm>
              <a:off x="971640" y="1857240"/>
              <a:ext cx="45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7"/>
            <p:cNvSpPr/>
            <p:nvPr/>
          </p:nvSpPr>
          <p:spPr>
            <a:xfrm flipH="1" flipV="1">
              <a:off x="1422000" y="1856880"/>
              <a:ext cx="720" cy="230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8"/>
            <p:cNvSpPr/>
            <p:nvPr/>
          </p:nvSpPr>
          <p:spPr>
            <a:xfrm>
              <a:off x="1512360" y="1628640"/>
              <a:ext cx="811440" cy="688680"/>
            </a:xfrm>
            <a:prstGeom prst="pi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9"/>
            <p:cNvSpPr/>
            <p:nvPr/>
          </p:nvSpPr>
          <p:spPr>
            <a:xfrm flipV="1">
              <a:off x="2595240" y="1856880"/>
              <a:ext cx="271080" cy="230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0"/>
            <p:cNvSpPr/>
            <p:nvPr/>
          </p:nvSpPr>
          <p:spPr>
            <a:xfrm flipH="1" flipV="1">
              <a:off x="2865960" y="1856880"/>
              <a:ext cx="180360" cy="230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1"/>
            <p:cNvSpPr/>
            <p:nvPr/>
          </p:nvSpPr>
          <p:spPr>
            <a:xfrm flipV="1">
              <a:off x="3226320" y="1856880"/>
              <a:ext cx="271080" cy="230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2"/>
            <p:cNvSpPr/>
            <p:nvPr/>
          </p:nvSpPr>
          <p:spPr>
            <a:xfrm flipH="1" flipV="1">
              <a:off x="3497040" y="1856880"/>
              <a:ext cx="269640" cy="230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13"/>
            <p:cNvSpPr/>
            <p:nvPr/>
          </p:nvSpPr>
          <p:spPr>
            <a:xfrm>
              <a:off x="3948840" y="2088360"/>
              <a:ext cx="45036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Text Box 14"/>
          <p:cNvSpPr/>
          <p:nvPr/>
        </p:nvSpPr>
        <p:spPr>
          <a:xfrm>
            <a:off x="684360" y="333360"/>
            <a:ext cx="734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Times New Roman"/>
              </a:rPr>
              <a:t>Какие глаголы, характеризующие действие города, соответствуют схем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5"/>
          <p:cNvSpPr/>
          <p:nvPr/>
        </p:nvSpPr>
        <p:spPr>
          <a:xfrm>
            <a:off x="826920" y="306864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тягивал, выбрасыв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7667640" y="333360"/>
            <a:ext cx="147636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7:38:00Z</dcterms:created>
  <dc:creator>Admin</dc:creator>
  <dc:description/>
  <dc:language>en-US</dc:language>
  <cp:lastModifiedBy>Администратор</cp:lastModifiedBy>
  <dcterms:modified xsi:type="dcterms:W3CDTF">2010-10-15T14:02:46Z</dcterms:modified>
  <cp:revision>16</cp:revision>
  <dc:subject/>
  <dc:title>Слайд 1</dc:title>
</cp:coreProperties>
</file>