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12.wmf" ContentType="image/x-wmf"/>
  <Override PartName="/ppt/media/image4.png" ContentType="image/png"/>
  <Override PartName="/ppt/media/image11.wmf" ContentType="image/x-wmf"/>
  <Override PartName="/ppt/media/image3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8.png" ContentType="image/png"/>
  <Override PartName="/ppt/media/image19.jpeg" ContentType="image/jpeg"/>
  <Override PartName="/ppt/media/image17.png" ContentType="image/png"/>
  <Override PartName="/ppt/media/image16.wmf" ContentType="image/x-wmf"/>
  <Override PartName="/ppt/media/image9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EFE-1086-40FC-8EBE-E07727B3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AD7C-8C37-448E-BC09-85CB33C3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AE96-9B4B-4B81-BFE2-CB1D647A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F5A1-2E4B-4C7B-BF52-F6BBC616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D16A-BF77-4F25-A7C1-9FA2C9B9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6C1A-DF6D-44B6-9BCC-71CDC741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58FF-1C0A-4CE4-B2EF-D6770EF9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8397-3E5C-46BC-9AE9-7E70DFCC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6D21-E69F-4061-8E0D-1A092E1F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4230-1339-434F-92BE-BFABF637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5476-E852-4DB3-9956-1BF74BCB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3932-33EF-4094-8762-2C3637BB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D5C1-7EC9-4A2B-98EB-F47230DB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2B83-4709-498B-B109-F5B40345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A3AC-28E6-4B2F-B56B-639FE978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D05A-9C93-4F61-903B-30464AE1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3F7C-3162-4A23-9281-4CA3DE1B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0E1-CE67-4FD2-86D2-90B6B69F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3B7-877A-43F3-8A5E-AE7DBA0A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C8ED-F9C6-4639-B830-294ACF2D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B884-6721-452F-821C-7BFD1489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EEA-72E4-4730-8A4E-ED3CFD8C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413C-87BE-4634-9A90-6CB9B09F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8A9-90DE-4945-9BC0-7B073AE2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9B96-9E23-4BBA-992B-63E1B890EA7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EF22-2C8E-48C7-804D-88701F5181F9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6666"/>
                </a:solidFill>
                <a:latin typeface="Verdana"/>
              </a:rPr>
              <a:t>Красная книга России. Охрана природы.</a:t>
            </a:r>
            <a:endParaRPr b="1" lang="en-US" sz="7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05440" y="48240"/>
            <a:ext cx="8133120" cy="8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ЖИВОЕ - НЕЖИВО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4495680"/>
            <a:ext cx="2122560" cy="2362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-76320" y="1143000"/>
            <a:ext cx="2133720" cy="2286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095880" y="1143000"/>
            <a:ext cx="2990880" cy="1905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477120" y="3581280"/>
            <a:ext cx="3047760" cy="2743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724280" y="14479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4724280" y="4495680"/>
            <a:ext cx="2824200" cy="2314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572000" y="1219320"/>
            <a:ext cx="0" cy="56386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1981080" y="2362320"/>
            <a:ext cx="2514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Правила охраны природы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462960" indent="-4629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е трогай птенцов и детёнышей животных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62960" indent="-4629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одкармливай птиц зимой.                                                             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62960" indent="-4629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е разоряй птичьи гнёзда и муравейники.                                        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62960" indent="-4629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е шуми в лесу.                                                                                    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62960" indent="-4629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е рви охапками цветы, траву.                                                           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62960" indent="-4629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е ломай кусты и деревья.                                                                  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62960" indent="-4629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е разводи костры.                                                                              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62960" indent="-4629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е оставляй в лесу мусор, неси его домой в мусоропровод.           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62960" indent="-4629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е загрязняй водоём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97880" y="40680"/>
            <a:ext cx="81482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КРАСНАЯ КНИГ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343400" cy="563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КРАСНЫЙ ЦВЕТ - ЦВЕТ ТРЕВОГ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990720" cy="2492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2249640" cy="1690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962520" y="1523880"/>
            <a:ext cx="3504960" cy="2673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3886200" y="4495680"/>
            <a:ext cx="2133720" cy="1981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6858000" y="144792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6477120" y="40384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Красная книга Якути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482920" y="838080"/>
            <a:ext cx="4208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Красная книг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храняется Красной книг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только редких животных и птиц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Чтобы выжил простор многоли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Ради света грядущих зарниц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Чтобы пустыни нагрянуть не смели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Чтобы души не стали пусты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храняются звери, охраняются змеи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храняются даже цвет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6095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99"/>
                </a:solidFill>
                <a:latin typeface="Verdana"/>
              </a:rPr>
              <a:t>СОХРАНИ</a:t>
            </a:r>
            <a:r>
              <a:rPr b="1" lang="en-US" sz="60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6000" spc="-1" strike="noStrike">
                <a:solidFill>
                  <a:srgbClr val="66ff99"/>
                </a:solidFill>
                <a:latin typeface="Verdana"/>
              </a:rPr>
              <a:t>НАС!</a:t>
            </a:r>
            <a:endParaRPr b="1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3851280" y="1844640"/>
            <a:ext cx="2448000" cy="1722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1494000" cy="2209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2840" y="1676520"/>
            <a:ext cx="2154240" cy="2504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6931080" y="1219320"/>
            <a:ext cx="2212920" cy="2827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5334120" y="4419720"/>
            <a:ext cx="2730240" cy="2133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2743200" y="3809880"/>
            <a:ext cx="1860480" cy="251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04:47:29Z</dcterms:created>
  <dc:creator>Класс 210</dc:creator>
  <dc:description/>
  <dc:language>en-US</dc:language>
  <cp:lastModifiedBy>Класс 210</cp:lastModifiedBy>
  <dcterms:modified xsi:type="dcterms:W3CDTF">2012-04-16T03:40:46Z</dcterms:modified>
  <cp:revision>4</cp:revision>
  <dc:subject/>
  <dc:title>Слайд 1</dc:title>
</cp:coreProperties>
</file>