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B68-FFF5-4E31-A391-8750627A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FC8-1097-49FD-ADD6-129F1DF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075-496C-4D05-A5AD-A1D6CDB9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7FD-FE53-4C10-B004-157603B3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DFE3-0688-4651-9FE2-A6CAA67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BB1B-65A8-4F42-8E95-F9FB386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6FA0-BE8B-41EA-8999-6FFDB239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95C7-1A67-417F-9C32-FBA1D14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AA7-B4C9-4E5E-8A30-71AC94FE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860-D7A8-415F-A629-63AFF7B6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F08D-D08C-4AF6-BC21-D30416E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4FB-CD6E-44EC-AB0C-AD1A87E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98F9-BDAF-4DF8-9958-5C7663E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6296-9390-461E-8F5F-3AD2B00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197B-19C8-45B5-A5C2-54DF48C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01E-7859-4892-82FA-05C48C8E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50C-FDFB-4380-813F-AB65FAFD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821-E6A7-4B0B-B27C-4B4C894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08E-3F1C-4E0C-87DF-C2A9717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A36-552C-48C7-85CD-AC50D07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1FC-C771-4CCD-BFC0-16A1EE4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488-E542-42A4-B59D-9766453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D1-CE20-4079-8BC6-BDE0002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272-2686-463B-B154-B5DDE353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1231-E11D-441E-A2AF-ED4401444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271-3112-483D-ABC5-2879B3D422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andex.ru/search/?csg=2980%2C2346078%2C6%2C13%2C2%2C0%2C0&amp;text=&#1050;&#1088;&#1072;&#1089;&#1085;&#1086;&#1077;%20%28&#1050;&#1088;&#1072;&#1089;&#1085;&#1086;&#1072;&#1088;&#1084;&#1077;&#1081;&#1089;&#1082;&#1080;&#1081;%20&#1088;&#1072;&#1081;&#1086;&#1085;%29&amp;lr=15&amp;clid=1989605&amp;nomisspell=1&amp;ento=0oCgpydXcxNjEwODIyGAJLs5D1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032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418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601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7164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5585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771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3440" y="106200"/>
            <a:ext cx="8980560" cy="675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7905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ергей Сергеевич Прокофье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ский и советский композитор, пианист, дирижёр и педагог. Один из наиболее значимых композиторов XX века, автор 11 опер, 7 балетов, 7 симфоний, 8 концертов, многочисленных произведений вокальной и инструментальной музыки, музыки для кинофильм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одился 23 апреля 1891 г., имение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Красно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Бахмутский уезд, Екатеринославская губерния, Российская империя (ныне Донецкая область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мер 5 марта 1953 г. (61 год), Москва, РСФСР, СССР. В браке с Каролина Кодина-Любера. Дети: Олег Сергеевич Прокофьев, Святослав Прокофьев. Родители: Сергей Алексеевич Прокофьев, Мария Григорьевна Прокофье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02320" cy="532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Оркестр – большой коллектив музыкантов. Самым большим по составу и самым</a:t>
            </a:r>
            <a:br>
              <a:rPr sz="1800"/>
            </a:b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богатым по своим возможностям является симфонический оркестр.</a:t>
            </a:r>
            <a:br>
              <a:rPr sz="1800"/>
            </a:b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       Симфоническим называется оркестр, составленный из нескольких разнородных групп инструментов — семейства струнных, духовых и ударных. В симфонический оркестр входят группы смычковых инструментов, деревянных и медных духовых инструментов, к которым примыкают немногочисленные ударные музыкальные инструменты. В его составе 2 флейты, 2 гобоя, 2 кларнета, 2 фагота, 2 валторны, иногда 2 трубы и литавры, струнная группа не более 20 инструментов (5 первых и 4 вторых скрипок, 4 альта, 3 виолончели, 2 контрабаса). Большой симфонический оркестр (БСО) включает в медную группу тромбоны. Часто деревянные инструменты (флейты, гобои, кларнеты и фаготы) доходят до 5 инструментов каждого семейства. Медная группа может включать до 8 валторн, 5 труб, 3-5 тромбонов и тубу. Струнная группа доходит до 60 и более инструментов. Многочисленные ударные инструменты: литавры, колокольчики, малый и большой барабаны, треугольник, тарелки, часто используются арфа, рояль, клавесин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6011640" cy="648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3712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3440" cy="3627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90800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743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7431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743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516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16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800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8:14:22Z</dcterms:created>
  <dc:creator>User</dc:creator>
  <dc:description/>
  <dc:language>en-US</dc:language>
  <cp:lastModifiedBy>Володя</cp:lastModifiedBy>
  <dcterms:modified xsi:type="dcterms:W3CDTF">2016-01-30T12:29:35Z</dcterms:modified>
  <cp:revision>49</cp:revision>
  <dc:subject/>
  <dc:title>Моя Родина _Россия</dc:title>
</cp:coreProperties>
</file>