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AB55-92DB-4434-8F91-011EB495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51A-F5D2-4F59-B39B-08020786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CC5-EBBE-4ABA-8E85-805D39D1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E465-5B53-4B13-8B24-A171D79B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04F-4DED-4560-A7C6-F02040AE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1C4-1EC2-49A6-A5FB-24843698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E60-D7C4-4C8F-B1F8-42299065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249-235F-487D-AC0A-7B4B67AA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026-123D-480C-9776-2DCBC0D7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B1E-48A2-406A-8DF5-E9A44E7D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529-B5ED-4A66-BCA0-2BA33CEB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AB73-52DF-49CF-8906-1A574843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D02A-E66F-4BDC-B7BB-00DD8118FD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ru/url?q=http://zoofoodpro.ru/samaya-krupnaya-ptica-straus/&amp;sa=U&amp;ei=iao3VP75JMT9ygPY_YKwCQ&amp;ved=0CB8Q9QEwBQ&amp;usg=AFQjCNEiNZchC-e6r5RSrhHlKCV4U0RSgw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ru/url?q=http://www.proza.ru/avtor/krokodil2010&amp;sa=U&amp;ei=2qo3VNaRFsHnygOuioKQAQ&amp;ved=0CC0Q9QEwDDgU&amp;usg=AFQjCNHtvRmIya9l5raVSMa1KnqDsEHthQ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ru/url?q=http://www.tepid.ru/shark-cannibal.html&amp;sa=U&amp;ei=VKs3VILHJavXyQPLq4LgBQ&amp;ved=0CDUQ9QEwEA&amp;usg=AFQjCNHPrHEP6unO_2m5gVBxu8x7zAmyyA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ogle.ru/url?q=http://zateevo.ru/?section=page&amp;alias=zahiraf_main&amp;sa=U&amp;ei=w6s3VLLGCsTnygP50YCQAQ&amp;ved=0CBcQ9QEwAQ&amp;usg=AFQjCNEjRKLDVULLnhiHUVWfqDGDInzHMg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www.google.ru/url?q=http://ianimal.ru/topics/mecheklyuvyjj-kolibri&amp;sa=U&amp;ei=Vaw3VIa_EIvhywONtoCYDw&amp;ved=0CBsQ9QEwAg&amp;usg=AFQjCNEFiSG2N3AZmjeWwv8KUm-2RwI9jQ" TargetMode="External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google.ru/url?q=http://zoofoodpro.ru/samaya-krupnaya-ptica-straus/&amp;sa=U&amp;ei=iao3VP75JMT9ygPY_YKwCQ&amp;ved=0CB8Q9QEwBQ&amp;usg=AFQjCNEiNZchC-e6r5RSrhHlKCV4U0RSgw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ru/url?q=http://www.proza.ru/avtor/krokodil2010&amp;sa=U&amp;ei=2qo3VNaRFsHnygOuioKQAQ&amp;ved=0CC0Q9QEwDDgU&amp;usg=AFQjCNHtvRmIya9l5raVSMa1KnqDsEHthQ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www.google.ru/url?q=http://www.tepid.ru/shark-cannibal.html&amp;sa=U&amp;ei=VKs3VILHJavXyQPLq4LgBQ&amp;ved=0CDUQ9QEwEA&amp;usg=AFQjCNHPrHEP6unO_2m5gVBxu8x7zAmyyA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www.google.ru/url?q=http://zateevo.ru/?section=page&amp;alias=zahiraf_main&amp;sa=U&amp;ei=w6s3VLLGCsTnygP50YCQAQ&amp;ved=0CBcQ9QEwAQ&amp;usg=AFQjCNEjRKLDVULLnhiHUVWfqDGDInzHMg" TargetMode="External"/><Relationship Id="rId9" Type="http://schemas.openxmlformats.org/officeDocument/2006/relationships/image" Target="../media/image5.jpeg"/><Relationship Id="rId10" Type="http://schemas.openxmlformats.org/officeDocument/2006/relationships/hyperlink" Target="http://www.google.ru/url?q=http://ianimal.ru/topics/mecheklyuvyjj-kolibri&amp;sa=U&amp;ei=Vaw3VIa_EIvhywONtoCYDw&amp;ved=0CBsQ9QEwAg&amp;usg=AFQjCNEFiSG2N3AZmjeWwv8KUm-2RwI9jQ" TargetMode="External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ru/url?q=http://zoofoodpro.ru/samaya-krupnaya-ptica-straus/&amp;sa=U&amp;ei=iao3VP75JMT9ygPY_YKwCQ&amp;ved=0CB8Q9QEwBQ&amp;usg=AFQjCNEiNZchC-e6r5RSrhHlKCV4U0RSgw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ru/url?q=http://www.tepid.ru/shark-cannibal.html&amp;sa=U&amp;ei=VKs3VILHJavXyQPLq4LgBQ&amp;ved=0CDUQ9QEwEA&amp;usg=AFQjCNHPrHEP6unO_2m5gVBxu8x7zAmyyA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google.ru/url?q=http://zateevo.ru/?section=page&amp;alias=zahiraf_main&amp;sa=U&amp;ei=w6s3VLLGCsTnygP50YCQAQ&amp;ved=0CBcQ9QEwAQ&amp;usg=AFQjCNEjRKLDVULLnhiHUVWfqDGDInzHM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www.google.ru/url?q=http://ianimal.ru/topics/mecheklyuvyjj-kolibri&amp;sa=U&amp;ei=Vaw3VIa_EIvhywONtoCYDw&amp;ved=0CBsQ9QEwAg&amp;usg=AFQjCNEFiSG2N3AZmjeWwv8KUm-2RwI9jQ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ru/url?q=http://zoofoodpro.ru/samaya-krupnaya-ptica-straus/&amp;sa=U&amp;ei=iao3VP75JMT9ygPY_YKwCQ&amp;ved=0CB8Q9QEwBQ&amp;usg=AFQjCNEiNZchC-e6r5RSrhHlKCV4U0RSgw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ru/url?q=http://www.tepid.ru/shark-cannibal.html&amp;sa=U&amp;ei=VKs3VILHJavXyQPLq4LgBQ&amp;ved=0CDUQ9QEwEA&amp;usg=AFQjCNHPrHEP6unO_2m5gVBxu8x7zAmyyA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google.ru/url?q=http://zateevo.ru/?section=page&amp;alias=zahiraf_main&amp;sa=U&amp;ei=w6s3VLLGCsTnygP50YCQAQ&amp;ved=0CBcQ9QEwAQ&amp;usg=AFQjCNEjRKLDVULLnhiHUVWfqDGDInzHMg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7.jpeg"/><Relationship Id="rId8" Type="http://schemas.openxmlformats.org/officeDocument/2006/relationships/hyperlink" Target="http://www.google.ru/url?q=http://www.proza.ru/avtor/krokodil2010&amp;sa=U&amp;ei=2qo3VNaRFsHnygOuioKQAQ&amp;ved=0CC0Q9QEwDDgU&amp;usg=AFQjCNHtvRmIya9l5raVSMa1KnqDsEHthQ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ru/url?q=http://zoofoodpro.ru/samaya-krupnaya-ptica-straus/&amp;sa=U&amp;ei=iao3VP75JMT9ygPY_YKwCQ&amp;ved=0CB8Q9QEwBQ&amp;usg=AFQjCNEiNZchC-e6r5RSrhHlKCV4U0RSgw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ru/url?q=http://www.tepid.ru/shark-cannibal.html&amp;sa=U&amp;ei=VKs3VILHJavXyQPLq4LgBQ&amp;ved=0CDUQ9QEwEA&amp;usg=AFQjCNHPrHEP6unO_2m5gVBxu8x7zAmyyA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7.jpeg"/><Relationship Id="rId6" Type="http://schemas.openxmlformats.org/officeDocument/2006/relationships/image" Target="../media/image3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2646360" y="2571840"/>
            <a:ext cx="3851280" cy="1092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://t2.gstatic.com/images?q=tbn:ANd9GcREKFjlVsCGq2Kf5blv9hPSXvI13ImEYSRlgXg7eUzCkXAjCswe-_I0jV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920" y="214200"/>
            <a:ext cx="2214360" cy="2082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t3.gstatic.com/images?q=tbn:ANd9GcREKdkxJ2T5X5PLTz4uhInnW6a6BtUGqStVB0naxpeZalW9YDHU92TkgT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43160" y="285840"/>
            <a:ext cx="2336760" cy="1714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t1.gstatic.com/images?q=tbn:ANd9GcRqufa4TGv1jIooAf0o7r9brZk013uQUDmIeTFSkmqh2wKkgfUk1iTqZ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57960" y="165240"/>
            <a:ext cx="2500200" cy="2120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://t2.gstatic.com/images?q=tbn:ANd9GcRw1mhWNcbF2YLgZC4LMFSdm3rwsQFh4abBPnhI18BAeUyRvHCLH1wksGI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14200" y="435780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http://t3.gstatic.com/images?q=tbn:ANd9GcR8t6fS7sqDc7FlTtoo2Bh17ZIWu0rnO8ap0aetEE3DxyTcR-cHQ99rV2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214800" y="4071960"/>
            <a:ext cx="2660400" cy="214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Голубой кит в прыжке"/>
          <p:cNvPicPr/>
          <p:nvPr/>
        </p:nvPicPr>
        <p:blipFill>
          <a:blip r:embed="rId12"/>
          <a:stretch/>
        </p:blipFill>
        <p:spPr>
          <a:xfrm>
            <a:off x="6072120" y="4214880"/>
            <a:ext cx="3071880" cy="24573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2"/>
          <p:cNvSpPr/>
          <p:nvPr/>
        </p:nvSpPr>
        <p:spPr>
          <a:xfrm>
            <a:off x="225720" y="2357280"/>
            <a:ext cx="22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 ostri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3"/>
          <p:cNvSpPr/>
          <p:nvPr/>
        </p:nvSpPr>
        <p:spPr>
          <a:xfrm>
            <a:off x="2928960" y="200016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 alliga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6941160" y="2286000"/>
            <a:ext cx="169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sha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15"/>
          <p:cNvSpPr/>
          <p:nvPr/>
        </p:nvSpPr>
        <p:spPr>
          <a:xfrm>
            <a:off x="357120" y="3643200"/>
            <a:ext cx="20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giraff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16"/>
          <p:cNvSpPr/>
          <p:nvPr/>
        </p:nvSpPr>
        <p:spPr>
          <a:xfrm>
            <a:off x="2786040" y="342900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humming bi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7"/>
          <p:cNvSpPr/>
          <p:nvPr/>
        </p:nvSpPr>
        <p:spPr>
          <a:xfrm>
            <a:off x="6868440" y="3571920"/>
            <a:ext cx="182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wh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3" descr=""/>
          <p:cNvPicPr/>
          <p:nvPr/>
        </p:nvPicPr>
        <p:blipFill>
          <a:blip r:embed="rId1"/>
          <a:stretch/>
        </p:blipFill>
        <p:spPr>
          <a:xfrm>
            <a:off x="2712960" y="2712960"/>
            <a:ext cx="3505320" cy="1096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t2.gstatic.com/images?q=tbn:ANd9GcREKFjlVsCGq2Kf5blv9hPSXvI13ImEYSRlgXg7eUzCkXAjCswe-_I0jV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920" y="214200"/>
            <a:ext cx="2214360" cy="2082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t3.gstatic.com/images?q=tbn:ANd9GcREKdkxJ2T5X5PLTz4uhInnW6a6BtUGqStVB0naxpeZalW9YDHU92TkgT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143160" y="285840"/>
            <a:ext cx="2336760" cy="171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t1.gstatic.com/images?q=tbn:ANd9GcRqufa4TGv1jIooAf0o7r9brZk013uQUDmIeTFSkmqh2wKkgfUk1iTqZ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57960" y="165240"/>
            <a:ext cx="2500200" cy="2120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://t2.gstatic.com/images?q=tbn:ANd9GcRw1mhWNcbF2YLgZC4LMFSdm3rwsQFh4abBPnhI18BAeUyRvHCLH1wksGI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14200" y="435780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http://t3.gstatic.com/images?q=tbn:ANd9GcR8t6fS7sqDc7FlTtoo2Bh17ZIWu0rnO8ap0aetEE3DxyTcR-cHQ99rV2M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214800" y="4071960"/>
            <a:ext cx="2660400" cy="214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Голубой кит в прыжке"/>
          <p:cNvPicPr/>
          <p:nvPr/>
        </p:nvPicPr>
        <p:blipFill>
          <a:blip r:embed="rId12"/>
          <a:stretch/>
        </p:blipFill>
        <p:spPr>
          <a:xfrm>
            <a:off x="6072120" y="4214880"/>
            <a:ext cx="30718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t2.gstatic.com/images?q=tbn:ANd9GcREKFjlVsCGq2Kf5blv9hPSXvI13ImEYSRlgXg7eUzCkXAjCswe-_I0jV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785880"/>
            <a:ext cx="2571840" cy="2419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t1.gstatic.com/images?q=tbn:ANd9GcRqufa4TGv1jIooAf0o7r9brZk013uQUDmIeTFSkmqh2wKkgfUk1iTqZ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57960" y="714240"/>
            <a:ext cx="2500200" cy="2121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ttp://t2.gstatic.com/images?q=tbn:ANd9GcRw1mhWNcbF2YLgZC4LMFSdm3rwsQFh4abBPnhI18BAeUyRvHCLH1wksG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43680" y="3929040"/>
            <a:ext cx="2786040" cy="2492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http://t3.gstatic.com/images?q=tbn:ANd9GcR8t6fS7sqDc7FlTtoo2Bh17ZIWu0rnO8ap0aetEE3DxyTcR-cHQ99rV2M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143160" y="1000080"/>
            <a:ext cx="2571840" cy="2071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Голубой кит в прыжке"/>
          <p:cNvPicPr/>
          <p:nvPr/>
        </p:nvPicPr>
        <p:blipFill>
          <a:blip r:embed="rId9"/>
          <a:stretch/>
        </p:blipFill>
        <p:spPr>
          <a:xfrm>
            <a:off x="857160" y="3643200"/>
            <a:ext cx="307188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t2.gstatic.com/images?q=tbn:ANd9GcREKFjlVsCGq2Kf5blv9hPSXvI13ImEYSRlgXg7eUzCkXAjCswe-_I0jV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785880"/>
            <a:ext cx="2571840" cy="2419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http://t1.gstatic.com/images?q=tbn:ANd9GcRqufa4TGv1jIooAf0o7r9brZk013uQUDmIeTFSkmqh2wKkgfUk1iTqZ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57960" y="714240"/>
            <a:ext cx="2500200" cy="2121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t2.gstatic.com/images?q=tbn:ANd9GcRw1mhWNcbF2YLgZC4LMFSdm3rwsQFh4abBPnhI18BAeUyRvHCLH1wksG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43680" y="3929040"/>
            <a:ext cx="2786040" cy="2492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Голубой кит в прыжке"/>
          <p:cNvPicPr/>
          <p:nvPr/>
        </p:nvPicPr>
        <p:blipFill>
          <a:blip r:embed="rId7"/>
          <a:stretch/>
        </p:blipFill>
        <p:spPr>
          <a:xfrm>
            <a:off x="857160" y="3643200"/>
            <a:ext cx="3071880" cy="2457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t3.gstatic.com/images?q=tbn:ANd9GcREKdkxJ2T5X5PLTz4uhInnW6a6BtUGqStVB0naxpeZalW9YDHU92TkgT8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143160" y="1000080"/>
            <a:ext cx="27259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t2.gstatic.com/images?q=tbn:ANd9GcREKFjlVsCGq2Kf5blv9hPSXvI13ImEYSRlgXg7eUzCkXAjCswe-_I0jV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785880"/>
            <a:ext cx="2571840" cy="2419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http://t1.gstatic.com/images?q=tbn:ANd9GcRqufa4TGv1jIooAf0o7r9brZk013uQUDmIeTFSkmqh2wKkgfUk1iTqZ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57960" y="714240"/>
            <a:ext cx="2500200" cy="212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Голубой кит в прыжке"/>
          <p:cNvPicPr/>
          <p:nvPr/>
        </p:nvPicPr>
        <p:blipFill>
          <a:blip r:embed="rId5"/>
          <a:stretch/>
        </p:blipFill>
        <p:spPr>
          <a:xfrm>
            <a:off x="857160" y="3643200"/>
            <a:ext cx="3071880" cy="2457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t3.gstatic.com/images?q=tbn:ANd9GcREKdkxJ2T5X5PLTz4uhInnW6a6BtUGqStVB0naxpeZalW9YDHU92TkgT8"/>
          <p:cNvPicPr/>
          <p:nvPr/>
        </p:nvPicPr>
        <p:blipFill>
          <a:blip r:embed="rId6"/>
          <a:stretch/>
        </p:blipFill>
        <p:spPr>
          <a:xfrm>
            <a:off x="3143160" y="1000080"/>
            <a:ext cx="2725920" cy="2000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http://t3.gstatic.com/images?q=tbn:ANd9GcR8t6fS7sqDc7FlTtoo2Bh17ZIWu0rnO8ap0aetEE3DxyTcR-cHQ99rV2M"/>
          <p:cNvPicPr/>
          <p:nvPr/>
        </p:nvPicPr>
        <p:blipFill>
          <a:blip r:embed="rId7"/>
          <a:stretch/>
        </p:blipFill>
        <p:spPr>
          <a:xfrm>
            <a:off x="4929120" y="3429000"/>
            <a:ext cx="32860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7138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I am afraid of …….   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I 'm not afraid of …….  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57120" y="71280"/>
          <a:ext cx="8429760" cy="6723360"/>
        </p:xfrm>
        <a:graphic>
          <a:graphicData uri="http://schemas.openxmlformats.org/drawingml/2006/table">
            <a:tbl>
              <a:tblPr/>
              <a:tblGrid>
                <a:gridCol w="2901960"/>
                <a:gridCol w="2763720"/>
                <a:gridCol w="2764080"/>
              </a:tblGrid>
              <a:tr h="99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ir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What are they lik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What can they do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ph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ger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y with a b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de a bicy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g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uff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de a hor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ar clot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y the pia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ke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len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ller-sk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</dc:creator>
  <dc:description/>
  <dc:language>en-US</dc:language>
  <cp:lastModifiedBy>Админ</cp:lastModifiedBy>
  <dcterms:modified xsi:type="dcterms:W3CDTF">2014-10-11T07:19:20Z</dcterms:modified>
  <cp:revision>15</cp:revision>
  <dc:subject/>
  <dc:title>Слайд 1</dc:title>
</cp:coreProperties>
</file>