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15ED5-AD46-46F3-8D9D-5F7A8F050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146C7-551B-4ECA-ACDE-86F4C4DF2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64108-F44F-4D72-9F44-FBC81008B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1DF9C-AA68-4F75-BEFE-A4879F102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88BAC-9394-4841-AF29-F8171EE71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33A20-04D4-4632-BC94-23EF4A18E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1230D-F021-4F99-BE30-672A15DF4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A5471-8AEB-4937-AE34-DCE1AA487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DD46F-22AA-4085-B0AE-A2596AFB6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6922A-AC27-4592-ACC8-DB8BD726C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FAECC-A8F9-412A-A721-A48D3F2D0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68B0D-70AB-41F2-837F-CB0714A46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B420F-1AED-42B7-B24E-ACE2CD3B6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6CC2E-E540-4A03-82AF-58891646E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65FCE-BFD3-4E84-9A08-FB9404AA2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1912A-7545-433A-B09C-D5010FA10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492FD-64B5-4701-816A-C8E874C24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5F672-3835-4799-86C7-4B06A5575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760BE-4518-48E2-AA51-CA784C056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E7765-C480-4381-8180-A1EB0A74D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0606D-F42C-451F-ABBE-9FBC16E8D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7FD2D-37AB-46E6-9D42-E9ABA25C8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F27B9-132F-4072-80BB-93ACA37EB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D566C-C637-4764-AA16-697F9B163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75B2C-F104-4691-B9D6-26C0AB7891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7D0EC-E89F-4BB2-8597-6BAAF53FE5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526680"/>
            <a:ext cx="7772400" cy="307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916a00"/>
                </a:solidFill>
                <a:latin typeface="Arial"/>
              </a:rPr>
              <a:t>Словарные слова</a:t>
            </a:r>
            <a:br>
              <a:rPr sz="6600"/>
            </a:br>
            <a:r>
              <a:rPr b="0" lang="ru-RU" sz="4400" spc="-1" strike="noStrike">
                <a:solidFill>
                  <a:srgbClr val="787000"/>
                </a:solidFill>
                <a:latin typeface="Arial"/>
              </a:rPr>
              <a:t>часть 1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610160" y="4630320"/>
            <a:ext cx="4533840" cy="222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ренажер по русскому языку, 1 клас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втор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итель начальных класс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БОУ СОШ села Ключ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ысогорского райо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аратовской област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ндреева Юлия Никола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200" spc="-1" strike="noStrike">
                <a:solidFill>
                  <a:srgbClr val="000000"/>
                </a:solidFill>
                <a:latin typeface="Arial"/>
              </a:rPr>
              <a:t>д_ревня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2428920"/>
            <a:ext cx="4038480" cy="36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9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700" spc="-1" strike="noStrike">
                <a:solidFill>
                  <a:srgbClr val="ff3300"/>
                </a:solidFill>
                <a:latin typeface="Arial"/>
              </a:rPr>
              <a:t>И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48320" y="2428920"/>
            <a:ext cx="4038480" cy="36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spcBef>
                <a:spcPts val="29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700" spc="-1" strike="noStrike">
                <a:solidFill>
                  <a:srgbClr val="ff3300"/>
                </a:solidFill>
                <a:latin typeface="Arial"/>
              </a:rPr>
              <a:t>Е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1795320" y="2841480"/>
            <a:ext cx="5564160" cy="362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69 -0.06569 C 0.00122 -0.06616 -0.0026 -0.06569 -0.0059 -0.06731 C -0.01007 -0.06939 -0.00972 -0.08258 -0.01059 -0.08767 C -0.01371 -0.10409 -0.01527 -0.12052 -0.02465 -0.13301 C -0.02673 -0.14411 -0.02448 -0.13532 -0.02934 -0.14573 C -0.0335 -0.15452 -0.0342 -0.16493 -0.04114 -0.17071 C -0.05138 -0.18899 -0.07361 -0.19431 -0.08941 -0.19732 C -0.121 -0.21466 -0.17031 -0.20981 -0.19757 -0.21143 C -0.23454 -0.20934 -0.24635 -0.21235 -0.27413 -0.20055 C -0.28003 -0.19523 -0.28923 -0.18968 -0.29635 -0.18806 C -0.30434 -0.18251 -0.31232 -0.17233 -0.32118 -0.16909 C -0.32829 -0.16655 -0.33593 -0.16678 -0.3434 -0.16609 C -0.35711 -0.16493 -0.38472 -0.16285 -0.38472 -0.16262 C -0.45607 -0.164 -0.47274 -0.16308 -0.52586 -0.17233 C -0.53003 -0.17603 -0.54184 -0.18112 -0.54704 -0.1832 C -0.55208 -0.18783 -0.55868 -0.18899 -0.56354 -0.19431 C -0.57934 -0.21166 -0.56684 -0.20287 -0.5776 -0.20981 C -0.58333 -0.21929 -0.58871 -0.2297 -0.59531 -0.23803 C -0.60625 -0.2762 -0.60225 -0.26394 -0.60225 -0.33218 E">
                                      <p:cBhvr>
                                        <p:cTn id="98" dur="2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200" spc="-1" strike="noStrike">
                <a:solidFill>
                  <a:srgbClr val="000000"/>
                </a:solidFill>
                <a:latin typeface="Arial"/>
              </a:rPr>
              <a:t>гор_д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2492280"/>
            <a:ext cx="403848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9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700" spc="-1" strike="noStrike">
                <a:solidFill>
                  <a:srgbClr val="ff3300"/>
                </a:solidFill>
                <a:latin typeface="Arial"/>
              </a:rPr>
              <a:t>О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48320" y="2514600"/>
            <a:ext cx="4038480" cy="36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spcBef>
                <a:spcPts val="29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700" spc="-1" strike="noStrike">
                <a:solidFill>
                  <a:srgbClr val="ff3300"/>
                </a:solidFill>
                <a:latin typeface="Arial"/>
              </a:rPr>
              <a:t>А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2117880" y="2622600"/>
            <a:ext cx="5121000" cy="38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path" presetID="5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997 -0.01573 L 0.01997 -0.17765 C 0.01997 -0.25028 0.14393 -0.33934 0.24497 -0.33934 L 0.46997 -0.33934 E">
                                      <p:cBhvr>
                                        <p:cTn id="104" dur="2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08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200" spc="-1" strike="noStrike">
                <a:solidFill>
                  <a:srgbClr val="000000"/>
                </a:solidFill>
                <a:latin typeface="Arial"/>
              </a:rPr>
              <a:t>д_рога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43000" y="2374920"/>
            <a:ext cx="4038480" cy="15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spcBef>
                <a:spcPts val="29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700" spc="-1" strike="noStrike">
                <a:solidFill>
                  <a:srgbClr val="ff3300"/>
                </a:solidFill>
                <a:latin typeface="Arial"/>
              </a:rPr>
              <a:t>А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7337520" y="2278080"/>
            <a:ext cx="4038480" cy="21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9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700" spc="-1" strike="noStrike">
                <a:solidFill>
                  <a:srgbClr val="ff3300"/>
                </a:solidFill>
                <a:latin typeface="Arial"/>
              </a:rPr>
              <a:t>О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2200320" y="3205080"/>
            <a:ext cx="4734000" cy="30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3.97409E-006 C -0.01284 -0.00741 -0.02326 -0.01828 -0.03472 -0.02846 C -0.03767 -0.031 -0.04114 -0.031 -0.04409 -0.03331 C -0.05208 -0.03979 -0.05816 -0.05136 -0.06649 -0.05598 C -0.07222 -0.06339 -0.07951 -0.06871 -0.08628 -0.07148 C -0.09895 -0.08374 -0.08229 -0.06871 -0.10642 -0.08166 C -0.13263 -0.09554 -0.10034 -0.08513 -0.12361 -0.09138 C -0.15538 -0.11289 -0.16718 -0.10849 -0.21111 -0.11219 C -0.22361 -0.11474 -0.23559 -0.12006 -0.24826 -0.12237 C -0.27326 -0.14481 -0.30642 -0.12816 -0.33437 -0.13209 C -0.37552 -0.1462 -0.41701 -0.12885 -0.45798 -0.14481 C -0.46718 -0.15661 -0.45572 -0.14342 -0.46701 -0.15244 C -0.47274 -0.15684 -0.47013 -0.15776 -0.475 -0.16517 C -0.4776 -0.1691 -0.48298 -0.17511 -0.48298 -0.17488 C -0.48802 -0.19015 -0.49722 -0.19963 -0.50138 -0.21559 C -0.50572 -0.23156 -0.50642 -0.24821 -0.51336 -0.26093 C -0.51597 -0.27296 -0.51805 -0.28522 -0.52118 -0.29633 E">
                                      <p:cBhvr>
                                        <p:cTn id="10" dur="2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200" spc="-1" strike="noStrike">
                <a:solidFill>
                  <a:srgbClr val="000000"/>
                </a:solidFill>
                <a:latin typeface="Arial"/>
              </a:rPr>
              <a:t>адр_с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750760"/>
            <a:ext cx="4038480" cy="33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9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700" spc="-1" strike="noStrike">
                <a:solidFill>
                  <a:srgbClr val="ff3300"/>
                </a:solidFill>
                <a:latin typeface="Arial"/>
              </a:rPr>
              <a:t>Е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7188120" y="2730600"/>
            <a:ext cx="17352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9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700" spc="-1" strike="noStrike">
                <a:solidFill>
                  <a:srgbClr val="ff3300"/>
                </a:solidFill>
                <a:latin typeface="Arial"/>
              </a:rPr>
              <a:t>И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2198520" y="3328920"/>
            <a:ext cx="4629240" cy="31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3.63174E-007 L 0.50416 -0.3752 E">
                                      <p:cBhvr>
                                        <p:cTn id="16" dur="2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0" dur="2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200" spc="-1" strike="noStrike">
                <a:solidFill>
                  <a:srgbClr val="000000"/>
                </a:solidFill>
                <a:latin typeface="Arial"/>
              </a:rPr>
              <a:t>учит_ль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825640"/>
            <a:ext cx="4038480" cy="33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9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700" spc="-1" strike="noStrike">
                <a:solidFill>
                  <a:srgbClr val="ff3300"/>
                </a:solidFill>
                <a:latin typeface="Arial"/>
              </a:rPr>
              <a:t>И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7402680" y="2911320"/>
            <a:ext cx="2047680" cy="32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9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700" spc="-1" strike="noStrike">
                <a:solidFill>
                  <a:srgbClr val="ff3300"/>
                </a:solidFill>
                <a:latin typeface="Arial"/>
              </a:rPr>
              <a:t>Е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2330280" y="2805120"/>
            <a:ext cx="4214880" cy="36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7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3.56234E-006 C -0.01788 0.00786 -0.03177 0.00231 -0.0526 0.00162 C -0.05903 3.56234000000008E-006 -0.06528 -0.00232 -0.0717 -0.0037 C -0.08212 -0.00879 -0.09097 -0.0162 -0.09913 -0.02661 C -0.10087 -0.02822 -0.1026 -0.02984 -0.10399 -0.03169 C -0.10642 -0.03516 -0.11128 -0.04234 -0.11128 -0.0421 C -0.11441 -0.05274 -0.11788 -0.062 -0.12066 -0.07241 C -0.11892 -0.0967 -0.12049 -0.11659 -0.10399 -0.12561 C -0.10243 -0.1263 -0.10104 -0.12862 -0.09913 -0.12908 C -0.08003 -0.13047 -0.06094 -0.13024 -0.04184 -0.1307 C -0.03264 -0.13509 -0.02378 -0.13995 -0.01441 -0.14296 C -0.01059 -0.14689 -0.00694 -0.14782 -0.00243 -0.1499 C 0.00608 -0.15985 0.01337 -0.17303 0.02257 -0.18182 C 0.02587 -0.18853 0.02674 -0.19454 0.02986 -0.20125 C 0.04063 -0.26232 -0.00833 -0.27065 -0.03594 -0.27713 C -0.04913 -0.27643 -0.08177 -0.27643 -0.10156 -0.27204 C -0.11111 -0.26995 -0.11927 -0.26463 -0.12899 -0.26302 C -0.13542 -0.26047 -0.1401 -0.25769 -0.14687 -0.25608 C -0.15799 -0.25029 -0.16979 -0.24497 -0.1816 -0.2422 C -0.1941 -0.24266 -0.20712 -0.24289 -0.21979 -0.24382 C -0.22569 -0.24451 -0.22448 -0.24543 -0.22934 -0.24729 C -0.23229 -0.24867 -0.23889 -0.25099 -0.23889 -0.25076 C -0.24392 -0.25561 -0.24722 -0.2607 -0.25312 -0.26302 C -0.26302 -0.27342 -0.25903 -0.26857 -0.2651 -0.27713 C -0.26667 -0.2843 -0.26979 -0.28869 -0.27222 -0.29494 C -0.27587 -0.30465 -0.27743 -0.3146 -0.28194 -0.32339 C -0.28264 -0.33033 -0.28403 -0.33727 -0.2842 -0.34467 C -0.2842 -0.36133 -0.28299 -0.39533 -0.28299 -0.3951 E">
                                      <p:cBhvr>
                                        <p:cTn id="32" dur="2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200" spc="-1" strike="noStrike">
                <a:solidFill>
                  <a:srgbClr val="000000"/>
                </a:solidFill>
                <a:latin typeface="Arial"/>
              </a:rPr>
              <a:t>_зык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685960"/>
            <a:ext cx="4038480" cy="34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9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700" spc="-1" strike="noStrike">
                <a:solidFill>
                  <a:srgbClr val="ff3300"/>
                </a:solidFill>
                <a:latin typeface="Arial"/>
              </a:rPr>
              <a:t>И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48320" y="2536920"/>
            <a:ext cx="4038480" cy="358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spcBef>
                <a:spcPts val="29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700" spc="-1" strike="noStrike">
                <a:solidFill>
                  <a:srgbClr val="ff3300"/>
                </a:solidFill>
                <a:latin typeface="Arial"/>
              </a:rPr>
              <a:t>Я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2212920" y="3132000"/>
            <a:ext cx="4837320" cy="333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8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469 -0.02197 C -0.01875 -0.01573 -0.03247 -0.0118 -0.04705 -0.00786 C -0.05834 -0.00069 -0.07118 0.00046 -0.08351 0.00162 C -0.10764 0.01388 -0.13594 0.01596 -0.16111 0.01712 C -0.18316 0.01666 -0.20504 0.01712 -0.22709 0.01573 C -0.24393 0.01481 -0.26198 0.00602 -0.27882 0.00301 C -0.29532 -0.0037 -0.31441 -0.00717 -0.33177 -0.00948 C -0.34167 -0.01411 -0.35209 -0.0192 -0.36233 -0.02197 C -0.36667 -0.02776 -0.37222 -0.02961 -0.37639 -0.03608 C -0.38091 -0.04326 -0.38351 -0.05297 -0.38698 -0.06107 C -0.39167 -0.07194 -0.3974 -0.08258 -0.40122 -0.09415 C -0.40347 -0.10085 -0.40434 -0.10918 -0.40591 -0.11612 C -0.40556 -0.12445 -0.40591 -0.13301 -0.40469 -0.1411 C -0.40434 -0.14319 -0.40209 -0.14388 -0.40122 -0.14573 C -0.39427 -0.16054 -0.39393 -0.16609 -0.38004 -0.17094 C -0.37066 -0.17858 -0.35452 -0.18413 -0.34358 -0.18667 C -0.33472 -0.22022 -0.35816 -0.22207 -0.37535 -0.22739 C -0.38785 -0.22692 -0.40052 -0.22785 -0.41285 -0.22577 C -0.41962 -0.22461 -0.43195 -0.20726 -0.43768 -0.20217 C -0.44566 -0.18829 -0.45434 -0.17534 -0.46233 -0.16146 C -0.47101 -0.14619 -0.46268 -0.15776 -0.46702 -0.14735 C -0.47101 -0.13787 -0.47709 -0.12884 -0.48229 -0.12075 C -0.48577 -0.1152 -0.48698 -0.10918 -0.49184 -0.10502 C -0.50104 -0.09692 -0.50365 -0.09831 -0.51528 -0.09577 C -0.53334 -0.09623 -0.55139 -0.09623 -0.56945 -0.09715 C -0.579 -0.09762 -0.59028 -0.10641 -0.6 -0.10826 C -0.60851 -0.11381 -0.61702 -0.11566 -0.62587 -0.11913 C -0.63438 -0.12237 -0.64219 -0.12815 -0.65052 -0.13162 C -0.654 -0.13856 -0.6592 -0.13833 -0.66476 -0.14272 C -0.67396 -0.15938 -0.66198 -0.13902 -0.67292 -0.1536 C -0.6816 -0.16516 -0.68959 -0.1802 -0.69757 -0.19292 C -0.70643 -0.20703 -0.71372 -0.2223 -0.72344 -0.23525 C -0.72795 -0.24127 -0.72969 -0.24821 -0.73403 -0.25399 C -0.73802 -0.26717 -0.74097 -0.2792 -0.74358 -0.29308 C -0.74479 -0.31228 -0.74566 -0.31853 -0.74358 -0.34027 C -0.74288 -0.34698 -0.7375 -0.35947 -0.73525 -0.36687 C -0.73403 -0.37636 -0.73316 -0.38168 -0.72709 -0.38723 C -0.71823 -0.40412 -0.70608 -0.41429 -0.69184 -0.4217 C -0.68351 -0.42077 -0.67518 -0.42054 -0.66702 -0.41869 C -0.66337 -0.41776 -0.65643 -0.41383 -0.65643 -0.4136 C -0.64896 -0.40388 -0.63646 -0.40273 -0.62709 -0.39671 C -0.62084 -0.38839 -0.61268 -0.38723 -0.60469 -0.3826 C -0.5915 -0.37474 -0.58108 -0.36225 -0.56945 -0.35114 C -0.55955 -0.34166 -0.54514 -0.35114 -0.53299 -0.35114 E">
                                      <p:cBhvr>
                                        <p:cTn id="44" dur="2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200" spc="-1" strike="noStrike">
                <a:solidFill>
                  <a:srgbClr val="000000"/>
                </a:solidFill>
                <a:latin typeface="Arial"/>
              </a:rPr>
              <a:t>с_бака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46160" y="1976400"/>
            <a:ext cx="4038480" cy="23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9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7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ru-RU" sz="11700" spc="-1" strike="noStrike">
                <a:solidFill>
                  <a:srgbClr val="ff3300"/>
                </a:solidFill>
                <a:latin typeface="Arial"/>
              </a:rPr>
              <a:t>О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881000"/>
            <a:ext cx="4038480" cy="22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29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700" spc="-1" strike="noStrike">
                <a:solidFill>
                  <a:srgbClr val="ff3300"/>
                </a:solidFill>
                <a:latin typeface="Arial"/>
              </a:rPr>
              <a:t>      </a:t>
            </a:r>
            <a:r>
              <a:rPr b="1" lang="ru-RU" sz="11700" spc="-1" strike="noStrike">
                <a:solidFill>
                  <a:srgbClr val="ff3300"/>
                </a:solidFill>
                <a:latin typeface="Arial"/>
              </a:rPr>
              <a:t>А  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2244600" y="2306520"/>
            <a:ext cx="428652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65 0.02359 L 0.21111 -0.28291 E">
                                      <p:cBhvr>
                                        <p:cTn id="50" dur="2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4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200" spc="-1" strike="noStrike">
                <a:solidFill>
                  <a:srgbClr val="000000"/>
                </a:solidFill>
                <a:latin typeface="Arial"/>
              </a:rPr>
              <a:t>р_бята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2680" y="2084400"/>
            <a:ext cx="4038480" cy="23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9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700" spc="-1" strike="noStrike">
                <a:solidFill>
                  <a:srgbClr val="ff3300"/>
                </a:solidFill>
                <a:latin typeface="Arial"/>
              </a:rPr>
              <a:t>Е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91160" y="1987200"/>
            <a:ext cx="403848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spcBef>
                <a:spcPts val="29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700" spc="-1" strike="noStrike">
                <a:solidFill>
                  <a:srgbClr val="ff3300"/>
                </a:solidFill>
                <a:latin typeface="Arial"/>
              </a:rPr>
              <a:t>И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2419200" y="2970360"/>
            <a:ext cx="4286520" cy="29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118 0.02522 L 0.22882 -0.30788 E">
                                      <p:cBhvr>
                                        <p:cTn id="61" dur="2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5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200" spc="-1" strike="noStrike">
                <a:solidFill>
                  <a:srgbClr val="000000"/>
                </a:solidFill>
                <a:latin typeface="Arial"/>
              </a:rPr>
              <a:t>м_дведь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2480760"/>
            <a:ext cx="4038480" cy="36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9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700" spc="-1" strike="noStrike">
                <a:solidFill>
                  <a:srgbClr val="ff3300"/>
                </a:solidFill>
                <a:latin typeface="Arial"/>
              </a:rPr>
              <a:t>И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48320" y="2505240"/>
            <a:ext cx="4038480" cy="362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spcBef>
                <a:spcPts val="29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700" spc="-1" strike="noStrike">
                <a:solidFill>
                  <a:srgbClr val="ff3300"/>
                </a:solidFill>
                <a:latin typeface="Arial"/>
              </a:rPr>
              <a:t>Е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2143080" y="2984400"/>
            <a:ext cx="4633920" cy="33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72" dur="2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239 -0.00786 C -0.03489 -0.01156 -0.04757 -0.01387 -0.06007 -0.01781 C -0.07569 -0.02266 -0.09132 -0.02798 -0.10711 -0.03099 C -0.11545 -0.03492 -0.12343 -0.03955 -0.13194 -0.04279 C -0.13645 -0.04904 -0.14097 -0.05551 -0.146 -0.06083 C -0.14965 -0.0717 -0.15659 -0.07957 -0.16128 -0.08928 C -0.16441 -0.09576 -0.16944 -0.10918 -0.16944 -0.10895 C -0.16979 -0.11126 -0.16996 -0.1138 -0.17066 -0.11589 C -0.17118 -0.11751 -0.17257 -0.11866 -0.17309 -0.12074 C -0.17413 -0.12514 -0.175 -0.14064 -0.17534 -0.14388 C -0.17621 -0.15082 -0.17916 -0.15637 -0.18125 -0.16238 C -0.18767 -0.18066 -0.19548 -0.19777 -0.20607 -0.21212 C -0.20868 -0.21952 -0.20989 -0.22137 -0.21545 -0.22368 C -0.22604 -0.23895 -0.23385 -0.23872 -0.24948 -0.24034 C -0.25902 -0.24566 -0.26996 -0.2482 -0.28003 -0.25028 C -0.3052 -0.24982 -0.3302 -0.25005 -0.35538 -0.24866 C -0.36614 -0.24774 -0.3776 -0.24034 -0.38836 -0.23849 C -0.39461 -0.23502 -0.40052 -0.23363 -0.40711 -0.23201 C -0.41319 -0.22785 -0.41944 -0.22553 -0.42604 -0.22368 C -0.42986 -0.22091 -0.43402 -0.21998 -0.43767 -0.21697 C -0.44062 -0.21466 -0.4427 -0.21003 -0.446 -0.20865 C -0.45191 -0.20587 -0.45781 -0.20309 -0.46371 -0.20055 C -0.47395 -0.19037 -0.51267 -0.19407 -0.5177 -0.19384 C -0.52482 -0.195 -0.53194 -0.19477 -0.53888 -0.19708 C -0.54375 -0.19893 -0.54618 -0.20448 -0.54948 -0.20865 C -0.56597 -0.229 -0.56579 -0.26116 -0.57777 -0.28498 C -0.57968 -0.29585 -0.58316 -0.30534 -0.58715 -0.31505 C -0.58854 -0.31806 -0.58923 -0.32176 -0.59062 -0.325 C -0.59201 -0.32847 -0.59548 -0.33518 -0.59548 -0.33472 C -0.59687 -0.34142 -0.59566 -0.33865 -0.59895 -0.34304 E">
                                      <p:cBhvr>
                                        <p:cTn id="77" dur="2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200" spc="-1" strike="noStrike">
                <a:solidFill>
                  <a:srgbClr val="000000"/>
                </a:solidFill>
                <a:latin typeface="Arial"/>
              </a:rPr>
              <a:t>кла__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12920" y="23320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9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700" spc="-1" strike="noStrike">
                <a:solidFill>
                  <a:srgbClr val="ff3300"/>
                </a:solidFill>
                <a:latin typeface="Arial"/>
              </a:rPr>
              <a:t>С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1160" y="23320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spcBef>
                <a:spcPts val="29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700" spc="-1" strike="noStrike">
                <a:solidFill>
                  <a:srgbClr val="ff3300"/>
                </a:solidFill>
                <a:latin typeface="Arial"/>
              </a:rPr>
              <a:t>СС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2017800" y="3032280"/>
            <a:ext cx="426708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83" dur="2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833 -0.06569 L -0.17205 -0.34097 E">
                                      <p:cBhvr>
                                        <p:cTn id="88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2T11:41:29Z</dcterms:created>
  <dc:creator>ppsworld.ru</dc:creator>
  <dc:description/>
  <cp:keywords>фон для power point</cp:keywords>
  <dc:language>en-US</dc:language>
  <cp:lastModifiedBy>Admin</cp:lastModifiedBy>
  <dcterms:modified xsi:type="dcterms:W3CDTF">2013-10-19T10:04:04Z</dcterms:modified>
  <cp:revision>3</cp:revision>
  <dc:subject/>
  <dc:title>Слайд 1</dc:title>
</cp:coreProperties>
</file>