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14.jpeg" ContentType="image/jpeg"/>
  <Override PartName="/ppt/media/image41.jpeg" ContentType="image/jpeg"/>
  <Override PartName="/ppt/media/image33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7.jpeg" ContentType="image/jpeg"/>
  <Override PartName="/ppt/media/image38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647F-7F5C-48E5-9CC7-00AF96F5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FF73-47FF-4D03-866C-B75E4858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90989-F191-4A90-B4B9-8360FAEB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EC5E5-3F4F-47DD-B630-A562EBAD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0CD36-4D23-41CD-B6A2-276F0911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E51B0-7BE8-479D-852F-94468FBA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6E26F-F35A-4B5F-8E69-33841263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60134-1822-41AA-9CEA-A1CE152B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777E5-E900-4498-940B-403CA6E5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361A2-9E20-47D6-A8CC-0168C464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97000-4199-43BF-9B27-7FDFCA63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1CA88-256F-48B8-AE97-BF57AC83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EA74-59F6-4E3E-8311-7B4278A5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61965C-D378-4CE1-859B-B4F7D516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9B513-585A-4F17-8FFA-D1CF4EAC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B1CCB-B392-48DE-9B46-516BFFB3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3DD78-1F2D-4647-B72C-2CF2717F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EA25D-1EF9-4664-9868-D123E6EB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DBFC0-2C55-4984-A28B-6CC4A436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CF218-491A-4588-A86B-5EE99FBC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446FD-6AD8-49AB-A5F2-F6F794D9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0046F-88CE-4B7E-B02C-8BA283C5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9954F-1190-4298-8EB3-246A5AAA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C98E-A78F-4500-AE1A-09A2CE82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9BFC6-73E7-422B-85F2-54886398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9ED1C-2836-405A-8930-D653CCD0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F7EA1-8E5D-48C5-80F6-B21B0F39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37898-F42A-489C-B776-63CFCB09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824FD-7CCE-4530-A9EF-64363636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94F3E-B0BA-4ED5-BC3D-90D15767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B9389-0D81-4B2D-9196-0217799E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FDE07-E341-4822-AB67-15A2E93D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BE19C-18A9-4EA5-8ED8-9BA7A05B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380DB-EC17-4D8E-80E1-54A11EED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88B8-67E6-4A1E-9555-E453B049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60EA2-D8EE-4070-A940-6EFBF5AA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386A0-FA5F-4DB8-B63C-7DE8A4C0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99C0E-33D2-4927-8293-6483B998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83344-7B43-4477-A9C0-1027C0154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0B43F-28C3-498F-948F-EA1DED40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2BAC3-B5A9-436B-95B7-8B20F8EB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D5FF4-CAEC-4721-80BB-E87E566E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23873-B323-48CE-A025-2438598E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6DE7C-C400-45EC-BEFD-0BE14855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7A0A8-9EE3-4091-84D3-844666F1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B62E-2B45-4E48-A3C5-42D792B0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C8EBE-84BE-40BF-8BC7-4D481BD2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B7E58-5A80-4341-9585-0EF8B593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55BAA-4AA9-4228-BA49-9A952E9D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AB5E4-6604-43B2-B4F0-CC4B1762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EBA64-A690-428F-BC2C-76A69C7D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F090-5AC1-4F3D-B1D6-832E51FD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77EF-4678-485A-B7F3-E9F63E79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9C61-27E5-4738-9AAE-49FEEC30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D257-7EA7-418A-9408-8E7E87E8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56C6-081C-4D1B-B111-B0DA72E5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58C6-6D29-4861-BDD5-690B9908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CCA4-DA88-471A-B3E7-EC7845ED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1E52-8F17-4F09-B519-086075C5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F90B-D44F-4F80-9D74-CA9CF809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880B-1160-4B94-9686-7BD792B2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36A5-ADAC-4149-ADAD-65821503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BCD2E-BFF0-483F-866C-100801C7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CD89F-7047-4004-BA24-DF9E224C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23D84-5A18-4982-BEE0-57B555DC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5B5FD-10ED-4B8D-957D-B3D81261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318D1-3C03-47B1-855F-AB52BB1B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FCBD-5760-41AB-AE4A-3D567E1F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FBAE9-8665-4857-A375-E04F13AB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65D6D-B444-47C5-97F5-A9F4AFA7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94A17-3B4C-4DAB-A720-5C2DBFBB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A8EDD-1191-4B31-9CBE-339FBAA9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C7047-6938-4033-B709-DA068014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4B48C-57A6-4AC2-B7FC-D5F91354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B8E1F-3C4A-4781-B048-0DB13B37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AEF84-1200-4C2F-9E32-E5BACE28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033EF-552C-45A4-BADD-EA920D68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E7926-331F-4859-B0EB-CE173131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70CA-33E8-419A-8169-707C3DE7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57D59-B40A-4D93-B5C3-67E23576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1C318-F605-44C2-B474-DE66359C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23637-DDCA-4732-9E12-5EE1F603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2D57C-CEAD-4398-94F9-BF71C85B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4B8FA-8975-4B79-87DC-C614A818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409FE-F8FD-4A3D-A60D-425AF73E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88896-2282-43B2-9522-3C9A78BC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B0014-09E7-4014-964C-B1A6C006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3B220-3E6F-458A-B76A-ABD22148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2DA95-DE29-4616-829A-683C3354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CD14-ECD6-4993-AAD8-837FA7B8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263D8-C1E8-4F25-A05C-31D99FC6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EAA3B-5095-491F-8742-F78A0F12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FAC50-A520-4A68-B226-31C5FC59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5646B-8429-42DC-9BE9-97195B67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9B0A7-523E-4701-BB77-5F5F3A5D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66A4F-2046-495E-A721-40318B2C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6BDB7-8817-4B0D-9EC5-130AA14A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6A9AD-50F5-41B9-8056-5C5F21D6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11FF1-7BD7-4452-A6C6-05651701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CDFC0-689B-49DA-A2C7-D1081952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A9AF-F011-45D2-AD84-B152C079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FC503-AD5A-4EBB-886A-B9CB6717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D0739-D024-49AD-9522-5B44876A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9E24D-334B-408B-9503-2D75721A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9ABBD-85CC-4BCA-AE1A-3B9B43B9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E2924-3003-44DC-8FAA-D9E4A574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848CE-390A-4864-A4C8-7D5FFE2F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16160-F8F3-41E5-9D04-89260E15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FA218-10A9-4DDF-86ED-790D6689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8E13A-A931-45F1-987E-486629E3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499A2-037A-469E-B626-172C31FB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DA02-0A4C-4D3B-B257-2EEB92BD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CBAA1-A86A-4F47-BD28-148FCE26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D961F-4219-49FC-99DD-A8C5EDAA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ECB71-E85E-40FF-9730-CEE66551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77EB3A-76FB-424F-8EB4-9B4718A2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6115D5-23F8-4262-958F-75414BA0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86F7BD-DB06-4A45-BAC0-0C3B08FB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FDFF89-5F9C-4D8E-8A62-F1C352B4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FD75B7-054F-421A-957B-2A454A14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EE06D2-810B-464A-B5B1-B2E071F7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418341-C1FE-49D4-9A23-AD7074EB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DDAA-894E-4384-ACC0-48D264CB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AFC096-A490-48E6-A712-C2F9A717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D94725-1AC9-488E-AA89-C3C86969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ABA11D-8155-466B-BEF4-7ABBFBD2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759D1B-BC7A-4C2F-8642-A01790D1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1E9A09-3A0B-43E4-BAEE-DDB7F51A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79662-9D1C-4727-8E7B-41CA9F07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2D7E0-CDB5-436F-BD87-5CDB4206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D4D6A-97B8-48BB-8A04-2AD2DA89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C9EB5-C050-4211-83D2-412C6DBC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F2BF4-76D6-47D7-A41D-538B4CBC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A435-E095-4055-82BE-85355CD6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1A2DC-28EE-49F2-AF31-BF301BE2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8E326-2244-498A-B565-600CC0BB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E4535-C37D-47E6-AF7B-C66C972D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D492D-CB47-486A-B239-CBA36881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A5012-5DA7-46C3-A27F-8520DB69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22777-0EE0-401C-9397-C94D659D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CFF37-9376-468D-BC14-591F7E10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E2450-0A01-422C-A8A8-96803BC0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21EF7-ECDA-4762-A414-A12CD7DB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2A9E6-6DB8-4D2D-8CC2-CFD1377B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9901-A412-48A5-92B9-C3226095D5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79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DB53-DACA-4BC7-A3C6-31183384B17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83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3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3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EAAB-2CE8-4FF3-8B23-5B982B6EC2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9D2D-2B2A-4776-A1C6-83A77AC1E38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2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3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7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7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006f"/>
                  </a:gs>
                  <a:gs pos="50000">
                    <a:srgbClr val="00007a"/>
                  </a:gs>
                  <a:gs pos="100000">
                    <a:srgbClr val="00006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A5C5-659A-4740-ADB7-E29E7C5BC81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3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3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3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4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41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3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3"/>
                  <p:cNvSpPr/>
                  <p:nvPr/>
                </p:nvSpPr>
                <p:spPr>
                  <a:xfrm rot="16200000">
                    <a:off x="8757720" y="5004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Freeform 14"/>
                  <p:cNvSpPr/>
                  <p:nvPr/>
                </p:nvSpPr>
                <p:spPr>
                  <a:xfrm rot="16200000">
                    <a:off x="8828640" y="3744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15"/>
                  <p:cNvSpPr/>
                  <p:nvPr/>
                </p:nvSpPr>
                <p:spPr>
                  <a:xfrm rot="16200000">
                    <a:off x="8898120" y="874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4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7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40F7-5C16-4B3F-994C-E4CFA19F7F9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3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C506-2642-4518-8152-D5A55670B5D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74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1259-CC92-45A3-81BD-F9B56554F9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1FBC-534A-4F28-AD16-F85EF869BB5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A093-5A48-4100-9D2C-918D6E0090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0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0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22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0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a"/>
                  </a:gs>
                  <a:gs pos="100000">
                    <a:srgbClr val="00007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006f"/>
                  </a:gs>
                  <a:gs pos="50000">
                    <a:srgbClr val="00007a"/>
                  </a:gs>
                  <a:gs pos="100000">
                    <a:srgbClr val="00006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AFBC-9CBD-43DB-8387-83AE85DE049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Group 2"/>
          <p:cNvGrpSpPr/>
          <p:nvPr/>
        </p:nvGrpSpPr>
        <p:grpSpPr>
          <a:xfrm>
            <a:off x="0" y="0"/>
            <a:ext cx="9159840" cy="6870240"/>
            <a:chOff x="0" y="0"/>
            <a:chExt cx="9159840" cy="6870240"/>
          </a:xfrm>
        </p:grpSpPr>
        <p:sp>
          <p:nvSpPr>
            <p:cNvPr id="699" name="Rectangle 3"/>
            <p:cNvSpPr/>
            <p:nvPr/>
          </p:nvSpPr>
          <p:spPr>
            <a:xfrm>
              <a:off x="0" y="6645960"/>
              <a:ext cx="8078760" cy="22428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4"/>
            <p:cNvSpPr/>
            <p:nvPr/>
          </p:nvSpPr>
          <p:spPr>
            <a:xfrm>
              <a:off x="0" y="23400"/>
              <a:ext cx="8078760" cy="19944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Rectangle 5"/>
            <p:cNvSpPr/>
            <p:nvPr/>
          </p:nvSpPr>
          <p:spPr>
            <a:xfrm>
              <a:off x="7953480" y="23400"/>
              <a:ext cx="1203120" cy="683424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2" name="Group 6"/>
            <p:cNvGrpSpPr/>
            <p:nvPr/>
          </p:nvGrpSpPr>
          <p:grpSpPr>
            <a:xfrm>
              <a:off x="7848720" y="0"/>
              <a:ext cx="1295280" cy="6311520"/>
              <a:chOff x="7848720" y="0"/>
              <a:chExt cx="1295280" cy="6311520"/>
            </a:xfrm>
          </p:grpSpPr>
          <p:grpSp>
            <p:nvGrpSpPr>
              <p:cNvPr id="703" name="Group 7"/>
              <p:cNvGrpSpPr/>
              <p:nvPr/>
            </p:nvGrpSpPr>
            <p:grpSpPr>
              <a:xfrm>
                <a:off x="8381880" y="0"/>
                <a:ext cx="762120" cy="2286720"/>
                <a:chOff x="8381880" y="0"/>
                <a:chExt cx="762120" cy="2286720"/>
              </a:xfrm>
            </p:grpSpPr>
            <p:grpSp>
              <p:nvGrpSpPr>
                <p:cNvPr id="704" name="Group 8"/>
                <p:cNvGrpSpPr/>
                <p:nvPr/>
              </p:nvGrpSpPr>
              <p:grpSpPr>
                <a:xfrm>
                  <a:off x="8729640" y="0"/>
                  <a:ext cx="279360" cy="275040"/>
                  <a:chOff x="8729640" y="0"/>
                  <a:chExt cx="279360" cy="275040"/>
                </a:xfrm>
              </p:grpSpPr>
              <p:grpSp>
                <p:nvGrpSpPr>
                  <p:cNvPr id="705" name="Group 9"/>
                  <p:cNvGrpSpPr/>
                  <p:nvPr/>
                </p:nvGrpSpPr>
                <p:grpSpPr>
                  <a:xfrm>
                    <a:off x="8729640" y="0"/>
                    <a:ext cx="279360" cy="275040"/>
                    <a:chOff x="8729640" y="0"/>
                    <a:chExt cx="279360" cy="275040"/>
                  </a:xfrm>
                </p:grpSpPr>
                <p:sp>
                  <p:nvSpPr>
                    <p:cNvPr id="706" name="Freeform 10"/>
                    <p:cNvSpPr/>
                    <p:nvPr/>
                  </p:nvSpPr>
                  <p:spPr>
                    <a:xfrm rot="16200000">
                      <a:off x="8768880" y="-39240"/>
                      <a:ext cx="200880" cy="279360"/>
                    </a:xfrm>
                    <a:custGeom>
                      <a:avLst/>
                      <a:gdLst>
                        <a:gd name="textAreaLeft" fmla="*/ 0 w 200880"/>
                        <a:gd name="textAreaRight" fmla="*/ 201240 w 20088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Freeform 11"/>
                    <p:cNvSpPr/>
                    <p:nvPr/>
                  </p:nvSpPr>
                  <p:spPr>
                    <a:xfrm rot="16200000">
                      <a:off x="8777880" y="91800"/>
                      <a:ext cx="140760" cy="225360"/>
                    </a:xfrm>
                    <a:custGeom>
                      <a:avLst/>
                      <a:gdLst>
                        <a:gd name="textAreaLeft" fmla="*/ 0 w 140760"/>
                        <a:gd name="textAreaRight" fmla="*/ 141120 w 14076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8" name="Oval 12"/>
                  <p:cNvSpPr/>
                  <p:nvPr/>
                </p:nvSpPr>
                <p:spPr>
                  <a:xfrm rot="16200000">
                    <a:off x="8849160" y="15120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Freeform 13"/>
                  <p:cNvSpPr/>
                  <p:nvPr/>
                </p:nvSpPr>
                <p:spPr>
                  <a:xfrm rot="16200000">
                    <a:off x="8782920" y="7164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Freeform 14"/>
                  <p:cNvSpPr/>
                  <p:nvPr/>
                </p:nvSpPr>
                <p:spPr>
                  <a:xfrm rot="16200000">
                    <a:off x="8853840" y="5904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Freeform 15"/>
                  <p:cNvSpPr/>
                  <p:nvPr/>
                </p:nvSpPr>
                <p:spPr>
                  <a:xfrm rot="16200000">
                    <a:off x="8923320" y="109080"/>
                    <a:ext cx="23400" cy="6192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Freeform 16"/>
                  <p:cNvSpPr/>
                  <p:nvPr/>
                </p:nvSpPr>
                <p:spPr>
                  <a:xfrm rot="16200000">
                    <a:off x="8849160" y="2127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Freeform 17"/>
                  <p:cNvSpPr/>
                  <p:nvPr/>
                </p:nvSpPr>
                <p:spPr>
                  <a:xfrm rot="16200000">
                    <a:off x="8797680" y="18828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14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512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5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512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6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551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7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345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8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586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9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384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0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178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1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972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22" name="Group 26"/>
              <p:cNvGrpSpPr/>
              <p:nvPr/>
            </p:nvGrpSpPr>
            <p:grpSpPr>
              <a:xfrm>
                <a:off x="7848720" y="1618200"/>
                <a:ext cx="828720" cy="4693320"/>
                <a:chOff x="7848720" y="1618200"/>
                <a:chExt cx="828720" cy="4693320"/>
              </a:xfrm>
            </p:grpSpPr>
            <p:pic>
              <p:nvPicPr>
                <p:cNvPr id="723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182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4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220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5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9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6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568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7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88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8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126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9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86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0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443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1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164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2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959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3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238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4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255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5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516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6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834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7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628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8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44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9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22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0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20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1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701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42" name="Freeform 46"/>
            <p:cNvSpPr/>
            <p:nvPr/>
          </p:nvSpPr>
          <p:spPr>
            <a:xfrm>
              <a:off x="7953480" y="4915080"/>
              <a:ext cx="1190520" cy="193320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3200"/>
                <a:gd name="textAreaBottom" fmla="*/ 1933560 h 19332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Freeform 47"/>
            <p:cNvSpPr/>
            <p:nvPr/>
          </p:nvSpPr>
          <p:spPr>
            <a:xfrm>
              <a:off x="7939080" y="4864680"/>
              <a:ext cx="1219320" cy="19929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2960"/>
                <a:gd name="textAreaBottom" fmla="*/ 1993320 h 19929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Freeform 48"/>
            <p:cNvSpPr/>
            <p:nvPr/>
          </p:nvSpPr>
          <p:spPr>
            <a:xfrm>
              <a:off x="7927920" y="2831400"/>
              <a:ext cx="1231920" cy="402300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23000"/>
                <a:gd name="textAreaBottom" fmla="*/ 4023000 h 402300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Freeform 49"/>
            <p:cNvSpPr/>
            <p:nvPr/>
          </p:nvSpPr>
          <p:spPr>
            <a:xfrm>
              <a:off x="8010360" y="3549600"/>
              <a:ext cx="979560" cy="217692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76920"/>
                <a:gd name="textAreaBottom" fmla="*/ 2177280 h 217692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Freeform 50"/>
            <p:cNvSpPr/>
            <p:nvPr/>
          </p:nvSpPr>
          <p:spPr>
            <a:xfrm>
              <a:off x="8244000" y="448920"/>
              <a:ext cx="914400" cy="503064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30640"/>
                <a:gd name="textAreaBottom" fmla="*/ 5031000 h 503064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Freeform 51"/>
            <p:cNvSpPr/>
            <p:nvPr/>
          </p:nvSpPr>
          <p:spPr>
            <a:xfrm>
              <a:off x="8250120" y="284760"/>
              <a:ext cx="909720" cy="30607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0720"/>
                <a:gd name="textAreaBottom" fmla="*/ 3061080 h 30607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Freeform 52"/>
            <p:cNvSpPr/>
            <p:nvPr/>
          </p:nvSpPr>
          <p:spPr>
            <a:xfrm>
              <a:off x="7943760" y="23400"/>
              <a:ext cx="576360" cy="334080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40800"/>
                <a:gd name="textAreaBottom" fmla="*/ 3341160 h 3340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Freeform 53"/>
            <p:cNvSpPr/>
            <p:nvPr/>
          </p:nvSpPr>
          <p:spPr>
            <a:xfrm>
              <a:off x="7943760" y="24840"/>
              <a:ext cx="300240" cy="334116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41160"/>
                <a:gd name="textAreaBottom" fmla="*/ 3341520 h 334116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Rectangle 54"/>
            <p:cNvSpPr/>
            <p:nvPr/>
          </p:nvSpPr>
          <p:spPr>
            <a:xfrm>
              <a:off x="7866000" y="24840"/>
              <a:ext cx="88920" cy="683424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Freeform 55"/>
            <p:cNvSpPr/>
            <p:nvPr/>
          </p:nvSpPr>
          <p:spPr>
            <a:xfrm>
              <a:off x="7958160" y="6231600"/>
              <a:ext cx="1165320" cy="6170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7040"/>
                <a:gd name="textAreaBottom" fmla="*/ 617400 h 61704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AutoShape 56"/>
            <p:cNvSpPr/>
            <p:nvPr/>
          </p:nvSpPr>
          <p:spPr>
            <a:xfrm rot="5400000">
              <a:off x="4335840" y="3327840"/>
              <a:ext cx="6834240" cy="225360"/>
            </a:xfrm>
            <a:custGeom>
              <a:avLst/>
              <a:gdLst>
                <a:gd name="textAreaLeft" fmla="*/ 666000 w 6834240"/>
                <a:gd name="textAreaRight" fmla="*/ 6168240 w 683424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32F9-A874-4688-8778-B78CE207729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9" name="Picture 2" descr="C:\Documents and Settings\Саша\Рабочий стол\уроки\Домашние опасности. Пожар\окр мир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30" name="TextBox 4"/>
          <p:cNvSpPr/>
          <p:nvPr/>
        </p:nvSpPr>
        <p:spPr>
          <a:xfrm>
            <a:off x="1285920" y="571680"/>
            <a:ext cx="6286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TextBox 5"/>
          <p:cNvSpPr/>
          <p:nvPr/>
        </p:nvSpPr>
        <p:spPr>
          <a:xfrm>
            <a:off x="1000080" y="142920"/>
            <a:ext cx="6858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рок окружающего ми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жар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ahoma"/>
              </a:rPr>
              <a:t>Огонь - враг</a:t>
            </a:r>
            <a:endParaRPr b="0" lang="en-US" sz="96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960" name="Picture 4" descr="пожар-5"/>
          <p:cNvPicPr/>
          <p:nvPr/>
        </p:nvPicPr>
        <p:blipFill>
          <a:blip r:embed="rId1"/>
          <a:stretch/>
        </p:blipFill>
        <p:spPr>
          <a:xfrm>
            <a:off x="1219320" y="1905120"/>
            <a:ext cx="6703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a50021"/>
                </a:solidFill>
                <a:latin typeface="Tahoma"/>
              </a:rPr>
              <a:t>Огонь - враг</a:t>
            </a:r>
            <a:endParaRPr b="0" lang="en-US" sz="96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962" name="Picture 4" descr="пожар-6"/>
          <p:cNvPicPr/>
          <p:nvPr/>
        </p:nvPicPr>
        <p:blipFill>
          <a:blip r:embed="rId1"/>
          <a:stretch/>
        </p:blipFill>
        <p:spPr>
          <a:xfrm>
            <a:off x="1258920" y="1773360"/>
            <a:ext cx="7129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a50021"/>
                </a:solidFill>
                <a:latin typeface="Tahoma"/>
              </a:rPr>
              <a:t>Огонь - враг</a:t>
            </a:r>
            <a:endParaRPr b="0" lang="en-US" sz="96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964" name="Picture 4" descr="пожар-4"/>
          <p:cNvPicPr/>
          <p:nvPr/>
        </p:nvPicPr>
        <p:blipFill>
          <a:blip r:embed="rId1"/>
          <a:stretch/>
        </p:blipFill>
        <p:spPr>
          <a:xfrm>
            <a:off x="1285920" y="1905120"/>
            <a:ext cx="6572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Tahoma"/>
              </a:rPr>
              <a:t>Пожар в лесу</a:t>
            </a:r>
            <a:endParaRPr b="0" lang="en-US" sz="80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966" name="Picture 4" descr="пожар 9"/>
          <p:cNvPicPr/>
          <p:nvPr/>
        </p:nvPicPr>
        <p:blipFill>
          <a:blip r:embed="rId1"/>
          <a:stretch/>
        </p:blipFill>
        <p:spPr>
          <a:xfrm>
            <a:off x="971640" y="1719360"/>
            <a:ext cx="727236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ba2f"/>
                </a:solidFill>
                <a:latin typeface="Tahoma"/>
              </a:rPr>
              <a:t>1. В лесу не разжигайте костёр без взрослых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ba2f"/>
                </a:solidFill>
                <a:latin typeface="Tahoma"/>
              </a:rPr>
              <a:t>2. Уходя из леса, потушите костёр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9900"/>
                </a:solidFill>
                <a:latin typeface="Tahoma"/>
              </a:rPr>
              <a:t>Пожар в доме</a:t>
            </a:r>
            <a:endParaRPr b="0" lang="en-US" sz="66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970" name="Picture 5" descr="пож 2"/>
          <p:cNvPicPr/>
          <p:nvPr/>
        </p:nvPicPr>
        <p:blipFill>
          <a:blip r:embed="rId1"/>
          <a:stretch/>
        </p:blipFill>
        <p:spPr>
          <a:xfrm>
            <a:off x="1187280" y="1484280"/>
            <a:ext cx="66247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21e36"/>
                </a:solidFill>
                <a:latin typeface="Arial Black"/>
              </a:rPr>
              <a:t>НЕЛЬЗЯ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72" name="Picture 16" descr="Спички"/>
          <p:cNvPicPr/>
          <p:nvPr/>
        </p:nvPicPr>
        <p:blipFill>
          <a:blip r:embed="rId1"/>
          <a:stretch/>
        </p:blipFill>
        <p:spPr>
          <a:xfrm>
            <a:off x="1384200" y="1905120"/>
            <a:ext cx="2827440" cy="20239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7" descr="газ п"/>
          <p:cNvPicPr/>
          <p:nvPr/>
        </p:nvPicPr>
        <p:blipFill>
          <a:blip r:embed="rId2"/>
          <a:stretch/>
        </p:blipFill>
        <p:spPr>
          <a:xfrm>
            <a:off x="5430960" y="1905120"/>
            <a:ext cx="2654280" cy="20239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8" descr="утюгг"/>
          <p:cNvPicPr/>
          <p:nvPr/>
        </p:nvPicPr>
        <p:blipFill>
          <a:blip r:embed="rId3"/>
          <a:stretch/>
        </p:blipFill>
        <p:spPr>
          <a:xfrm>
            <a:off x="1362240" y="4070520"/>
            <a:ext cx="2873160" cy="20253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9" descr="КЕросин"/>
          <p:cNvPicPr/>
          <p:nvPr/>
        </p:nvPicPr>
        <p:blipFill>
          <a:blip r:embed="rId4"/>
          <a:stretch/>
        </p:blipFill>
        <p:spPr>
          <a:xfrm>
            <a:off x="5430960" y="4070520"/>
            <a:ext cx="2576520" cy="20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66"/>
                </a:solidFill>
                <a:latin typeface="Tahoma"/>
              </a:rPr>
              <a:t>Чтобы не было пожара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Rectangle 5"/>
          <p:cNvSpPr/>
          <p:nvPr/>
        </p:nvSpPr>
        <p:spPr>
          <a:xfrm>
            <a:off x="457200" y="16002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1.Никогда и нигде не играйте со спичками и зажигал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2.Самостоятельно не зажигайте газовую пли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3.Не оставляйте без присмотра включенный утюг или чайн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4.Не играйте с бензином, керосином и другими жидкостями, которые могут вспыхну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11280" y="1163520"/>
            <a:ext cx="835344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96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0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WordArt 5"/>
          <p:cNvSpPr txBox="1"/>
          <p:nvPr/>
        </p:nvSpPr>
        <p:spPr>
          <a:xfrm>
            <a:off x="2195640" y="836640"/>
            <a:ext cx="489744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01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Arial Narrow"/>
              </a:rPr>
              <a:t>При вызове пожарных надо: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казать, что гори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звать адрес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звать свою фамилию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звать домашний телефон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TextBox 1"/>
          <p:cNvSpPr/>
          <p:nvPr/>
        </p:nvSpPr>
        <p:spPr>
          <a:xfrm>
            <a:off x="642960" y="285840"/>
            <a:ext cx="800100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52300"/>
                </a:solidFill>
                <a:latin typeface="Times New Roman"/>
                <a:ea typeface="Times New Roman"/>
              </a:rPr>
              <a:t>План уро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52300"/>
                </a:solidFill>
                <a:latin typeface="Times New Roman"/>
                <a:ea typeface="Times New Roman"/>
              </a:rPr>
              <a:t>1.Организационный мо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52300"/>
                </a:solidFill>
                <a:latin typeface="Times New Roman"/>
                <a:ea typeface="Times New Roman"/>
              </a:rPr>
              <a:t>2. Проверка  Домашнего задан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52300"/>
                </a:solidFill>
                <a:latin typeface="Times New Roman"/>
                <a:ea typeface="Times New Roman"/>
              </a:rPr>
              <a:t>3.Постановка темы и цели уро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52300"/>
                </a:solidFill>
                <a:latin typeface="Times New Roman"/>
                <a:ea typeface="Times New Roman"/>
              </a:rPr>
              <a:t>4.Объяснение нового материа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52300"/>
                </a:solidFill>
                <a:latin typeface="Times New Roman"/>
                <a:ea typeface="Times New Roman"/>
              </a:rPr>
              <a:t>5.Физминут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52300"/>
                </a:solidFill>
                <a:latin typeface="Times New Roman"/>
                <a:ea typeface="Times New Roman"/>
              </a:rPr>
              <a:t>6.Закрепление нового материа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52300"/>
                </a:solidFill>
                <a:latin typeface="Times New Roman"/>
                <a:ea typeface="Times New Roman"/>
              </a:rPr>
              <a:t>7.Итог урока. Рефлекс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52300"/>
                </a:solidFill>
                <a:latin typeface="Times New Roman"/>
                <a:ea typeface="Times New Roman"/>
              </a:rPr>
              <a:t>8.Д/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52300"/>
                </a:solidFill>
                <a:latin typeface="Times New Roman"/>
                <a:ea typeface="Times New Roman"/>
              </a:rPr>
              <a:t>9*.Игра «Если возник пожар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a50021"/>
                </a:solidFill>
                <a:latin typeface="Tahoma"/>
              </a:rPr>
              <a:t>Вика Бриленко</a:t>
            </a:r>
            <a:endParaRPr b="0" lang="en-US" sz="72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986" name="Picture 3" descr="медаль"/>
          <p:cNvPicPr/>
          <p:nvPr/>
        </p:nvPicPr>
        <p:blipFill>
          <a:blip r:embed="rId1"/>
          <a:stretch/>
        </p:blipFill>
        <p:spPr>
          <a:xfrm>
            <a:off x="971640" y="1844640"/>
            <a:ext cx="712944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ff"/>
                </a:solidFill>
                <a:latin typeface="Tahoma"/>
              </a:rPr>
              <a:t>Медаль </a:t>
            </a:r>
            <a:br>
              <a:rPr sz="4800"/>
            </a:br>
            <a:r>
              <a:rPr b="1" lang="ru-RU" sz="4800" spc="-1" strike="noStrike">
                <a:solidFill>
                  <a:srgbClr val="3333ff"/>
                </a:solidFill>
                <a:latin typeface="Tahoma"/>
              </a:rPr>
              <a:t>«За отвагу на пожаре»</a:t>
            </a:r>
            <a:endParaRPr b="0" lang="en-US" sz="48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988" name="Picture 3" descr="мед"/>
          <p:cNvPicPr/>
          <p:nvPr/>
        </p:nvPicPr>
        <p:blipFill>
          <a:blip r:embed="rId1"/>
          <a:stretch/>
        </p:blipFill>
        <p:spPr>
          <a:xfrm>
            <a:off x="2987640" y="1844640"/>
            <a:ext cx="3456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ff66"/>
                </a:solidFill>
                <a:latin typeface="Tahoma"/>
              </a:rPr>
              <a:t>Дима Филюшин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0" name="Picture 3" descr="Дима"/>
          <p:cNvPicPr/>
          <p:nvPr/>
        </p:nvPicPr>
        <p:blipFill>
          <a:blip r:embed="rId1"/>
          <a:stretch/>
        </p:blipFill>
        <p:spPr>
          <a:xfrm>
            <a:off x="2627280" y="1989000"/>
            <a:ext cx="39355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Орден Мужества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2" name="Picture 3" descr="орден муж"/>
          <p:cNvPicPr/>
          <p:nvPr/>
        </p:nvPicPr>
        <p:blipFill>
          <a:blip r:embed="rId1"/>
          <a:stretch/>
        </p:blipFill>
        <p:spPr>
          <a:xfrm>
            <a:off x="2843280" y="1600200"/>
            <a:ext cx="33843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TextBox 1"/>
          <p:cNvSpPr/>
          <p:nvPr/>
        </p:nvSpPr>
        <p:spPr>
          <a:xfrm>
            <a:off x="928800" y="142920"/>
            <a:ext cx="72151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52300"/>
                </a:solidFill>
                <a:latin typeface="Times New Roman"/>
                <a:ea typeface="Times New Roman"/>
              </a:rPr>
              <a:t>ТЕСТ    Закреп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52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52300"/>
                </a:solidFill>
                <a:latin typeface="Times New Roman"/>
                <a:ea typeface="Times New Roman"/>
              </a:rPr>
              <a:t>- 0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52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52300"/>
                </a:solidFill>
                <a:latin typeface="Times New Roman"/>
                <a:ea typeface="Times New Roman"/>
              </a:rPr>
              <a:t>- план эвак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52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52300"/>
                </a:solidFill>
                <a:latin typeface="Times New Roman"/>
                <a:ea typeface="Times New Roman"/>
              </a:rPr>
              <a:t>- багор, граб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52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52300"/>
                </a:solidFill>
                <a:latin typeface="Times New Roman"/>
                <a:ea typeface="Times New Roman"/>
              </a:rPr>
              <a:t>- позвонить «01», выбежать из до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52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52300"/>
                </a:solidFill>
                <a:latin typeface="Times New Roman"/>
                <a:ea typeface="Times New Roman"/>
              </a:rPr>
              <a:t>- выключить газ, накрыть сковороду крышк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52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52300"/>
                </a:solidFill>
                <a:latin typeface="Times New Roman"/>
                <a:ea typeface="Times New Roman"/>
              </a:rPr>
              <a:t>- выдернуть вилку из розетки и набросить на телевизор влажное одеял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TextBox 1"/>
          <p:cNvSpPr/>
          <p:nvPr/>
        </p:nvSpPr>
        <p:spPr>
          <a:xfrm>
            <a:off x="642960" y="500040"/>
            <a:ext cx="80722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52300"/>
                </a:solidFill>
                <a:latin typeface="Times New Roman"/>
                <a:ea typeface="Times New Roman"/>
              </a:rPr>
              <a:t>Домашнее задание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52300"/>
                </a:solidFill>
                <a:latin typeface="Times New Roman"/>
                <a:ea typeface="Times New Roman"/>
              </a:rPr>
              <a:t>Тест № 33 или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52300"/>
                </a:solidFill>
                <a:latin typeface="Times New Roman"/>
                <a:ea typeface="Times New Roman"/>
              </a:rPr>
              <a:t>Сообщение о работе пожарных (2 человека)*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99"/>
                </a:solidFill>
                <a:latin typeface="Arial Black"/>
              </a:rPr>
              <a:t>Домашние опасности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34" name="Picture 6" descr="окно"/>
          <p:cNvPicPr/>
          <p:nvPr/>
        </p:nvPicPr>
        <p:blipFill>
          <a:blip r:embed="rId1"/>
          <a:stretch/>
        </p:blipFill>
        <p:spPr>
          <a:xfrm>
            <a:off x="884160" y="1600200"/>
            <a:ext cx="3025800" cy="21733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0" descr="розетка"/>
          <p:cNvPicPr/>
          <p:nvPr/>
        </p:nvPicPr>
        <p:blipFill>
          <a:blip r:embed="rId2"/>
          <a:stretch/>
        </p:blipFill>
        <p:spPr>
          <a:xfrm>
            <a:off x="4946760" y="1628640"/>
            <a:ext cx="3138480" cy="22561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1" descr="провод"/>
          <p:cNvPicPr/>
          <p:nvPr/>
        </p:nvPicPr>
        <p:blipFill>
          <a:blip r:embed="rId3"/>
          <a:stretch/>
        </p:blipFill>
        <p:spPr>
          <a:xfrm>
            <a:off x="928800" y="3929040"/>
            <a:ext cx="2887560" cy="26589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2" descr="мясорубка"/>
          <p:cNvPicPr/>
          <p:nvPr/>
        </p:nvPicPr>
        <p:blipFill>
          <a:blip r:embed="rId4"/>
          <a:stretch/>
        </p:blipFill>
        <p:spPr>
          <a:xfrm>
            <a:off x="4932360" y="3938760"/>
            <a:ext cx="3003480" cy="29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99"/>
                </a:solidFill>
                <a:latin typeface="Arial Black"/>
              </a:rPr>
              <a:t>Домашние опасности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39" name="Picture 15" descr="стул"/>
          <p:cNvPicPr/>
          <p:nvPr/>
        </p:nvPicPr>
        <p:blipFill>
          <a:blip r:embed="rId1"/>
          <a:stretch/>
        </p:blipFill>
        <p:spPr>
          <a:xfrm>
            <a:off x="1258920" y="1341360"/>
            <a:ext cx="2206440" cy="23050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6" descr="утюг"/>
          <p:cNvPicPr/>
          <p:nvPr/>
        </p:nvPicPr>
        <p:blipFill>
          <a:blip r:embed="rId2"/>
          <a:stretch/>
        </p:blipFill>
        <p:spPr>
          <a:xfrm>
            <a:off x="4788000" y="1330200"/>
            <a:ext cx="3600360" cy="2455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8" descr="чайник"/>
          <p:cNvPicPr/>
          <p:nvPr/>
        </p:nvPicPr>
        <p:blipFill>
          <a:blip r:embed="rId3"/>
          <a:stretch/>
        </p:blipFill>
        <p:spPr>
          <a:xfrm>
            <a:off x="4932360" y="3938760"/>
            <a:ext cx="3267000" cy="27302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9" descr="ковш"/>
          <p:cNvPicPr/>
          <p:nvPr/>
        </p:nvPicPr>
        <p:blipFill>
          <a:blip r:embed="rId4"/>
          <a:stretch/>
        </p:blipFill>
        <p:spPr>
          <a:xfrm>
            <a:off x="1116000" y="3743280"/>
            <a:ext cx="36003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99"/>
                </a:solidFill>
                <a:latin typeface="Arial Black"/>
              </a:rPr>
              <a:t>Домашние опасности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44" name="Picture 7" descr="уксус"/>
          <p:cNvPicPr/>
          <p:nvPr/>
        </p:nvPicPr>
        <p:blipFill>
          <a:blip r:embed="rId1"/>
          <a:stretch/>
        </p:blipFill>
        <p:spPr>
          <a:xfrm>
            <a:off x="611280" y="1808280"/>
            <a:ext cx="3268440" cy="40813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8" descr="лекарства"/>
          <p:cNvPicPr/>
          <p:nvPr/>
        </p:nvPicPr>
        <p:blipFill>
          <a:blip r:embed="rId2"/>
          <a:stretch/>
        </p:blipFill>
        <p:spPr>
          <a:xfrm>
            <a:off x="4646520" y="1628640"/>
            <a:ext cx="4062600" cy="21733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0" descr="ножницы"/>
          <p:cNvPicPr/>
          <p:nvPr/>
        </p:nvPicPr>
        <p:blipFill>
          <a:blip r:embed="rId3"/>
          <a:stretch/>
        </p:blipFill>
        <p:spPr>
          <a:xfrm>
            <a:off x="4651200" y="3986280"/>
            <a:ext cx="419112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630920" cy="41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Tahoma"/>
              </a:rPr>
              <a:t>Загадка</a:t>
            </a:r>
            <a:br>
              <a:rPr sz="4800"/>
            </a:br>
            <a:br>
              <a:rPr sz="4800"/>
            </a:br>
            <a:r>
              <a:rPr b="0" lang="ru-RU" sz="4400" spc="-1" strike="noStrike">
                <a:solidFill>
                  <a:srgbClr val="a50021"/>
                </a:solidFill>
                <a:latin typeface="Tahoma"/>
              </a:rPr>
              <a:t>Кто меня не бережётся,</a:t>
            </a:r>
            <a:br>
              <a:rPr sz="4400"/>
            </a:br>
            <a:r>
              <a:rPr b="0" lang="ru-RU" sz="4400" spc="-1" strike="noStrike">
                <a:solidFill>
                  <a:srgbClr val="a50021"/>
                </a:solidFill>
                <a:latin typeface="Tahoma"/>
              </a:rPr>
              <a:t>тот так скоро обожжётся.</a:t>
            </a:r>
            <a:br>
              <a:rPr sz="4400"/>
            </a:b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456840" y="1904760"/>
            <a:ext cx="7829640" cy="37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10" descr="огонь-2"/>
          <p:cNvPicPr/>
          <p:nvPr/>
        </p:nvPicPr>
        <p:blipFill>
          <a:blip r:embed="rId1"/>
          <a:stretch/>
        </p:blipFill>
        <p:spPr>
          <a:xfrm>
            <a:off x="-336600" y="0"/>
            <a:ext cx="1042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42920" y="2786040"/>
            <a:ext cx="52862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9933"/>
                </a:solidFill>
                <a:latin typeface="Monotype Corsiva"/>
              </a:rPr>
              <a:t>Огонь - друг</a:t>
            </a:r>
            <a:endParaRPr b="0" lang="en-US" sz="72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951" name="Picture 4" descr="огонь в печи"/>
          <p:cNvPicPr/>
          <p:nvPr/>
        </p:nvPicPr>
        <p:blipFill>
          <a:blip r:embed="rId1"/>
          <a:stretch/>
        </p:blipFill>
        <p:spPr>
          <a:xfrm>
            <a:off x="285840" y="214200"/>
            <a:ext cx="3832200" cy="25005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4" descr="огонь-3"/>
          <p:cNvPicPr/>
          <p:nvPr/>
        </p:nvPicPr>
        <p:blipFill>
          <a:blip r:embed="rId2"/>
          <a:stretch/>
        </p:blipFill>
        <p:spPr>
          <a:xfrm>
            <a:off x="642960" y="39290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4" descr="Печка-2"/>
          <p:cNvPicPr/>
          <p:nvPr/>
        </p:nvPicPr>
        <p:blipFill>
          <a:blip r:embed="rId3"/>
          <a:stretch/>
        </p:blipFill>
        <p:spPr>
          <a:xfrm>
            <a:off x="5857920" y="142920"/>
            <a:ext cx="2095560" cy="27907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6" descr="кузнец2"/>
          <p:cNvPicPr/>
          <p:nvPr/>
        </p:nvPicPr>
        <p:blipFill>
          <a:blip r:embed="rId4"/>
          <a:stretch/>
        </p:blipFill>
        <p:spPr>
          <a:xfrm>
            <a:off x="4786200" y="3429000"/>
            <a:ext cx="40719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999720" y="3499920"/>
            <a:ext cx="680076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WordArt 6"/>
          <p:cNvSpPr txBox="1"/>
          <p:nvPr/>
        </p:nvSpPr>
        <p:spPr>
          <a:xfrm>
            <a:off x="1071720" y="0"/>
            <a:ext cx="5929200" cy="292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8" name="Прямоугольник 6" descr=""/>
          <p:cNvPicPr/>
          <p:nvPr/>
        </p:nvPicPr>
        <p:blipFill>
          <a:blip r:embed="rId2"/>
          <a:stretch/>
        </p:blipFill>
        <p:spPr>
          <a:xfrm>
            <a:off x="244440" y="-401760"/>
            <a:ext cx="831996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2:33:36Z</dcterms:created>
  <dc:creator>1</dc:creator>
  <dc:description/>
  <dc:language>en-US</dc:language>
  <cp:lastModifiedBy>Домашний</cp:lastModifiedBy>
  <dcterms:modified xsi:type="dcterms:W3CDTF">2013-02-16T21:46:10Z</dcterms:modified>
  <cp:revision>57</cp:revision>
  <dc:subject/>
  <dc:title>Урок окружающего мира</dc:title>
</cp:coreProperties>
</file>