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4D2-BDC8-4280-8EC6-C13D3153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484-4436-4106-B2E5-48DEA06B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307-BAF3-4F08-9B41-2F22117F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A4D-8314-44DC-A527-D5D77853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892-DF4A-4778-8CCE-3FC16E62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2FC-AEFA-44C7-A418-81C368F3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C94-DF23-4829-8398-3A48438A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442-0A2F-49CA-A47F-8A6F84FF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FFF-E86F-43D9-9580-2F444375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627-3AFB-4DAF-8BCA-1C1BF370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D0A-0CB8-4700-A279-0C640CC5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0E2-9B20-44AE-9580-96084A40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790E-21B7-4092-981B-845145A252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8120" y="1371600"/>
            <a:ext cx="5921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оссийско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общество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на рубеж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столетий.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210840" y="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32000" y="4005000"/>
            <a:ext cx="7718400" cy="2762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н. 20 в Россия начала переходить к индустриально-му обществу-т.е.началась модернизация.В России она имела свои особенности-нужно было догонять развитые государства,сохранялись феодальные пережитки,контроль со стороны власти привел к тому,что модернизацией были затронуты  лишь отдельные стороны российского общ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39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.Особенности российской модерн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18840" y="1589040"/>
            <a:ext cx="17535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я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ров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оном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635280" y="501480"/>
            <a:ext cx="5257800" cy="34228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724280" y="837720"/>
            <a:ext cx="4191120" cy="5715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.Особенности российской модерн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20920" y="6019920"/>
            <a:ext cx="260280" cy="53316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6201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62012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. Территориально-админист-ративное устрой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Система управле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Населе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4.Социальная структу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Особенности российской модернизац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g00029_" descr=""/>
          <p:cNvPicPr/>
          <p:nvPr/>
        </p:nvPicPr>
        <p:blipFill>
          <a:blip r:embed="rId3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762120"/>
            <a:ext cx="7620120" cy="58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Выделите характерные черты развития российской империи в н.20 века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11640" y="544680"/>
            <a:ext cx="4681440" cy="29811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58920" y="3573360"/>
            <a:ext cx="7812000" cy="3167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 н.20 в. Завершилось территориальное формирова-ние Российской империи.В нее входили Украина, Белоруссия,Прибалтика,Польша,Финляндия,Бес-сарабия,С.Кавказ,Закавказье,Казахстан,Ср.Азия.В зависимости от нее находились Тува,Бухара,Хива.-По площади-22 млн.кв.км. Россия занимала 2 место после Британской империи.Страна делилась на 81 губернию,20 областей,8 генерал-губернаторств и Великое Финляндское княж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24000" y="152280"/>
            <a:ext cx="868680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Территориально-административное устрой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05400" y="1368360"/>
            <a:ext cx="18435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ррит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й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мпер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н.20 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37080" y="739800"/>
            <a:ext cx="4356000" cy="28335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Система управ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3472920"/>
            <a:ext cx="7704000" cy="3195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оссия была абсолютной наследственной мо-нархией.Императору принадлежали все вет ви власти.Жители России были его поддан-ными.Гербом государства был двуглавый орел, Гимн- «Боже,царя храни»,флаг-бело-сине красный.Одновременно существовал императорский флаг-бело-желто-черны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7640" y="1268280"/>
            <a:ext cx="229752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пе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0" r="0" b="5175"/>
          <a:stretch/>
        </p:blipFill>
        <p:spPr>
          <a:xfrm>
            <a:off x="3968640" y="189000"/>
            <a:ext cx="4996080" cy="34290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Система управ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32000" y="3472920"/>
            <a:ext cx="7704000" cy="3195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 монархе был совещательный орган-Гос. Совет. Царь руководил страной через Комитет минист-ров,а церковью-через Синод. Высшим судебным органом оставался Сенат.Огромная власть принад лежал МВД,которое кроме порядка контролиро-вало местное самоуправление.Министерство фи-нансов отвечало за финансы,торговлю и промыш-ленность.Власть на местах управляли губернато-ры и наместники,в городах-городские ду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55960" y="1197000"/>
            <a:ext cx="266940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.Реп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се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ударстве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56040" y="549360"/>
            <a:ext cx="5008680" cy="3227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68000" y="3716280"/>
            <a:ext cx="7667640" cy="30686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 переписи 1897г.в стране проживало 128,2 млн.че-ловек.Россия по этому показателю занимала 3 мес то в мире(Британская империя,Китай).57% состав ляли нерусские народы.Большая часть населения исповедовала православие.Широкое распростра-нение получили старообрядчество,протестантизм, католичество,ислам,иудаизм и буддизм.В Сибири ряд народов сохранял языч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Насел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59960" y="1197000"/>
            <a:ext cx="185544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ста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йс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мпе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844880" y="475920"/>
            <a:ext cx="4191120" cy="6265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80% населения проживало в сельской местности, треть городских жителей проживали в крупных го-родах.В Петербурге и в Москве насчитывалось почти по 2 млн жителей. Сельские жители придер-живались традиционного уклада,а жители запад-ных районов приближа-лись к уровню индустри-альной эпохи.Народы ок-раин находились на родо-племенном уровне. Гра-мотным был 21% населе-ния,1%имел высшее об-разо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258920" y="44280"/>
            <a:ext cx="7772400" cy="43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Насел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3960" y="5483160"/>
            <a:ext cx="31615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отность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йской импе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332000" y="836640"/>
            <a:ext cx="3384360" cy="38815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7416720" cy="30970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331640" y="3716280"/>
            <a:ext cx="7731000" cy="30686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селение страны делилось на 4 сословия: дворянст-во,духовенство,сельские обыватели и городские обыватели(купечество и мещане).Население окра-ин называлось «инородцами».В это время нача-лось размежевание и по классовому признаку-дво-ряне и крестьяне, буржуазия и пролетариат.однов-ременно существовало большое количество проме жуточных социальных груп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Социальная структу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Чернов Алексей Иванович</cp:lastModifiedBy>
  <dcterms:modified xsi:type="dcterms:W3CDTF">2002-01-26T16:14:25Z</dcterms:modified>
  <cp:revision>58</cp:revision>
  <dc:subject/>
  <dc:title>Презентация PowerPoint</dc:title>
</cp:coreProperties>
</file>