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7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A74-732F-4CD4-AE63-B7A1A60A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591-791F-43B3-BF9D-FC4A2051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491-F800-4118-8D1C-9A072B82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EAF-CE23-4E6E-B9A9-EB817414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CCA5-057C-4C1B-9EDC-6579A537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A335-047D-4405-8CE8-3FF1AD88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1333-8A97-4B80-BE22-9AC11C8D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653F-2830-4CAE-AAA2-A4CE7C8D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F65D-80DC-498C-9E76-05DC59F5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1F56-F1B4-4955-9F01-DE5F66D5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315B-386D-4F38-B255-E492A4EE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19C-51D7-4960-BA32-731638F3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EBD6-549E-4A3C-AFC1-14B062A6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F5A2-4429-4EA0-8B82-35791681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E7FE-9864-4333-9844-DEF9CF40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C04-2DC1-42B2-830E-B87CC716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2356-E85B-4149-83CA-1D04425A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0FD-C338-4B30-B64B-26537CA0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1D9-C11D-42D9-AF96-6F26E265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71B-0EC9-46D3-B2A7-F79CC9F3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AD1-7C17-466E-93BE-C2E3143C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B17-A519-4B17-AAB6-9AB8F34E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720-6DBD-4750-BBBC-BB654E40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C28-06F5-4456-B69A-6443C91D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1868-EDDD-4656-B9ED-EFE105A75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6160" cy="5451840"/>
            <a:chOff x="2010960" y="24516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6160" cy="5451840"/>
              <a:chOff x="2010960" y="24516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1840"/>
                <a:chOff x="2010960" y="24516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5400"/>
                  <a:ext cx="3599280" cy="2649960"/>
                  <a:chOff x="3735720" y="1265400"/>
                  <a:chExt cx="3599280" cy="264996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5400"/>
                    <a:ext cx="3599280" cy="264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1840"/>
                  <a:chOff x="2010960" y="24516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360"/>
                    <a:ext cx="2559960" cy="2739600"/>
                    <a:chOff x="5760360" y="2322360"/>
                    <a:chExt cx="2559960" cy="27396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04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252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6320"/>
                    <a:ext cx="3039840" cy="2529360"/>
                    <a:chOff x="5787360" y="2146320"/>
                    <a:chExt cx="303984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968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0600"/>
                      <a:ext cx="120096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720"/>
                    <a:ext cx="3097800" cy="1994400"/>
                    <a:chOff x="5774760" y="206172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748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43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120"/>
                    <a:ext cx="3134160" cy="1608480"/>
                    <a:chOff x="5767920" y="1968120"/>
                    <a:chExt cx="3134160" cy="160848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736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200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7400"/>
                    <a:ext cx="2939040" cy="1002240"/>
                    <a:chOff x="5805720" y="1877400"/>
                    <a:chExt cx="293904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34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040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040"/>
                    <a:ext cx="2658960" cy="443520"/>
                    <a:chOff x="5851080" y="1814040"/>
                    <a:chExt cx="2658960" cy="44352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60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560"/>
                      <a:ext cx="929520" cy="42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560"/>
                    <a:ext cx="2364120" cy="784080"/>
                    <a:chOff x="5788440" y="130356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12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1400"/>
                    <a:ext cx="2557080" cy="2742480"/>
                    <a:chOff x="2646720" y="2471400"/>
                    <a:chExt cx="255708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6872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080" y="4293720"/>
                      <a:ext cx="11412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5560"/>
                    <a:ext cx="3039840" cy="2532240"/>
                    <a:chOff x="2084040" y="236556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20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4056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9880"/>
                    <a:ext cx="3097080" cy="1991880"/>
                    <a:chOff x="2040120" y="2279880"/>
                    <a:chExt cx="309708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56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996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6280"/>
                    <a:ext cx="3134160" cy="1608840"/>
                    <a:chOff x="2010960" y="218628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55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016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5560"/>
                    <a:ext cx="2937240" cy="1001160"/>
                    <a:chOff x="2167560" y="209556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156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040"/>
                    <a:ext cx="2658240" cy="448560"/>
                    <a:chOff x="2403720" y="2030040"/>
                    <a:chExt cx="2658240" cy="4485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480" y="2065680"/>
                      <a:ext cx="1730880" cy="270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200"/>
                      <a:ext cx="929520" cy="42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9560"/>
                    <a:ext cx="2364120" cy="787320"/>
                    <a:chOff x="2760480" y="15195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12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600"/>
                    <a:ext cx="2323080" cy="1082520"/>
                    <a:chOff x="2887920" y="1236600"/>
                    <a:chExt cx="232308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6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8000"/>
                    <a:ext cx="2169720" cy="1508400"/>
                    <a:chOff x="3161520" y="82800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07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2040"/>
                    <a:chOff x="3437640" y="434160"/>
                    <a:chExt cx="1987200" cy="183204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40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8320"/>
                    <a:ext cx="1463040" cy="1891080"/>
                    <a:chOff x="4026960" y="328320"/>
                    <a:chExt cx="1463040" cy="18910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108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89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240"/>
                    <a:ext cx="2318760" cy="1114560"/>
                    <a:chOff x="5661720" y="948240"/>
                    <a:chExt cx="2318760" cy="111456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3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6480"/>
                      <a:ext cx="817560" cy="419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1360"/>
                    <a:ext cx="2201760" cy="1451880"/>
                    <a:chOff x="5529600" y="62136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52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60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376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6640" y="535320"/>
                    <a:ext cx="67968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7160" y="268200"/>
                    <a:ext cx="1192680" cy="1899360"/>
                    <a:chOff x="5357160" y="268200"/>
                    <a:chExt cx="1192680" cy="18993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8600" y="1415160"/>
                      <a:ext cx="13089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3760"/>
                    <a:ext cx="1889280" cy="1796400"/>
                    <a:chOff x="5351040" y="383760"/>
                    <a:chExt cx="188928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960" y="1383120"/>
                      <a:ext cx="142596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032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5680"/>
                    <a:chOff x="5459040" y="290520"/>
                    <a:chExt cx="42516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240"/>
                      <a:ext cx="11768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27560"/>
                    <a:ext cx="2194200" cy="3004200"/>
                    <a:chOff x="3062880" y="2527560"/>
                    <a:chExt cx="2194200" cy="30042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29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03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8880"/>
                    <a:ext cx="1481400" cy="3001320"/>
                    <a:chOff x="3790800" y="2648880"/>
                    <a:chExt cx="1481400" cy="30013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40160"/>
                      <a:ext cx="19677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520"/>
                      <a:ext cx="105588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7480"/>
                    <a:ext cx="876600" cy="2931480"/>
                    <a:chOff x="4507560" y="2697480"/>
                    <a:chExt cx="876600" cy="293148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5160"/>
                      <a:ext cx="18907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6720"/>
                      <a:ext cx="1013040" cy="54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1120"/>
                    <a:ext cx="2280960" cy="2953800"/>
                    <a:chOff x="5677560" y="2481120"/>
                    <a:chExt cx="228096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9000"/>
                      <a:ext cx="212688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76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3800"/>
                    <a:ext cx="1756440" cy="3029040"/>
                    <a:chOff x="5646960" y="2593800"/>
                    <a:chExt cx="1756440" cy="30290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5880"/>
                      <a:ext cx="203436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36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8640"/>
                    <a:ext cx="1228680" cy="2988360"/>
                    <a:chOff x="5576400" y="2708640"/>
                    <a:chExt cx="1228680" cy="29883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0240"/>
                      <a:ext cx="19728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088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440"/>
                    <a:ext cx="696600" cy="2783160"/>
                    <a:chOff x="5521320" y="2836440"/>
                    <a:chExt cx="696600" cy="27831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600"/>
                      <a:ext cx="18133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40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2600" y="2884320"/>
                    <a:ext cx="665640" cy="2717640"/>
                    <a:chOff x="4962600" y="288432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2640"/>
                      <a:ext cx="17744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440" y="4927320"/>
                      <a:ext cx="951120" cy="365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9320"/>
                <a:ext cx="6732720" cy="4525200"/>
                <a:chOff x="2174400" y="679320"/>
                <a:chExt cx="6732720" cy="452520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9320"/>
                  <a:ext cx="6732720" cy="4525200"/>
                  <a:chOff x="2174400" y="679320"/>
                  <a:chExt cx="6732720" cy="452520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3200"/>
                    <a:ext cx="3166560" cy="25268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440"/>
                    <a:ext cx="2486880" cy="29350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61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61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9320"/>
                    <a:ext cx="228276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3440"/>
                    <a:ext cx="940680" cy="284364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2320"/>
                    <a:ext cx="515160" cy="18799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80520"/>
                  <a:ext cx="546120" cy="103248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7200"/>
              <a:ext cx="6411960" cy="4710960"/>
              <a:chOff x="2343960" y="72720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044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5240"/>
                <a:ext cx="2617200" cy="2842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7320"/>
                <a:ext cx="1534320" cy="29354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3560"/>
                <a:ext cx="2930760" cy="2935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5760"/>
                <a:ext cx="469800" cy="29354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2080"/>
                <a:ext cx="1238040" cy="2935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256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28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9840"/>
                <a:ext cx="133848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3000"/>
                <a:ext cx="85824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3360"/>
                <a:ext cx="1242000" cy="1973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50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7200"/>
                <a:ext cx="819000" cy="1769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93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2C47-FE2A-47C7-852B-B32DE08AFA3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016.radikal.ru/0805/f8/809cb967b62d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ubo.ru/pavel_egorov/home/turism/03let14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9 декабря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6600" spc="-1" strike="noStrike">
                <a:solidFill>
                  <a:srgbClr val="ffcc00"/>
                </a:solidFill>
                <a:latin typeface="Arial Black"/>
              </a:rPr>
              <a:t>День Героев Отечества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502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Автор разработки: Бурякова Вера Николаевна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лассный руководитель 5-6 классов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читель математики МОУ Малоибряйкинская ООШ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хвистневского района Самарской област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лные кавалеры Орден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.Ф.Паскевич-                     И.И.Дибич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Эриванский                    Забалканский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5" name="Picture 2" descr="http://im3-tub.yandex.net/i?id=58633083-09"/>
          <p:cNvPicPr/>
          <p:nvPr/>
        </p:nvPicPr>
        <p:blipFill>
          <a:blip r:embed="rId1"/>
          <a:stretch/>
        </p:blipFill>
        <p:spPr>
          <a:xfrm>
            <a:off x="685800" y="1981080"/>
            <a:ext cx="2813040" cy="3324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Картинка 1 из 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1905120"/>
            <a:ext cx="298296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лные кавалеры Орден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.И.Кутузов            М.Б.Барклай-де-Тол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Picture 5" descr="http://im3-tub.yandex.net/i?id=15880895-01"/>
          <p:cNvPicPr/>
          <p:nvPr/>
        </p:nvPicPr>
        <p:blipFill>
          <a:blip r:embed="rId1"/>
          <a:stretch/>
        </p:blipFill>
        <p:spPr>
          <a:xfrm>
            <a:off x="914400" y="2133720"/>
            <a:ext cx="2743200" cy="3295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http://im2-tub.yandex.net/i?id=174250745-13"/>
          <p:cNvPicPr/>
          <p:nvPr/>
        </p:nvPicPr>
        <p:blipFill>
          <a:blip r:embed="rId2"/>
          <a:stretch/>
        </p:blipFill>
        <p:spPr>
          <a:xfrm>
            <a:off x="4876920" y="2133720"/>
            <a:ext cx="278748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Георгий Константинович Жуков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Главнокомандующи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оветской армией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маршал Советского Союз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3" name="Рисунок 13" descr=""/>
          <p:cNvPicPr/>
          <p:nvPr/>
        </p:nvPicPr>
        <p:blipFill>
          <a:blip r:embed="rId1"/>
          <a:stretch/>
        </p:blipFill>
        <p:spPr>
          <a:xfrm>
            <a:off x="770040" y="2217600"/>
            <a:ext cx="2658960" cy="373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Георгиевская ленточк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Рисунок 16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273040" cy="2057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"/>
          <p:cNvPicPr/>
          <p:nvPr/>
        </p:nvPicPr>
        <p:blipFill>
          <a:blip r:embed="rId2"/>
          <a:srcRect l="0" t="47917" r="49791" b="-2303"/>
          <a:stretch/>
        </p:blipFill>
        <p:spPr>
          <a:xfrm>
            <a:off x="73188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"/>
          <p:cNvPicPr/>
          <p:nvPr/>
        </p:nvPicPr>
        <p:blipFill>
          <a:blip r:embed="rId3"/>
          <a:srcRect l="0" t="0" r="73625" b="53489"/>
          <a:stretch/>
        </p:blipFill>
        <p:spPr>
          <a:xfrm>
            <a:off x="1143000" y="4191120"/>
            <a:ext cx="893880" cy="14065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"/>
          <p:cNvPicPr/>
          <p:nvPr/>
        </p:nvPicPr>
        <p:blipFill>
          <a:blip r:embed="rId4"/>
          <a:srcRect l="47234" t="53032" r="0" b="0"/>
          <a:stretch/>
        </p:blipFill>
        <p:spPr>
          <a:xfrm>
            <a:off x="6629400" y="220968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"/>
          <p:cNvPicPr/>
          <p:nvPr/>
        </p:nvPicPr>
        <p:blipFill>
          <a:blip r:embed="rId5"/>
          <a:srcRect l="28948" t="0" r="0" b="48374"/>
          <a:stretch/>
        </p:blipFill>
        <p:spPr>
          <a:xfrm>
            <a:off x="6248520" y="4114800"/>
            <a:ext cx="2047680" cy="13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Орден Слав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 степени  2 степени   3 степен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Picture 4" descr="OrderOfGlory1stClass.jpg"/>
          <p:cNvPicPr/>
          <p:nvPr/>
        </p:nvPicPr>
        <p:blipFill>
          <a:blip r:embed="rId1"/>
          <a:stretch/>
        </p:blipFill>
        <p:spPr>
          <a:xfrm>
            <a:off x="990720" y="2666880"/>
            <a:ext cx="1198440" cy="24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Order of Glory.jpg"/>
          <p:cNvPicPr/>
          <p:nvPr/>
        </p:nvPicPr>
        <p:blipFill>
          <a:blip r:embed="rId2"/>
          <a:stretch/>
        </p:blipFill>
        <p:spPr>
          <a:xfrm>
            <a:off x="3733920" y="2666880"/>
            <a:ext cx="1181160" cy="2441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OrderOfGlory3rdClass.jpg"/>
          <p:cNvPicPr/>
          <p:nvPr/>
        </p:nvPicPr>
        <p:blipFill>
          <a:blip r:embed="rId3"/>
          <a:stretch/>
        </p:blipFill>
        <p:spPr>
          <a:xfrm>
            <a:off x="6400800" y="2743200"/>
            <a:ext cx="1155600" cy="236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Шулайки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Александр Михайлович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1. 11. 1923 - 15. 5. 2010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Полный Кавалер ордена Слав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Даты указо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1. 26.04.1944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 12.06.1944 (орден № 2049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3. 18.11.1944 ( орден № 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4" descr="ШулайкинАлександр Михайлович"/>
          <p:cNvPicPr/>
          <p:nvPr/>
        </p:nvPicPr>
        <p:blipFill>
          <a:blip r:embed="rId1"/>
          <a:stretch/>
        </p:blipFill>
        <p:spPr>
          <a:xfrm>
            <a:off x="762120" y="2666880"/>
            <a:ext cx="190476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амять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лёха космас\Рабочий стол\voina.jpg"/>
          <p:cNvPicPr/>
          <p:nvPr/>
        </p:nvPicPr>
        <p:blipFill>
          <a:blip r:embed="rId2"/>
          <a:stretch/>
        </p:blipFill>
        <p:spPr>
          <a:xfrm>
            <a:off x="2209680" y="2362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амя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3" name="Picture 2" descr="C:\Documents and Settings\лёха космас\Рабочий стол\obelisk_l.jpg"/>
          <p:cNvPicPr/>
          <p:nvPr/>
        </p:nvPicPr>
        <p:blipFill>
          <a:blip r:embed="rId1"/>
          <a:stretch/>
        </p:blipFill>
        <p:spPr>
          <a:xfrm>
            <a:off x="685800" y="1752480"/>
            <a:ext cx="3213000" cy="4724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C:\Documents and Settings\лёха космас\Рабочий стол\0_22ce7_3d4b573e_XL.jpg"/>
          <p:cNvPicPr/>
          <p:nvPr/>
        </p:nvPicPr>
        <p:blipFill>
          <a:blip r:embed="rId2"/>
          <a:stretch/>
        </p:blipFill>
        <p:spPr>
          <a:xfrm>
            <a:off x="4724280" y="1752480"/>
            <a:ext cx="3581640" cy="472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амя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6" name="Picture 2" descr="C:\Documents and Settings\лёха космас\Рабочий стол\273549b.jpg"/>
          <p:cNvPicPr/>
          <p:nvPr/>
        </p:nvPicPr>
        <p:blipFill>
          <a:blip r:embed="rId1"/>
          <a:stretch/>
        </p:blipFill>
        <p:spPr>
          <a:xfrm>
            <a:off x="1523880" y="2133720"/>
            <a:ext cx="5867640" cy="44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амя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8" name="Picture 13" descr="Картинка 30 из 2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752480"/>
            <a:ext cx="6591240" cy="462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Мучения Святого Георг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Picture 4" descr="C:\Documents and Settings\лёха космас\Рабочий стол\картины георгий победоносец\мученичество святого георгия.jpg"/>
          <p:cNvPicPr/>
          <p:nvPr/>
        </p:nvPicPr>
        <p:blipFill>
          <a:blip r:embed="rId1"/>
          <a:stretch/>
        </p:blipFill>
        <p:spPr>
          <a:xfrm>
            <a:off x="2514600" y="1828800"/>
            <a:ext cx="3657600" cy="46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амять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2" name="Содержимое 2" descr=""/>
          <p:cNvPicPr/>
          <p:nvPr/>
        </p:nvPicPr>
        <p:blipFill>
          <a:blip r:embed="rId1"/>
          <a:stretch/>
        </p:blipFill>
        <p:spPr>
          <a:xfrm>
            <a:off x="682560" y="1974960"/>
            <a:ext cx="8004240" cy="412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зображение Георгия Победоносца на иконах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Picture 2" descr="C:\Documents and Settings\лёха космас\Рабочий стол\картины георгий победоносец\георгий победоносец икона.jpg"/>
          <p:cNvPicPr/>
          <p:nvPr/>
        </p:nvPicPr>
        <p:blipFill>
          <a:blip r:embed="rId1"/>
          <a:stretch/>
        </p:blipFill>
        <p:spPr>
          <a:xfrm>
            <a:off x="649440" y="1981080"/>
            <a:ext cx="3141360" cy="4267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Documents and Settings\лёха космас\Рабочий стол\картины георгий победоносец\святой великомученик георгий победоносец. икона.jpg"/>
          <p:cNvPicPr/>
          <p:nvPr/>
        </p:nvPicPr>
        <p:blipFill>
          <a:blip r:embed="rId2"/>
          <a:stretch/>
        </p:blipFill>
        <p:spPr>
          <a:xfrm>
            <a:off x="517212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зображения Георгия Победоносца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5" descr="C:\Documents and Settings\лёха космас\Рабочий стол\картины георгий победоносец\день святого георгия победоносца.jpeg"/>
          <p:cNvPicPr/>
          <p:nvPr/>
        </p:nvPicPr>
        <p:blipFill>
          <a:blip r:embed="rId1"/>
          <a:stretch/>
        </p:blipFill>
        <p:spPr>
          <a:xfrm>
            <a:off x="3276720" y="2819520"/>
            <a:ext cx="2631960" cy="3436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:\Documents and Settings\лёха космас\Рабочий стол\картины георгий победоносец\икона святого георгия.jpg"/>
          <p:cNvPicPr/>
          <p:nvPr/>
        </p:nvPicPr>
        <p:blipFill>
          <a:blip r:embed="rId2"/>
          <a:stretch/>
        </p:blipFill>
        <p:spPr>
          <a:xfrm>
            <a:off x="685800" y="1981080"/>
            <a:ext cx="2476440" cy="3276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:\Documents and Settings\лёха космас\Рабочий стол\картины георгий победоносец\святой георгий.jpeg"/>
          <p:cNvPicPr/>
          <p:nvPr/>
        </p:nvPicPr>
        <p:blipFill>
          <a:blip r:embed="rId3"/>
          <a:stretch/>
        </p:blipFill>
        <p:spPr>
          <a:xfrm>
            <a:off x="5987880" y="1981080"/>
            <a:ext cx="249876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зображение Георгия Победоносца на монетах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4" descr="C:\Documents and Settings\лёха космас\Рабочий стол\картины георгий победоносец\георгий победоносец на монете в 50 рублей РФ.jpg"/>
          <p:cNvPicPr/>
          <p:nvPr/>
        </p:nvPicPr>
        <p:blipFill>
          <a:blip r:embed="rId1"/>
          <a:stretch/>
        </p:blipFill>
        <p:spPr>
          <a:xfrm>
            <a:off x="4724280" y="2362320"/>
            <a:ext cx="3452760" cy="34765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" descr=""/>
          <p:cNvPicPr/>
          <p:nvPr/>
        </p:nvPicPr>
        <p:blipFill>
          <a:blip r:embed="rId2"/>
          <a:stretch/>
        </p:blipFill>
        <p:spPr>
          <a:xfrm>
            <a:off x="1371600" y="4267080"/>
            <a:ext cx="2438280" cy="124488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0" descr=""/>
          <p:cNvPicPr/>
          <p:nvPr/>
        </p:nvPicPr>
        <p:blipFill>
          <a:blip r:embed="rId3"/>
          <a:stretch/>
        </p:blipFill>
        <p:spPr>
          <a:xfrm>
            <a:off x="1371600" y="2666880"/>
            <a:ext cx="2536920" cy="12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зображение Святого Георгия на гербе Росси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4" descr="C:\Documents and Settings\лёха космас\Рабочий стол\картины георгий победоносец\герб москвы.jpeg"/>
          <p:cNvPicPr/>
          <p:nvPr/>
        </p:nvPicPr>
        <p:blipFill>
          <a:blip r:embed="rId1"/>
          <a:stretch/>
        </p:blipFill>
        <p:spPr>
          <a:xfrm>
            <a:off x="2743200" y="1978200"/>
            <a:ext cx="3505320" cy="419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зображение Святого Георгия на гербе Росси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Picture 5" descr="C:\Documents and Settings\лёха космас\Рабочий стол\картины георгий победоносец\георгий победоносец. обложка для паспорта.jpg"/>
          <p:cNvPicPr/>
          <p:nvPr/>
        </p:nvPicPr>
        <p:blipFill>
          <a:blip r:embed="rId1"/>
          <a:stretch/>
        </p:blipFill>
        <p:spPr>
          <a:xfrm>
            <a:off x="2209680" y="2057400"/>
            <a:ext cx="5105520" cy="390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Орден Святого Георг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1 степен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1" descr="http://upload.wikimedia.org/wikipedia/commons/thumb/4/47/Order_of_St._George.jpg/176px-Order_of_St._George.jpg"/>
          <p:cNvPicPr/>
          <p:nvPr/>
        </p:nvPicPr>
        <p:blipFill>
          <a:blip r:embed="rId1"/>
          <a:stretch/>
        </p:blipFill>
        <p:spPr>
          <a:xfrm>
            <a:off x="1600200" y="2057400"/>
            <a:ext cx="2286000" cy="3689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707px-Star_and_badges_to_Order_St_George"/>
          <p:cNvPicPr/>
          <p:nvPr/>
        </p:nvPicPr>
        <p:blipFill>
          <a:blip r:embed="rId2"/>
          <a:srcRect l="0" t="0" r="66846" b="0"/>
          <a:stretch/>
        </p:blipFill>
        <p:spPr>
          <a:xfrm>
            <a:off x="5257800" y="2514600"/>
            <a:ext cx="2444760" cy="264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Орден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Святого Великомученика и Победоносца Георги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6" descr="707px-Star_and_badges_to_Order_St_George"/>
          <p:cNvPicPr/>
          <p:nvPr/>
        </p:nvPicPr>
        <p:blipFill>
          <a:blip r:embed="rId1"/>
          <a:srcRect l="32529" t="368" r="0" b="0"/>
          <a:stretch/>
        </p:blipFill>
        <p:spPr>
          <a:xfrm>
            <a:off x="1066680" y="2133720"/>
            <a:ext cx="7010640" cy="37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03T18:28:5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