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64A-BC9B-492B-88D2-A0EDB9C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C58-BCF5-40B4-BA93-CAFE453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C07-288B-495E-B446-AC84635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0DA-C994-49EE-BC09-DF4F2D7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357-0661-4DF2-907E-9D130C2E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702-7D8D-47A9-BC69-1855CC17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DE0-FEB1-4532-ABB4-CADD461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FDB-37F8-41E4-9D93-FE31832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3D6-55B4-46E5-BFA0-1CBE6F8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DC7-B364-4D02-95D3-DA54FFD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445-BD8A-4332-A98A-652631B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938-C1EC-47B4-BAEA-B8C29AE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803-B5FB-460F-A9BF-42F7ECA73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57600" y="3533760"/>
            <a:ext cx="4954680" cy="3116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406600" cy="342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80880" y="3619440"/>
            <a:ext cx="27910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" name="WordArt 5"/>
          <p:cNvSpPr txBox="1"/>
          <p:nvPr/>
        </p:nvSpPr>
        <p:spPr>
          <a:xfrm>
            <a:off x="4038480" y="533520"/>
            <a:ext cx="42195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11 год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д космонав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657600" y="152280"/>
            <a:ext cx="4952880" cy="330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533520"/>
            <a:ext cx="7315200" cy="27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таблично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ножение и деле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еделах 100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8"/>
          <a:stretch/>
        </p:blipFill>
        <p:spPr>
          <a:xfrm>
            <a:off x="2438280" y="4038480"/>
            <a:ext cx="40482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2"/>
          <p:cNvGrpSpPr/>
          <p:nvPr/>
        </p:nvGrpSpPr>
        <p:grpSpPr>
          <a:xfrm>
            <a:off x="4876920" y="152280"/>
            <a:ext cx="4267080" cy="3505320"/>
            <a:chOff x="4876920" y="152280"/>
            <a:chExt cx="4267080" cy="3505320"/>
          </a:xfrm>
        </p:grpSpPr>
        <p:sp>
          <p:nvSpPr>
            <p:cNvPr id="49" name="Rectangle 7"/>
            <p:cNvSpPr/>
            <p:nvPr/>
          </p:nvSpPr>
          <p:spPr>
            <a:xfrm>
              <a:off x="4876920" y="152280"/>
              <a:ext cx="426708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5105520" y="380880"/>
              <a:ext cx="3733560" cy="30625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772080" cy="284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419360" cy="288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53" name="Group 11"/>
          <p:cNvGrpSpPr/>
          <p:nvPr/>
        </p:nvGrpSpPr>
        <p:grpSpPr>
          <a:xfrm>
            <a:off x="152280" y="152280"/>
            <a:ext cx="4648320" cy="3505320"/>
            <a:chOff x="152280" y="152280"/>
            <a:chExt cx="4648320" cy="3505320"/>
          </a:xfrm>
        </p:grpSpPr>
        <p:sp>
          <p:nvSpPr>
            <p:cNvPr id="54" name="Rectangle 8"/>
            <p:cNvSpPr/>
            <p:nvPr/>
          </p:nvSpPr>
          <p:spPr>
            <a:xfrm>
              <a:off x="152280" y="152280"/>
              <a:ext cx="464832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4114800" cy="3083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297320" y="152280"/>
            <a:ext cx="4572000" cy="510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443720" y="3962520"/>
            <a:ext cx="155412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3840120" cy="5639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1851120" cy="26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1480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04920" y="228600"/>
            <a:ext cx="36576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981160" cy="563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439416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533520"/>
          <a:ext cx="8534160" cy="3427200"/>
        </p:xfrm>
        <a:graphic>
          <a:graphicData uri="http://schemas.openxmlformats.org/drawingml/2006/table">
            <a:tbl>
              <a:tblPr/>
              <a:tblGrid>
                <a:gridCol w="2590560"/>
                <a:gridCol w="3124440"/>
                <a:gridCol w="2819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20"/>
          <p:cNvSpPr/>
          <p:nvPr/>
        </p:nvSpPr>
        <p:spPr>
          <a:xfrm>
            <a:off x="214748424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-2147484240" y="-385278480"/>
            <a:ext cx="342720" cy="2286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600"/>
              <a:gd name="textAreaBottom" fmla="*/ 81720 h 228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14746480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14748424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4"/>
          <p:cNvGrpSpPr/>
          <p:nvPr/>
        </p:nvGrpSpPr>
        <p:grpSpPr>
          <a:xfrm>
            <a:off x="2147484240" y="390948840"/>
            <a:ext cx="3840120" cy="1187280"/>
            <a:chOff x="2147484240" y="390948840"/>
            <a:chExt cx="3840120" cy="1187280"/>
          </a:xfrm>
        </p:grpSpPr>
        <p:sp>
          <p:nvSpPr>
            <p:cNvPr id="70" name="Rectangle 25"/>
            <p:cNvSpPr/>
            <p:nvPr/>
          </p:nvSpPr>
          <p:spPr>
            <a:xfrm>
              <a:off x="2150181360" y="391861800"/>
              <a:ext cx="1143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2148809760" y="39186180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147484240" y="391861800"/>
              <a:ext cx="1325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150181360" y="3914046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2148809760" y="391404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2147484240" y="391404600"/>
              <a:ext cx="132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2150181360" y="390948840"/>
              <a:ext cx="1143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тка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2148809760" y="390948840"/>
              <a:ext cx="1371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костю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3"/>
            <p:cNvSpPr/>
            <p:nvPr/>
          </p:nvSpPr>
          <p:spPr>
            <a:xfrm>
              <a:off x="2147484240" y="390948840"/>
              <a:ext cx="1325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костю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2147484240" y="39094884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5"/>
            <p:cNvSpPr/>
            <p:nvPr/>
          </p:nvSpPr>
          <p:spPr>
            <a:xfrm>
              <a:off x="2147484240" y="39213612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214748424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>
              <a:off x="2151324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8"/>
            <p:cNvSpPr/>
            <p:nvPr/>
          </p:nvSpPr>
          <p:spPr>
            <a:xfrm>
              <a:off x="2147484240" y="3914046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9"/>
            <p:cNvSpPr/>
            <p:nvPr/>
          </p:nvSpPr>
          <p:spPr>
            <a:xfrm>
              <a:off x="21488097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0"/>
            <p:cNvSpPr/>
            <p:nvPr/>
          </p:nvSpPr>
          <p:spPr>
            <a:xfrm>
              <a:off x="2150181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1"/>
            <p:cNvSpPr/>
            <p:nvPr/>
          </p:nvSpPr>
          <p:spPr>
            <a:xfrm>
              <a:off x="2147484240" y="3918618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42"/>
          <p:cNvSpPr/>
          <p:nvPr/>
        </p:nvSpPr>
        <p:spPr>
          <a:xfrm>
            <a:off x="214748424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3"/>
          <p:cNvSpPr/>
          <p:nvPr/>
        </p:nvSpPr>
        <p:spPr>
          <a:xfrm>
            <a:off x="-2147484240" y="-385278480"/>
            <a:ext cx="342720" cy="2286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600"/>
              <a:gd name="textAreaBottom" fmla="*/ 81720 h 228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214746480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14748424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6"/>
          <p:cNvGrpSpPr/>
          <p:nvPr/>
        </p:nvGrpSpPr>
        <p:grpSpPr>
          <a:xfrm>
            <a:off x="2147484240" y="390948840"/>
            <a:ext cx="3840120" cy="1187280"/>
            <a:chOff x="2147484240" y="390948840"/>
            <a:chExt cx="3840120" cy="1187280"/>
          </a:xfrm>
        </p:grpSpPr>
        <p:sp>
          <p:nvSpPr>
            <p:cNvPr id="92" name="Rectangle 47"/>
            <p:cNvSpPr/>
            <p:nvPr/>
          </p:nvSpPr>
          <p:spPr>
            <a:xfrm>
              <a:off x="2150181360" y="391861800"/>
              <a:ext cx="1143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8"/>
            <p:cNvSpPr/>
            <p:nvPr/>
          </p:nvSpPr>
          <p:spPr>
            <a:xfrm>
              <a:off x="2148809760" y="39186180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9"/>
            <p:cNvSpPr/>
            <p:nvPr/>
          </p:nvSpPr>
          <p:spPr>
            <a:xfrm>
              <a:off x="2147484240" y="391861800"/>
              <a:ext cx="1325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2150181360" y="3914046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2148809760" y="391404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2"/>
            <p:cNvSpPr/>
            <p:nvPr/>
          </p:nvSpPr>
          <p:spPr>
            <a:xfrm>
              <a:off x="2147484240" y="391404600"/>
              <a:ext cx="132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3"/>
            <p:cNvSpPr/>
            <p:nvPr/>
          </p:nvSpPr>
          <p:spPr>
            <a:xfrm>
              <a:off x="2150181360" y="390948840"/>
              <a:ext cx="1143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тка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4"/>
            <p:cNvSpPr/>
            <p:nvPr/>
          </p:nvSpPr>
          <p:spPr>
            <a:xfrm>
              <a:off x="2148809760" y="390948840"/>
              <a:ext cx="1371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костю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5"/>
            <p:cNvSpPr/>
            <p:nvPr/>
          </p:nvSpPr>
          <p:spPr>
            <a:xfrm>
              <a:off x="2147484240" y="390948840"/>
              <a:ext cx="1325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костю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6"/>
            <p:cNvSpPr/>
            <p:nvPr/>
          </p:nvSpPr>
          <p:spPr>
            <a:xfrm>
              <a:off x="2147484240" y="39094884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>
              <a:off x="2147484240" y="39213612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>
              <a:off x="214748424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>
              <a:off x="2151324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0"/>
            <p:cNvSpPr/>
            <p:nvPr/>
          </p:nvSpPr>
          <p:spPr>
            <a:xfrm>
              <a:off x="2147484240" y="3914046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1"/>
            <p:cNvSpPr/>
            <p:nvPr/>
          </p:nvSpPr>
          <p:spPr>
            <a:xfrm>
              <a:off x="21488097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2"/>
            <p:cNvSpPr/>
            <p:nvPr/>
          </p:nvSpPr>
          <p:spPr>
            <a:xfrm>
              <a:off x="2150181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3"/>
            <p:cNvSpPr/>
            <p:nvPr/>
          </p:nvSpPr>
          <p:spPr>
            <a:xfrm>
              <a:off x="2147484240" y="3918618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04920" y="533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3124440"/>
                <a:gridCol w="2819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к.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м.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м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14400" y="60948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 я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838080" y="22860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трудн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62120" y="4648320"/>
            <a:ext cx="7696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легк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533520" y="914400"/>
            <a:ext cx="8229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3" descr="00037978"/>
          <p:cNvPicPr/>
          <p:nvPr/>
        </p:nvPicPr>
        <p:blipFill>
          <a:blip r:embed="rId1"/>
          <a:stretch/>
        </p:blipFill>
        <p:spPr>
          <a:xfrm>
            <a:off x="2743200" y="3265560"/>
            <a:ext cx="3505320" cy="27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6294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144792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6"/>
          <a:stretch/>
        </p:blipFill>
        <p:spPr>
          <a:xfrm>
            <a:off x="69343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7"/>
          <a:stretch/>
        </p:blipFill>
        <p:spPr>
          <a:xfrm>
            <a:off x="304920" y="15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8"/>
          <a:stretch/>
        </p:blipFill>
        <p:spPr>
          <a:xfrm>
            <a:off x="411480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3-12-14T18:07:5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