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28.gif" ContentType="image/gif"/>
  <Override PartName="/ppt/media/image4.gif" ContentType="image/gif"/>
  <Override PartName="/ppt/media/image27.gif" ContentType="image/gif"/>
  <Override PartName="/ppt/media/image3.png" ContentType="image/png"/>
  <Override PartName="/ppt/media/image23.gif" ContentType="image/gif"/>
  <Override PartName="/ppt/media/image26.gif" ContentType="image/gif"/>
  <Override PartName="/ppt/media/image14.gif" ContentType="image/gif"/>
  <Override PartName="/ppt/media/image25.gif" ContentType="image/gif"/>
  <Override PartName="/ppt/media/image24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1653-8A3E-490C-A69E-77977201A9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ACA8-1C82-45AA-A532-D11ED705D8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8544-21A2-4B23-90D5-17D9864ADE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1188-3049-4286-B3F9-05A9F1DD5F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C80-8211-4665-8DFD-972534AB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143-A784-414E-AD1E-74048C64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5A29-3CC2-4286-BCE5-D4904ECF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1A6E-B60E-468E-815D-9E15EE2B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94AF-5246-4D11-9C87-B0714FD9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BECF-978C-4C4D-B93E-AF665FB7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D103-937C-4826-87CB-5E9BAE9E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C4AE-AF91-44F5-89E1-99C1705A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DB9C-B1D9-43FC-8133-CFDB62FA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5264-3035-4E51-9C72-42C832A7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6117-B838-4B77-91CF-842EC374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2B8-892A-4EA4-B8F3-C9D5440A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F73D-D0C9-4E04-AC0B-4D3F5BED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F483-E443-4B25-A9A5-7E2F307A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DAAF-A69A-4F16-A34A-9FBD0E06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B942-839C-41CF-9937-AEF6ACEB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410B-5DC1-4C21-BB49-CA960383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261-9CEF-42C3-8842-07022440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A0F7-AF66-4D03-86CE-FC9091B2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E41F-07A2-4AC3-803E-BEEAF563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D239-38BD-4B5C-953A-B14AC3A7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814-A125-46A2-BC36-D87F535F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A55B-9984-4F8B-A258-6DF8B55F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5DD-E539-49AB-B34C-CC26DD65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CE5E-8F61-437D-9AAC-1B3A804B315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30CC-3213-4482-B32C-576EC190C15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28680" y="1285560"/>
            <a:ext cx="500076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Первые проблемы подросткового периода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85920" y="45003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Рисунок 7" descr="Картинка 1095 из 8030"/>
          <p:cNvPicPr/>
          <p:nvPr/>
        </p:nvPicPr>
        <p:blipFill>
          <a:blip r:embed="rId2"/>
          <a:stretch/>
        </p:blipFill>
        <p:spPr>
          <a:xfrm>
            <a:off x="146160" y="152280"/>
            <a:ext cx="4047840" cy="4462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Типичная ошибка родителей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42600" y="1143000"/>
            <a:ext cx="7986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ие мамы и папы, памятуя о том, как еще пару лет назад их медвежоночек был плюшевым и послушным, пытаются вернуть былую идиллию, сажая ослушника на "короткий поводок". Они заставляют его бросить компанию сверстников, навязывают свое общество и доказывают, что "Коля двоечник и хулиган", могут и накричать в порыве эмо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0" descr="\\MICROSOF-05BCCC\User (D)\Семейная\Ирина\Анимашки\gallery_2_391_169.gif"/>
          <p:cNvPicPr/>
          <p:nvPr/>
        </p:nvPicPr>
        <p:blipFill>
          <a:blip r:embed="rId2"/>
          <a:stretch/>
        </p:blipFill>
        <p:spPr>
          <a:xfrm>
            <a:off x="214200" y="4929120"/>
            <a:ext cx="1243080" cy="1633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28800" y="1213920"/>
            <a:ext cx="7696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ит ли удивляться, если "медвежоночка" после этого дома будет не сыскать, а убежденность в том, что "друг Коля" лучше папы (хотя бы потому, что во всем его понимает), только укрепи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2" descr="\\MICROSOF-05BCCC\User (D)\Семейная\Ирина\Анимашки\31beac478549.gif"/>
          <p:cNvPicPr/>
          <p:nvPr/>
        </p:nvPicPr>
        <p:blipFill>
          <a:blip r:embed="rId2"/>
          <a:stretch/>
        </p:blipFill>
        <p:spPr>
          <a:xfrm>
            <a:off x="3571920" y="4214880"/>
            <a:ext cx="2114640" cy="2071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Что делать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7120" y="1214280"/>
            <a:ext cx="84153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предпринимайте ничего! Психологи говорят: этот этап благополучно пройдет, если родители перестанут смотреть на подростка как на маленького ребенка и научатся уважать его мнение и прислушиваться к нему, перестанут делать выговоры и унижать его друзей. Неплохо в этой ситуации пригласить домой его приятелей. По крайней мере вы сможете составить о них какое-то мн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3" descr="\\MICROSOF-05BCCC\User (D)\Семейная\Ирина\Анимашки\gallery_2_391_4173.gif"/>
          <p:cNvPicPr/>
          <p:nvPr/>
        </p:nvPicPr>
        <p:blipFill>
          <a:blip r:embed="rId2"/>
          <a:stretch/>
        </p:blipFill>
        <p:spPr>
          <a:xfrm>
            <a:off x="8163000" y="285840"/>
            <a:ext cx="981000" cy="1571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Этап второй – 14 - 15 лет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«Не учите меня жить!»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2600" y="1285920"/>
            <a:ext cx="8272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мональный фон постепенно выравнивается, но появляется переизбыток энергии, который срочно нужно куда-то девать. Подросток в этом возрасте живет по принципу "сила есть - ума не надо". Столь же прямолинейна и его логика, он делит мир только на "хорошее" и "плохое "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об этом мы поговорим с вами позже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\\MICROSOF-05BCCC\User (D)\Семейная\Ирина\Анимашки\gallery_2_390_2354.gif"/>
          <p:cNvPicPr/>
          <p:nvPr/>
        </p:nvPicPr>
        <p:blipFill>
          <a:blip r:embed="rId2"/>
          <a:stretch/>
        </p:blipFill>
        <p:spPr>
          <a:xfrm>
            <a:off x="642960" y="4429080"/>
            <a:ext cx="100008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6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 Black"/>
              </a:rPr>
              <a:t>Внимание, только внимание!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85560"/>
            <a:ext cx="83440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ниверсальные сове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 каждый ден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ая главная ошибка родител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и, к сожалению, самая типичная) - усматривать в "недопустимом" поведении повзрослевших чад исключительно злой умысе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йне вредное заблужде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\\MICROSOF-05BCCC\User (D)\Семейная\Ирина\Анимашки\c6ece0df89c8.gif"/>
          <p:cNvPicPr/>
          <p:nvPr/>
        </p:nvPicPr>
        <p:blipFill>
          <a:blip r:embed="rId2"/>
          <a:stretch/>
        </p:blipFill>
        <p:spPr>
          <a:xfrm>
            <a:off x="7215120" y="5181480"/>
            <a:ext cx="164304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85520" y="856800"/>
            <a:ext cx="776772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ете ли вы, что изменения во внутреннем мире подростка специалисты-психологи сравнивают... с процессами, происходившими в Европе начала XVIII - XIX веков? Тогда спокойное существование многих людей было уничтожено революциями и войнами, а место классической культуры заня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рный и страстный романтиз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1" descr="\\MICROSOF-05BCCC\User (D)\Семейная\Ирина\Анимашки\gallery_2_391_881.gif"/>
          <p:cNvPicPr/>
          <p:nvPr/>
        </p:nvPicPr>
        <p:blipFill>
          <a:blip r:embed="rId2"/>
          <a:stretch/>
        </p:blipFill>
        <p:spPr>
          <a:xfrm>
            <a:off x="142920" y="4214880"/>
            <a:ext cx="1476360" cy="1857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56800" y="1143000"/>
            <a:ext cx="7696440" cy="58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 вот подростки, по мнению ученых, - те же романтики, только страсти кипят у них в душе. Но, в отличие от писателей и художников, они не умеют рассказать о том, что творится с ни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\\MICROSOF-05BCCC\User (D)\Семейная\Ирина\Анимашки\245.gif"/>
          <p:cNvPicPr/>
          <p:nvPr/>
        </p:nvPicPr>
        <p:blipFill>
          <a:blip r:embed="rId2"/>
          <a:stretch/>
        </p:blipFill>
        <p:spPr>
          <a:xfrm>
            <a:off x="5857920" y="4071960"/>
            <a:ext cx="230508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6800" y="356760"/>
            <a:ext cx="784404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т почему они бывают такими раздражительными, хамоватыми, злыми, плаксивыми, наглыми и самонадеянными. И напрасно родители задают сакраментальные вопросы типа "почему" и "как ты мог" - подросток и сам не знает ответа. Часто все происходит помимо его собственной воли. И только родители, а не "друг Коля", способны удержать его от глупостей, не дать потеряться в этом мир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\\MICROSOF-05BCCC\User (D)\Семейная\Ирина\Анимашки\gallery_2_391_5171.gif"/>
          <p:cNvPicPr/>
          <p:nvPr/>
        </p:nvPicPr>
        <p:blipFill>
          <a:blip r:embed="rId2"/>
          <a:stretch/>
        </p:blipFill>
        <p:spPr>
          <a:xfrm>
            <a:off x="214200" y="642960"/>
            <a:ext cx="1214640" cy="1747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:\Users\6920\Desktop\942071130fbb857d792c087e7687d792.gif"/>
          <p:cNvPicPr/>
          <p:nvPr/>
        </p:nvPicPr>
        <p:blipFill>
          <a:blip r:embed="rId3"/>
          <a:stretch/>
        </p:blipFill>
        <p:spPr>
          <a:xfrm>
            <a:off x="142920" y="4429080"/>
            <a:ext cx="1033560" cy="1771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Поэтому: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3880" y="1285920"/>
            <a:ext cx="79153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мните, что дурные поступки не всегда являются отражением внутреннего мира подрост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переживайте, не высмеивайте и не отталкивайте в минуты откро-вен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8" descr="\\MICROSOF-05BCCC\User (D)\Семейная\Ирина\Анимашки\gallery_2_388_9583.gif"/>
          <p:cNvPicPr/>
          <p:nvPr/>
        </p:nvPicPr>
        <p:blipFill>
          <a:blip r:embed="rId2"/>
          <a:stretch/>
        </p:blipFill>
        <p:spPr>
          <a:xfrm>
            <a:off x="6072120" y="3929040"/>
            <a:ext cx="1571760" cy="2005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42960" y="356760"/>
            <a:ext cx="812952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райтесь проводить время вместе. Только не сидите молча у телевизора, а займитесь интересным ему делом. Например, сыграйте в баскетбол или спойте под гита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вмешивайтесь в занятия, с которыми он справляется и без вас, не навязывайте свое мнение по любому вопросу, не критикуйте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" descr="\\MICROSOF-05BCCC\User (D)\Семейная\Ирина\Анимашки\gallery_2_391_5809.gif"/>
          <p:cNvPicPr/>
          <p:nvPr/>
        </p:nvPicPr>
        <p:blipFill>
          <a:blip r:embed="rId2"/>
          <a:stretch/>
        </p:blipFill>
        <p:spPr>
          <a:xfrm>
            <a:off x="1071720" y="4857840"/>
            <a:ext cx="164304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Цель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5840" y="1571760"/>
            <a:ext cx="857232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ь родителей с основными психологическими особенностями подросткового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судить проблемы  об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ителей с деть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накомить с рекомендациями психолога по решению данных пробл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9" descr="\\MICROSOF-05BCCC\User (D)\Семейная\Ирина\Анимашки\people17.gif"/>
          <p:cNvPicPr/>
          <p:nvPr/>
        </p:nvPicPr>
        <p:blipFill>
          <a:blip r:embed="rId2"/>
          <a:stretch/>
        </p:blipFill>
        <p:spPr>
          <a:xfrm>
            <a:off x="7072200" y="2643120"/>
            <a:ext cx="164304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71680" y="428760"/>
            <a:ext cx="791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могайте, когда он просит вас об э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держивайте даже самые ничтожные успехи во всем - в учебе, спорте и т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литесь своими чувствам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ешайте конфликты мирным путем. Не давайте волю слезам, крикам, угроз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9" descr="\\MICROSOF-05BCCC\User (D)\Семейная\Ирина\Анимашки\gallery_2_391_14115.gif"/>
          <p:cNvPicPr/>
          <p:nvPr/>
        </p:nvPicPr>
        <p:blipFill>
          <a:blip r:embed="rId2"/>
          <a:stretch/>
        </p:blipFill>
        <p:spPr>
          <a:xfrm>
            <a:off x="6286680" y="4714920"/>
            <a:ext cx="1285560" cy="1857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13880" y="1071360"/>
            <a:ext cx="7844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ще используйте приветливые фразы. Например: "Мне хорошо с тобой", "Я рада тебя видеть", "Мне нравится, как ты...", "Я по тебе соскучилась", "Давай (посидим, поделаем...) вместе", "Ты, конечно, справишься", "Как хорошо, что ты у нас есть"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3" descr="\\MICROSOF-05BCCC\User (D)\Семейная\Ирина\Анимашки\64 (1).gif"/>
          <p:cNvPicPr/>
          <p:nvPr/>
        </p:nvPicPr>
        <p:blipFill>
          <a:blip r:embed="rId2"/>
          <a:stretch/>
        </p:blipFill>
        <p:spPr>
          <a:xfrm>
            <a:off x="3500280" y="4643280"/>
            <a:ext cx="2190960" cy="1928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42600" y="1143000"/>
            <a:ext cx="82724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нимайтесь! Не менее четырех, а лучше восьми раз в день. В проявлениях родительской ласки "взрослые" подростки нуждаются порой отчаяннее, чем крохотные карапуз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" descr="\\MICROSOF-05BCCC\User (D)\Семейная\Ирина\Анимашки\0_1ac07_864c3346_S.gif"/>
          <p:cNvPicPr/>
          <p:nvPr/>
        </p:nvPicPr>
        <p:blipFill>
          <a:blip r:embed="rId2"/>
          <a:stretch/>
        </p:blipFill>
        <p:spPr>
          <a:xfrm>
            <a:off x="3929040" y="3714840"/>
            <a:ext cx="164304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Что остаётся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9680" y="1213920"/>
            <a:ext cx="79866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, подросшие дети - не подарки. Очень сложно порой вести себя с ними сдержанно и спокойно. Но важно помнить мудрые слова: "И это пройдет". Возьмите за правило, ложась спать, анализировать прожитый день. Мысленно отмечайте ошибки в общении с подростком, старайтесь спрогнозировать его поведе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99680" y="1109520"/>
            <a:ext cx="798660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ая предсказуемость поможет спокойному и доброжелательному общению. Тогда, став действительно взрослым человеком, он не потеряет уверенности в том, что лучшие друзья - это родители. Ведь именно они в трудную минуту поддержали, смогли понять и приня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2" descr="\\MICROSOF-05BCCC\User (D)\Семейная\Ирина\Анимашки\155.gif"/>
          <p:cNvPicPr/>
          <p:nvPr/>
        </p:nvPicPr>
        <p:blipFill>
          <a:blip r:embed="rId2"/>
          <a:stretch/>
        </p:blipFill>
        <p:spPr>
          <a:xfrm>
            <a:off x="5786280" y="4572000"/>
            <a:ext cx="177660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928800" y="1143000"/>
            <a:ext cx="7696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градой вам будут доверие, уважение и любов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это так важн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5" descr="\\MICROSOF-05BCCC\User (D)\Семейная\Ирина\Анимашки\13 (1).gif"/>
          <p:cNvPicPr/>
          <p:nvPr/>
        </p:nvPicPr>
        <p:blipFill>
          <a:blip r:embed="rId2"/>
          <a:stretch/>
        </p:blipFill>
        <p:spPr>
          <a:xfrm>
            <a:off x="3571920" y="2928960"/>
            <a:ext cx="228600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4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Использованные источник</a:t>
            </a: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и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2356920"/>
            <a:ext cx="8558280" cy="38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www.psychologov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1" descr="\\MICROSOF-05BCCC\User (D)\Семейная\Ирина\Анимашки\Пупс.gif"/>
          <p:cNvPicPr/>
          <p:nvPr/>
        </p:nvPicPr>
        <p:blipFill>
          <a:blip r:embed="rId2"/>
          <a:stretch/>
        </p:blipFill>
        <p:spPr>
          <a:xfrm>
            <a:off x="5929200" y="2857680"/>
            <a:ext cx="185256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71680" y="1071720"/>
            <a:ext cx="7914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ш ребенок входит в пору своего физиологического взросления. Это вносит определенные изменения в его характер, взаимоотношения с окружающими людьми и сверстниками. Очевидное физическое взросление меняет взгляды ребенка на жизнь, его ценностные ориенти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\\MICROSOF-05BCCC\User (D)\Семейная\Ирина\Анимашки\album_0908144057_7483.gif"/>
          <p:cNvPicPr/>
          <p:nvPr/>
        </p:nvPicPr>
        <p:blipFill>
          <a:blip r:embed="rId2"/>
          <a:stretch/>
        </p:blipFill>
        <p:spPr>
          <a:xfrm>
            <a:off x="3857760" y="500076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56800" y="1071360"/>
            <a:ext cx="76964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ие подростка – это начало поиска себя, своего уникального «Я». Это путь становления индивидуа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сихологии этот период времени называют периодом «брожения» психики, за  ним наступает период достаточной уверенности и равновес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4" descr="\\MICROSOF-05BCCC\User (D)\Семейная\Ирина\Анимашки\gallery_2_391_6820.gif"/>
          <p:cNvPicPr/>
          <p:nvPr/>
        </p:nvPicPr>
        <p:blipFill>
          <a:blip r:embed="rId2"/>
          <a:stretch/>
        </p:blipFill>
        <p:spPr>
          <a:xfrm>
            <a:off x="7500960" y="4857840"/>
            <a:ext cx="114300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13880" y="1357200"/>
            <a:ext cx="76964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т период почти всегда бывает болезненным, это время проблем между детьми и родител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держка семьи  вашему ребенку сейчас очень важна. Ему как никогда нужны ваше тепло и забота, понимание и довер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2" descr="\\MICROSOF-05BCCC\User (D)\Семейная\Ирина\Анимашки\gallery_2_391_1303.gif"/>
          <p:cNvPicPr/>
          <p:nvPr/>
        </p:nvPicPr>
        <p:blipFill>
          <a:blip r:embed="rId2"/>
          <a:stretch/>
        </p:blipFill>
        <p:spPr>
          <a:xfrm>
            <a:off x="928800" y="4500720"/>
            <a:ext cx="1428480" cy="1571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6800" y="1429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Кто виноват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2560" y="928440"/>
            <a:ext cx="900108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"Вдруг" ничего не случается!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И это главное, что нужно понять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Как говорят психологи, становление подростка как личности проходит в несколько этапов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И, скорее всего, если поведение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сына или дочери вас сильно огорчает, следует пересмотреть стиль собственного воспитания. Вероятно, вы упустили какой-то важный момент. Не заметили, когда ваш авторитет, ласка, строгость или просто внимание остро требовались ребенку..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\\MICROSOF-05BCCC\User (D)\Семейная\Ирина\Анимашки\95416.gif"/>
          <p:cNvPicPr/>
          <p:nvPr/>
        </p:nvPicPr>
        <p:blipFill>
          <a:blip r:embed="rId2"/>
          <a:stretch/>
        </p:blipFill>
        <p:spPr>
          <a:xfrm>
            <a:off x="357120" y="142920"/>
            <a:ext cx="121464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13880" y="642960"/>
            <a:ext cx="769644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сожалению, такого рода конфликты легко трансформируются в ситуацию "поздно пить "Боржоми". Но, как говорится, кто предупрежден, тот вооружен. Просто будьте предельно внимательными в так называемые "пиковые" этапы взросления подрост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большому счет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х всего два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\\MICROSOF-05BCCC\User (D)\Семейная\Ирина\Анимашки\92.gif"/>
          <p:cNvPicPr/>
          <p:nvPr/>
        </p:nvPicPr>
        <p:blipFill>
          <a:blip r:embed="rId2"/>
          <a:stretch/>
        </p:blipFill>
        <p:spPr>
          <a:xfrm>
            <a:off x="7143840" y="4214880"/>
            <a:ext cx="128592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Этап первый – 10-13 лет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«Оставьте меня в покое!»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85880" y="1428840"/>
            <a:ext cx="76960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енок в этот период переживает гормональную перестройку организма. Он быстро утомляется, ему часто хочется побыть одному. Но в это же время необходимо закрепить за собой авторитет, ведь от того, как он покажет себя, зависит его "статус" в среде сверстников. Значит необходимо бывать "на людях". И что же происходи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6" descr="\\MICROSOF-05BCCC\User (D)\Семейная\Ирина\Анимашки\gallery_2_391_8617.gif"/>
          <p:cNvPicPr/>
          <p:nvPr/>
        </p:nvPicPr>
        <p:blipFill>
          <a:blip r:embed="rId2"/>
          <a:stretch/>
        </p:blipFill>
        <p:spPr>
          <a:xfrm>
            <a:off x="214200" y="1928880"/>
            <a:ext cx="1428840" cy="1923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71320" y="428760"/>
            <a:ext cx="783900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ние одиночества и невозможность этого приводит к конфликту в душе подростка - он капризничает, становится раздражительным, может обронить резкое словцо. Свободное время он проводит не как раньше - с родителями, а в компании друзей. Авторитет какого-нибудь Коли становится важнее, чем мнение от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\\MICROSOF-05BCCC\User (D)\Семейная\Ирина\Анимашки\0_1ac08_4ccd67e2_S.gif"/>
          <p:cNvPicPr/>
          <p:nvPr/>
        </p:nvPicPr>
        <p:blipFill>
          <a:blip r:embed="rId2"/>
          <a:stretch/>
        </p:blipFill>
        <p:spPr>
          <a:xfrm>
            <a:off x="3571920" y="4857840"/>
            <a:ext cx="150012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1:02:16Z</dcterms:created>
  <dc:creator>Zver</dc:creator>
  <dc:description/>
  <dc:language>en-US</dc:language>
  <cp:lastModifiedBy>Сержик</cp:lastModifiedBy>
  <dcterms:modified xsi:type="dcterms:W3CDTF">2016-01-05T16:47:10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49</vt:lpwstr>
  </property>
</Properties>
</file>