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gif" ContentType="image/gif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5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F0AF0-F650-433B-8F38-3BBC4F3730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1B13E-B7C6-4D6A-A3EA-137ABB6E12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A4F1C-BFF4-4835-857E-74B7C72554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DA4A9-9092-4ED4-98BB-EA2C72876C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A614-D4B7-4839-A940-9A40FFB8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C687-A145-4E06-81E7-ECF0BF76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44D2-79D4-44A8-81B6-24EE26F4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E77-1538-4562-840B-30843CB1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BC3-21F4-4C71-A93F-88FB94DC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FB6-F854-4B18-A6E2-527EA9F0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330-E986-4630-9B3B-D5A57292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33F7-6F61-4F91-9D7C-33704FC2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27F-41BF-4E96-8344-DEE9A3C0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014-680E-42BC-9C07-1908182B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239D-1764-47FE-8D04-110C118F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D2D8-62DA-4F2D-BBEA-514B3BF7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2345E2-DFC5-418F-BE5F-00653EFE7F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image" Target="../media/image7.gif"/><Relationship Id="rId7" Type="http://schemas.openxmlformats.org/officeDocument/2006/relationships/image" Target="../media/image10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11.png"/><Relationship Id="rId19" Type="http://schemas.openxmlformats.org/officeDocument/2006/relationships/image" Target="../media/image10.gif"/><Relationship Id="rId20" Type="http://schemas.openxmlformats.org/officeDocument/2006/relationships/image" Target="../media/image10.gif"/><Relationship Id="rId21" Type="http://schemas.openxmlformats.org/officeDocument/2006/relationships/image" Target="../media/image12.png"/><Relationship Id="rId22" Type="http://schemas.openxmlformats.org/officeDocument/2006/relationships/image" Target="../media/image13.gif"/><Relationship Id="rId2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/>
          <p:cNvSpPr/>
          <p:nvPr/>
        </p:nvSpPr>
        <p:spPr>
          <a:xfrm>
            <a:off x="155520" y="-638280"/>
            <a:ext cx="25146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155520" y="-638280"/>
            <a:ext cx="25146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6" descr="http://im4-tub-ru.yandex.net/i?id=545983103-37-72&amp;n=21"/>
          <p:cNvPicPr/>
          <p:nvPr/>
        </p:nvPicPr>
        <p:blipFill>
          <a:blip r:embed="rId1"/>
          <a:stretch/>
        </p:blipFill>
        <p:spPr>
          <a:xfrm>
            <a:off x="92160" y="706320"/>
            <a:ext cx="6107040" cy="41338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/>
          <p:cNvPicPr/>
          <p:nvPr/>
        </p:nvPicPr>
        <p:blipFill>
          <a:blip r:embed="rId2"/>
          <a:stretch/>
        </p:blipFill>
        <p:spPr>
          <a:xfrm>
            <a:off x="3578400" y="4883040"/>
            <a:ext cx="4522680" cy="2309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im5-tub-ru.yandex.net/i?id=277957497-53-72&amp;n=21"/>
          <p:cNvPicPr/>
          <p:nvPr/>
        </p:nvPicPr>
        <p:blipFill>
          <a:blip r:embed="rId3"/>
          <a:stretch/>
        </p:blipFill>
        <p:spPr>
          <a:xfrm>
            <a:off x="7540560" y="4532400"/>
            <a:ext cx="2068560" cy="26524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5" descr=""/>
          <p:cNvPicPr/>
          <p:nvPr/>
        </p:nvPicPr>
        <p:blipFill>
          <a:blip r:embed="rId4"/>
          <a:stretch/>
        </p:blipFill>
        <p:spPr>
          <a:xfrm>
            <a:off x="128520" y="6053040"/>
            <a:ext cx="3870360" cy="11224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2468520" y="214920"/>
            <a:ext cx="5572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ниципальное автономное общеобразовательное  учрежд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1   пгт Серышев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ни Сергея Бондарева Амур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2968560" y="2779560"/>
            <a:ext cx="5038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84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6 </a:t>
            </a:r>
            <a:r>
              <a:rPr b="1" lang="ru-RU" sz="4400" spc="-1" strike="noStrike" u="sng">
                <a:solidFill>
                  <a:srgbClr val="7878de"/>
                </a:solidFill>
                <a:uFillTx/>
                <a:latin typeface="Arial"/>
              </a:rPr>
              <a:t>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2620080" y="4565520"/>
            <a:ext cx="14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8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4043520" y="45655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78de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2543760" y="3208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1682640" y="1258920"/>
            <a:ext cx="67867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2228b"/>
                </a:solidFill>
                <a:latin typeface="Arial"/>
              </a:rPr>
              <a:t>Записывай правильн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2397240" y="1708200"/>
            <a:ext cx="5643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22228b"/>
                </a:solidFill>
                <a:latin typeface="Arial"/>
              </a:rPr>
              <a:t>Решение выраже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3540240" y="3279600"/>
            <a:ext cx="27144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1 стр.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2"/>
          <p:cNvSpPr/>
          <p:nvPr/>
        </p:nvSpPr>
        <p:spPr>
          <a:xfrm>
            <a:off x="1160640" y="2124000"/>
            <a:ext cx="254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193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·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4047120" y="21366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= 10965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1256760" y="3317760"/>
            <a:ext cx="254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916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·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4237200" y="3317760"/>
            <a:ext cx="221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= 5748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611280" y="993600"/>
            <a:ext cx="721512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2228b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8366040" y="422280"/>
            <a:ext cx="171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4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6  </a:t>
            </a:r>
            <a:r>
              <a:rPr b="1" lang="ru-RU" sz="2800" spc="-1" strike="noStrike" u="sng">
                <a:solidFill>
                  <a:srgbClr val="7878de"/>
                </a:solidFill>
                <a:uFillTx/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8183520" y="149400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8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10"/>
          <p:cNvSpPr/>
          <p:nvPr/>
        </p:nvSpPr>
        <p:spPr>
          <a:xfrm flipH="1">
            <a:off x="9112320" y="1565280"/>
            <a:ext cx="357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878de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9"/>
          <p:cNvSpPr/>
          <p:nvPr/>
        </p:nvSpPr>
        <p:spPr>
          <a:xfrm>
            <a:off x="8186400" y="92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1" descr="103"/>
          <p:cNvPicPr/>
          <p:nvPr/>
        </p:nvPicPr>
        <p:blipFill>
          <a:blip r:embed="rId1"/>
          <a:stretch/>
        </p:blipFill>
        <p:spPr>
          <a:xfrm rot="10800000">
            <a:off x="9104400" y="4819320"/>
            <a:ext cx="976320" cy="273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174531f737e2"/>
          <p:cNvPicPr/>
          <p:nvPr/>
        </p:nvPicPr>
        <p:blipFill>
          <a:blip r:embed="rId2"/>
          <a:stretch/>
        </p:blipFill>
        <p:spPr>
          <a:xfrm>
            <a:off x="754200" y="4573440"/>
            <a:ext cx="2617560" cy="220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174531f737e2"/>
          <p:cNvPicPr/>
          <p:nvPr/>
        </p:nvPicPr>
        <p:blipFill>
          <a:blip r:embed="rId3"/>
          <a:stretch/>
        </p:blipFill>
        <p:spPr>
          <a:xfrm>
            <a:off x="6378480" y="708120"/>
            <a:ext cx="2619360" cy="2200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174531f737e2"/>
          <p:cNvPicPr/>
          <p:nvPr/>
        </p:nvPicPr>
        <p:blipFill>
          <a:blip r:embed="rId4"/>
          <a:stretch/>
        </p:blipFill>
        <p:spPr>
          <a:xfrm>
            <a:off x="4802040" y="2986200"/>
            <a:ext cx="2617920" cy="2198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h71"/>
          <p:cNvPicPr/>
          <p:nvPr/>
        </p:nvPicPr>
        <p:blipFill>
          <a:blip r:embed="rId5"/>
          <a:stretch/>
        </p:blipFill>
        <p:spPr>
          <a:xfrm>
            <a:off x="3056040" y="4097160"/>
            <a:ext cx="1900080" cy="1575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7" descr="103"/>
          <p:cNvPicPr/>
          <p:nvPr/>
        </p:nvPicPr>
        <p:blipFill>
          <a:blip r:embed="rId6"/>
          <a:stretch/>
        </p:blipFill>
        <p:spPr>
          <a:xfrm>
            <a:off x="0" y="4819680"/>
            <a:ext cx="976320" cy="2739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3" descr="74"/>
          <p:cNvPicPr/>
          <p:nvPr/>
        </p:nvPicPr>
        <p:blipFill>
          <a:blip r:embed="rId7"/>
          <a:stretch/>
        </p:blipFill>
        <p:spPr>
          <a:xfrm>
            <a:off x="595440" y="763560"/>
            <a:ext cx="1312560" cy="13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4" descr="103"/>
          <p:cNvPicPr/>
          <p:nvPr/>
        </p:nvPicPr>
        <p:blipFill>
          <a:blip r:embed="rId8"/>
          <a:stretch/>
        </p:blipFill>
        <p:spPr>
          <a:xfrm>
            <a:off x="0" y="2509920"/>
            <a:ext cx="976320" cy="2739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5" descr="103"/>
          <p:cNvPicPr/>
          <p:nvPr/>
        </p:nvPicPr>
        <p:blipFill>
          <a:blip r:embed="rId9"/>
          <a:stretch/>
        </p:blipFill>
        <p:spPr>
          <a:xfrm>
            <a:off x="0" y="-189000"/>
            <a:ext cx="976320" cy="2739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6" descr="103"/>
          <p:cNvPicPr/>
          <p:nvPr/>
        </p:nvPicPr>
        <p:blipFill>
          <a:blip r:embed="rId10"/>
          <a:stretch/>
        </p:blipFill>
        <p:spPr>
          <a:xfrm rot="5400000">
            <a:off x="1873440" y="-881640"/>
            <a:ext cx="976320" cy="2739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7" descr="103"/>
          <p:cNvPicPr/>
          <p:nvPr/>
        </p:nvPicPr>
        <p:blipFill>
          <a:blip r:embed="rId11"/>
          <a:stretch/>
        </p:blipFill>
        <p:spPr>
          <a:xfrm rot="5400000">
            <a:off x="4889880" y="-881640"/>
            <a:ext cx="976320" cy="2739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8" descr="103"/>
          <p:cNvPicPr/>
          <p:nvPr/>
        </p:nvPicPr>
        <p:blipFill>
          <a:blip r:embed="rId12"/>
          <a:stretch/>
        </p:blipFill>
        <p:spPr>
          <a:xfrm rot="5400000">
            <a:off x="7985520" y="-881640"/>
            <a:ext cx="976320" cy="2739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9" descr="103"/>
          <p:cNvPicPr/>
          <p:nvPr/>
        </p:nvPicPr>
        <p:blipFill>
          <a:blip r:embed="rId13"/>
          <a:stretch/>
        </p:blipFill>
        <p:spPr>
          <a:xfrm rot="10800000">
            <a:off x="9104400" y="-360"/>
            <a:ext cx="976320" cy="2739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0" descr="103"/>
          <p:cNvPicPr/>
          <p:nvPr/>
        </p:nvPicPr>
        <p:blipFill>
          <a:blip r:embed="rId14"/>
          <a:stretch/>
        </p:blipFill>
        <p:spPr>
          <a:xfrm rot="10800000">
            <a:off x="9104400" y="2111400"/>
            <a:ext cx="976320" cy="2741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2" descr="103"/>
          <p:cNvPicPr/>
          <p:nvPr/>
        </p:nvPicPr>
        <p:blipFill>
          <a:blip r:embed="rId15"/>
          <a:stretch/>
        </p:blipFill>
        <p:spPr>
          <a:xfrm rot="16200000">
            <a:off x="7431120" y="5700600"/>
            <a:ext cx="976320" cy="2741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3" descr="103"/>
          <p:cNvPicPr/>
          <p:nvPr/>
        </p:nvPicPr>
        <p:blipFill>
          <a:blip r:embed="rId16"/>
          <a:stretch/>
        </p:blipFill>
        <p:spPr>
          <a:xfrm rot="16200000">
            <a:off x="4732200" y="5700600"/>
            <a:ext cx="976320" cy="2741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4" descr="103"/>
          <p:cNvPicPr/>
          <p:nvPr/>
        </p:nvPicPr>
        <p:blipFill>
          <a:blip r:embed="rId17"/>
          <a:stretch/>
        </p:blipFill>
        <p:spPr>
          <a:xfrm rot="16200000">
            <a:off x="1793880" y="5700600"/>
            <a:ext cx="976320" cy="2741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7" descr="af857422a2e6"/>
          <p:cNvPicPr/>
          <p:nvPr/>
        </p:nvPicPr>
        <p:blipFill>
          <a:blip r:embed="rId18"/>
          <a:stretch/>
        </p:blipFill>
        <p:spPr>
          <a:xfrm>
            <a:off x="2341440" y="1241280"/>
            <a:ext cx="2698920" cy="4346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8" descr="74"/>
          <p:cNvPicPr/>
          <p:nvPr/>
        </p:nvPicPr>
        <p:blipFill>
          <a:blip r:embed="rId19"/>
          <a:stretch/>
        </p:blipFill>
        <p:spPr>
          <a:xfrm>
            <a:off x="4483080" y="0"/>
            <a:ext cx="1312920" cy="13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9" descr="74"/>
          <p:cNvPicPr/>
          <p:nvPr/>
        </p:nvPicPr>
        <p:blipFill>
          <a:blip r:embed="rId20"/>
          <a:stretch/>
        </p:blipFill>
        <p:spPr>
          <a:xfrm>
            <a:off x="8136000" y="922320"/>
            <a:ext cx="1312920" cy="1386000"/>
          </a:xfrm>
          <a:prstGeom prst="rect">
            <a:avLst/>
          </a:prstGeom>
          <a:ln w="0">
            <a:noFill/>
          </a:ln>
        </p:spPr>
      </p:pic>
      <p:pic>
        <p:nvPicPr>
          <p:cNvPr id="125" name="чебу1066.wav" descr=""/>
          <p:cNvPicPr/>
          <p:nvPr/>
        </p:nvPicPr>
        <p:blipFill>
          <a:blip r:embed="rId21"/>
          <a:stretch/>
        </p:blipFill>
        <p:spPr>
          <a:xfrm>
            <a:off x="9744120" y="7223040"/>
            <a:ext cx="336600" cy="336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124"/>
          <p:cNvPicPr/>
          <p:nvPr/>
        </p:nvPicPr>
        <p:blipFill>
          <a:blip r:embed="rId22"/>
          <a:stretch/>
        </p:blipFill>
        <p:spPr>
          <a:xfrm rot="21007200">
            <a:off x="2499840" y="2747520"/>
            <a:ext cx="23828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0.17205 -0.13217 C 0.20798 -0.16203 0.26198 -0.17847 0.31823 -0.17847 C 0.38229 -0.17847 0.43368 -0.16203 0.46962 -0.13217 L 0.64184 -4.81481E-006 E">
                                      <p:cBhvr>
                                        <p:cTn id="115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4184 -2.96296E-006 L 0.46857 -0.13102 C 0.43212 -0.16041 0.37743 -0.17685 0.32118 -0.17685 C 0.25677 -0.17685 0.20486 -0.16041 0.1684 -0.13102 L -0.004 -2.96296E-006 E">
                                      <p:cBhvr>
                                        <p:cTn id="11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17205 -0.13102 C 0.20799 -0.16041 0.26198 -0.17685 0.31823 -0.17685 C 0.3823 -0.17685 0.43369 -0.16041 0.46962 -0.13102 L 0.64184 -2.96296E-006 E">
                                      <p:cBhvr>
                                        <p:cTn id="12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4184 -2.96296E-006 L 0.46857 -0.13102 C 0.43212 -0.16041 0.37778 -0.17685 0.32135 -0.17685 C 0.25677 -0.17685 0.20503 -0.16041 0.16857 -0.13102 L -0.004 -2.96296E-006 E">
                                      <p:cBhvr>
                                        <p:cTn id="12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-1.48148E-006 L -0.004 -0.53426 L 0.58281 -0.53426 L 0.58281 -1.48148E-006 L -0.004 -1.48148E-006 Z">
                                      <p:cBhvr>
                                        <p:cTn id="127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9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6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53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02338 C 0.08784 0.14561 0.23281 0.15209 0.32257 0.03612 C 0.41215 -0.07824 0.41493 -0.27175 0.32621 -0.3949 C 0.23836 -0.51666 0.0934 -0.52152 0.00382 -0.40694 C -0.08664 -0.2912 -0.0882 -0.09907 4.16667E-006 0.02338 Z">
                                      <p:cBhvr>
                                        <p:cTn id="15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3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1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1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9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0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20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1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22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22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3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24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54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5000"/>
                            </p:stCondLst>
                            <p:childTnLst>
                              <p:par>
                                <p:cTn id="261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268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3"/>
          <p:cNvSpPr/>
          <p:nvPr/>
        </p:nvSpPr>
        <p:spPr>
          <a:xfrm>
            <a:off x="2521080" y="3274920"/>
            <a:ext cx="5038560" cy="19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Х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8 = 180 + 14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Х : 5 = 300 – 150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124720" y="1351080"/>
            <a:ext cx="5382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2228b"/>
                </a:solidFill>
                <a:latin typeface="Arial"/>
                <a:ea typeface="Times New Roman"/>
              </a:rPr>
              <a:t>Решите урав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"/>
          <p:cNvSpPr/>
          <p:nvPr/>
        </p:nvSpPr>
        <p:spPr>
          <a:xfrm>
            <a:off x="2182680" y="1922400"/>
            <a:ext cx="60724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22228b"/>
                </a:solidFill>
                <a:latin typeface="Arial"/>
              </a:rPr>
              <a:t>Реши задачу №42 стр.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7219800" cy="97164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2"/>
          <p:cNvSpPr/>
          <p:nvPr/>
        </p:nvSpPr>
        <p:spPr>
          <a:xfrm>
            <a:off x="4335120" y="993600"/>
            <a:ext cx="1451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22228b"/>
                </a:solidFill>
                <a:latin typeface="Arial"/>
              </a:rPr>
              <a:t>№ </a:t>
            </a:r>
            <a:r>
              <a:rPr b="1" lang="ru-RU" sz="4000" spc="-1" strike="noStrike">
                <a:solidFill>
                  <a:srgbClr val="22228b"/>
                </a:solidFill>
                <a:latin typeface="Arial"/>
              </a:rPr>
              <a:t>4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1397160" y="4280040"/>
            <a:ext cx="207144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5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897440" y="4280040"/>
            <a:ext cx="321480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5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6 + 6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5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6 – 6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2"/>
          <p:cNvSpPr/>
          <p:nvPr/>
        </p:nvSpPr>
        <p:spPr>
          <a:xfrm>
            <a:off x="825480" y="1851120"/>
            <a:ext cx="1428840" cy="1589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3"/>
          <p:cNvSpPr/>
          <p:nvPr/>
        </p:nvSpPr>
        <p:spPr>
          <a:xfrm>
            <a:off x="825480" y="3708360"/>
            <a:ext cx="1428840" cy="1587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833400" y="5605560"/>
            <a:ext cx="1427040" cy="1589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2897280" y="1994040"/>
            <a:ext cx="5794200" cy="13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учился решать</a:t>
            </a:r>
            <a:endParaRPr b="0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чень хорошо.</a:t>
            </a:r>
            <a:endParaRPr b="0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2968560" y="4208400"/>
            <a:ext cx="457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всё понял.</a:t>
            </a:r>
            <a:endParaRPr b="0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WordArt 7"/>
          <p:cNvSpPr txBox="1"/>
          <p:nvPr/>
        </p:nvSpPr>
        <p:spPr>
          <a:xfrm>
            <a:off x="2968560" y="5994360"/>
            <a:ext cx="5429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всем не понял.</a:t>
            </a:r>
            <a:endParaRPr b="0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2016000" y="2940120"/>
            <a:ext cx="6048360" cy="193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урок!</a:t>
            </a:r>
            <a:endParaRPr b="0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1" name="Picture 6" descr="Snowflake_024[1]"/>
          <p:cNvPicPr/>
          <p:nvPr/>
        </p:nvPicPr>
        <p:blipFill>
          <a:blip r:embed="rId1"/>
          <a:stretch/>
        </p:blipFill>
        <p:spPr>
          <a:xfrm>
            <a:off x="2687760" y="5459400"/>
            <a:ext cx="1049040" cy="1176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Snowflake_024[1]"/>
          <p:cNvPicPr/>
          <p:nvPr/>
        </p:nvPicPr>
        <p:blipFill>
          <a:blip r:embed="rId2"/>
          <a:stretch/>
        </p:blipFill>
        <p:spPr>
          <a:xfrm>
            <a:off x="7056360" y="5459400"/>
            <a:ext cx="1047960" cy="1176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Snowflake_024[1]"/>
          <p:cNvPicPr/>
          <p:nvPr/>
        </p:nvPicPr>
        <p:blipFill>
          <a:blip r:embed="rId3"/>
          <a:stretch/>
        </p:blipFill>
        <p:spPr>
          <a:xfrm>
            <a:off x="671400" y="2687760"/>
            <a:ext cx="1049400" cy="1176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Snowflake_024[1]"/>
          <p:cNvPicPr/>
          <p:nvPr/>
        </p:nvPicPr>
        <p:blipFill>
          <a:blip r:embed="rId4"/>
          <a:stretch/>
        </p:blipFill>
        <p:spPr>
          <a:xfrm>
            <a:off x="3024360" y="923760"/>
            <a:ext cx="1047600" cy="1176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Snowflake_024[1]"/>
          <p:cNvPicPr/>
          <p:nvPr/>
        </p:nvPicPr>
        <p:blipFill>
          <a:blip r:embed="rId5"/>
          <a:stretch/>
        </p:blipFill>
        <p:spPr>
          <a:xfrm>
            <a:off x="6384960" y="923760"/>
            <a:ext cx="1047600" cy="1176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Snowflake_024[1]"/>
          <p:cNvPicPr/>
          <p:nvPr/>
        </p:nvPicPr>
        <p:blipFill>
          <a:blip r:embed="rId6"/>
          <a:stretch/>
        </p:blipFill>
        <p:spPr>
          <a:xfrm>
            <a:off x="8651880" y="2603520"/>
            <a:ext cx="10494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8" descr=""/>
          <p:cNvPicPr/>
          <p:nvPr/>
        </p:nvPicPr>
        <p:blipFill>
          <a:blip r:embed="rId1"/>
          <a:stretch/>
        </p:blipFill>
        <p:spPr>
          <a:xfrm>
            <a:off x="139680" y="1231920"/>
            <a:ext cx="9766440" cy="9874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ая соединительная линия 5"/>
          <p:cNvSpPr/>
          <p:nvPr/>
        </p:nvSpPr>
        <p:spPr>
          <a:xfrm flipH="1">
            <a:off x="7326360" y="636480"/>
            <a:ext cx="1440" cy="6551640"/>
          </a:xfrm>
          <a:prstGeom prst="line">
            <a:avLst/>
          </a:prstGeom>
          <a:ln w="93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5"/>
          <p:cNvSpPr/>
          <p:nvPr/>
        </p:nvSpPr>
        <p:spPr>
          <a:xfrm>
            <a:off x="600120" y="1979640"/>
            <a:ext cx="878364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В семье трое дочерей и у каждой есть брат. Сколько детей в семь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Горело три свечи, 2 погасли. Сколько свечей  осталос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Собачка, когда  стоит на двух лапках весит 3 кг. Сколько она будет весить, если встанет на все лап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242880" y="851040"/>
            <a:ext cx="36493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Arial"/>
              </a:rPr>
              <a:t>Устный сч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3"/>
          <p:cNvSpPr/>
          <p:nvPr/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A27F7-29F9-434D-890A-9A25A5821E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" name="Прямая со стрелкой 5"/>
          <p:cNvCxnSpPr/>
          <p:nvPr/>
        </p:nvCxnSpPr>
        <p:spPr>
          <a:xfrm>
            <a:off x="1676880" y="1209240"/>
            <a:ext cx="594360" cy="592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2" name="TextBox 7"/>
          <p:cNvSpPr/>
          <p:nvPr/>
        </p:nvSpPr>
        <p:spPr>
          <a:xfrm>
            <a:off x="293760" y="220680"/>
            <a:ext cx="2271600" cy="9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5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Овал 8"/>
          <p:cNvSpPr/>
          <p:nvPr/>
        </p:nvSpPr>
        <p:spPr>
          <a:xfrm>
            <a:off x="2271600" y="1801800"/>
            <a:ext cx="989280" cy="988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" name="Прямая со стрелкой 9"/>
          <p:cNvCxnSpPr/>
          <p:nvPr/>
        </p:nvCxnSpPr>
        <p:spPr>
          <a:xfrm>
            <a:off x="3259800" y="2790720"/>
            <a:ext cx="594360" cy="5947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5" name="Овал 10"/>
          <p:cNvSpPr/>
          <p:nvPr/>
        </p:nvSpPr>
        <p:spPr>
          <a:xfrm>
            <a:off x="3854520" y="3384720"/>
            <a:ext cx="987480" cy="988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Прямая со стрелкой 11"/>
          <p:cNvCxnSpPr/>
          <p:nvPr/>
        </p:nvCxnSpPr>
        <p:spPr>
          <a:xfrm>
            <a:off x="4840920" y="4373280"/>
            <a:ext cx="594360" cy="592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7" name="Овал 12"/>
          <p:cNvSpPr/>
          <p:nvPr/>
        </p:nvSpPr>
        <p:spPr>
          <a:xfrm>
            <a:off x="5435640" y="4768920"/>
            <a:ext cx="988920" cy="988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30"/>
          <p:cNvSpPr/>
          <p:nvPr/>
        </p:nvSpPr>
        <p:spPr>
          <a:xfrm>
            <a:off x="2073240" y="1209600"/>
            <a:ext cx="79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31"/>
          <p:cNvSpPr/>
          <p:nvPr/>
        </p:nvSpPr>
        <p:spPr>
          <a:xfrm>
            <a:off x="5040360" y="3978360"/>
            <a:ext cx="17794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1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32"/>
          <p:cNvSpPr/>
          <p:nvPr/>
        </p:nvSpPr>
        <p:spPr>
          <a:xfrm>
            <a:off x="3260880" y="2395440"/>
            <a:ext cx="21747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+6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33"/>
          <p:cNvSpPr/>
          <p:nvPr/>
        </p:nvSpPr>
        <p:spPr>
          <a:xfrm>
            <a:off x="1876320" y="1011240"/>
            <a:ext cx="13845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" name="Прямая со стрелкой 35"/>
          <p:cNvCxnSpPr/>
          <p:nvPr/>
        </p:nvCxnSpPr>
        <p:spPr>
          <a:xfrm>
            <a:off x="6423480" y="5757480"/>
            <a:ext cx="594360" cy="592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3" name="Овал 39"/>
          <p:cNvSpPr/>
          <p:nvPr/>
        </p:nvSpPr>
        <p:spPr>
          <a:xfrm>
            <a:off x="7215120" y="6153120"/>
            <a:ext cx="1384200" cy="988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41"/>
          <p:cNvSpPr/>
          <p:nvPr/>
        </p:nvSpPr>
        <p:spPr>
          <a:xfrm>
            <a:off x="6424560" y="5361120"/>
            <a:ext cx="19782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5300" spc="-1" strike="noStrike">
                <a:solidFill>
                  <a:srgbClr val="002060"/>
                </a:solidFill>
                <a:latin typeface="Wingdings"/>
                <a:ea typeface="Wingdings"/>
              </a:rPr>
              <a:t>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оугольник 16"/>
          <p:cNvSpPr/>
          <p:nvPr/>
        </p:nvSpPr>
        <p:spPr>
          <a:xfrm>
            <a:off x="4242960" y="422280"/>
            <a:ext cx="36493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Arial"/>
              </a:rPr>
              <a:t>Устный сч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039680" y="3065400"/>
          <a:ext cx="8001000" cy="2803680"/>
        </p:xfrm>
        <a:graphic>
          <a:graphicData uri="http://schemas.openxmlformats.org/drawingml/2006/table">
            <a:tbl>
              <a:tblPr/>
              <a:tblGrid>
                <a:gridCol w="2637000"/>
                <a:gridCol w="2757600"/>
                <a:gridCol w="2606400"/>
              </a:tblGrid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 км/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ч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?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?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ч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60 км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 км/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?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60 км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Rectangle 1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2682720" y="1422360"/>
            <a:ext cx="46436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2228b"/>
                </a:solidFill>
                <a:latin typeface="Arial"/>
                <a:ea typeface="Times New Roman"/>
              </a:rPr>
              <a:t>Составь 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2"/>
          <p:cNvSpPr/>
          <p:nvPr/>
        </p:nvSpPr>
        <p:spPr>
          <a:xfrm>
            <a:off x="3166200" y="3780000"/>
            <a:ext cx="458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·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10…54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·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3254400" y="5137200"/>
            <a:ext cx="48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·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·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…32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·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2061720" y="2208240"/>
            <a:ext cx="56091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2228b"/>
                </a:solidFill>
                <a:latin typeface="Arial"/>
              </a:rPr>
              <a:t>Сравни выраж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3354120" y="82440"/>
            <a:ext cx="337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243*20=           532*300                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  847*60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3354120" y="82440"/>
            <a:ext cx="337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243*20=           532*300                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  847*60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468600" y="2565360"/>
            <a:ext cx="342900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43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20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32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300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847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·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0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1968480" y="1065240"/>
            <a:ext cx="62866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2228b"/>
                </a:solidFill>
                <a:latin typeface="Arial"/>
              </a:rPr>
              <a:t>Определи тему уро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396720" y="1994040"/>
            <a:ext cx="928692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16165d"/>
                </a:solidFill>
                <a:latin typeface="Arial"/>
                <a:ea typeface="Times New Roman"/>
              </a:rPr>
              <a:t>Тема: </a:t>
            </a:r>
            <a:r>
              <a:rPr b="1" lang="ru-RU" sz="4000" spc="-1" strike="noStrike">
                <a:solidFill>
                  <a:srgbClr val="16165d"/>
                </a:solidFill>
                <a:latin typeface="Arial"/>
                <a:ea typeface="Times New Roman"/>
              </a:rPr>
              <a:t>Письменное умножение на числа, оканчивающиеся нуля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2754360" y="3494160"/>
            <a:ext cx="3643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847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60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825480" y="1494000"/>
            <a:ext cx="80722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Times New Roman"/>
              </a:rPr>
              <a:t>Найди значение выраж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7:38:06Z</dcterms:created>
  <dc:creator/>
  <dc:description/>
  <dc:language>en-US</dc:language>
  <cp:lastModifiedBy>Admin</cp:lastModifiedBy>
  <dcterms:modified xsi:type="dcterms:W3CDTF">2013-03-23T08:55:25Z</dcterms:modified>
  <cp:revision>74</cp:revision>
  <dc:subject/>
  <dc:title>Презентация PowerPoint</dc:title>
</cp:coreProperties>
</file>