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D25EA-AC04-4160-B24C-C353FFD24E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106DF-ADFE-474D-9066-093C0F75D7E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6E8E9-E4AA-4520-9C27-53896998BDF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79687-AB28-4B4D-9C59-09104CEA2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21169-B51B-413C-AD8F-7149C3202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E543D-1E09-487F-A05C-5080B24C2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3BF21-2DCF-45C1-82ED-CB0863364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5D995-B884-4EA9-958D-4DFE315F1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06706-2A11-4AC0-83C9-101E6CDD6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52E2E-E227-4741-A5B9-4DB0595C0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C9B85-69AA-4C5D-BB37-8A57CEF8D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5FFB3-2973-4745-AD93-75831BB2B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C77C4-7AC9-468B-9499-345B4038C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354FB-90E7-46B4-87F3-414136D9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E74FE-44E7-49BC-84A2-31A205EDA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A6058-9BA9-44A1-B26C-22C3ED2A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ACCFD-18F0-4B62-8BEE-4F90DE95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DC064-49B8-4598-A822-85F513FF7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43D2F-DCA3-45EE-AE5B-A52A9D8F0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714BE-F183-4408-B348-65B1F0D0F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84573-EB80-4513-9F17-E3B0E911C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8523C-7200-42AA-8AB8-89838959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63DFA-CFE1-46ED-8AC3-C275BA9E7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2AAEB-928F-4394-9F64-777DDC983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F3599-1340-4944-8D97-42FCD7F8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0F0F2-479D-428C-800F-B3EB9F22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AC9DB-7239-46CC-86B2-00BCD6AF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3994-11F3-4A7A-9543-DE5A6500274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18E8B-1228-482B-A798-FF9C4E01C2B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00"/>
                </a:solidFill>
                <a:latin typeface="Garamond"/>
              </a:rPr>
              <a:t>Активные формы работы на уроках русского языка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411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Garamond"/>
              </a:rPr>
              <a:t>Учитель русского языка и литературы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Garamond"/>
              </a:rPr>
              <a:t>Шитикова Лилия Геннадьев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Garamond"/>
              </a:rPr>
              <a:t>г.Димитровград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Garamond"/>
              </a:rPr>
              <a:t>МБОУ СШ №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Garamond"/>
              </a:rPr>
              <a:t>Игра «Корректор»</a:t>
            </a:r>
            <a:r>
              <a:rPr b="1" lang="ru-RU" sz="4400" spc="-1" strike="noStrike">
                <a:solidFill>
                  <a:srgbClr val="ffcc00"/>
                </a:solidFill>
                <a:latin typeface="Garamond"/>
              </a:rPr>
              <a:t> </a:t>
            </a:r>
            <a:br>
              <a:rPr sz="4400"/>
            </a:b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(Подготовка к ЕГЭ)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Garamond"/>
              </a:rPr>
              <a:t>Исправить ошибки, связанные с неумелым употреблением сложных конструкци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есмотря на небольшие трудности, которые встретились нам в туристском походе, который состоялся во второй половине июня, когда закончились все экзамены, мы провели его с успехом, так как все участники были хорошо подготовлены к тому, чтобы не смущаться лишениями, которые неизбежны в каждом поход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Garamond"/>
              </a:rPr>
              <a:t>Игра «Я работаю волшебником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тица орёл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цветок роза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оздушный шари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лодородная земл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ша школ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город Орё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евочка Роз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обака Шари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ланета Земл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весть «Школа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Garamond"/>
              </a:rPr>
              <a:t>Групповая работ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«Орфографическое лото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«Лишнее слово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«Подбери пару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«Вырасти дерево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«Кто больше?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«Орфографическая эстафета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1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528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Garamond"/>
              </a:rPr>
              <a:t>«Словообразование»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Garamond"/>
              </a:rPr>
              <a:t>   </a:t>
            </a:r>
            <a:r>
              <a:rPr b="0" lang="ru-RU" sz="3600" spc="-1" strike="noStrike">
                <a:solidFill>
                  <a:srgbClr val="ffcc00"/>
                </a:solidFill>
                <a:latin typeface="Garamond"/>
              </a:rPr>
              <a:t>Пол, боб, яр, уста, марка, оса, ива, карп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Garamond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Сгруппировав слова попарно и переставляя буквы, образуйте новые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600" spc="-1" strike="noStrike">
                <a:solidFill>
                  <a:srgbClr val="ffcc00"/>
                </a:solidFill>
                <a:latin typeface="Garamond"/>
              </a:rPr>
              <a:t>«пол» «оса»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ru-RU" sz="3600" spc="-1" strike="noStrike">
                <a:solidFill>
                  <a:srgbClr val="ffcc00"/>
                </a:solidFill>
                <a:latin typeface="Garamond"/>
              </a:rPr>
              <a:t>«яр» «марка»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ru-RU" sz="3600" spc="-1" strike="noStrike">
                <a:solidFill>
                  <a:srgbClr val="ffcc00"/>
                </a:solidFill>
                <a:latin typeface="Garamond"/>
              </a:rPr>
              <a:t>су</a:t>
            </a:r>
            <a:r>
              <a:rPr b="0" lang="ru-RU" sz="3600" spc="-1" strike="noStrike">
                <a:solidFill>
                  <a:srgbClr val="ff3300"/>
                </a:solidFill>
                <a:latin typeface="Garamond"/>
              </a:rPr>
              <a:t>ббо</a:t>
            </a:r>
            <a:r>
              <a:rPr b="0" lang="ru-RU" sz="3600" spc="-1" strike="noStrike">
                <a:solidFill>
                  <a:srgbClr val="ffcc00"/>
                </a:solidFill>
                <a:latin typeface="Garamond"/>
              </a:rPr>
              <a:t>та, </a:t>
            </a:r>
            <a:r>
              <a:rPr b="0" lang="ru-RU" sz="3600" spc="-1" strike="noStrike">
                <a:solidFill>
                  <a:srgbClr val="ff3300"/>
                </a:solidFill>
                <a:latin typeface="Garamond"/>
              </a:rPr>
              <a:t>крап</a:t>
            </a:r>
            <a:r>
              <a:rPr b="0" lang="ru-RU" sz="3600" spc="-1" strike="noStrike">
                <a:solidFill>
                  <a:srgbClr val="ffcc00"/>
                </a:solidFill>
                <a:latin typeface="Garamond"/>
              </a:rPr>
              <a:t>ив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2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2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2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Garamond"/>
              </a:rPr>
              <a:t>Юмористический рассказ с использованием словарных слов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Я услышал за окном </a:t>
            </a:r>
            <a:r>
              <a:rPr b="0" lang="ru-RU" sz="3200" spc="-1" strike="noStrike">
                <a:solidFill>
                  <a:srgbClr val="ff3300"/>
                </a:solidFill>
                <a:latin typeface="Garamond"/>
              </a:rPr>
              <a:t>шорох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. Это был мой друг Женя. Он шёл через </a:t>
            </a:r>
            <a:r>
              <a:rPr b="0" lang="ru-RU" sz="3200" spc="-1" strike="noStrike">
                <a:solidFill>
                  <a:srgbClr val="ff3300"/>
                </a:solidFill>
                <a:latin typeface="Garamond"/>
              </a:rPr>
              <a:t>трущобы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, потому что </a:t>
            </a:r>
            <a:r>
              <a:rPr b="0" lang="ru-RU" sz="3200" spc="-1" strike="noStrike">
                <a:solidFill>
                  <a:srgbClr val="ff3300"/>
                </a:solidFill>
                <a:latin typeface="Garamond"/>
              </a:rPr>
              <a:t>шов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на его белых </a:t>
            </a:r>
            <a:r>
              <a:rPr b="0" lang="ru-RU" sz="3200" spc="-1" strike="noStrike">
                <a:solidFill>
                  <a:srgbClr val="ff3300"/>
                </a:solidFill>
                <a:latin typeface="Garamond"/>
              </a:rPr>
              <a:t>шортах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лопнул. Он позвал в </a:t>
            </a:r>
            <a:r>
              <a:rPr b="0" lang="ru-RU" sz="3200" spc="-1" strike="noStrike">
                <a:solidFill>
                  <a:srgbClr val="ff3300"/>
                </a:solidFill>
                <a:latin typeface="Garamond"/>
              </a:rPr>
              <a:t>чащобу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за </a:t>
            </a:r>
            <a:r>
              <a:rPr b="0" lang="ru-RU" sz="3200" spc="-1" strike="noStrike">
                <a:solidFill>
                  <a:srgbClr val="ff3300"/>
                </a:solidFill>
                <a:latin typeface="Garamond"/>
              </a:rPr>
              <a:t>крыжовником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. Мы пошли по </a:t>
            </a:r>
            <a:r>
              <a:rPr b="0" lang="ru-RU" sz="3200" spc="-1" strike="noStrike">
                <a:solidFill>
                  <a:srgbClr val="ff3300"/>
                </a:solidFill>
                <a:latin typeface="Garamond"/>
              </a:rPr>
              <a:t>шоссе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, где повстречали </a:t>
            </a:r>
            <a:r>
              <a:rPr b="0" lang="ru-RU" sz="3200" spc="-1" strike="noStrike">
                <a:solidFill>
                  <a:srgbClr val="ff3300"/>
                </a:solidFill>
                <a:latin typeface="Garamond"/>
              </a:rPr>
              <a:t>чопорного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господина с </a:t>
            </a:r>
            <a:r>
              <a:rPr b="0" lang="ru-RU" sz="3200" spc="-1" strike="noStrike">
                <a:solidFill>
                  <a:srgbClr val="ff3300"/>
                </a:solidFill>
                <a:latin typeface="Garamond"/>
              </a:rPr>
              <a:t>шомполом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в руках. Вскоре Женя проголодался, достал </a:t>
            </a:r>
            <a:r>
              <a:rPr b="0" lang="ru-RU" sz="3200" spc="-1" strike="noStrike">
                <a:solidFill>
                  <a:srgbClr val="ff3300"/>
                </a:solidFill>
                <a:latin typeface="Garamond"/>
              </a:rPr>
              <a:t>шоколад «Шок»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и стал есть. А вечером мы страдали от </a:t>
            </a:r>
            <a:r>
              <a:rPr b="0" lang="ru-RU" sz="3200" spc="-1" strike="noStrike">
                <a:solidFill>
                  <a:srgbClr val="ff3300"/>
                </a:solidFill>
                <a:latin typeface="Garamond"/>
              </a:rPr>
              <a:t>изжоги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, за что нас прозвали </a:t>
            </a:r>
            <a:r>
              <a:rPr b="0" lang="ru-RU" sz="3200" spc="-1" strike="noStrike">
                <a:solidFill>
                  <a:srgbClr val="ff3300"/>
                </a:solidFill>
                <a:latin typeface="Garamond"/>
              </a:rPr>
              <a:t>обжорами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79280" y="1557360"/>
            <a:ext cx="91440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1. соб…рать хворост          зап…рать дверь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  раст…рать краск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2. заб…рать домой            пост…лить постель             забл…стеть на солнц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3. бл…стательная победа  зам…реть от восторга         расст…лить ковёр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4. расст…лается туман      бл…стящий туман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бл…стящий лёд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5. подб…рать цитату        прид…раться к мелочи       расст…лать листы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6. разд…рёт шкуру            бл…снул вдали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 Unicode MS"/>
              </a:rPr>
              <a:t>приж…гать рану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Unicode MS"/>
              </a:rPr>
              <a:t>7. уп…реться ногой     забл…стела река           заж…гал све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8. оп…реться на плечо      ст…реть написанное         бл…стал на балу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9. соб…раться в школу      зад…рать нос                      уп…раться в подставку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WordArt 3"/>
          <p:cNvSpPr txBox="1"/>
          <p:nvPr/>
        </p:nvSpPr>
        <p:spPr>
          <a:xfrm>
            <a:off x="108000" y="87480"/>
            <a:ext cx="89647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писать в 3 столбика пропущенные буквы: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5" dur="2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" dur="2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1" dur="20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4" dur="20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7" dur="20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0" dur="20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2"/>
          <p:cNvSpPr txBox="1"/>
          <p:nvPr/>
        </p:nvSpPr>
        <p:spPr>
          <a:xfrm>
            <a:off x="2700360" y="71280"/>
            <a:ext cx="3816360" cy="98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верь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0" name="WordArt 3"/>
          <p:cNvSpPr txBox="1"/>
          <p:nvPr/>
        </p:nvSpPr>
        <p:spPr>
          <a:xfrm>
            <a:off x="324000" y="1125360"/>
            <a:ext cx="380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.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1" name="WordArt 4"/>
          <p:cNvSpPr txBox="1"/>
          <p:nvPr/>
        </p:nvSpPr>
        <p:spPr>
          <a:xfrm>
            <a:off x="324000" y="1773360"/>
            <a:ext cx="380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.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2" name="WordArt 5"/>
          <p:cNvSpPr txBox="1"/>
          <p:nvPr/>
        </p:nvSpPr>
        <p:spPr>
          <a:xfrm>
            <a:off x="324000" y="2421000"/>
            <a:ext cx="380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.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3" name="WordArt 6"/>
          <p:cNvSpPr txBox="1"/>
          <p:nvPr/>
        </p:nvSpPr>
        <p:spPr>
          <a:xfrm>
            <a:off x="324000" y="3068640"/>
            <a:ext cx="380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.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4" name="WordArt 7"/>
          <p:cNvSpPr txBox="1"/>
          <p:nvPr/>
        </p:nvSpPr>
        <p:spPr>
          <a:xfrm>
            <a:off x="324000" y="3716280"/>
            <a:ext cx="380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.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5" name="WordArt 8"/>
          <p:cNvSpPr txBox="1"/>
          <p:nvPr/>
        </p:nvSpPr>
        <p:spPr>
          <a:xfrm>
            <a:off x="324000" y="4365720"/>
            <a:ext cx="380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.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6" name="WordArt 9"/>
          <p:cNvSpPr txBox="1"/>
          <p:nvPr/>
        </p:nvSpPr>
        <p:spPr>
          <a:xfrm>
            <a:off x="324000" y="5013360"/>
            <a:ext cx="380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7.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7" name="WordArt 10"/>
          <p:cNvSpPr txBox="1"/>
          <p:nvPr/>
        </p:nvSpPr>
        <p:spPr>
          <a:xfrm>
            <a:off x="324000" y="5589720"/>
            <a:ext cx="380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8.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8" name="WordArt 11"/>
          <p:cNvSpPr txBox="1"/>
          <p:nvPr/>
        </p:nvSpPr>
        <p:spPr>
          <a:xfrm>
            <a:off x="324000" y="6165720"/>
            <a:ext cx="380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9.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9" name="WordArt 12"/>
          <p:cNvSpPr txBox="1"/>
          <p:nvPr/>
        </p:nvSpPr>
        <p:spPr>
          <a:xfrm>
            <a:off x="1042920" y="1197000"/>
            <a:ext cx="504720" cy="4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50" name="WordArt 13"/>
          <p:cNvSpPr txBox="1"/>
          <p:nvPr/>
        </p:nvSpPr>
        <p:spPr>
          <a:xfrm>
            <a:off x="2340000" y="1197000"/>
            <a:ext cx="504720" cy="4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51" name="WordArt 14"/>
          <p:cNvSpPr txBox="1"/>
          <p:nvPr/>
        </p:nvSpPr>
        <p:spPr>
          <a:xfrm>
            <a:off x="3780000" y="1197000"/>
            <a:ext cx="504720" cy="4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52" name="WordArt 15"/>
          <p:cNvSpPr txBox="1"/>
          <p:nvPr/>
        </p:nvSpPr>
        <p:spPr>
          <a:xfrm>
            <a:off x="1042920" y="1844640"/>
            <a:ext cx="504720" cy="4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53" name="WordArt 16"/>
          <p:cNvSpPr txBox="1"/>
          <p:nvPr/>
        </p:nvSpPr>
        <p:spPr>
          <a:xfrm>
            <a:off x="1042920" y="2492280"/>
            <a:ext cx="504720" cy="4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54" name="WordArt 17"/>
          <p:cNvSpPr txBox="1"/>
          <p:nvPr/>
        </p:nvSpPr>
        <p:spPr>
          <a:xfrm>
            <a:off x="1042920" y="3068640"/>
            <a:ext cx="504720" cy="4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55" name="WordArt 18"/>
          <p:cNvSpPr txBox="1"/>
          <p:nvPr/>
        </p:nvSpPr>
        <p:spPr>
          <a:xfrm>
            <a:off x="1042920" y="3716280"/>
            <a:ext cx="504720" cy="4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56" name="WordArt 19"/>
          <p:cNvSpPr txBox="1"/>
          <p:nvPr/>
        </p:nvSpPr>
        <p:spPr>
          <a:xfrm>
            <a:off x="1042920" y="4437000"/>
            <a:ext cx="504720" cy="4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е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7" name="WordArt 20"/>
          <p:cNvSpPr txBox="1"/>
          <p:nvPr/>
        </p:nvSpPr>
        <p:spPr>
          <a:xfrm>
            <a:off x="1042920" y="5084640"/>
            <a:ext cx="504720" cy="4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е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8" name="WordArt 21"/>
          <p:cNvSpPr txBox="1"/>
          <p:nvPr/>
        </p:nvSpPr>
        <p:spPr>
          <a:xfrm>
            <a:off x="1042920" y="5661000"/>
            <a:ext cx="504720" cy="4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е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9" name="WordArt 22"/>
          <p:cNvSpPr txBox="1"/>
          <p:nvPr/>
        </p:nvSpPr>
        <p:spPr>
          <a:xfrm>
            <a:off x="1042920" y="6207120"/>
            <a:ext cx="504720" cy="4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60" name="WordArt 23"/>
          <p:cNvSpPr txBox="1"/>
          <p:nvPr/>
        </p:nvSpPr>
        <p:spPr>
          <a:xfrm>
            <a:off x="2340000" y="1844640"/>
            <a:ext cx="504720" cy="4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е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1" name="WordArt 24"/>
          <p:cNvSpPr txBox="1"/>
          <p:nvPr/>
        </p:nvSpPr>
        <p:spPr>
          <a:xfrm>
            <a:off x="2340000" y="2421000"/>
            <a:ext cx="504720" cy="4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е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2" name="WordArt 25"/>
          <p:cNvSpPr txBox="1"/>
          <p:nvPr/>
        </p:nvSpPr>
        <p:spPr>
          <a:xfrm>
            <a:off x="2340000" y="2997360"/>
            <a:ext cx="504720" cy="4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е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3" name="WordArt 26"/>
          <p:cNvSpPr txBox="1"/>
          <p:nvPr/>
        </p:nvSpPr>
        <p:spPr>
          <a:xfrm>
            <a:off x="2340000" y="3716280"/>
            <a:ext cx="504720" cy="4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64" name="WordArt 27"/>
          <p:cNvSpPr txBox="1"/>
          <p:nvPr/>
        </p:nvSpPr>
        <p:spPr>
          <a:xfrm>
            <a:off x="2340000" y="4437000"/>
            <a:ext cx="504720" cy="4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е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5" name="WordArt 28"/>
          <p:cNvSpPr txBox="1"/>
          <p:nvPr/>
        </p:nvSpPr>
        <p:spPr>
          <a:xfrm>
            <a:off x="2340000" y="5084640"/>
            <a:ext cx="504720" cy="4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е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6" name="WordArt 29"/>
          <p:cNvSpPr txBox="1"/>
          <p:nvPr/>
        </p:nvSpPr>
        <p:spPr>
          <a:xfrm>
            <a:off x="2340000" y="5661000"/>
            <a:ext cx="504720" cy="4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е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7" name="WordArt 30"/>
          <p:cNvSpPr txBox="1"/>
          <p:nvPr/>
        </p:nvSpPr>
        <p:spPr>
          <a:xfrm>
            <a:off x="2340000" y="6237360"/>
            <a:ext cx="504720" cy="4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68" name="WordArt 31"/>
          <p:cNvSpPr txBox="1"/>
          <p:nvPr/>
        </p:nvSpPr>
        <p:spPr>
          <a:xfrm>
            <a:off x="3780000" y="1844640"/>
            <a:ext cx="504720" cy="4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е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9" name="WordArt 32"/>
          <p:cNvSpPr txBox="1"/>
          <p:nvPr/>
        </p:nvSpPr>
        <p:spPr>
          <a:xfrm>
            <a:off x="3780000" y="2421000"/>
            <a:ext cx="504720" cy="4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е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0" name="WordArt 33"/>
          <p:cNvSpPr txBox="1"/>
          <p:nvPr/>
        </p:nvSpPr>
        <p:spPr>
          <a:xfrm>
            <a:off x="3780000" y="2997360"/>
            <a:ext cx="504720" cy="4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е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1" name="WordArt 34"/>
          <p:cNvSpPr txBox="1"/>
          <p:nvPr/>
        </p:nvSpPr>
        <p:spPr>
          <a:xfrm>
            <a:off x="3780000" y="3645000"/>
            <a:ext cx="504720" cy="4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72" name="WordArt 35"/>
          <p:cNvSpPr txBox="1"/>
          <p:nvPr/>
        </p:nvSpPr>
        <p:spPr>
          <a:xfrm>
            <a:off x="3780000" y="4365720"/>
            <a:ext cx="504720" cy="4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73" name="WordArt 36"/>
          <p:cNvSpPr txBox="1"/>
          <p:nvPr/>
        </p:nvSpPr>
        <p:spPr>
          <a:xfrm>
            <a:off x="3780000" y="5054760"/>
            <a:ext cx="504720" cy="4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74" name="WordArt 37"/>
          <p:cNvSpPr txBox="1"/>
          <p:nvPr/>
        </p:nvSpPr>
        <p:spPr>
          <a:xfrm>
            <a:off x="3780000" y="5703840"/>
            <a:ext cx="504720" cy="4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75" name="WordArt 38"/>
          <p:cNvSpPr txBox="1"/>
          <p:nvPr/>
        </p:nvSpPr>
        <p:spPr>
          <a:xfrm>
            <a:off x="3780000" y="6280200"/>
            <a:ext cx="504720" cy="4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Garamond"/>
              </a:rPr>
              <a:t>Цель уроков русского языка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Увидеть и почувствовать красоту и величие русского языка, освоить его огромные богатства и пользоваться этими возможностями в своей речи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Garamond"/>
              </a:rPr>
              <a:t>   </a:t>
            </a:r>
            <a:r>
              <a:rPr b="0" lang="ru-RU" sz="4400" spc="-1" strike="noStrike">
                <a:solidFill>
                  <a:srgbClr val="ffcc00"/>
                </a:solidFill>
                <a:latin typeface="Garamond"/>
              </a:rPr>
              <a:t>«Хочешь наукой воспитывать ученика – люби свою науку и знай её, и ученики полюбят науку, и ты воспитаешь их»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Garamond"/>
              </a:rPr>
              <a:t>Л.Н.Толстой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СПАСИБО ЗА ВНИМАН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Picture 2" descr="uchenik"/>
          <p:cNvPicPr/>
          <p:nvPr/>
        </p:nvPicPr>
        <p:blipFill>
          <a:blip r:embed="rId1"/>
          <a:stretch/>
        </p:blipFill>
        <p:spPr>
          <a:xfrm>
            <a:off x="4830840" y="1700280"/>
            <a:ext cx="3665520" cy="43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Garamond"/>
              </a:rPr>
              <a:t>             </a:t>
            </a:r>
            <a:r>
              <a:rPr b="0" lang="ru-RU" sz="4000" spc="-1" strike="noStrike">
                <a:solidFill>
                  <a:srgbClr val="ffcc00"/>
                </a:solidFill>
                <a:latin typeface="Garamond"/>
              </a:rPr>
              <a:t>Урок подобен огородной грядке: стоит  прекратить за ней ухаживать, как она очень быстро зарастает сорняком, и хорошего урожая мы не получим.</a:t>
            </a:r>
            <a:br>
              <a:rPr sz="4000"/>
            </a:br>
            <a:r>
              <a:rPr b="0" lang="ru-RU" sz="4000" spc="-1" strike="noStrike">
                <a:solidFill>
                  <a:srgbClr val="ffcc00"/>
                </a:solidFill>
                <a:latin typeface="Garamond"/>
              </a:rPr>
              <a:t>                               В.Я Синенко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Garamond"/>
              </a:rPr>
              <a:t>Современный урок – это взаимодействие учителей и учащихся с комплексом учебного оборудования, наглядных пособий, ТСО, методических материалов, составляющих единую дидактическую задачу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Garamond"/>
              </a:rPr>
              <a:t>Современный урок – это ограниченный во времени период каждодневной жизни учителя и ученика</a:t>
            </a:r>
            <a:r>
              <a:rPr b="0" lang="ru-RU" sz="4400" spc="-1" strike="noStrike">
                <a:solidFill>
                  <a:srgbClr val="ffcc00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Garamond"/>
              </a:rPr>
              <a:t>Для чего нужны необычные формы уроков?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Ученик учится аргументировать, спорить, демонстрирует самостоятельность мышления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Чаще и смелее будет звучать собственное «я»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Учимся жизни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Garamond"/>
              </a:rPr>
              <a:t>Урок-лекция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Задай вопросы к лекции учителя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Исправь ошибки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Экспресс задания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Дай определения основных понятий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Составь тезисы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Garamond"/>
              </a:rPr>
              <a:t>Урок самостоятельного поиска знаний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Найти ответ,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решение,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рассуждение,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доказательство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8" descr="1inaclassroom-med"/>
          <p:cNvPicPr/>
          <p:nvPr/>
        </p:nvPicPr>
        <p:blipFill>
          <a:blip r:embed="rId1"/>
          <a:stretch/>
        </p:blipFill>
        <p:spPr>
          <a:xfrm>
            <a:off x="4648320" y="1717560"/>
            <a:ext cx="4038480" cy="42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Garamond"/>
              </a:rPr>
              <a:t>Урок-поиск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. Сообщение важных и интересных сведений по тем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. Проблематизация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3. Микрогрупповой, индивидуальный или фронтальный поиск новых идей, решений, подходов, моделе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4. Анализ и обсуждени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Garamond"/>
              </a:rPr>
              <a:t>Урок-викторина (кроссворд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-51192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сле слов автора перед прямой речью ставится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ямая речь с двух сторон заключается в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 какой буквы пишется первое слово прямой речи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лова, поясняющие прямую речь, называются словами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казал, говорил, пояснил, воскликнул, ответил, произнёс – глаголы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6T21:02:36Z</dcterms:created>
  <dc:creator>Admin</dc:creator>
  <dc:description/>
  <dc:language>en-US</dc:language>
  <cp:lastModifiedBy>WinXPProSP3</cp:lastModifiedBy>
  <dcterms:modified xsi:type="dcterms:W3CDTF">2015-12-09T13:25:11Z</dcterms:modified>
  <cp:revision>6</cp:revision>
  <dc:subject/>
  <dc:title>Активные формы работы на уроках русского языка</dc:title>
</cp:coreProperties>
</file>