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04F-2034-4132-B9D2-5E04BD14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C38-FF16-4797-8110-87EAFAB8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43A-6625-43F3-BEA7-951E78AE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53C-37B7-4558-B2FE-603D8724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0EC7-021F-4D9E-BFAE-AAA81836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062B-5F77-4D74-A49D-540F65D5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0912-E61B-49F0-9710-654194F3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8209-ED88-414A-B786-9F869EE2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58AC-E745-43FC-B3C9-B7098EC2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6CC6-3733-4C5E-A6F5-4AFDEADF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07BE-6BC8-4BE9-A01D-209A1E63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603-74BF-40C7-A76A-FE903D35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6EC1-1B05-4B4C-875A-CD89B7AE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6AAC-F381-43F3-99E0-409C75D5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C23F-6FBB-496D-A891-0E929898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FE1B-4AB1-4C20-A16C-09DD4DDD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EE9E-484E-42C0-AF34-D1002017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5D6E6-CDC0-463F-B03A-45A7898C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70B8C-9F45-4C1F-AA21-1C1E4F7A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F6529-2FF6-4A71-9242-3665DDA1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35B2C-4A92-4E8F-9930-96681CE3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3D5AC-59E5-4603-B52D-DB2CB220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683-2BD3-4110-9394-C20D4FA7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363B5-32CB-476E-AAC8-A16084E5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688E4-A06E-41FC-8B14-DB1A6E24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7988-85AB-428B-971B-C1F566E9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C533E-9446-4E93-9A0B-F2A8BBB7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9F5B8-9C48-4891-8161-FB16448D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FC9FA-CF3D-49C3-85FE-308FA2B7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CC0C0-C913-4FEF-B946-7AE1C166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3B3C6-9570-407A-AB0D-1A31C5BD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38444-22FC-4606-BDC5-4667D183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971FC-CE36-44F8-91EA-75774417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3F01-3DAC-493E-95EE-7903BC52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02E3F-D61A-4D50-85EB-C47C6323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EADF6-6461-4568-B85D-371FB0DF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25AD9-E84F-4447-A7BD-DFB02B6E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D892F-694C-483C-A223-3B573F59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9E05D-6F21-4C4C-85B8-8FFE9988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1A73C-B3C7-415F-8C70-9AEB51A6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58436-239A-4F2B-A4C9-F3149D93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72798-A2E6-4666-8C84-CF5676E1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17D59-626B-4FDD-8E4D-F58D3A3B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B2695-2C31-4C5E-82E8-A6838732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4472-5B2E-49BC-BB79-1F159BFA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2ACAF-57D5-4FDA-9E97-835DFF62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44EA3-A6AA-4A21-A908-0C0FAE79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821AA-3E8C-4379-9787-604AFF9D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4E6E6-0F5E-49F8-9079-315B5B93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14D62-9436-4F0D-BDC1-61051AC6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55CC0-619B-4DE8-A65D-2DF0FC1B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1DBF6-9013-4BD3-A48A-757AB7CA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B2D40-9095-4D69-B7ED-8AB85AAA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AD857-A796-4739-ACF4-D24E4467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49BB5-E439-494D-BCA6-3086849C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83E-66F0-49E0-A85B-6E3B43CE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5D30C-ABCC-4F74-8851-067582B8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94D9-4737-4F73-B0A4-A2386A84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940-7CC2-47D3-84FE-1F12DE73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FE5B-1297-48B3-866F-E15F5ED2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5B57-9766-438D-9C76-F08E429C5933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6929-4103-4FBD-92B9-508C785B51C4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5AF6-95D6-42FB-8D2D-23615D0926D8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674F-B4F5-4D97-9932-43E164D18C3D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E794-B0B3-4B1D-84D8-8C5E47177714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4b73"/>
            </a:gs>
            <a:gs pos="100000">
              <a:srgbClr val="f5e0e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85480" y="785520"/>
            <a:ext cx="7643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72754"/>
                </a:solidFill>
                <a:latin typeface="Trebuchet MS"/>
              </a:rPr>
              <a:t>Образ главной героини в повести И.С.Тургенева «Ася»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Picture 2" descr="C:\Users\Екатерина\Pictures\39let.jpg"/>
          <p:cNvPicPr/>
          <p:nvPr/>
        </p:nvPicPr>
        <p:blipFill>
          <a:blip r:embed="rId1"/>
          <a:stretch/>
        </p:blipFill>
        <p:spPr>
          <a:xfrm>
            <a:off x="6162840" y="2951280"/>
            <a:ext cx="279216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1598760"/>
            <a:ext cx="58579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72754"/>
                </a:solidFill>
                <a:latin typeface="Trebuchet MS"/>
              </a:rPr>
              <a:t>грациозна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72754"/>
                </a:solidFill>
                <a:latin typeface="Trebuchet MS"/>
              </a:rPr>
              <a:t>миловидна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72754"/>
                </a:solidFill>
                <a:latin typeface="Trebuchet MS"/>
              </a:rPr>
              <a:t>ранима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72754"/>
                </a:solidFill>
                <a:latin typeface="Trebuchet MS"/>
              </a:rPr>
              <a:t>бесстрашна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72754"/>
                </a:solidFill>
                <a:latin typeface="Trebuchet MS"/>
              </a:rPr>
              <a:t>непосредственна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72754"/>
                </a:solidFill>
                <a:latin typeface="Trebuchet MS"/>
              </a:rPr>
              <a:t>решительна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72754"/>
                </a:solidFill>
                <a:latin typeface="Trebuchet MS"/>
              </a:rPr>
              <a:t>непредсказуема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72754"/>
                </a:solidFill>
                <a:latin typeface="Trebuchet MS"/>
              </a:rPr>
              <a:t>загадочна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WordArt 4" descr=""/>
          <p:cNvPicPr/>
          <p:nvPr/>
        </p:nvPicPr>
        <p:blipFill>
          <a:blip r:embed="rId1"/>
          <a:stretch/>
        </p:blipFill>
        <p:spPr>
          <a:xfrm>
            <a:off x="755640" y="396720"/>
            <a:ext cx="6997680" cy="987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1"/>
          <p:cNvPicPr/>
          <p:nvPr/>
        </p:nvPicPr>
        <p:blipFill>
          <a:blip r:embed="rId2"/>
          <a:stretch/>
        </p:blipFill>
        <p:spPr>
          <a:xfrm>
            <a:off x="5000760" y="2000160"/>
            <a:ext cx="2857320" cy="4137120"/>
          </a:xfrm>
          <a:prstGeom prst="rect">
            <a:avLst/>
          </a:prstGeom>
          <a:ln cap="rnd" w="190440">
            <a:solidFill>
              <a:srgbClr val="b83d68"/>
            </a:solidFill>
            <a:miter/>
          </a:ln>
        </p:spPr>
      </p:pic>
      <p:pic>
        <p:nvPicPr>
          <p:cNvPr id="225" name="Rectangle 2" descr=""/>
          <p:cNvPicPr/>
          <p:nvPr/>
        </p:nvPicPr>
        <p:blipFill>
          <a:blip r:embed="rId3"/>
          <a:stretch/>
        </p:blipFill>
        <p:spPr>
          <a:xfrm>
            <a:off x="-6480" y="4919760"/>
            <a:ext cx="4370400" cy="6397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214200" y="554508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591f4d"/>
                </a:solidFill>
                <a:latin typeface="Trebuchet MS"/>
              </a:rPr>
              <a:t>Анна-грация, миловид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591f4d"/>
                </a:solidFill>
                <a:latin typeface="Trebuchet MS"/>
              </a:rPr>
              <a:t>Анастасия- рожденная зано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Oval 2" descr=""/>
          <p:cNvPicPr/>
          <p:nvPr/>
        </p:nvPicPr>
        <p:blipFill>
          <a:blip r:embed="rId1"/>
          <a:stretch/>
        </p:blipFill>
        <p:spPr>
          <a:xfrm>
            <a:off x="3438360" y="231840"/>
            <a:ext cx="2408400" cy="950760"/>
          </a:xfrm>
          <a:prstGeom prst="rect">
            <a:avLst/>
          </a:prstGeom>
          <a:ln w="0">
            <a:noFill/>
          </a:ln>
        </p:spPr>
      </p:pic>
      <p:grpSp>
        <p:nvGrpSpPr>
          <p:cNvPr id="228" name="Rectangle 3"/>
          <p:cNvGrpSpPr/>
          <p:nvPr/>
        </p:nvGrpSpPr>
        <p:grpSpPr>
          <a:xfrm>
            <a:off x="49320" y="1146240"/>
            <a:ext cx="3681360" cy="1620720"/>
            <a:chOff x="49320" y="1146240"/>
            <a:chExt cx="3681360" cy="1620720"/>
          </a:xfrm>
        </p:grpSpPr>
        <p:pic>
          <p:nvPicPr>
            <p:cNvPr id="229" name="Rectangle 3" descr=""/>
            <p:cNvPicPr/>
            <p:nvPr/>
          </p:nvPicPr>
          <p:blipFill>
            <a:blip r:embed="rId2"/>
            <a:stretch/>
          </p:blipFill>
          <p:spPr>
            <a:xfrm>
              <a:off x="49320" y="1146240"/>
              <a:ext cx="368136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165240" y="1179360"/>
              <a:ext cx="33843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10f17"/>
                  </a:solidFill>
                  <a:latin typeface="Century"/>
                </a:rPr>
                <a:t>II</a:t>
              </a:r>
              <a:r>
                <a:rPr b="1" lang="ru-RU" sz="1600" spc="-1" strike="noStrike">
                  <a:solidFill>
                    <a:srgbClr val="210f17"/>
                  </a:solidFill>
                  <a:latin typeface="Century"/>
                </a:rPr>
                <a:t> гла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10f17"/>
                  </a:solidFill>
                  <a:latin typeface="Trebuchet MS"/>
                </a:rPr>
                <a:t> </a:t>
              </a:r>
              <a:r>
                <a:rPr b="1" i="1" lang="ru-RU" sz="1800" spc="-1" strike="noStrike">
                  <a:solidFill>
                    <a:srgbClr val="210f17"/>
                  </a:solidFill>
                  <a:latin typeface="Georgia"/>
                </a:rPr>
                <a:t>Было что-свое, особен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210f17"/>
                  </a:solidFill>
                  <a:latin typeface="Georgia"/>
                </a:rPr>
                <a:t>Дичилас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210f17"/>
                  </a:solidFill>
                  <a:latin typeface="Georgia"/>
                </a:rPr>
                <a:t>Ни одно мгнове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210f17"/>
                  </a:solidFill>
                  <a:latin typeface="Georgia"/>
                </a:rPr>
                <a:t>не сидела сми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Line 4"/>
          <p:cNvSpPr/>
          <p:nvPr/>
        </p:nvSpPr>
        <p:spPr>
          <a:xfrm flipH="1">
            <a:off x="2484360" y="765000"/>
            <a:ext cx="935280" cy="360360"/>
          </a:xfrm>
          <a:prstGeom prst="line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Rectangle 5"/>
          <p:cNvGrpSpPr/>
          <p:nvPr/>
        </p:nvGrpSpPr>
        <p:grpSpPr>
          <a:xfrm>
            <a:off x="23760" y="3067200"/>
            <a:ext cx="4425840" cy="1906560"/>
            <a:chOff x="23760" y="3067200"/>
            <a:chExt cx="4425840" cy="1906560"/>
          </a:xfrm>
        </p:grpSpPr>
        <p:pic>
          <p:nvPicPr>
            <p:cNvPr id="233" name="Rectangle 5" descr=""/>
            <p:cNvPicPr/>
            <p:nvPr/>
          </p:nvPicPr>
          <p:blipFill>
            <a:blip r:embed="rId3"/>
            <a:stretch/>
          </p:blipFill>
          <p:spPr>
            <a:xfrm>
              <a:off x="23760" y="3067200"/>
              <a:ext cx="4425840" cy="19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20680" y="3095640"/>
              <a:ext cx="40323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030a0"/>
                  </a:solidFill>
                  <a:latin typeface="Garamond"/>
                </a:rPr>
                <a:t>IV</a:t>
              </a:r>
              <a:r>
                <a:rPr b="1" lang="ru-RU" sz="1600" spc="-1" strike="noStrike">
                  <a:solidFill>
                    <a:srgbClr val="7030a0"/>
                  </a:solidFill>
                  <a:latin typeface="Garamond"/>
                </a:rPr>
                <a:t> гла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7030a0"/>
                  </a:solidFill>
                  <a:latin typeface="Georgia"/>
                </a:rPr>
                <a:t>Поливает цветы на развалин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7030a0"/>
                  </a:solidFill>
                  <a:latin typeface="Georgia"/>
                </a:rPr>
                <a:t>Как коза лазит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7030a0"/>
                  </a:solidFill>
                  <a:latin typeface="Georgia"/>
                </a:rPr>
                <a:t>Самое изменчивое лицо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7030a0"/>
                  </a:solidFill>
                  <a:latin typeface="Georgia"/>
                </a:rPr>
                <a:t>Страсть знакомитьс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7030a0"/>
                  </a:solidFill>
                  <a:latin typeface="Georgia"/>
                </a:rPr>
                <a:t>с людьми круга «низшего».</a:t>
              </a:r>
              <a:r>
                <a:rPr b="0" lang="ru-RU" sz="1800" spc="-1" strike="noStrike">
                  <a:solidFill>
                    <a:srgbClr val="7030a0"/>
                  </a:solidFill>
                  <a:latin typeface="Trebuchet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Line 6"/>
          <p:cNvSpPr/>
          <p:nvPr/>
        </p:nvSpPr>
        <p:spPr>
          <a:xfrm flipH="1">
            <a:off x="3564000" y="1125360"/>
            <a:ext cx="792000" cy="1943280"/>
          </a:xfrm>
          <a:prstGeom prst="line">
            <a:avLst/>
          </a:prstGeom>
          <a:ln w="57240">
            <a:solidFill>
              <a:srgbClr val="ac66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Rectangle 7"/>
          <p:cNvGrpSpPr/>
          <p:nvPr/>
        </p:nvGrpSpPr>
        <p:grpSpPr>
          <a:xfrm>
            <a:off x="5321160" y="1189080"/>
            <a:ext cx="3560760" cy="1603440"/>
            <a:chOff x="5321160" y="1189080"/>
            <a:chExt cx="3560760" cy="1603440"/>
          </a:xfrm>
        </p:grpSpPr>
        <p:pic>
          <p:nvPicPr>
            <p:cNvPr id="237" name="Rectangle 7" descr=""/>
            <p:cNvPicPr/>
            <p:nvPr/>
          </p:nvPicPr>
          <p:blipFill>
            <a:blip r:embed="rId4"/>
            <a:stretch/>
          </p:blipFill>
          <p:spPr>
            <a:xfrm>
              <a:off x="5321160" y="1189080"/>
              <a:ext cx="35607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378400" y="1220760"/>
              <a:ext cx="3456000" cy="14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10f17"/>
                  </a:solidFill>
                  <a:latin typeface="Georgia"/>
                </a:rPr>
                <a:t>V</a:t>
              </a:r>
              <a:r>
                <a:rPr b="1" lang="ru-RU" sz="1600" spc="-1" strike="noStrike">
                  <a:solidFill>
                    <a:srgbClr val="210f17"/>
                  </a:solidFill>
                  <a:latin typeface="Georgia"/>
                </a:rPr>
                <a:t> гла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210f17"/>
                  </a:solidFill>
                  <a:latin typeface="Georgia"/>
                </a:rPr>
                <a:t>Показалась совершенн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210f17"/>
                  </a:solidFill>
                  <a:latin typeface="Georgia"/>
                </a:rPr>
                <a:t>русской девушкой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210f17"/>
                  </a:solidFill>
                  <a:latin typeface="Georgia"/>
                </a:rPr>
                <a:t>Что за хамелео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210f17"/>
                  </a:solidFill>
                  <a:latin typeface="Georgia"/>
                </a:rPr>
                <a:t>эта девушка!</a:t>
              </a:r>
              <a:r>
                <a:rPr b="0" lang="ru-RU" sz="1800" spc="-1" strike="noStrike">
                  <a:solidFill>
                    <a:srgbClr val="210f17"/>
                  </a:solidFill>
                  <a:latin typeface="Trebuchet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8"/>
          <p:cNvSpPr/>
          <p:nvPr/>
        </p:nvSpPr>
        <p:spPr>
          <a:xfrm>
            <a:off x="5796000" y="836640"/>
            <a:ext cx="1081080" cy="360360"/>
          </a:xfrm>
          <a:prstGeom prst="line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Rectangle 9"/>
          <p:cNvGrpSpPr/>
          <p:nvPr/>
        </p:nvGrpSpPr>
        <p:grpSpPr>
          <a:xfrm>
            <a:off x="4632480" y="3041640"/>
            <a:ext cx="3852720" cy="1262160"/>
            <a:chOff x="4632480" y="3041640"/>
            <a:chExt cx="3852720" cy="1262160"/>
          </a:xfrm>
        </p:grpSpPr>
        <p:pic>
          <p:nvPicPr>
            <p:cNvPr id="241" name="Rectangle 9" descr=""/>
            <p:cNvPicPr/>
            <p:nvPr/>
          </p:nvPicPr>
          <p:blipFill>
            <a:blip r:embed="rId5"/>
            <a:stretch/>
          </p:blipFill>
          <p:spPr>
            <a:xfrm>
              <a:off x="4632480" y="3041640"/>
              <a:ext cx="38527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4786200" y="3075120"/>
              <a:ext cx="360072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dd1b1"/>
                  </a:solidFill>
                  <a:latin typeface="Georgia"/>
                </a:rPr>
                <a:t>VI</a:t>
              </a:r>
              <a:r>
                <a:rPr b="1" lang="ru-RU" sz="1600" spc="-1" strike="noStrike">
                  <a:solidFill>
                    <a:srgbClr val="fdd1b1"/>
                  </a:solidFill>
                  <a:latin typeface="Georgia"/>
                </a:rPr>
                <a:t> гла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dd1b1"/>
                  </a:solidFill>
                  <a:latin typeface="Georgia"/>
                </a:rPr>
                <a:t>Полузагадочное существо.</a:t>
              </a:r>
              <a:r>
                <a:rPr b="0" lang="ru-RU" sz="1800" spc="-1" strike="noStrike">
                  <a:solidFill>
                    <a:srgbClr val="fdd1b1"/>
                  </a:solidFill>
                  <a:latin typeface="Trebuchet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Line 10"/>
          <p:cNvSpPr/>
          <p:nvPr/>
        </p:nvSpPr>
        <p:spPr>
          <a:xfrm>
            <a:off x="4859280" y="1125360"/>
            <a:ext cx="426960" cy="1946520"/>
          </a:xfrm>
          <a:prstGeom prst="line">
            <a:avLst/>
          </a:prstGeom>
          <a:ln w="57240">
            <a:solidFill>
              <a:srgbClr val="ac66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Rectangle 11"/>
          <p:cNvGrpSpPr/>
          <p:nvPr/>
        </p:nvGrpSpPr>
        <p:grpSpPr>
          <a:xfrm>
            <a:off x="798480" y="5151600"/>
            <a:ext cx="7748640" cy="1614240"/>
            <a:chOff x="798480" y="5151600"/>
            <a:chExt cx="7748640" cy="1614240"/>
          </a:xfrm>
        </p:grpSpPr>
        <p:pic>
          <p:nvPicPr>
            <p:cNvPr id="245" name="Rectangle 11" descr=""/>
            <p:cNvPicPr/>
            <p:nvPr/>
          </p:nvPicPr>
          <p:blipFill>
            <a:blip r:embed="rId6"/>
            <a:stretch/>
          </p:blipFill>
          <p:spPr>
            <a:xfrm>
              <a:off x="798480" y="5151600"/>
              <a:ext cx="7748640" cy="16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857160" y="5214960"/>
              <a:ext cx="7632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87480" indent="-3636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591f4d"/>
                  </a:solidFill>
                  <a:uFillTx/>
                  <a:latin typeface="Georgia"/>
                </a:rPr>
                <a:t>Причины</a:t>
              </a:r>
              <a:r>
                <a:rPr b="1" lang="ru-RU" sz="1800" spc="-1" strike="noStrike">
                  <a:solidFill>
                    <a:srgbClr val="591f4d"/>
                  </a:solidFill>
                  <a:latin typeface="Georgia"/>
                </a:rPr>
                <a:t>.   </a:t>
              </a:r>
              <a:r>
                <a:rPr b="1" lang="en-US" sz="1800" spc="-1" strike="noStrike">
                  <a:solidFill>
                    <a:srgbClr val="591f4d"/>
                  </a:solidFill>
                  <a:latin typeface="Georgia"/>
                </a:rPr>
                <a:t>Гл. VIII. История семьи Гагиных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87480" indent="-363600" algn="just">
                <a:lnSpc>
                  <a:spcPct val="100000"/>
                </a:lnSpc>
                <a:buClr>
                  <a:srgbClr val="591f4d"/>
                </a:buClr>
                <a:buFont typeface="Georgia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91f4d"/>
                  </a:solidFill>
                  <a:latin typeface="Georgia"/>
                </a:rPr>
                <a:t>Осознает двойственность своего положени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87480" indent="-363600" algn="just">
                <a:lnSpc>
                  <a:spcPct val="100000"/>
                </a:lnSpc>
                <a:buClr>
                  <a:srgbClr val="591f4d"/>
                </a:buClr>
                <a:buFont typeface="Georgia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91f4d"/>
                  </a:solidFill>
                  <a:latin typeface="Georgia"/>
                </a:rPr>
                <a:t>Искренна, не умеет лукавить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87480" indent="-363600" algn="just">
                <a:lnSpc>
                  <a:spcPct val="100000"/>
                </a:lnSpc>
                <a:buClr>
                  <a:srgbClr val="591f4d"/>
                </a:buClr>
                <a:buFont typeface="Georgia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91f4d"/>
                  </a:solidFill>
                  <a:latin typeface="Georgia"/>
                </a:rPr>
                <a:t>Естественн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87480" indent="-363600" algn="just">
                <a:lnSpc>
                  <a:spcPct val="100000"/>
                </a:lnSpc>
                <a:buClr>
                  <a:srgbClr val="591f4d"/>
                </a:buClr>
                <a:buFont typeface="Georgia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91f4d"/>
                  </a:solidFill>
                  <a:latin typeface="Georgia"/>
                </a:rPr>
                <a:t>Она вся – чувства и эмоции.</a:t>
              </a:r>
              <a:r>
                <a:rPr b="1" lang="en-US" sz="1800" spc="-1" strike="noStrike">
                  <a:solidFill>
                    <a:srgbClr val="591f4d"/>
                  </a:solidFill>
                  <a:latin typeface="Georg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Левая фигурная скобка 13"/>
          <p:cNvSpPr/>
          <p:nvPr/>
        </p:nvSpPr>
        <p:spPr>
          <a:xfrm rot="16200000">
            <a:off x="4958640" y="2756880"/>
            <a:ext cx="441360" cy="4643280"/>
          </a:xfrm>
          <a:custGeom>
            <a:avLst/>
            <a:gdLst>
              <a:gd name="textAreaLeft" fmla="*/ 281880 w 441360"/>
              <a:gd name="textAreaRight" fmla="*/ 441720 w 441360"/>
              <a:gd name="textAreaTop" fmla="*/ 50760 h 4643280"/>
              <a:gd name="textAreaBottom" fmla="*/ 4592520 h 46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8"/>
                  <a:pt x="10800" y="755"/>
                </a:cubicBezTo>
                <a:lnTo>
                  <a:pt x="10800" y="9981"/>
                </a:lnTo>
                <a:cubicBezTo>
                  <a:pt x="10800" y="10359"/>
                  <a:pt x="5400" y="10736"/>
                  <a:pt x="0" y="10736"/>
                </a:cubicBezTo>
                <a:cubicBezTo>
                  <a:pt x="5400" y="10736"/>
                  <a:pt x="10800" y="11114"/>
                  <a:pt x="10800" y="11491"/>
                </a:cubicBezTo>
                <a:lnTo>
                  <a:pt x="10800" y="20845"/>
                </a:lnTo>
                <a:cubicBezTo>
                  <a:pt x="10800" y="21223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b83d68"/>
            </a:solidFill>
            <a:miter/>
          </a:ln>
          <a:effectLst>
            <a:outerShdw dist="12600" dir="5400000" blurRad="0" rotWithShape="0">
              <a:srgbClr val="6f213c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Табличка 3" descr=""/>
          <p:cNvPicPr/>
          <p:nvPr/>
        </p:nvPicPr>
        <p:blipFill>
          <a:blip r:embed="rId1"/>
          <a:stretch/>
        </p:blipFill>
        <p:spPr>
          <a:xfrm>
            <a:off x="371520" y="281160"/>
            <a:ext cx="7175520" cy="725400"/>
          </a:xfrm>
          <a:prstGeom prst="rect">
            <a:avLst/>
          </a:prstGeom>
          <a:ln w="0">
            <a:noFill/>
          </a:ln>
        </p:spPr>
      </p:pic>
      <p:pic>
        <p:nvPicPr>
          <p:cNvPr id="249" name="Схема 5" descr=""/>
          <p:cNvPicPr/>
          <p:nvPr/>
        </p:nvPicPr>
        <p:blipFill>
          <a:blip r:embed="rId2"/>
          <a:stretch/>
        </p:blipFill>
        <p:spPr>
          <a:xfrm>
            <a:off x="506520" y="1603440"/>
            <a:ext cx="3432240" cy="4181400"/>
          </a:xfrm>
          <a:prstGeom prst="rect">
            <a:avLst/>
          </a:prstGeom>
          <a:ln w="0">
            <a:noFill/>
          </a:ln>
        </p:spPr>
      </p:pic>
      <p:pic>
        <p:nvPicPr>
          <p:cNvPr id="250" name="Прямоугольник 6" descr=""/>
          <p:cNvPicPr/>
          <p:nvPr/>
        </p:nvPicPr>
        <p:blipFill>
          <a:blip r:embed="rId3"/>
          <a:stretch/>
        </p:blipFill>
        <p:spPr>
          <a:xfrm>
            <a:off x="1047600" y="1023840"/>
            <a:ext cx="2055960" cy="65268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7" descr=""/>
          <p:cNvPicPr/>
          <p:nvPr/>
        </p:nvPicPr>
        <p:blipFill>
          <a:blip r:embed="rId4"/>
          <a:stretch/>
        </p:blipFill>
        <p:spPr>
          <a:xfrm>
            <a:off x="5688000" y="1090440"/>
            <a:ext cx="1262160" cy="659160"/>
          </a:xfrm>
          <a:prstGeom prst="rect">
            <a:avLst/>
          </a:prstGeom>
          <a:ln w="0">
            <a:noFill/>
          </a:ln>
        </p:spPr>
      </p:pic>
      <p:grpSp>
        <p:nvGrpSpPr>
          <p:cNvPr id="252" name="AutoShape 6"/>
          <p:cNvGrpSpPr/>
          <p:nvPr/>
        </p:nvGrpSpPr>
        <p:grpSpPr>
          <a:xfrm>
            <a:off x="1944720" y="5467320"/>
            <a:ext cx="390600" cy="1042920"/>
            <a:chOff x="1944720" y="5467320"/>
            <a:chExt cx="390600" cy="1042920"/>
          </a:xfrm>
        </p:grpSpPr>
        <p:pic>
          <p:nvPicPr>
            <p:cNvPr id="253" name="AutoShape 6" descr=""/>
            <p:cNvPicPr/>
            <p:nvPr/>
          </p:nvPicPr>
          <p:blipFill>
            <a:blip r:embed="rId5"/>
            <a:stretch/>
          </p:blipFill>
          <p:spPr>
            <a:xfrm>
              <a:off x="1944720" y="5467320"/>
              <a:ext cx="3906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2071800" y="5537160"/>
              <a:ext cx="14292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Rectangle 7"/>
          <p:cNvGrpSpPr/>
          <p:nvPr/>
        </p:nvGrpSpPr>
        <p:grpSpPr>
          <a:xfrm>
            <a:off x="579600" y="6205680"/>
            <a:ext cx="3144600" cy="523800"/>
            <a:chOff x="579600" y="6205680"/>
            <a:chExt cx="3144600" cy="523800"/>
          </a:xfrm>
        </p:grpSpPr>
        <p:pic>
          <p:nvPicPr>
            <p:cNvPr id="256" name="Rectangle 7" descr=""/>
            <p:cNvPicPr/>
            <p:nvPr/>
          </p:nvPicPr>
          <p:blipFill>
            <a:blip r:embed="rId6"/>
            <a:stretch/>
          </p:blipFill>
          <p:spPr>
            <a:xfrm>
              <a:off x="579600" y="6205680"/>
              <a:ext cx="31446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42960" y="6286680"/>
              <a:ext cx="302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Garamond"/>
                </a:rPr>
                <a:t>Кольцевая компози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Прямоугольник 10" descr=""/>
          <p:cNvPicPr/>
          <p:nvPr/>
        </p:nvPicPr>
        <p:blipFill>
          <a:blip r:embed="rId7"/>
          <a:stretch/>
        </p:blipFill>
        <p:spPr>
          <a:xfrm>
            <a:off x="5645160" y="1925640"/>
            <a:ext cx="2882880" cy="1231920"/>
          </a:xfrm>
          <a:prstGeom prst="rect">
            <a:avLst/>
          </a:prstGeom>
          <a:ln w="0">
            <a:noFill/>
          </a:ln>
        </p:spPr>
      </p:pic>
      <p:sp>
        <p:nvSpPr>
          <p:cNvPr id="259" name="Стрелка вправо 11"/>
          <p:cNvSpPr/>
          <p:nvPr/>
        </p:nvSpPr>
        <p:spPr>
          <a:xfrm>
            <a:off x="3571920" y="2286000"/>
            <a:ext cx="2071800" cy="2858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b83d68"/>
          </a:solidFill>
          <a:ln w="31680">
            <a:solidFill>
              <a:srgbClr val="ffffff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авая фигурная скобка 12"/>
          <p:cNvSpPr/>
          <p:nvPr/>
        </p:nvSpPr>
        <p:spPr>
          <a:xfrm>
            <a:off x="4000680" y="2643120"/>
            <a:ext cx="357120" cy="1071720"/>
          </a:xfrm>
          <a:custGeom>
            <a:avLst/>
            <a:gdLst>
              <a:gd name="textAreaLeft" fmla="*/ 0 w 357120"/>
              <a:gd name="textAreaRight" fmla="*/ 128880 w 357120"/>
              <a:gd name="textAreaTop" fmla="*/ 39600 h 1071720"/>
              <a:gd name="textAreaBottom" fmla="*/ 103212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78"/>
                  <a:pt x="10800" y="2555"/>
                </a:cubicBezTo>
                <a:lnTo>
                  <a:pt x="10800" y="8245"/>
                </a:lnTo>
                <a:cubicBezTo>
                  <a:pt x="10800" y="9523"/>
                  <a:pt x="16200" y="10800"/>
                  <a:pt x="21600" y="10800"/>
                </a:cubicBezTo>
                <a:cubicBezTo>
                  <a:pt x="16200" y="10800"/>
                  <a:pt x="10800" y="12078"/>
                  <a:pt x="10800" y="13355"/>
                </a:cubicBezTo>
                <a:lnTo>
                  <a:pt x="10800" y="19045"/>
                </a:lnTo>
                <a:cubicBezTo>
                  <a:pt x="10800" y="20323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b83d68"/>
            </a:solidFill>
            <a:miter/>
          </a:ln>
          <a:effectLst>
            <a:outerShdw dist="12600" dir="5400000" blurRad="0" rotWithShape="0">
              <a:srgbClr val="6f213c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Прямоугольник 13" descr=""/>
          <p:cNvPicPr/>
          <p:nvPr/>
        </p:nvPicPr>
        <p:blipFill>
          <a:blip r:embed="rId8"/>
          <a:stretch/>
        </p:blipFill>
        <p:spPr>
          <a:xfrm>
            <a:off x="4675320" y="2548080"/>
            <a:ext cx="3402000" cy="1596960"/>
          </a:xfrm>
          <a:prstGeom prst="rect">
            <a:avLst/>
          </a:prstGeom>
          <a:ln w="0">
            <a:noFill/>
          </a:ln>
        </p:spPr>
      </p:pic>
      <p:sp>
        <p:nvSpPr>
          <p:cNvPr id="262" name="Стрелка вправо 14"/>
          <p:cNvSpPr/>
          <p:nvPr/>
        </p:nvSpPr>
        <p:spPr>
          <a:xfrm>
            <a:off x="3571920" y="4643280"/>
            <a:ext cx="1643040" cy="28584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b83d68"/>
          </a:solidFill>
          <a:ln w="31680">
            <a:solidFill>
              <a:srgbClr val="ffffff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Прямоугольник 15" descr=""/>
          <p:cNvPicPr/>
          <p:nvPr/>
        </p:nvPicPr>
        <p:blipFill>
          <a:blip r:embed="rId9"/>
          <a:stretch/>
        </p:blipFill>
        <p:spPr>
          <a:xfrm>
            <a:off x="4286160" y="3713040"/>
            <a:ext cx="4278240" cy="1230480"/>
          </a:xfrm>
          <a:prstGeom prst="rect">
            <a:avLst/>
          </a:prstGeom>
          <a:ln w="0">
            <a:noFill/>
          </a:ln>
        </p:spPr>
      </p:pic>
      <p:sp>
        <p:nvSpPr>
          <p:cNvPr id="264" name="Правая фигурная скобка 16"/>
          <p:cNvSpPr/>
          <p:nvPr/>
        </p:nvSpPr>
        <p:spPr>
          <a:xfrm>
            <a:off x="4000680" y="3786120"/>
            <a:ext cx="214200" cy="642960"/>
          </a:xfrm>
          <a:custGeom>
            <a:avLst/>
            <a:gdLst>
              <a:gd name="textAreaLeft" fmla="*/ 0 w 214200"/>
              <a:gd name="textAreaRight" fmla="*/ 77400 w 214200"/>
              <a:gd name="textAreaTop" fmla="*/ 23760 h 642960"/>
              <a:gd name="textAreaBottom" fmla="*/ 6192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78"/>
                  <a:pt x="10800" y="2555"/>
                </a:cubicBezTo>
                <a:lnTo>
                  <a:pt x="10800" y="8245"/>
                </a:lnTo>
                <a:cubicBezTo>
                  <a:pt x="10800" y="9523"/>
                  <a:pt x="16200" y="10800"/>
                  <a:pt x="21600" y="10800"/>
                </a:cubicBezTo>
                <a:cubicBezTo>
                  <a:pt x="16200" y="10800"/>
                  <a:pt x="10800" y="12078"/>
                  <a:pt x="10800" y="13355"/>
                </a:cubicBezTo>
                <a:lnTo>
                  <a:pt x="10800" y="19045"/>
                </a:lnTo>
                <a:cubicBezTo>
                  <a:pt x="10800" y="20323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b83d68"/>
            </a:solidFill>
            <a:miter/>
          </a:ln>
          <a:effectLst>
            <a:outerShdw dist="12600" dir="5400000" blurRad="0" rotWithShape="0">
              <a:srgbClr val="6f213c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Прямоугольник 17" descr=""/>
          <p:cNvPicPr/>
          <p:nvPr/>
        </p:nvPicPr>
        <p:blipFill>
          <a:blip r:embed="rId10"/>
          <a:stretch/>
        </p:blipFill>
        <p:spPr>
          <a:xfrm>
            <a:off x="5145120" y="4286160"/>
            <a:ext cx="314496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55964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263520" y="1598400"/>
            <a:ext cx="738648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Образ летящей птицы- пробуждение чувства влюбленност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Образ разбитого лунного столба(разбитые мечты, безответная любовь)</a:t>
            </a: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	</a:t>
            </a: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	</a:t>
            </a: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	</a:t>
            </a: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rebuchet MS"/>
              </a:rPr>
              <a:t>Небо, вода, долины (богатство и широта «окрыленной»натуры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263160" y="1598760"/>
            <a:ext cx="58928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Тургенев отказывает ему в имен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Наказывает за то, что сомневался в любв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Trebuchet MS"/>
              </a:rPr>
              <a:t>( «Осужденный на одиночество бессемейного бобыля, доживаю я скучные годы.»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Picture 4" descr="2"/>
          <p:cNvPicPr/>
          <p:nvPr/>
        </p:nvPicPr>
        <p:blipFill>
          <a:blip r:embed="rId2"/>
          <a:stretch/>
        </p:blipFill>
        <p:spPr>
          <a:xfrm>
            <a:off x="5913360" y="3273480"/>
            <a:ext cx="2316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291960" y="225360"/>
            <a:ext cx="8534520" cy="403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301680" y="836640"/>
            <a:ext cx="448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5 ле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Был молод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Меня занимали исключительно люд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Искал уедин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Был поражен в сердце молодой вдовой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Романтик в душ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«Сестра ли она ему?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Крылья любв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Обсуждает с Гагиным отношения с Асей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Не решился признатьс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«Завтра буду счастлив!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Будущее казалось беспредельны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         </a:t>
            </a: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Боязнь ответствен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47960" y="836640"/>
            <a:ext cx="335268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        </a:t>
            </a:r>
            <a:r>
              <a:rPr b="1" i="1" lang="ru-RU" sz="2000" spc="-1" strike="noStrike">
                <a:solidFill>
                  <a:srgbClr val="5c1f34"/>
                </a:solidFill>
                <a:latin typeface="Trebuchet MS"/>
              </a:rPr>
              <a:t>45 ле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1f34"/>
                </a:solidFill>
                <a:latin typeface="Trebuchet MS"/>
              </a:rPr>
              <a:t>Молодость ест пряники золоченые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1f34"/>
                </a:solidFill>
                <a:latin typeface="Trebuchet MS"/>
              </a:rPr>
              <a:t>О, я безумец!Я не сказал ей, что я ее любл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1f34"/>
                </a:solidFill>
                <a:latin typeface="Trebuchet MS"/>
              </a:rPr>
              <a:t>Чувство, возбужденное Асей, не повторилось никогда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1f34"/>
                </a:solidFill>
                <a:latin typeface="Trebuchet MS"/>
              </a:rPr>
              <a:t>Храню цветок гераниума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c1f34"/>
                </a:solidFill>
                <a:latin typeface="Trebuchet MS"/>
              </a:rPr>
              <a:t>       </a:t>
            </a:r>
            <a:r>
              <a:rPr b="1" i="1" lang="ru-RU" sz="2000" spc="-1" strike="noStrike">
                <a:solidFill>
                  <a:srgbClr val="5c1f34"/>
                </a:solidFill>
                <a:latin typeface="Trebuchet MS"/>
              </a:rPr>
              <a:t>Светлые воспоми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c1f34"/>
                </a:solidFill>
                <a:latin typeface="Trebuchet MS"/>
              </a:rPr>
              <a:t>«У счастья нет завтрашнего дня, нет и вчерашнего. У него есть настоящее- и то не день, а мгновение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c1f34"/>
                </a:solidFill>
                <a:latin typeface="Trebuchet MS"/>
              </a:rPr>
              <a:t>                                   </a:t>
            </a:r>
            <a:r>
              <a:rPr b="1" i="1" lang="ru-RU" sz="3600" spc="-1" strike="noStrike">
                <a:solidFill>
                  <a:srgbClr val="5c1f34"/>
                </a:solidFill>
                <a:latin typeface="Trebuchet MS"/>
              </a:rPr>
              <a:t>И.С.Тургенев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Picture 2" descr="C:\Users\Екатерина\Pictures\39let.jpg"/>
          <p:cNvPicPr/>
          <p:nvPr/>
        </p:nvPicPr>
        <p:blipFill>
          <a:blip r:embed="rId2"/>
          <a:stretch/>
        </p:blipFill>
        <p:spPr>
          <a:xfrm>
            <a:off x="92160" y="3176640"/>
            <a:ext cx="30956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06:22:25Z</dcterms:created>
  <dc:creator>учитель</dc:creator>
  <dc:description/>
  <dc:language>en-US</dc:language>
  <cp:lastModifiedBy>Админ</cp:lastModifiedBy>
  <dcterms:modified xsi:type="dcterms:W3CDTF">2012-09-21T14:04:18Z</dcterms:modified>
  <cp:revision>14</cp:revision>
  <dc:subject/>
  <dc:title>Тургеневская девушка</dc:title>
</cp:coreProperties>
</file>