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58400" cy="77724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92F-B054-4873-8BD0-A682BE5D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83818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2880" y="4421880"/>
            <a:ext cx="83818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96C-11AC-4609-8CA7-9CFDEF0A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6804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2880" y="442188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68040" y="442188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05A-5B01-46BC-99DD-161A22AF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06800" y="198576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40720" y="198576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2880" y="442188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06800" y="442188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40720" y="442188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096-82FA-4D8C-B2A3-F6A6EEBD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7AAC-A548-4F94-B9DE-C0F812C8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2880" y="1985760"/>
            <a:ext cx="8381880" cy="46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0CD5-0F5E-4EB6-BE80-4339F30E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838188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25F2-5BB4-4AAF-B184-5E7FC8CE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409032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8040" y="1985760"/>
            <a:ext cx="409032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DD3D-5583-4057-BCA7-CC51CD82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49AA-386D-40CB-A3EB-F61AD78B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72880" y="431280"/>
            <a:ext cx="8381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C5BD-0B0C-41E8-B668-1F080CE8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8040" y="1985760"/>
            <a:ext cx="409032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2880" y="442188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E33D-901B-4368-8E37-BDAB4AD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2880" y="1985760"/>
            <a:ext cx="8381880" cy="46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9AB-8868-4BB9-BD84-6D4F1338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409032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804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8040" y="442188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C8EA-9B0C-49BD-A349-93BA2F34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804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2880" y="4421880"/>
            <a:ext cx="83818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905D-D020-44AE-86CA-6F917AF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83818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2880" y="4421880"/>
            <a:ext cx="83818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B22C-CEEF-4EA1-B3CF-2DED6C47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804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2880" y="442188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8040" y="442188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B113-9F80-408B-843C-B24217C6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06800" y="198576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0720" y="198576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2880" y="442188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06800" y="442188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840720" y="4421880"/>
            <a:ext cx="2698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57A7-2918-411F-9093-B4E83F89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838188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D4C-59C8-41C7-ABFB-F55D034B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409032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8040" y="1985760"/>
            <a:ext cx="409032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E37-36D1-4EAF-8409-28F899E3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B27-D775-4E3E-B9FE-C9C66154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2880" y="431280"/>
            <a:ext cx="8381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2D8-8765-4AC7-9D1F-30B61967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8040" y="1985760"/>
            <a:ext cx="409032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2880" y="442188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450-1AE6-4034-8AFA-C8D84685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409032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804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68040" y="442188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5A9-125F-4D4C-8293-91A8975B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8040" y="1985760"/>
            <a:ext cx="40903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2880" y="4421880"/>
            <a:ext cx="83818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23A-3063-4B25-B18F-F2C521D0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69960" y="258840"/>
            <a:ext cx="9063000" cy="724356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117440" y="1812960"/>
            <a:ext cx="84376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7240"/>
            <a:ext cx="1298520" cy="4599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786200"/>
            <a:ext cx="1298520" cy="291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72880" y="1985760"/>
            <a:ext cx="838188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15640" y="6921360"/>
            <a:ext cx="2095560" cy="517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98720" y="6921360"/>
            <a:ext cx="3184560" cy="517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570440" y="6921360"/>
            <a:ext cx="2095560" cy="517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A2F8-284E-43B8-9F97-5D6D90D8298C}" type="slidenum"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81040" y="228600"/>
            <a:ext cx="9237600" cy="732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7240"/>
            <a:ext cx="1298520" cy="4857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57360" y="4681440"/>
            <a:ext cx="1144440" cy="517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786200"/>
            <a:ext cx="1298520" cy="2914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2880" y="1985760"/>
            <a:ext cx="838188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91960" y="6908760"/>
            <a:ext cx="2095560" cy="517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75040" y="6908760"/>
            <a:ext cx="3184560" cy="517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647120" y="6908760"/>
            <a:ext cx="2095200" cy="517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F6E4-7229-4045-A994-C8E4B6E240F2}" type="slidenum"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" Target="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1200" y="5731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шение задач по теме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ОЛЕКУЛЯРНАЯ ФИЗИКА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1520" y="6694560"/>
            <a:ext cx="785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РОК  ФИЗИКИ  В  10  КЛАСС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5760"/>
            <a:ext cx="411480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е молярной мас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влени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деального г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еревод градусов в Кельв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равнение состояния идеального г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Rectangle 7" descr=""/>
          <p:cNvPicPr/>
          <p:nvPr/>
        </p:nvPicPr>
        <p:blipFill>
          <a:blip r:embed="rId1"/>
          <a:stretch/>
        </p:blipFill>
        <p:spPr>
          <a:xfrm>
            <a:off x="6757920" y="1941480"/>
            <a:ext cx="1871640" cy="13017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7" descr=""/>
          <p:cNvPicPr/>
          <p:nvPr/>
        </p:nvPicPr>
        <p:blipFill>
          <a:blip r:embed="rId2"/>
          <a:stretch/>
        </p:blipFill>
        <p:spPr>
          <a:xfrm>
            <a:off x="6900840" y="5608800"/>
            <a:ext cx="1944720" cy="89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829560" y="3486240"/>
            <a:ext cx="1944720" cy="86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900840" y="4462560"/>
            <a:ext cx="187164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">
            <a:hlinkClick r:id="" action="ppaction://hlinkshowjump?jump=nextslide"/>
          </p:cNvPr>
          <p:cNvSpPr/>
          <p:nvPr/>
        </p:nvSpPr>
        <p:spPr>
          <a:xfrm>
            <a:off x="1716120" y="2301840"/>
            <a:ext cx="1800360" cy="1657440"/>
          </a:xfrm>
          <a:custGeom>
            <a:avLst/>
            <a:gdLst>
              <a:gd name="textAreaLeft" fmla="*/ 107280 w 1800360"/>
              <a:gd name="textAreaRight" fmla="*/ 1693080 w 1800360"/>
              <a:gd name="textAreaTop" fmla="*/ 107280 h 1657440"/>
              <a:gd name="textAreaBottom" fmla="*/ 1550160 h 1657440"/>
            </a:gdLst>
            <a:ahLst/>
            <a:rect l="textAreaLeft" t="textAreaTop" r="textAreaRight" b="textAreaBottom"/>
            <a:pathLst>
              <a:path w="23462" h="21600">
                <a:moveTo>
                  <a:pt x="0" y="0"/>
                </a:moveTo>
                <a:lnTo>
                  <a:pt x="23462" y="0"/>
                </a:lnTo>
                <a:lnTo>
                  <a:pt x="23462" y="21600"/>
                </a:lnTo>
                <a:lnTo>
                  <a:pt x="0" y="21600"/>
                </a:lnTo>
                <a:close/>
              </a:path>
              <a:path fill="lightenLess" w="23462" h="21600">
                <a:moveTo>
                  <a:pt x="0" y="0"/>
                </a:moveTo>
                <a:lnTo>
                  <a:pt x="23462" y="0"/>
                </a:lnTo>
                <a:lnTo>
                  <a:pt x="22062" y="1400"/>
                </a:lnTo>
                <a:lnTo>
                  <a:pt x="1400" y="1400"/>
                </a:lnTo>
                <a:close/>
              </a:path>
              <a:path fill="darken" w="23462" h="21600">
                <a:moveTo>
                  <a:pt x="23462" y="0"/>
                </a:moveTo>
                <a:lnTo>
                  <a:pt x="23462" y="21600"/>
                </a:lnTo>
                <a:lnTo>
                  <a:pt x="22062" y="20200"/>
                </a:lnTo>
                <a:lnTo>
                  <a:pt x="22062" y="1400"/>
                </a:lnTo>
                <a:close/>
              </a:path>
              <a:path fill="darkenLess" w="23462" h="21600">
                <a:moveTo>
                  <a:pt x="23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2" y="20200"/>
                </a:lnTo>
                <a:close/>
              </a:path>
              <a:path fill="lighten" w="23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5460840" y="4533840"/>
            <a:ext cx="1729080" cy="1656000"/>
          </a:xfrm>
          <a:custGeom>
            <a:avLst/>
            <a:gdLst>
              <a:gd name="textAreaLeft" fmla="*/ 107280 w 1729080"/>
              <a:gd name="textAreaRight" fmla="*/ 1621800 w 1729080"/>
              <a:gd name="textAreaTop" fmla="*/ 107280 h 1656000"/>
              <a:gd name="textAreaBottom" fmla="*/ 1548720 h 1656000"/>
            </a:gdLst>
            <a:ahLst/>
            <a:rect l="textAreaLeft" t="textAreaTop" r="textAreaRight" b="textAreaBottom"/>
            <a:pathLst>
              <a:path w="22553" h="21600">
                <a:moveTo>
                  <a:pt x="0" y="0"/>
                </a:moveTo>
                <a:lnTo>
                  <a:pt x="22553" y="0"/>
                </a:lnTo>
                <a:lnTo>
                  <a:pt x="22553" y="21600"/>
                </a:lnTo>
                <a:lnTo>
                  <a:pt x="0" y="21600"/>
                </a:lnTo>
                <a:close/>
              </a:path>
              <a:path fill="lightenLess" w="22553" h="21600">
                <a:moveTo>
                  <a:pt x="0" y="0"/>
                </a:moveTo>
                <a:lnTo>
                  <a:pt x="22553" y="0"/>
                </a:lnTo>
                <a:lnTo>
                  <a:pt x="21153" y="1400"/>
                </a:lnTo>
                <a:lnTo>
                  <a:pt x="1400" y="1400"/>
                </a:lnTo>
                <a:close/>
              </a:path>
              <a:path fill="darken" w="22553" h="21600">
                <a:moveTo>
                  <a:pt x="22553" y="0"/>
                </a:moveTo>
                <a:lnTo>
                  <a:pt x="22553" y="21600"/>
                </a:lnTo>
                <a:lnTo>
                  <a:pt x="21153" y="20200"/>
                </a:lnTo>
                <a:lnTo>
                  <a:pt x="21153" y="1400"/>
                </a:lnTo>
                <a:close/>
              </a:path>
              <a:path fill="darkenLess" w="22553" h="21600">
                <a:moveTo>
                  <a:pt x="22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53" y="20200"/>
                </a:lnTo>
                <a:close/>
              </a:path>
              <a:path fill="lighten" w="22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>
            <a:hlinkClick r:id="rId2" action="ppaction://hlinksldjump"/>
          </p:cNvPr>
          <p:cNvSpPr/>
          <p:nvPr/>
        </p:nvSpPr>
        <p:spPr>
          <a:xfrm>
            <a:off x="5533920" y="2230560"/>
            <a:ext cx="1728720" cy="1584360"/>
          </a:xfrm>
          <a:custGeom>
            <a:avLst/>
            <a:gdLst>
              <a:gd name="textAreaLeft" fmla="*/ 102600 w 1728720"/>
              <a:gd name="textAreaRight" fmla="*/ 1626120 w 172872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3568" h="21600">
                <a:moveTo>
                  <a:pt x="0" y="0"/>
                </a:moveTo>
                <a:lnTo>
                  <a:pt x="23568" y="0"/>
                </a:lnTo>
                <a:lnTo>
                  <a:pt x="23568" y="21600"/>
                </a:lnTo>
                <a:lnTo>
                  <a:pt x="0" y="21600"/>
                </a:lnTo>
                <a:close/>
              </a:path>
              <a:path fill="lightenLess" w="23568" h="21600">
                <a:moveTo>
                  <a:pt x="0" y="0"/>
                </a:moveTo>
                <a:lnTo>
                  <a:pt x="23568" y="0"/>
                </a:lnTo>
                <a:lnTo>
                  <a:pt x="22168" y="1400"/>
                </a:lnTo>
                <a:lnTo>
                  <a:pt x="1400" y="1400"/>
                </a:lnTo>
                <a:close/>
              </a:path>
              <a:path fill="darken" w="23568" h="21600">
                <a:moveTo>
                  <a:pt x="23568" y="0"/>
                </a:moveTo>
                <a:lnTo>
                  <a:pt x="23568" y="21600"/>
                </a:lnTo>
                <a:lnTo>
                  <a:pt x="22168" y="20200"/>
                </a:lnTo>
                <a:lnTo>
                  <a:pt x="22168" y="1400"/>
                </a:lnTo>
                <a:close/>
              </a:path>
              <a:path fill="darkenLess" w="23568" h="21600">
                <a:moveTo>
                  <a:pt x="23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8" y="20200"/>
                </a:lnTo>
                <a:close/>
              </a:path>
              <a:path fill="lighten" w="23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1860480" y="4606920"/>
            <a:ext cx="1656000" cy="1512720"/>
          </a:xfrm>
          <a:custGeom>
            <a:avLst/>
            <a:gdLst>
              <a:gd name="textAreaLeft" fmla="*/ 97920 w 1656000"/>
              <a:gd name="textAreaRight" fmla="*/ 1558080 w 1656000"/>
              <a:gd name="textAreaTop" fmla="*/ 97920 h 1512720"/>
              <a:gd name="textAreaBottom" fmla="*/ 1414800 h 1512720"/>
            </a:gdLst>
            <a:ahLst/>
            <a:rect l="textAreaLeft" t="textAreaTop" r="textAreaRight" b="textAreaBottom"/>
            <a:pathLst>
              <a:path w="23645" h="21600">
                <a:moveTo>
                  <a:pt x="0" y="0"/>
                </a:moveTo>
                <a:lnTo>
                  <a:pt x="23645" y="0"/>
                </a:lnTo>
                <a:lnTo>
                  <a:pt x="23645" y="21600"/>
                </a:lnTo>
                <a:lnTo>
                  <a:pt x="0" y="21600"/>
                </a:lnTo>
                <a:close/>
              </a:path>
              <a:path fill="lightenLess" w="23645" h="21600">
                <a:moveTo>
                  <a:pt x="0" y="0"/>
                </a:moveTo>
                <a:lnTo>
                  <a:pt x="23645" y="0"/>
                </a:lnTo>
                <a:lnTo>
                  <a:pt x="22245" y="1400"/>
                </a:lnTo>
                <a:lnTo>
                  <a:pt x="1400" y="1400"/>
                </a:lnTo>
                <a:close/>
              </a:path>
              <a:path fill="darken" w="23645" h="21600">
                <a:moveTo>
                  <a:pt x="23645" y="0"/>
                </a:moveTo>
                <a:lnTo>
                  <a:pt x="23645" y="21600"/>
                </a:lnTo>
                <a:lnTo>
                  <a:pt x="22245" y="20200"/>
                </a:lnTo>
                <a:lnTo>
                  <a:pt x="22245" y="1400"/>
                </a:lnTo>
                <a:close/>
              </a:path>
              <a:path fill="darkenLess" w="23645" h="21600">
                <a:moveTo>
                  <a:pt x="23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5" y="20200"/>
                </a:lnTo>
                <a:close/>
              </a:path>
              <a:path fill="lighten" w="23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3"/>
          <p:cNvSpPr txBox="1"/>
          <p:nvPr/>
        </p:nvSpPr>
        <p:spPr>
          <a:xfrm>
            <a:off x="2941560" y="717480"/>
            <a:ext cx="54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Реши задачу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28840" y="1941480"/>
            <a:ext cx="828036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 marL="382680" indent="-381240">
              <a:lnSpc>
                <a:spcPct val="100000"/>
              </a:lnSpc>
              <a:spcBef>
                <a:spcPts val="711"/>
              </a:spcBef>
              <a:spcAft>
                <a:spcPts val="1587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6600"/>
                <a:tab algn="l" pos="6453360"/>
                <a:tab algn="l" pos="7259760"/>
                <a:tab algn="l" pos="8066160"/>
                <a:tab algn="l" pos="8872560"/>
                <a:tab algn="l" pos="9678960"/>
                <a:tab algn="l" pos="9682200"/>
                <a:tab algn="l" pos="10191600"/>
                <a:tab algn="l" pos="107013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57440" y="2995560"/>
            <a:ext cx="59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80160" y="3238560"/>
            <a:ext cx="201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51600" y="3076560"/>
            <a:ext cx="201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22400" y="3076560"/>
            <a:ext cx="201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7480" y="3238560"/>
            <a:ext cx="203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1560" y="2858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514600" indent="-685800">
              <a:lnSpc>
                <a:spcPct val="100000"/>
              </a:lnSpc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ча 1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420840" y="933480"/>
            <a:ext cx="10082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Рассчитать массу молекулы Н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О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221304"/>
                </a:solidFill>
                <a:latin typeface="Times New Roman"/>
              </a:rPr>
              <a:t>Рассчитаем молярную массу</a:t>
            </a:r>
            <a:endParaRPr b="0" lang="en-US" sz="45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2" name="Rectangle 7"/>
          <p:cNvGraphicFramePr/>
          <p:nvPr/>
        </p:nvGraphicFramePr>
        <p:xfrm>
          <a:off x="1789200" y="6262560"/>
          <a:ext cx="151128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6262560"/>
                    <a:ext cx="151128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Rectangle 7"/>
          <p:cNvGraphicFramePr/>
          <p:nvPr/>
        </p:nvGraphicFramePr>
        <p:xfrm>
          <a:off x="3373560" y="6407280"/>
          <a:ext cx="4174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Rectangle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3560" y="6407280"/>
                    <a:ext cx="4174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25560" y="3193920"/>
            <a:ext cx="849780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(Н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О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·1 + 32 + 16·4 = 98 г/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01680" y="4197240"/>
            <a:ext cx="885672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ть массу молекулы Н</a:t>
            </a:r>
            <a:r>
              <a:rPr b="1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О</a:t>
            </a:r>
            <a:r>
              <a:rPr b="1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558280" y="6981840"/>
            <a:ext cx="1187280" cy="571320"/>
          </a:xfrm>
          <a:custGeom>
            <a:avLst/>
            <a:gdLst>
              <a:gd name="textAreaLeft" fmla="*/ 36720 w 1187280"/>
              <a:gd name="textAreaRight" fmla="*/ 1150560 w 11872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4873" h="21600">
                <a:moveTo>
                  <a:pt x="0" y="0"/>
                </a:moveTo>
                <a:lnTo>
                  <a:pt x="44873" y="0"/>
                </a:lnTo>
                <a:lnTo>
                  <a:pt x="44873" y="21600"/>
                </a:lnTo>
                <a:lnTo>
                  <a:pt x="0" y="21600"/>
                </a:lnTo>
                <a:close/>
              </a:path>
              <a:path fill="lightenLess" w="44873" h="21600">
                <a:moveTo>
                  <a:pt x="0" y="0"/>
                </a:moveTo>
                <a:lnTo>
                  <a:pt x="44873" y="0"/>
                </a:lnTo>
                <a:lnTo>
                  <a:pt x="43473" y="1400"/>
                </a:lnTo>
                <a:lnTo>
                  <a:pt x="1400" y="1400"/>
                </a:lnTo>
                <a:close/>
              </a:path>
              <a:path fill="darken" w="44873" h="21600">
                <a:moveTo>
                  <a:pt x="44873" y="0"/>
                </a:moveTo>
                <a:lnTo>
                  <a:pt x="44873" y="21600"/>
                </a:lnTo>
                <a:lnTo>
                  <a:pt x="43473" y="20200"/>
                </a:lnTo>
                <a:lnTo>
                  <a:pt x="43473" y="1400"/>
                </a:lnTo>
                <a:close/>
              </a:path>
              <a:path fill="darkenLess" w="44873" h="21600">
                <a:moveTo>
                  <a:pt x="44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73" y="20200"/>
                </a:lnTo>
                <a:close/>
              </a:path>
              <a:path fill="lighten" w="44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73" h="21600">
                <a:moveTo>
                  <a:pt x="22437" y="3837"/>
                </a:moveTo>
                <a:lnTo>
                  <a:pt x="25013" y="6448"/>
                </a:lnTo>
                <a:lnTo>
                  <a:pt x="25013" y="4707"/>
                </a:lnTo>
                <a:lnTo>
                  <a:pt x="26788" y="4707"/>
                </a:lnTo>
                <a:lnTo>
                  <a:pt x="26788" y="8224"/>
                </a:lnTo>
                <a:lnTo>
                  <a:pt x="29399" y="10800"/>
                </a:lnTo>
                <a:lnTo>
                  <a:pt x="27746" y="10800"/>
                </a:lnTo>
                <a:lnTo>
                  <a:pt x="27746" y="17989"/>
                </a:lnTo>
                <a:lnTo>
                  <a:pt x="17127" y="17989"/>
                </a:lnTo>
                <a:lnTo>
                  <a:pt x="17127" y="10800"/>
                </a:lnTo>
                <a:lnTo>
                  <a:pt x="15474" y="10800"/>
                </a:lnTo>
                <a:close/>
              </a:path>
              <a:path fill="darkenLess" w="44873" h="21600">
                <a:moveTo>
                  <a:pt x="25013" y="6448"/>
                </a:moveTo>
                <a:lnTo>
                  <a:pt x="25013" y="4707"/>
                </a:lnTo>
                <a:lnTo>
                  <a:pt x="26788" y="4707"/>
                </a:lnTo>
                <a:lnTo>
                  <a:pt x="26788" y="8224"/>
                </a:lnTo>
                <a:close/>
              </a:path>
              <a:path fill="darkenLess" w="44873" h="21600">
                <a:moveTo>
                  <a:pt x="21514" y="14299"/>
                </a:moveTo>
                <a:lnTo>
                  <a:pt x="23359" y="14299"/>
                </a:lnTo>
                <a:lnTo>
                  <a:pt x="23359" y="17989"/>
                </a:lnTo>
                <a:lnTo>
                  <a:pt x="27746" y="17989"/>
                </a:lnTo>
                <a:lnTo>
                  <a:pt x="27746" y="10800"/>
                </a:lnTo>
                <a:lnTo>
                  <a:pt x="17127" y="10800"/>
                </a:lnTo>
                <a:lnTo>
                  <a:pt x="17127" y="17989"/>
                </a:lnTo>
                <a:lnTo>
                  <a:pt x="21514" y="17989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cc7a51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7" descr=""/>
          <p:cNvPicPr/>
          <p:nvPr/>
        </p:nvPicPr>
        <p:blipFill>
          <a:blip r:embed="rId5"/>
          <a:stretch/>
        </p:blipFill>
        <p:spPr>
          <a:xfrm>
            <a:off x="7765920" y="6910560"/>
            <a:ext cx="79056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а 2. </a:t>
            </a:r>
            <a:br>
              <a:rPr sz="3200"/>
            </a:b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Сколько молекул содержится в 50г  Аℓ?</a:t>
            </a:r>
            <a:r>
              <a:rPr b="0" lang="ru-RU" sz="45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485200" y="6910560"/>
            <a:ext cx="1187280" cy="571320"/>
          </a:xfrm>
          <a:custGeom>
            <a:avLst/>
            <a:gdLst>
              <a:gd name="textAreaLeft" fmla="*/ 36720 w 1187280"/>
              <a:gd name="textAreaRight" fmla="*/ 1150560 w 11872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4873" h="21600">
                <a:moveTo>
                  <a:pt x="0" y="0"/>
                </a:moveTo>
                <a:lnTo>
                  <a:pt x="44873" y="0"/>
                </a:lnTo>
                <a:lnTo>
                  <a:pt x="44873" y="21600"/>
                </a:lnTo>
                <a:lnTo>
                  <a:pt x="0" y="21600"/>
                </a:lnTo>
                <a:close/>
              </a:path>
              <a:path fill="lightenLess" w="44873" h="21600">
                <a:moveTo>
                  <a:pt x="0" y="0"/>
                </a:moveTo>
                <a:lnTo>
                  <a:pt x="44873" y="0"/>
                </a:lnTo>
                <a:lnTo>
                  <a:pt x="43473" y="1400"/>
                </a:lnTo>
                <a:lnTo>
                  <a:pt x="1400" y="1400"/>
                </a:lnTo>
                <a:close/>
              </a:path>
              <a:path fill="darken" w="44873" h="21600">
                <a:moveTo>
                  <a:pt x="44873" y="0"/>
                </a:moveTo>
                <a:lnTo>
                  <a:pt x="44873" y="21600"/>
                </a:lnTo>
                <a:lnTo>
                  <a:pt x="43473" y="20200"/>
                </a:lnTo>
                <a:lnTo>
                  <a:pt x="43473" y="1400"/>
                </a:lnTo>
                <a:close/>
              </a:path>
              <a:path fill="darkenLess" w="44873" h="21600">
                <a:moveTo>
                  <a:pt x="44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73" y="20200"/>
                </a:lnTo>
                <a:close/>
              </a:path>
              <a:path fill="lighten" w="44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73" h="21600">
                <a:moveTo>
                  <a:pt x="22437" y="3837"/>
                </a:moveTo>
                <a:lnTo>
                  <a:pt x="25013" y="6448"/>
                </a:lnTo>
                <a:lnTo>
                  <a:pt x="25013" y="4707"/>
                </a:lnTo>
                <a:lnTo>
                  <a:pt x="26788" y="4707"/>
                </a:lnTo>
                <a:lnTo>
                  <a:pt x="26788" y="8224"/>
                </a:lnTo>
                <a:lnTo>
                  <a:pt x="29399" y="10800"/>
                </a:lnTo>
                <a:lnTo>
                  <a:pt x="27746" y="10800"/>
                </a:lnTo>
                <a:lnTo>
                  <a:pt x="27746" y="17989"/>
                </a:lnTo>
                <a:lnTo>
                  <a:pt x="17127" y="17989"/>
                </a:lnTo>
                <a:lnTo>
                  <a:pt x="17127" y="10800"/>
                </a:lnTo>
                <a:lnTo>
                  <a:pt x="15474" y="10800"/>
                </a:lnTo>
                <a:close/>
              </a:path>
              <a:path fill="darkenLess" w="44873" h="21600">
                <a:moveTo>
                  <a:pt x="25013" y="6448"/>
                </a:moveTo>
                <a:lnTo>
                  <a:pt x="25013" y="4707"/>
                </a:lnTo>
                <a:lnTo>
                  <a:pt x="26788" y="4707"/>
                </a:lnTo>
                <a:lnTo>
                  <a:pt x="26788" y="8224"/>
                </a:lnTo>
                <a:close/>
              </a:path>
              <a:path fill="darkenLess" w="44873" h="21600">
                <a:moveTo>
                  <a:pt x="21514" y="14299"/>
                </a:moveTo>
                <a:lnTo>
                  <a:pt x="23359" y="14299"/>
                </a:lnTo>
                <a:lnTo>
                  <a:pt x="23359" y="17989"/>
                </a:lnTo>
                <a:lnTo>
                  <a:pt x="27746" y="17989"/>
                </a:lnTo>
                <a:lnTo>
                  <a:pt x="27746" y="10800"/>
                </a:lnTo>
                <a:lnTo>
                  <a:pt x="17127" y="10800"/>
                </a:lnTo>
                <a:lnTo>
                  <a:pt x="17127" y="17989"/>
                </a:lnTo>
                <a:lnTo>
                  <a:pt x="21514" y="17989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cc7a51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Rectangle 7" descr=""/>
          <p:cNvPicPr/>
          <p:nvPr/>
        </p:nvPicPr>
        <p:blipFill>
          <a:blip r:embed="rId2"/>
          <a:stretch/>
        </p:blipFill>
        <p:spPr>
          <a:xfrm>
            <a:off x="7550280" y="6910560"/>
            <a:ext cx="863640" cy="64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8480" y="28584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а 3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вление газа в лампе 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4,4 • 10</a:t>
            </a:r>
            <a:r>
              <a:rPr b="0" lang="en-US" sz="2400" spc="-1" strike="noStrike" u="sng" baseline="30000">
                <a:solidFill>
                  <a:srgbClr val="ff3300"/>
                </a:solidFill>
                <a:uFillTx/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а, а его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пература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47 °С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акова    концентрация атомов       газ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95920" y="189972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22920" y="2577240"/>
            <a:ext cx="30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= 4,4 •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П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85560" y="316476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 = 47 °С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08480" y="22305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996480" y="4102200"/>
            <a:ext cx="331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720" y="4172760"/>
            <a:ext cx="9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-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Rectangle 7"/>
          <p:cNvGraphicFramePr/>
          <p:nvPr/>
        </p:nvGraphicFramePr>
        <p:xfrm>
          <a:off x="6469200" y="2157480"/>
          <a:ext cx="260640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9200" y="2157480"/>
                    <a:ext cx="260640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Rectangle 7"/>
          <p:cNvGraphicFramePr/>
          <p:nvPr/>
        </p:nvGraphicFramePr>
        <p:xfrm>
          <a:off x="6181560" y="5614920"/>
          <a:ext cx="316872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Rectangle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81560" y="5614920"/>
                    <a:ext cx="31687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676840" y="22305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81560" y="194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08480" y="292392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=t + 237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73 = 320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8558280" y="6910560"/>
            <a:ext cx="1187280" cy="571320"/>
          </a:xfrm>
          <a:custGeom>
            <a:avLst/>
            <a:gdLst>
              <a:gd name="textAreaLeft" fmla="*/ 36720 w 1187280"/>
              <a:gd name="textAreaRight" fmla="*/ 1150560 w 11872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4873" h="21600">
                <a:moveTo>
                  <a:pt x="0" y="0"/>
                </a:moveTo>
                <a:lnTo>
                  <a:pt x="44873" y="0"/>
                </a:lnTo>
                <a:lnTo>
                  <a:pt x="44873" y="21600"/>
                </a:lnTo>
                <a:lnTo>
                  <a:pt x="0" y="21600"/>
                </a:lnTo>
                <a:close/>
              </a:path>
              <a:path fill="lightenLess" w="44873" h="21600">
                <a:moveTo>
                  <a:pt x="0" y="0"/>
                </a:moveTo>
                <a:lnTo>
                  <a:pt x="44873" y="0"/>
                </a:lnTo>
                <a:lnTo>
                  <a:pt x="43473" y="1400"/>
                </a:lnTo>
                <a:lnTo>
                  <a:pt x="1400" y="1400"/>
                </a:lnTo>
                <a:close/>
              </a:path>
              <a:path fill="darken" w="44873" h="21600">
                <a:moveTo>
                  <a:pt x="44873" y="0"/>
                </a:moveTo>
                <a:lnTo>
                  <a:pt x="44873" y="21600"/>
                </a:lnTo>
                <a:lnTo>
                  <a:pt x="43473" y="20200"/>
                </a:lnTo>
                <a:lnTo>
                  <a:pt x="43473" y="1400"/>
                </a:lnTo>
                <a:close/>
              </a:path>
              <a:path fill="darkenLess" w="44873" h="21600">
                <a:moveTo>
                  <a:pt x="44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73" y="20200"/>
                </a:lnTo>
                <a:close/>
              </a:path>
              <a:path fill="lighten" w="44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73" h="21600">
                <a:moveTo>
                  <a:pt x="22437" y="3837"/>
                </a:moveTo>
                <a:lnTo>
                  <a:pt x="25013" y="6448"/>
                </a:lnTo>
                <a:lnTo>
                  <a:pt x="25013" y="4707"/>
                </a:lnTo>
                <a:lnTo>
                  <a:pt x="26788" y="4707"/>
                </a:lnTo>
                <a:lnTo>
                  <a:pt x="26788" y="8224"/>
                </a:lnTo>
                <a:lnTo>
                  <a:pt x="29399" y="10800"/>
                </a:lnTo>
                <a:lnTo>
                  <a:pt x="27746" y="10800"/>
                </a:lnTo>
                <a:lnTo>
                  <a:pt x="27746" y="17989"/>
                </a:lnTo>
                <a:lnTo>
                  <a:pt x="17127" y="17989"/>
                </a:lnTo>
                <a:lnTo>
                  <a:pt x="17127" y="10800"/>
                </a:lnTo>
                <a:lnTo>
                  <a:pt x="15474" y="10800"/>
                </a:lnTo>
                <a:close/>
              </a:path>
              <a:path fill="darkenLess" w="44873" h="21600">
                <a:moveTo>
                  <a:pt x="25013" y="6448"/>
                </a:moveTo>
                <a:lnTo>
                  <a:pt x="25013" y="4707"/>
                </a:lnTo>
                <a:lnTo>
                  <a:pt x="26788" y="4707"/>
                </a:lnTo>
                <a:lnTo>
                  <a:pt x="26788" y="8224"/>
                </a:lnTo>
                <a:close/>
              </a:path>
              <a:path fill="darkenLess" w="44873" h="21600">
                <a:moveTo>
                  <a:pt x="21514" y="14299"/>
                </a:moveTo>
                <a:lnTo>
                  <a:pt x="23359" y="14299"/>
                </a:lnTo>
                <a:lnTo>
                  <a:pt x="23359" y="17989"/>
                </a:lnTo>
                <a:lnTo>
                  <a:pt x="27746" y="17989"/>
                </a:lnTo>
                <a:lnTo>
                  <a:pt x="27746" y="10800"/>
                </a:lnTo>
                <a:lnTo>
                  <a:pt x="17127" y="10800"/>
                </a:lnTo>
                <a:lnTo>
                  <a:pt x="17127" y="17989"/>
                </a:lnTo>
                <a:lnTo>
                  <a:pt x="21514" y="17989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cc7a51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ctangle 7" descr=""/>
          <p:cNvPicPr/>
          <p:nvPr/>
        </p:nvPicPr>
        <p:blipFill>
          <a:blip r:embed="rId6"/>
          <a:stretch/>
        </p:blipFill>
        <p:spPr>
          <a:xfrm>
            <a:off x="7621560" y="6765840"/>
            <a:ext cx="936720" cy="7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Задача 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дух, находящийся в сосуде при атмосферном давлении при температуре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20 °С, нагревают д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0 °С. Найдите давление воздуха после его нагревания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558280" y="6910560"/>
            <a:ext cx="1187280" cy="571320"/>
          </a:xfrm>
          <a:custGeom>
            <a:avLst/>
            <a:gdLst>
              <a:gd name="textAreaLeft" fmla="*/ 36720 w 1187280"/>
              <a:gd name="textAreaRight" fmla="*/ 1150560 w 11872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4873" h="21600">
                <a:moveTo>
                  <a:pt x="0" y="0"/>
                </a:moveTo>
                <a:lnTo>
                  <a:pt x="44873" y="0"/>
                </a:lnTo>
                <a:lnTo>
                  <a:pt x="44873" y="21600"/>
                </a:lnTo>
                <a:lnTo>
                  <a:pt x="0" y="21600"/>
                </a:lnTo>
                <a:close/>
              </a:path>
              <a:path fill="lightenLess" w="44873" h="21600">
                <a:moveTo>
                  <a:pt x="0" y="0"/>
                </a:moveTo>
                <a:lnTo>
                  <a:pt x="44873" y="0"/>
                </a:lnTo>
                <a:lnTo>
                  <a:pt x="43473" y="1400"/>
                </a:lnTo>
                <a:lnTo>
                  <a:pt x="1400" y="1400"/>
                </a:lnTo>
                <a:close/>
              </a:path>
              <a:path fill="darken" w="44873" h="21600">
                <a:moveTo>
                  <a:pt x="44873" y="0"/>
                </a:moveTo>
                <a:lnTo>
                  <a:pt x="44873" y="21600"/>
                </a:lnTo>
                <a:lnTo>
                  <a:pt x="43473" y="20200"/>
                </a:lnTo>
                <a:lnTo>
                  <a:pt x="43473" y="1400"/>
                </a:lnTo>
                <a:close/>
              </a:path>
              <a:path fill="darkenLess" w="44873" h="21600">
                <a:moveTo>
                  <a:pt x="44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73" y="20200"/>
                </a:lnTo>
                <a:close/>
              </a:path>
              <a:path fill="lighten" w="44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73" h="21600">
                <a:moveTo>
                  <a:pt x="22437" y="3837"/>
                </a:moveTo>
                <a:lnTo>
                  <a:pt x="25013" y="6448"/>
                </a:lnTo>
                <a:lnTo>
                  <a:pt x="25013" y="4707"/>
                </a:lnTo>
                <a:lnTo>
                  <a:pt x="26788" y="4707"/>
                </a:lnTo>
                <a:lnTo>
                  <a:pt x="26788" y="8224"/>
                </a:lnTo>
                <a:lnTo>
                  <a:pt x="29399" y="10800"/>
                </a:lnTo>
                <a:lnTo>
                  <a:pt x="27746" y="10800"/>
                </a:lnTo>
                <a:lnTo>
                  <a:pt x="27746" y="17989"/>
                </a:lnTo>
                <a:lnTo>
                  <a:pt x="17127" y="17989"/>
                </a:lnTo>
                <a:lnTo>
                  <a:pt x="17127" y="10800"/>
                </a:lnTo>
                <a:lnTo>
                  <a:pt x="15474" y="10800"/>
                </a:lnTo>
                <a:close/>
              </a:path>
              <a:path fill="darkenLess" w="44873" h="21600">
                <a:moveTo>
                  <a:pt x="25013" y="6448"/>
                </a:moveTo>
                <a:lnTo>
                  <a:pt x="25013" y="4707"/>
                </a:lnTo>
                <a:lnTo>
                  <a:pt x="26788" y="4707"/>
                </a:lnTo>
                <a:lnTo>
                  <a:pt x="26788" y="8224"/>
                </a:lnTo>
                <a:close/>
              </a:path>
              <a:path fill="darkenLess" w="44873" h="21600">
                <a:moveTo>
                  <a:pt x="21514" y="14299"/>
                </a:moveTo>
                <a:lnTo>
                  <a:pt x="23359" y="14299"/>
                </a:lnTo>
                <a:lnTo>
                  <a:pt x="23359" y="17989"/>
                </a:lnTo>
                <a:lnTo>
                  <a:pt x="27746" y="17989"/>
                </a:lnTo>
                <a:lnTo>
                  <a:pt x="27746" y="10800"/>
                </a:lnTo>
                <a:lnTo>
                  <a:pt x="17127" y="10800"/>
                </a:lnTo>
                <a:lnTo>
                  <a:pt x="17127" y="17989"/>
                </a:lnTo>
                <a:lnTo>
                  <a:pt x="21514" y="17989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cc7a51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ectangle 7" descr=""/>
          <p:cNvPicPr/>
          <p:nvPr/>
        </p:nvPicPr>
        <p:blipFill>
          <a:blip r:embed="rId2"/>
          <a:stretch/>
        </p:blipFill>
        <p:spPr>
          <a:xfrm>
            <a:off x="7693200" y="6765840"/>
            <a:ext cx="8632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2880" y="43128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900" spc="-1" strike="noStrike">
                <a:solidFill>
                  <a:srgbClr val="221304"/>
                </a:solidFill>
                <a:latin typeface="Times New Roman"/>
              </a:rPr>
              <a:t>Домашнее задание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2880" y="1985760"/>
            <a:ext cx="838188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дух, находящийся в сосуде при атмосферном давлении при температуре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ru-RU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= 20 °С, нагревают до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0 °С. Найдите давление воздуха после его нагрев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09:52:51Z</dcterms:created>
  <dc:creator>nobody</dc:creator>
  <dc:description/>
  <dc:language>en-US</dc:language>
  <cp:lastModifiedBy>Олесенька</cp:lastModifiedBy>
  <cp:lastPrinted>2001-07-20T22:27:51Z</cp:lastPrinted>
  <dcterms:modified xsi:type="dcterms:W3CDTF">2015-03-24T16:25:03Z</dcterms:modified>
  <cp:revision>131</cp:revision>
  <dc:subject/>
  <dc:title>Слайд 1</dc:title>
</cp:coreProperties>
</file>