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3BF-D3B6-4C12-8E98-A6DD878E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AF7-1065-42B8-BC59-D945D955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D212-9187-4B35-B92D-12AF8B77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82A-B59A-4314-BB7B-1278BFAD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428E-FA47-4FBF-B87F-54E6DEF3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AB12-7D6F-410E-BB54-DC6A7CF8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982B-2D36-4B7A-A02C-EDD89C22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40C2-29D8-406C-835F-D4471A54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F223-04C1-4DCC-BE7B-CF7F6836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DC65-948F-422D-8D8A-5584F053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393C-F21A-41BF-8CB4-61A6736C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3DDD-65FB-417D-A3A8-B6782A1A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66ED-A847-48B2-9BBC-A950C115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C0E4-E8E8-4037-86C0-73C65432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9374-075C-4767-979E-EE944DF6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ADA0-7583-4F52-8A34-979899AB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B8A5-8BDF-4BCC-86F9-FAFEE2B8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52B-543B-491F-A700-C0894C33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FF7-FB22-465E-8D07-946C04B1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DDF-8064-4945-88B1-F39CC1C4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C20-DFB0-4EFD-814C-FC16B055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D834-6D49-4B85-B101-9D54ECC9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DF9-465B-4ABB-9F46-DF374261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A4A-DC74-4E2A-9A45-6ECC99FE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7294-D4A4-4B55-8137-474D1DC0EB6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7BD2-C44B-4B8A-89CE-E55AD838F41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остроение и исследование физической модел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спользованием ЭТ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ce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602136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информатики и ИКТ МОУ СОШ пос. Мизур Ревазова Ф.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какую максимальную высоту поднимется шарик при заданных значениях начальной скорости и угла бросания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каком расстоянии от исходной точки шарик упадет на землю, если нет мишени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олько времени будет находиться в полете шарик, если нет мишени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Этап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IV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Компьютерный экспериме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1476360" y="2492280"/>
            <a:ext cx="676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пределить минимальный и максимальный углы бросания мячика, обеспечивающие попадание в мишень высотой 1 м, находящуюся на расстоянии 30 м, если  скорость бросания  равна 18 м/се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1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1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763272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етод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 Подбор параметр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71640" y="1828800"/>
            <a:ext cx="741024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становить для ячеек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21:В25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очность один знак после запято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332000" y="4076640"/>
            <a:ext cx="5904000" cy="1158840"/>
            <a:chOff x="1332000" y="4076640"/>
            <a:chExt cx="5904000" cy="115884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1332000" y="4076640"/>
              <a:ext cx="590400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332000" y="4076640"/>
              <a:ext cx="5904000" cy="1152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5092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1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1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5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5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5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5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ячейку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-  формулу  (4)  для вычисления высоты мячика над земле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13372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B21*TAN(РАДИАНЫ(B23)) ‑ (9,81*B21^2)/(2*B22^2*COS(РАДИАНЫ(B23))^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71640" y="292428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ыделить ячейку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2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ввести команду: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Сервис/Подбор параметр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56000" y="4149720"/>
            <a:ext cx="4176720" cy="22096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8360" y="83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285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Этап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Анализ полученных результат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2276640"/>
            <a:ext cx="734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следование компьютерной модели показало, что существует диапазон значений угла бросания от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32,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до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36,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который обеспечивает попадание в мишень высотой 1 м, находящуюся на расстоянии 30 м, мячиком, брошенным со скоростью 18 м/с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1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1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В процессе тренировок теннисистов используются автоматы по бросанию мячика в определенное место площадки. Необходимо задать автомату нужную скорость и угол бросания мячика для попадания в мишень определенной высоты, находящуюся на известном расстоянии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Этап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Описательная информационная модел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ячик мал по сравнению с Землей, поэтому его можно считать материальной точкой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менение высоты мячика мало, поэтому ускорение свободного падения можно считать постоянной величиной g=9,8 м/с2 и движение по оси OY можно считать равноускоренным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корость бросания тела мала, поэтому сопротивлением воздуха можно пренебречь и движение по оси ОХ можно считать равномерны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Этап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II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Формализованная модел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11280" y="4005360"/>
                <a:ext cx="424980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340000" y="4653000"/>
                <a:ext cx="532764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042920" y="2565360"/>
            <a:ext cx="69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Формулы равномерного и равно-ускоренн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377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усть мишень высотой Н размеща-ется на расстоянии S от автомат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187000" y="1998000"/>
            <a:ext cx="5377320" cy="3231000"/>
            <a:chOff x="2187000" y="1998000"/>
            <a:chExt cx="5377320" cy="3231000"/>
          </a:xfrm>
        </p:grpSpPr>
        <p:sp>
          <p:nvSpPr>
            <p:cNvPr id="166" name=""/>
            <p:cNvSpPr/>
            <p:nvPr/>
          </p:nvSpPr>
          <p:spPr>
            <a:xfrm>
              <a:off x="2187000" y="1998000"/>
              <a:ext cx="4257360" cy="2124000"/>
            </a:xfrm>
            <a:custGeom>
              <a:avLst/>
              <a:gdLst/>
              <a:ahLst/>
              <a:rect l="l" t="t" r="r" b="b"/>
              <a:pathLst>
                <a:path w="3420" h="1380">
                  <a:moveTo>
                    <a:pt x="0" y="1380"/>
                  </a:moveTo>
                  <a:cubicBezTo>
                    <a:pt x="615" y="810"/>
                    <a:pt x="1230" y="240"/>
                    <a:pt x="1800" y="120"/>
                  </a:cubicBezTo>
                  <a:cubicBezTo>
                    <a:pt x="2370" y="0"/>
                    <a:pt x="2895" y="330"/>
                    <a:pt x="3420" y="6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87000" y="4122360"/>
              <a:ext cx="42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44360" y="2459160"/>
              <a:ext cx="223560" cy="1663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67920" y="2459160"/>
              <a:ext cx="44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67920" y="4122360"/>
              <a:ext cx="44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91480" y="2459160"/>
              <a:ext cx="1440" cy="16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20440" y="3013560"/>
              <a:ext cx="1440" cy="11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95080" y="3013560"/>
              <a:ext cx="44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87000" y="4122360"/>
              <a:ext cx="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87000" y="4122360"/>
              <a:ext cx="108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44360" y="4122360"/>
              <a:ext cx="108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87000" y="4398480"/>
              <a:ext cx="42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79800" y="4398480"/>
              <a:ext cx="671040" cy="8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47600" y="3291840"/>
              <a:ext cx="672840" cy="8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91480" y="2737440"/>
              <a:ext cx="672840" cy="8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268360" y="5157720"/>
            <a:ext cx="61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 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сота мячика над землей на растояни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11280" y="4762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ремя, которое потребуется мячику для преодоления расстояния 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3500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ысота мячика над землей на расстоянии 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268360" y="1628640"/>
                <a:ext cx="31338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201760" y="4365720"/>
                <a:ext cx="5821560" cy="16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74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24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64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Условия попадания мячика в мишень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92360" y="2637000"/>
            <a:ext cx="6688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&lt;=L&lt;=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-  попа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&lt;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–   недоле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&gt;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-  переле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Этап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II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Компьютерная модел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565200"/>
                <a:gridCol w="3138480"/>
                <a:gridCol w="3992400"/>
              </a:tblGrid>
              <a:tr h="4046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вижение тела, брошенного под углом к горизон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V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/с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a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ра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x=V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*cos(a)*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y=V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*sin(a)*t-9,8*t^2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=$B$2*COS(РАДИАНЫ($B$3))*A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=$B$2*SIN(РАДИАНЫ($B$3))*B6-9,8*A6^2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332000" y="4827600"/>
            <a:ext cx="1584360" cy="473040"/>
          </a:xfrm>
          <a:prstGeom prst="borderCallout1">
            <a:avLst>
              <a:gd name="adj1" fmla="val 18750"/>
              <a:gd name="adj2" fmla="val -8333"/>
              <a:gd name="adj3" fmla="val 5370"/>
              <a:gd name="adj4" fmla="val -2244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втозапол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4292640"/>
            <a:ext cx="1584360" cy="473040"/>
          </a:xfrm>
          <a:prstGeom prst="borderCallout1">
            <a:avLst>
              <a:gd name="adj1" fmla="val 18750"/>
              <a:gd name="adj2" fmla="val -8333"/>
              <a:gd name="adj3" fmla="val 5370"/>
              <a:gd name="adj4" fmla="val -2244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опиро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04000" y="4221000"/>
            <a:ext cx="1584360" cy="473400"/>
          </a:xfrm>
          <a:prstGeom prst="borderCallout1">
            <a:avLst>
              <a:gd name="adj1" fmla="val 18750"/>
              <a:gd name="adj2" fmla="val -8333"/>
              <a:gd name="adj3" fmla="val 5370"/>
              <a:gd name="adj4" fmla="val -2244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опиро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зультат рабо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042920" y="2133720"/>
            <a:ext cx="7129440" cy="3313080"/>
            <a:chOff x="1042920" y="2133720"/>
            <a:chExt cx="7129440" cy="331308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1042920" y="2133720"/>
              <a:ext cx="7127640" cy="33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8172360" y="2133720"/>
              <a:ext cx="0" cy="33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42920" y="5446800"/>
              <a:ext cx="712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57:03Z</dcterms:created>
  <dc:creator>-</dc:creator>
  <dc:description/>
  <dc:language>en-US</dc:language>
  <cp:lastModifiedBy>www.PHILka.RU</cp:lastModifiedBy>
  <dcterms:modified xsi:type="dcterms:W3CDTF">2008-02-06T11:55:44Z</dcterms:modified>
  <cp:revision>11</cp:revision>
  <dc:subject/>
  <dc:title>Построение и исследование физической модели</dc:title>
</cp:coreProperties>
</file>