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436-3365-4ECF-B490-D4E182E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C74-6907-4260-8E9F-7036BDE1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308-5171-4132-ABE4-C5F946E8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A39-F278-4357-8BDB-C1437813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23C-8780-494F-A497-69E328BD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661-C1DB-490B-B3F5-A8DC46BC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E3F0-F2F3-4BB2-8359-55CC7D6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1D08-662F-43CF-ACC2-92D297D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BBD-E129-4B8D-AFB5-C10F69C5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8A4-F6FC-4D3E-BC9F-B420362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9932-6373-4A9B-BF94-0EA34FA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EC4-D815-4CE6-806A-627FAF4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E1E3-FCDF-41EC-AB71-819CF4C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83CD-A804-414E-96A7-5AE05A5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A89-9F8B-47F4-BB22-AB07A626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2B4-CD03-4F76-A740-BB708F1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1C1-9532-4A5D-8CD5-C24F1B2E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941B-70A4-4998-9BBC-D9E8FE95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9966-25E8-4D4E-BD48-815BC91B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18EE-5B25-48A7-A5B0-24F1A1D9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8E5C-0B47-47F4-970D-E9518952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4F3F-51BB-4091-919B-AAAB363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B58-3367-4F38-A749-45B59F02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30A4-D435-4747-9E53-D76CF36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F719-0E12-4DBB-BEC3-8266CCA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CA69-40B5-4786-8EDB-6A60513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D22E-CE4A-4E98-A3EF-FEDC2E5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9387-954D-41D9-A9F3-38B4B81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0033-E65A-49D6-B79C-AB5B8B05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2F9E-93E4-4EE8-9632-08977EC2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A97-8A81-4C80-8A65-F8BA7F8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204-2B05-406E-97C7-8C0EBAB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EDC-9390-4255-90FD-2E860D06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E96-3498-4DCC-A8CB-387CD84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C14-7C44-4C7D-9703-478002C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B08-5A67-48D8-BDC3-89B58D2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237-44AD-46B7-A992-49C0F7A4D5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080-47E3-4C1E-83EF-63E72F7D84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CBB-459C-4621-94E7-8F0CE706D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делирование как метод познания. Типы моделей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рок объяснения нового материал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5292720" y="3500280"/>
            <a:ext cx="1620720" cy="2305080"/>
            <a:chOff x="5292720" y="3500280"/>
            <a:chExt cx="1620720" cy="2305080"/>
          </a:xfrm>
        </p:grpSpPr>
        <p:sp>
          <p:nvSpPr>
            <p:cNvPr id="228" name=""/>
            <p:cNvSpPr/>
            <p:nvPr/>
          </p:nvSpPr>
          <p:spPr>
            <a:xfrm>
              <a:off x="5292720" y="3500280"/>
              <a:ext cx="1584360" cy="2305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92720" y="3519360"/>
              <a:ext cx="16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951280" y="3500280"/>
            <a:ext cx="1620720" cy="2305080"/>
            <a:chOff x="2951280" y="3500280"/>
            <a:chExt cx="1620720" cy="2305080"/>
          </a:xfrm>
        </p:grpSpPr>
        <p:sp>
          <p:nvSpPr>
            <p:cNvPr id="231" name=""/>
            <p:cNvSpPr/>
            <p:nvPr/>
          </p:nvSpPr>
          <p:spPr>
            <a:xfrm>
              <a:off x="2987640" y="3500280"/>
              <a:ext cx="1584360" cy="2305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51280" y="3564000"/>
              <a:ext cx="162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Существенные свойств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1280" y="3068640"/>
            <a:ext cx="1584360" cy="27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00720" y="1700280"/>
            <a:ext cx="1584000" cy="1800000"/>
            <a:chOff x="4500720" y="1700280"/>
            <a:chExt cx="1584000" cy="1800000"/>
          </a:xfrm>
        </p:grpSpPr>
        <p:sp>
          <p:nvSpPr>
            <p:cNvPr id="238" name=""/>
            <p:cNvSpPr/>
            <p:nvPr/>
          </p:nvSpPr>
          <p:spPr>
            <a:xfrm>
              <a:off x="4500720" y="2708280"/>
              <a:ext cx="1584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00720" y="1700280"/>
              <a:ext cx="1584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979640" y="2708280"/>
            <a:ext cx="1008000" cy="2808360"/>
            <a:chOff x="1979640" y="2708280"/>
            <a:chExt cx="1008000" cy="2808360"/>
          </a:xfrm>
        </p:grpSpPr>
        <p:sp>
          <p:nvSpPr>
            <p:cNvPr id="241" name=""/>
            <p:cNvSpPr/>
            <p:nvPr/>
          </p:nvSpPr>
          <p:spPr>
            <a:xfrm flipH="1">
              <a:off x="1979640" y="2708280"/>
              <a:ext cx="100800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79640" y="2708280"/>
              <a:ext cx="10080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979640" y="2708280"/>
              <a:ext cx="100800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79640" y="393372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62000" y="549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458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551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77080" y="50846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000" y="189000"/>
            <a:ext cx="85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оцесс создания информационной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26920" y="1197000"/>
            <a:ext cx="1224000" cy="1152360"/>
            <a:chOff x="826920" y="1197000"/>
            <a:chExt cx="1224000" cy="1152360"/>
          </a:xfrm>
        </p:grpSpPr>
        <p:sp>
          <p:nvSpPr>
            <p:cNvPr id="251" name=""/>
            <p:cNvSpPr/>
            <p:nvPr/>
          </p:nvSpPr>
          <p:spPr>
            <a:xfrm>
              <a:off x="826920" y="1197000"/>
              <a:ext cx="1224000" cy="11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6920" y="1557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Объект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987640" y="1413000"/>
            <a:ext cx="1513080" cy="647640"/>
            <a:chOff x="2987640" y="1413000"/>
            <a:chExt cx="1513080" cy="647640"/>
          </a:xfrm>
        </p:grpSpPr>
        <p:sp>
          <p:nvSpPr>
            <p:cNvPr id="254" name=""/>
            <p:cNvSpPr/>
            <p:nvPr/>
          </p:nvSpPr>
          <p:spPr>
            <a:xfrm>
              <a:off x="2987640" y="1413000"/>
              <a:ext cx="151308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59280" y="155736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Субъект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87640" y="2492280"/>
            <a:ext cx="1513080" cy="432000"/>
            <a:chOff x="2987640" y="2492280"/>
            <a:chExt cx="1513080" cy="432000"/>
          </a:xfrm>
        </p:grpSpPr>
        <p:sp>
          <p:nvSpPr>
            <p:cNvPr id="257" name=""/>
            <p:cNvSpPr/>
            <p:nvPr/>
          </p:nvSpPr>
          <p:spPr>
            <a:xfrm>
              <a:off x="2987640" y="2492280"/>
              <a:ext cx="1513080" cy="432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32000" y="2492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269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войст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36640" y="3789360"/>
            <a:ext cx="1295280" cy="337320"/>
            <a:chOff x="836640" y="3789360"/>
            <a:chExt cx="1295280" cy="337320"/>
          </a:xfrm>
        </p:grpSpPr>
        <p:sp>
          <p:nvSpPr>
            <p:cNvPr id="261" name=""/>
            <p:cNvSpPr/>
            <p:nvPr/>
          </p:nvSpPr>
          <p:spPr>
            <a:xfrm>
              <a:off x="900000" y="378936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6640" y="37893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92000" y="4419720"/>
            <a:ext cx="1295640" cy="337320"/>
            <a:chOff x="792000" y="4419720"/>
            <a:chExt cx="1295640" cy="337320"/>
          </a:xfrm>
        </p:grpSpPr>
        <p:sp>
          <p:nvSpPr>
            <p:cNvPr id="264" name=""/>
            <p:cNvSpPr/>
            <p:nvPr/>
          </p:nvSpPr>
          <p:spPr>
            <a:xfrm>
              <a:off x="900000" y="443700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2000" y="4419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92000" y="5364000"/>
            <a:ext cx="1295640" cy="337320"/>
            <a:chOff x="792000" y="5364000"/>
            <a:chExt cx="1295640" cy="337320"/>
          </a:xfrm>
        </p:grpSpPr>
        <p:sp>
          <p:nvSpPr>
            <p:cNvPr id="267" name=""/>
            <p:cNvSpPr/>
            <p:nvPr/>
          </p:nvSpPr>
          <p:spPr>
            <a:xfrm>
              <a:off x="900000" y="5373720"/>
              <a:ext cx="1081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000" y="5364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176640" y="4419720"/>
            <a:ext cx="1295280" cy="337320"/>
            <a:chOff x="3176640" y="4419720"/>
            <a:chExt cx="1295280" cy="337320"/>
          </a:xfrm>
        </p:grpSpPr>
        <p:sp>
          <p:nvSpPr>
            <p:cNvPr id="270" name=""/>
            <p:cNvSpPr/>
            <p:nvPr/>
          </p:nvSpPr>
          <p:spPr>
            <a:xfrm>
              <a:off x="3276720" y="443700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76640" y="4419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72000" y="4238640"/>
            <a:ext cx="1295640" cy="622440"/>
            <a:chOff x="5472000" y="4238640"/>
            <a:chExt cx="1295640" cy="622440"/>
          </a:xfrm>
        </p:grpSpPr>
        <p:sp>
          <p:nvSpPr>
            <p:cNvPr id="273" name=""/>
            <p:cNvSpPr/>
            <p:nvPr/>
          </p:nvSpPr>
          <p:spPr>
            <a:xfrm>
              <a:off x="5516640" y="4238640"/>
              <a:ext cx="1150920" cy="622440"/>
            </a:xfrm>
            <a:prstGeom prst="flowChartPunchedCar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2000" y="4284720"/>
              <a:ext cx="1295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Информация о свойстве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472000" y="5138640"/>
            <a:ext cx="1295640" cy="611280"/>
            <a:chOff x="5472000" y="5138640"/>
            <a:chExt cx="1295640" cy="611280"/>
          </a:xfrm>
        </p:grpSpPr>
        <p:sp>
          <p:nvSpPr>
            <p:cNvPr id="276" name=""/>
            <p:cNvSpPr/>
            <p:nvPr/>
          </p:nvSpPr>
          <p:spPr>
            <a:xfrm>
              <a:off x="5516640" y="5138640"/>
              <a:ext cx="1150920" cy="611280"/>
            </a:xfrm>
            <a:prstGeom prst="flowChartPunchedCar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72000" y="5184720"/>
              <a:ext cx="1295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Информация о свойстве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402000" y="477828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2000" y="477828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97360" y="468936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451640" y="4734000"/>
            <a:ext cx="1297080" cy="720720"/>
            <a:chOff x="7451640" y="4734000"/>
            <a:chExt cx="1297080" cy="720720"/>
          </a:xfrm>
        </p:grpSpPr>
        <p:sp>
          <p:nvSpPr>
            <p:cNvPr id="282" name=""/>
            <p:cNvSpPr/>
            <p:nvPr/>
          </p:nvSpPr>
          <p:spPr>
            <a:xfrm>
              <a:off x="7451640" y="4734000"/>
              <a:ext cx="1297080" cy="72072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1640" y="4778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Инф. модель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76640" y="5364000"/>
            <a:ext cx="1295280" cy="337320"/>
            <a:chOff x="3176640" y="5364000"/>
            <a:chExt cx="1295280" cy="337320"/>
          </a:xfrm>
        </p:grpSpPr>
        <p:sp>
          <p:nvSpPr>
            <p:cNvPr id="285" name=""/>
            <p:cNvSpPr/>
            <p:nvPr/>
          </p:nvSpPr>
          <p:spPr>
            <a:xfrm>
              <a:off x="3276720" y="5373720"/>
              <a:ext cx="1081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76640" y="5364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4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4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375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69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69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19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19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69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190"/>
                            </p:stCondLst>
                            <p:childTnLst>
                              <p:par>
                                <p:cTn id="2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69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44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94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8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8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8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68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3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13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3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28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38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48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8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63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8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8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98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13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2299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38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Моделирование –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это метод познания, состоящий в создании и изучении модел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284640"/>
            <a:ext cx="2592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076640"/>
            <a:ext cx="2592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Мод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4869000"/>
            <a:ext cx="2592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зучение модел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5661000"/>
            <a:ext cx="2592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нания об объек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82560" y="3645000"/>
            <a:ext cx="1800" cy="431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4437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5229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256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роцесс моделир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5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25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25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75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75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25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25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92360" y="2060640"/>
            <a:ext cx="1655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052640"/>
            <a:ext cx="2519280" cy="57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4221000"/>
            <a:ext cx="2519280" cy="648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5157720"/>
            <a:ext cx="2448000" cy="115092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2421000"/>
            <a:ext cx="1944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12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 А Д А Ч 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349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 модели-р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УБЪЕКТ моделир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3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ОД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5157720"/>
            <a:ext cx="216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нформация об объекте, необходимая для решения задач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852640"/>
            <a:ext cx="2808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3357720"/>
            <a:ext cx="1440000" cy="8632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63640" y="3357720"/>
            <a:ext cx="1584360" cy="8632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1628640"/>
            <a:ext cx="1368360" cy="7923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4869000"/>
            <a:ext cx="0" cy="288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7162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Соответствие (подобие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16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42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852640"/>
            <a:ext cx="2808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242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2852640"/>
            <a:ext cx="2808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42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852640"/>
            <a:ext cx="2808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2924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Исследов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1159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Общая схема моделир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95640" y="328464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68640"/>
            <a:ext cx="72010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Модель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  - это упрощенное подобие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реального объекта или процесса,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которое отражает существенные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свойства объекта в зависимости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от целей моделирования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фикация мод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38080" y="2362320"/>
            <a:ext cx="7692840" cy="4235040"/>
            <a:chOff x="838080" y="2362320"/>
            <a:chExt cx="7692840" cy="4235040"/>
          </a:xfrm>
        </p:grpSpPr>
        <p:cxnSp>
          <p:nvCxnSpPr>
            <p:cNvPr id="176" name="_s45097"/>
            <p:cNvCxnSpPr>
              <a:stCxn id="177" idx="1"/>
              <a:endCxn id="178" idx="2"/>
            </p:cNvCxnSpPr>
            <p:nvPr/>
          </p:nvCxnSpPr>
          <p:spPr>
            <a:xfrm rot="10800000">
              <a:off x="6947280" y="3607200"/>
              <a:ext cx="226800" cy="27410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79" name="_s45095"/>
            <p:cNvCxnSpPr>
              <a:stCxn id="180" idx="1"/>
              <a:endCxn id="178" idx="2"/>
            </p:cNvCxnSpPr>
            <p:nvPr/>
          </p:nvCxnSpPr>
          <p:spPr>
            <a:xfrm rot="10800000">
              <a:off x="6947280" y="3607920"/>
              <a:ext cx="226800" cy="1993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1" name="_s45093"/>
            <p:cNvCxnSpPr>
              <a:stCxn id="182" idx="1"/>
              <a:endCxn id="178" idx="2"/>
            </p:cNvCxnSpPr>
            <p:nvPr/>
          </p:nvCxnSpPr>
          <p:spPr>
            <a:xfrm rot="10800000">
              <a:off x="694728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3" name="_s45091"/>
            <p:cNvCxnSpPr>
              <a:stCxn id="184" idx="1"/>
              <a:endCxn id="178" idx="2"/>
            </p:cNvCxnSpPr>
            <p:nvPr/>
          </p:nvCxnSpPr>
          <p:spPr>
            <a:xfrm rot="10800000">
              <a:off x="694728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5" name="_s45089"/>
            <p:cNvCxnSpPr>
              <a:stCxn id="186" idx="1"/>
              <a:endCxn id="187" idx="2"/>
            </p:cNvCxnSpPr>
            <p:nvPr/>
          </p:nvCxnSpPr>
          <p:spPr>
            <a:xfrm rot="10800000">
              <a:off x="513720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8" name="_s45087"/>
            <p:cNvCxnSpPr>
              <a:stCxn id="189" idx="1"/>
              <a:endCxn id="187" idx="2"/>
            </p:cNvCxnSpPr>
            <p:nvPr/>
          </p:nvCxnSpPr>
          <p:spPr>
            <a:xfrm rot="10800000">
              <a:off x="513720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90" name="_s45085"/>
            <p:cNvCxnSpPr>
              <a:stCxn id="191" idx="1"/>
              <a:endCxn id="192" idx="2"/>
            </p:cNvCxnSpPr>
            <p:nvPr/>
          </p:nvCxnSpPr>
          <p:spPr>
            <a:xfrm rot="10800000">
              <a:off x="332604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93" name="_s45083"/>
            <p:cNvCxnSpPr>
              <a:stCxn id="194" idx="1"/>
              <a:endCxn id="192" idx="2"/>
            </p:cNvCxnSpPr>
            <p:nvPr/>
          </p:nvCxnSpPr>
          <p:spPr>
            <a:xfrm rot="10800000">
              <a:off x="332604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95" name="_s45079"/>
            <p:cNvCxnSpPr>
              <a:stCxn id="196" idx="1"/>
              <a:endCxn id="197" idx="2"/>
            </p:cNvCxnSpPr>
            <p:nvPr/>
          </p:nvCxnSpPr>
          <p:spPr>
            <a:xfrm rot="10800000">
              <a:off x="1516320" y="3607200"/>
              <a:ext cx="226800" cy="27410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98" name="_s45077"/>
            <p:cNvCxnSpPr>
              <a:stCxn id="199" idx="1"/>
              <a:endCxn id="197" idx="2"/>
            </p:cNvCxnSpPr>
            <p:nvPr/>
          </p:nvCxnSpPr>
          <p:spPr>
            <a:xfrm rot="10800000">
              <a:off x="1516320" y="3607920"/>
              <a:ext cx="226800" cy="1993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0" name="_s45075"/>
            <p:cNvCxnSpPr>
              <a:stCxn id="201" idx="1"/>
              <a:endCxn id="197" idx="2"/>
            </p:cNvCxnSpPr>
            <p:nvPr/>
          </p:nvCxnSpPr>
          <p:spPr>
            <a:xfrm rot="10800000">
              <a:off x="151632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2" name="_s45073"/>
            <p:cNvCxnSpPr>
              <a:stCxn id="203" idx="1"/>
              <a:endCxn id="197" idx="2"/>
            </p:cNvCxnSpPr>
            <p:nvPr/>
          </p:nvCxnSpPr>
          <p:spPr>
            <a:xfrm rot="10800000">
              <a:off x="1516320" y="3607200"/>
              <a:ext cx="226800" cy="4989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4" name="_s45071"/>
            <p:cNvCxnSpPr>
              <a:stCxn id="178" idx="0"/>
              <a:endCxn id="205" idx="2"/>
            </p:cNvCxnSpPr>
            <p:nvPr/>
          </p:nvCxnSpPr>
          <p:spPr>
            <a:xfrm flipV="1" rot="16200000">
              <a:off x="5465160" y="1626840"/>
              <a:ext cx="249840" cy="271620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6" name="_s45068"/>
            <p:cNvCxnSpPr>
              <a:stCxn id="187" idx="0"/>
              <a:endCxn id="205" idx="2"/>
            </p:cNvCxnSpPr>
            <p:nvPr/>
          </p:nvCxnSpPr>
          <p:spPr>
            <a:xfrm flipV="1" rot="16200000">
              <a:off x="4560120" y="2531880"/>
              <a:ext cx="249840" cy="90612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7" name="_s45067"/>
            <p:cNvCxnSpPr>
              <a:stCxn id="192" idx="0"/>
              <a:endCxn id="205" idx="2"/>
            </p:cNvCxnSpPr>
            <p:nvPr/>
          </p:nvCxnSpPr>
          <p:spPr>
            <a:xfrm flipH="1" flipV="1" rot="5400000">
              <a:off x="3654360" y="2531880"/>
              <a:ext cx="249840" cy="90612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08" name="_s45066"/>
            <p:cNvCxnSpPr>
              <a:stCxn id="197" idx="0"/>
              <a:endCxn id="205" idx="2"/>
            </p:cNvCxnSpPr>
            <p:nvPr/>
          </p:nvCxnSpPr>
          <p:spPr>
            <a:xfrm flipH="1" flipV="1" rot="5400000">
              <a:off x="2749680" y="1627200"/>
              <a:ext cx="249840" cy="271584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05" name="_s45062"/>
            <p:cNvSpPr/>
            <p:nvPr/>
          </p:nvSpPr>
          <p:spPr>
            <a:xfrm>
              <a:off x="3553200" y="236232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Модел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_s45063"/>
            <p:cNvSpPr/>
            <p:nvPr/>
          </p:nvSpPr>
          <p:spPr>
            <a:xfrm>
              <a:off x="83808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области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использова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_s45064"/>
            <p:cNvSpPr/>
            <p:nvPr/>
          </p:nvSpPr>
          <p:spPr>
            <a:xfrm>
              <a:off x="264744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учету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фактора времени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_s45065"/>
            <p:cNvSpPr/>
            <p:nvPr/>
          </p:nvSpPr>
          <p:spPr>
            <a:xfrm>
              <a:off x="445896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способу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редставле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_s45070"/>
            <p:cNvSpPr/>
            <p:nvPr/>
          </p:nvSpPr>
          <p:spPr>
            <a:xfrm>
              <a:off x="626868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отрасли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зна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_s45072"/>
            <p:cNvSpPr/>
            <p:nvPr/>
          </p:nvSpPr>
          <p:spPr>
            <a:xfrm>
              <a:off x="1743480" y="3857040"/>
              <a:ext cx="13564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Учебные 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_s45074"/>
            <p:cNvSpPr/>
            <p:nvPr/>
          </p:nvSpPr>
          <p:spPr>
            <a:xfrm>
              <a:off x="1743480" y="4604400"/>
              <a:ext cx="13564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Опыт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_s45076"/>
            <p:cNvSpPr/>
            <p:nvPr/>
          </p:nvSpPr>
          <p:spPr>
            <a:xfrm>
              <a:off x="1743480" y="535176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Научно-техн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_s45078"/>
            <p:cNvSpPr/>
            <p:nvPr/>
          </p:nvSpPr>
          <p:spPr>
            <a:xfrm>
              <a:off x="1743480" y="609912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гров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_s45082"/>
            <p:cNvSpPr/>
            <p:nvPr/>
          </p:nvSpPr>
          <p:spPr>
            <a:xfrm>
              <a:off x="3553200" y="385704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Динам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_s45084"/>
            <p:cNvSpPr/>
            <p:nvPr/>
          </p:nvSpPr>
          <p:spPr>
            <a:xfrm>
              <a:off x="3553200" y="4604400"/>
              <a:ext cx="13582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Стат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_s45086"/>
            <p:cNvSpPr/>
            <p:nvPr/>
          </p:nvSpPr>
          <p:spPr>
            <a:xfrm>
              <a:off x="5364360" y="385704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Материаль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_s45088"/>
            <p:cNvSpPr/>
            <p:nvPr/>
          </p:nvSpPr>
          <p:spPr>
            <a:xfrm>
              <a:off x="5364360" y="460440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нформацион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_s45090"/>
            <p:cNvSpPr/>
            <p:nvPr/>
          </p:nvSpPr>
          <p:spPr>
            <a:xfrm>
              <a:off x="7174440" y="385704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стор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_s45092"/>
            <p:cNvSpPr/>
            <p:nvPr/>
          </p:nvSpPr>
          <p:spPr>
            <a:xfrm>
              <a:off x="7174440" y="460440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Биолог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_s45094"/>
            <p:cNvSpPr/>
            <p:nvPr/>
          </p:nvSpPr>
          <p:spPr>
            <a:xfrm>
              <a:off x="7174440" y="535176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Физ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_s45096"/>
            <p:cNvSpPr/>
            <p:nvPr/>
          </p:nvSpPr>
          <p:spPr>
            <a:xfrm>
              <a:off x="7174440" y="609912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Хим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157720" y="3789360"/>
            <a:ext cx="355464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ая модел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это описание объекта в некоторой форм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27000" y="2484360"/>
            <a:ext cx="373536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Материаль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воспроизводят геомет-рические и физические свойства оригинала и всегда имеют реальное воплощ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териальные и информационные модел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ипы информационных мод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ловесные (вербальны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рафические (карта, схема, чертеж, диаграмма, график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бличные (БД, ЭТ и д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5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1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1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1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7775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ин атом кислорода и два атома водород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-О-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У тебя нет ни вкуса, ни цвета, ни запаха, тебя не опишешь, тобой надо наслаждаться, не понимая, что ты такое. Ты просто необходима для жизни, ты и есть сама жизнь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. де Сент-Экзюпер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дин объект – несколько мод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5373720"/>
            <a:ext cx="1152720" cy="504720"/>
            <a:chOff x="900000" y="5373720"/>
            <a:chExt cx="1152720" cy="504720"/>
          </a:xfrm>
        </p:grpSpPr>
        <p:grpSp>
          <p:nvGrpSpPr>
            <p:cNvPr id="217" name=""/>
            <p:cNvGrpSpPr/>
            <p:nvPr/>
          </p:nvGrpSpPr>
          <p:grpSpPr>
            <a:xfrm>
              <a:off x="1476360" y="5373720"/>
              <a:ext cx="576360" cy="504720"/>
              <a:chOff x="1476360" y="5373720"/>
              <a:chExt cx="576360" cy="504720"/>
            </a:xfrm>
          </p:grpSpPr>
          <p:sp>
            <p:nvSpPr>
              <p:cNvPr id="218" name=""/>
              <p:cNvSpPr/>
              <p:nvPr/>
            </p:nvSpPr>
            <p:spPr>
              <a:xfrm>
                <a:off x="1547640" y="5373720"/>
                <a:ext cx="432000" cy="43164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76360" y="5661000"/>
                <a:ext cx="21744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35280" y="5661000"/>
                <a:ext cx="21744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900000" y="5445000"/>
              <a:ext cx="142920" cy="1447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3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92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есколько объектов – одна модел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Ша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лес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я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ан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2421000"/>
            <a:ext cx="792000" cy="2520720"/>
          </a:xfrm>
          <a:custGeom>
            <a:avLst/>
            <a:gdLst>
              <a:gd name="textAreaLeft" fmla="*/ 0 w 792000"/>
              <a:gd name="textAreaRight" fmla="*/ 285840 w 792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6720" y="3213000"/>
            <a:ext cx="1297080" cy="12970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3429000"/>
            <a:ext cx="1008000" cy="576360"/>
          </a:xfrm>
          <a:prstGeom prst="rightArrow">
            <a:avLst>
              <a:gd name="adj1" fmla="val 50000"/>
              <a:gd name="adj2" fmla="val 43723"/>
            </a:avLst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5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25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1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15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3:42:54Z</dcterms:created>
  <dc:creator>-</dc:creator>
  <dc:description/>
  <dc:language>en-US</dc:language>
  <cp:lastModifiedBy>-</cp:lastModifiedBy>
  <dcterms:modified xsi:type="dcterms:W3CDTF">2007-02-05T14:51:38Z</dcterms:modified>
  <cp:revision>20</cp:revision>
  <dc:subject/>
  <dc:title>Моделирование как метод познания. Типы моделей</dc:title>
</cp:coreProperties>
</file>