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830-0052-40BE-A656-B47EB17F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7DE-F0C7-474A-91D4-06857529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44E-D213-474A-BE7A-11401858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867-EC3D-4055-A425-A05D3C39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B25F-3D8C-4A21-8E75-0625BA7F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042B-1682-4325-9B6D-4E1639DD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D7B1-B48C-41A4-A5C8-679638BE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E500-C01F-4C1D-AFF9-15B00923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AFCE-9CB2-4F00-9AF7-3DC3E9CB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3943-790A-4E55-91AD-5CE6AB00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73B3-5A9C-438F-954F-D3A3736E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3FE-EBD5-4E92-BEF3-9695C5D1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8C67-4B87-40E0-88E7-D725A663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4B78-6F53-4959-A304-1557866C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9AB8-F5B1-470E-A934-65A0606A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D206-4821-42E1-A859-C13B4644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8243-F5FE-4366-9CAF-79114763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ED78A-3BE3-4A4C-B484-5E7257C7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1E97D-71B9-4E66-AAED-147F0A30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BA1F9-129E-4750-A705-119F66AB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B71B9-272F-4047-8670-53CAF660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AA799-5770-4213-A853-19A32D52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BB8B-66AB-42A4-928A-866693E1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4C6C-D9F1-42BA-A8B2-335D96D0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067C7-9846-4678-8CFE-901E786A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A5C3-B5A2-4E6F-8F79-6267D06F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455D5-350F-441E-97D7-D25D8847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43F19-EA2B-45C1-98BF-8ABDF3E0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2DE3B-0584-4D8D-97CA-86E63B96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6D3E-84F5-4714-99A4-24110E82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9C4C6-77EF-4AFD-97ED-CD413207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7E80D-6811-4903-8247-BB9DE21E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441F8-6FC9-45F5-8DB7-DE8BD66D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EA2-FC9E-462C-AD31-08C1535D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F58EF-8658-497F-8F36-996E91C9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74FFD-1F0F-46AD-A015-F3FB3C59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4CD94-A661-41BA-B8C2-5D61E257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64543-CBD0-4636-A766-7A48749A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80CD7-B882-45B7-B9F0-9C69541E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74F2B-02EC-432D-8ED7-98B89828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64A03-B13F-4D56-B977-0EDFDC13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59A85-B786-4DFF-B835-8540BFAA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59C03-45B8-4FA1-AB71-3B17F8D4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41F70-C4B6-42AC-B8C2-FCC561BA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BFF-220A-4817-BEBB-FF11FD2E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57E32-4D0B-4D75-AA09-BF6DE9E9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5DA04-E20E-4A2B-8845-53AE940E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38A6C-82A8-4B5D-9310-75028297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3358F-FCB1-41DA-813F-FA3852F2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57541-1F5E-4EF2-B040-FF60E40D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EA2BB-911A-4DC5-BCD5-1A792631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DE066-F4CB-44FF-BD01-A7FEE8AF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9531F-AF02-48FE-80F4-6EE2B108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F7947-10E7-4BF5-987F-22F7CC5E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988EF-9EDE-4B69-988F-D1FCADD0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DEB-A759-4992-8533-7C8E6103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8B62C-71D6-4361-928A-4790CB1A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488-DCF5-432D-98B4-3A5A8889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46D6-B827-4754-834C-BFED8BA1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BBE-AC0E-4C71-B0DF-7DBF919C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9E48-B337-45BC-923F-6A2EA79E41E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A663-B3F9-44AB-835D-5573012DD8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E440-7B04-468F-B840-E5D7D02D1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C853-3704-441E-8B28-4B5DD77207A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655F-D774-4D7B-AE87-B25A186A534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4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Методическая разработка по теме «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Моделирование и формализаци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716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66"/>
                </a:solidFill>
                <a:latin typeface="Arial"/>
              </a:rPr>
              <a:t>учителя информатики и ИКТ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66"/>
                </a:solidFill>
                <a:latin typeface="Arial"/>
              </a:rPr>
              <a:t>МОУ СОШ п.Мизур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66"/>
                </a:solidFill>
                <a:latin typeface="Arial"/>
              </a:rPr>
              <a:t>Ревазовой Ф.Ф.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сследование геоинформационных, физических и химических систем и процессов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3492360" y="1773360"/>
            <a:ext cx="5004000" cy="375444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403280" y="2637000"/>
            <a:ext cx="4103640" cy="32828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4716360" y="3284640"/>
            <a:ext cx="36576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«Модель! Как много в этом слове…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«Модель! Как много в этом слове…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«Я б в конструкторы пошел! Пусть меня научат!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«Все подружки по парам…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Ассоциаци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Визуализац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Тест-эстафе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Бури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Сказка-граф (домашнее задани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з стандарта среднего (полного) общего образования по информатике и ИТ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258920" y="3645000"/>
            <a:ext cx="741672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здания простейших моделей и процессов в виде изображений и чертежей, динамических (электронных) таблиц,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ведения компьютерных экспериментов с использованием готовых моделей и процесс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здания информационных объектов, в том числе для оформления результатов учебной деятель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2349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«…ученик должен … использовать приобретенные знания и навыки в практической деятельности и повседневной жизни … для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2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2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2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620"/>
                            </p:stCondLst>
                            <p:childTnLst>
                              <p:par>
                                <p:cTn id="1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62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662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ланирование те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оделирование как метод познания. Типы модел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истемный подход в моделирован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ипы информационных моделей. Табличные модел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одели на графах. Иерархические и сетевые информационные модел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ые этапы разработки и исследования моделей на компьютер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строение и исследование физических моделей в электронных таблицах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следование геоинформационных, физических и химических систем и процесс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фикация модел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38080" y="2362320"/>
            <a:ext cx="7692840" cy="4235040"/>
            <a:chOff x="838080" y="2362320"/>
            <a:chExt cx="7692840" cy="4235040"/>
          </a:xfrm>
        </p:grpSpPr>
        <p:cxnSp>
          <p:nvCxnSpPr>
            <p:cNvPr id="295" name="_s19461"/>
            <p:cNvCxnSpPr>
              <a:stCxn id="296" idx="1"/>
              <a:endCxn id="297" idx="2"/>
            </p:cNvCxnSpPr>
            <p:nvPr/>
          </p:nvCxnSpPr>
          <p:spPr>
            <a:xfrm rot="10800000">
              <a:off x="6947280" y="3607200"/>
              <a:ext cx="226800" cy="274104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98" name="_s19462"/>
            <p:cNvCxnSpPr>
              <a:stCxn id="299" idx="1"/>
              <a:endCxn id="297" idx="2"/>
            </p:cNvCxnSpPr>
            <p:nvPr/>
          </p:nvCxnSpPr>
          <p:spPr>
            <a:xfrm rot="10800000">
              <a:off x="6947280" y="3607920"/>
              <a:ext cx="226800" cy="19933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00" name="_s19463"/>
            <p:cNvCxnSpPr>
              <a:stCxn id="301" idx="1"/>
              <a:endCxn id="297" idx="2"/>
            </p:cNvCxnSpPr>
            <p:nvPr/>
          </p:nvCxnSpPr>
          <p:spPr>
            <a:xfrm rot="10800000">
              <a:off x="6947280" y="3607200"/>
              <a:ext cx="226800" cy="12463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02" name="_s19464"/>
            <p:cNvCxnSpPr>
              <a:stCxn id="303" idx="1"/>
              <a:endCxn id="297" idx="2"/>
            </p:cNvCxnSpPr>
            <p:nvPr/>
          </p:nvCxnSpPr>
          <p:spPr>
            <a:xfrm rot="10800000">
              <a:off x="6947280" y="3607200"/>
              <a:ext cx="226800" cy="4971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04" name="_s19465"/>
            <p:cNvCxnSpPr>
              <a:stCxn id="305" idx="1"/>
              <a:endCxn id="306" idx="2"/>
            </p:cNvCxnSpPr>
            <p:nvPr/>
          </p:nvCxnSpPr>
          <p:spPr>
            <a:xfrm rot="10800000">
              <a:off x="5137200" y="3607200"/>
              <a:ext cx="226800" cy="12463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07" name="_s19466"/>
            <p:cNvCxnSpPr>
              <a:stCxn id="308" idx="1"/>
              <a:endCxn id="306" idx="2"/>
            </p:cNvCxnSpPr>
            <p:nvPr/>
          </p:nvCxnSpPr>
          <p:spPr>
            <a:xfrm rot="10800000">
              <a:off x="5137200" y="3607200"/>
              <a:ext cx="226800" cy="4971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09" name="_s19467"/>
            <p:cNvCxnSpPr>
              <a:stCxn id="310" idx="1"/>
              <a:endCxn id="311" idx="2"/>
            </p:cNvCxnSpPr>
            <p:nvPr/>
          </p:nvCxnSpPr>
          <p:spPr>
            <a:xfrm rot="10800000">
              <a:off x="3326040" y="3607200"/>
              <a:ext cx="226800" cy="12463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12" name="_s19468"/>
            <p:cNvCxnSpPr>
              <a:stCxn id="313" idx="1"/>
              <a:endCxn id="311" idx="2"/>
            </p:cNvCxnSpPr>
            <p:nvPr/>
          </p:nvCxnSpPr>
          <p:spPr>
            <a:xfrm rot="10800000">
              <a:off x="3326040" y="3607200"/>
              <a:ext cx="226800" cy="4971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14" name="_s19469"/>
            <p:cNvCxnSpPr>
              <a:stCxn id="315" idx="1"/>
              <a:endCxn id="316" idx="2"/>
            </p:cNvCxnSpPr>
            <p:nvPr/>
          </p:nvCxnSpPr>
          <p:spPr>
            <a:xfrm rot="10800000">
              <a:off x="1516320" y="3607200"/>
              <a:ext cx="226800" cy="274104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17" name="_s19470"/>
            <p:cNvCxnSpPr>
              <a:stCxn id="318" idx="1"/>
              <a:endCxn id="316" idx="2"/>
            </p:cNvCxnSpPr>
            <p:nvPr/>
          </p:nvCxnSpPr>
          <p:spPr>
            <a:xfrm rot="10800000">
              <a:off x="1516320" y="3607920"/>
              <a:ext cx="226800" cy="19933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19" name="_s19471"/>
            <p:cNvCxnSpPr>
              <a:stCxn id="320" idx="1"/>
              <a:endCxn id="316" idx="2"/>
            </p:cNvCxnSpPr>
            <p:nvPr/>
          </p:nvCxnSpPr>
          <p:spPr>
            <a:xfrm rot="10800000">
              <a:off x="1516320" y="3607200"/>
              <a:ext cx="226800" cy="12463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21" name="_s19472"/>
            <p:cNvCxnSpPr>
              <a:stCxn id="322" idx="1"/>
              <a:endCxn id="316" idx="2"/>
            </p:cNvCxnSpPr>
            <p:nvPr/>
          </p:nvCxnSpPr>
          <p:spPr>
            <a:xfrm rot="10800000">
              <a:off x="1516320" y="3607200"/>
              <a:ext cx="226800" cy="4989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23" name="_s19473"/>
            <p:cNvCxnSpPr>
              <a:stCxn id="297" idx="0"/>
              <a:endCxn id="324" idx="2"/>
            </p:cNvCxnSpPr>
            <p:nvPr/>
          </p:nvCxnSpPr>
          <p:spPr>
            <a:xfrm flipV="1" rot="16200000">
              <a:off x="5465160" y="1626840"/>
              <a:ext cx="249840" cy="2716200"/>
            </a:xfrm>
            <a:prstGeom prst="bentConnector3">
              <a:avLst>
                <a:gd name="adj1" fmla="val 457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25" name="_s19474"/>
            <p:cNvCxnSpPr>
              <a:stCxn id="306" idx="0"/>
              <a:endCxn id="324" idx="2"/>
            </p:cNvCxnSpPr>
            <p:nvPr/>
          </p:nvCxnSpPr>
          <p:spPr>
            <a:xfrm flipV="1" rot="16200000">
              <a:off x="4560120" y="2531880"/>
              <a:ext cx="249840" cy="906120"/>
            </a:xfrm>
            <a:prstGeom prst="bentConnector3">
              <a:avLst>
                <a:gd name="adj1" fmla="val 457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26" name="_s19475"/>
            <p:cNvCxnSpPr>
              <a:stCxn id="311" idx="0"/>
              <a:endCxn id="324" idx="2"/>
            </p:cNvCxnSpPr>
            <p:nvPr/>
          </p:nvCxnSpPr>
          <p:spPr>
            <a:xfrm flipH="1" flipV="1" rot="5400000">
              <a:off x="3654360" y="2531880"/>
              <a:ext cx="249840" cy="906120"/>
            </a:xfrm>
            <a:prstGeom prst="bentConnector3">
              <a:avLst>
                <a:gd name="adj1" fmla="val 457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27" name="_s19476"/>
            <p:cNvCxnSpPr>
              <a:stCxn id="316" idx="0"/>
              <a:endCxn id="324" idx="2"/>
            </p:cNvCxnSpPr>
            <p:nvPr/>
          </p:nvCxnSpPr>
          <p:spPr>
            <a:xfrm flipH="1" flipV="1" rot="5400000">
              <a:off x="2749680" y="1627200"/>
              <a:ext cx="249840" cy="2715840"/>
            </a:xfrm>
            <a:prstGeom prst="bentConnector3">
              <a:avLst>
                <a:gd name="adj1" fmla="val 457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324" name="_s19477"/>
            <p:cNvSpPr/>
            <p:nvPr/>
          </p:nvSpPr>
          <p:spPr>
            <a:xfrm>
              <a:off x="3553200" y="2362320"/>
              <a:ext cx="13582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Модели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6" name="_s19478"/>
            <p:cNvSpPr/>
            <p:nvPr/>
          </p:nvSpPr>
          <p:spPr>
            <a:xfrm>
              <a:off x="838080" y="3109680"/>
              <a:ext cx="13582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Arial"/>
                </a:rPr>
                <a:t>По области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Arial"/>
                </a:rPr>
                <a:t>использования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_s19479"/>
            <p:cNvSpPr/>
            <p:nvPr/>
          </p:nvSpPr>
          <p:spPr>
            <a:xfrm>
              <a:off x="2647440" y="3109680"/>
              <a:ext cx="13582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Arial"/>
                </a:rPr>
                <a:t>По учету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Arial"/>
                </a:rPr>
                <a:t>фактора времени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6" name="_s19480"/>
            <p:cNvSpPr/>
            <p:nvPr/>
          </p:nvSpPr>
          <p:spPr>
            <a:xfrm>
              <a:off x="4458960" y="3109680"/>
              <a:ext cx="13582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Arial"/>
                </a:rPr>
                <a:t>По способу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Arial"/>
                </a:rPr>
                <a:t>представления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_s19481"/>
            <p:cNvSpPr/>
            <p:nvPr/>
          </p:nvSpPr>
          <p:spPr>
            <a:xfrm>
              <a:off x="6268680" y="3109680"/>
              <a:ext cx="13582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Arial"/>
                </a:rPr>
                <a:t>По отрасли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Arial"/>
                </a:rPr>
                <a:t>знания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2" name="_s19482"/>
            <p:cNvSpPr/>
            <p:nvPr/>
          </p:nvSpPr>
          <p:spPr>
            <a:xfrm>
              <a:off x="1743480" y="3857040"/>
              <a:ext cx="13564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Учебные 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0" name="_s19483"/>
            <p:cNvSpPr/>
            <p:nvPr/>
          </p:nvSpPr>
          <p:spPr>
            <a:xfrm>
              <a:off x="1743480" y="4604400"/>
              <a:ext cx="13564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Опытны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_s19484"/>
            <p:cNvSpPr/>
            <p:nvPr/>
          </p:nvSpPr>
          <p:spPr>
            <a:xfrm>
              <a:off x="1743480" y="5351760"/>
              <a:ext cx="13582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Научно-технически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_s19485"/>
            <p:cNvSpPr/>
            <p:nvPr/>
          </p:nvSpPr>
          <p:spPr>
            <a:xfrm>
              <a:off x="1743480" y="6099120"/>
              <a:ext cx="1358280" cy="498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Игровы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_s19486"/>
            <p:cNvSpPr/>
            <p:nvPr/>
          </p:nvSpPr>
          <p:spPr>
            <a:xfrm>
              <a:off x="3553200" y="3857040"/>
              <a:ext cx="1356840" cy="496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Динамически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_s19487"/>
            <p:cNvSpPr/>
            <p:nvPr/>
          </p:nvSpPr>
          <p:spPr>
            <a:xfrm>
              <a:off x="3553200" y="4604400"/>
              <a:ext cx="1358280" cy="496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Статически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8" name="_s19488"/>
            <p:cNvSpPr/>
            <p:nvPr/>
          </p:nvSpPr>
          <p:spPr>
            <a:xfrm>
              <a:off x="5364360" y="3857040"/>
              <a:ext cx="1356840" cy="496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Материальны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5" name="_s19489"/>
            <p:cNvSpPr/>
            <p:nvPr/>
          </p:nvSpPr>
          <p:spPr>
            <a:xfrm>
              <a:off x="5364360" y="4604400"/>
              <a:ext cx="1356840" cy="496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Информационны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3" name="_s19490"/>
            <p:cNvSpPr/>
            <p:nvPr/>
          </p:nvSpPr>
          <p:spPr>
            <a:xfrm>
              <a:off x="7174440" y="3857040"/>
              <a:ext cx="1356480" cy="496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Исторически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_s19491"/>
            <p:cNvSpPr/>
            <p:nvPr/>
          </p:nvSpPr>
          <p:spPr>
            <a:xfrm>
              <a:off x="7174440" y="4604400"/>
              <a:ext cx="1356480" cy="496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Биологически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_s19492"/>
            <p:cNvSpPr/>
            <p:nvPr/>
          </p:nvSpPr>
          <p:spPr>
            <a:xfrm>
              <a:off x="7174440" y="5351760"/>
              <a:ext cx="1356480" cy="496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Социологически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_s19493"/>
            <p:cNvSpPr/>
            <p:nvPr/>
          </p:nvSpPr>
          <p:spPr>
            <a:xfrm>
              <a:off x="7174440" y="6099120"/>
              <a:ext cx="1356480" cy="496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другие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5292720" y="3500280"/>
            <a:ext cx="1620720" cy="2305080"/>
            <a:chOff x="5292720" y="3500280"/>
            <a:chExt cx="1620720" cy="2305080"/>
          </a:xfrm>
        </p:grpSpPr>
        <p:sp>
          <p:nvSpPr>
            <p:cNvPr id="329" name=""/>
            <p:cNvSpPr/>
            <p:nvPr/>
          </p:nvSpPr>
          <p:spPr>
            <a:xfrm>
              <a:off x="5292720" y="3500280"/>
              <a:ext cx="1584360" cy="2305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92720" y="3519360"/>
              <a:ext cx="16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Информац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951280" y="3500280"/>
            <a:ext cx="1620720" cy="2305080"/>
            <a:chOff x="2951280" y="3500280"/>
            <a:chExt cx="1620720" cy="2305080"/>
          </a:xfrm>
        </p:grpSpPr>
        <p:sp>
          <p:nvSpPr>
            <p:cNvPr id="332" name=""/>
            <p:cNvSpPr/>
            <p:nvPr/>
          </p:nvSpPr>
          <p:spPr>
            <a:xfrm>
              <a:off x="2987640" y="3500280"/>
              <a:ext cx="1584360" cy="2305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51280" y="3564000"/>
              <a:ext cx="162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Существенные свойства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11280" y="3068640"/>
            <a:ext cx="1584360" cy="27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03280" y="234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78000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5092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500720" y="1700280"/>
            <a:ext cx="1584000" cy="1800000"/>
            <a:chOff x="4500720" y="1700280"/>
            <a:chExt cx="1584000" cy="1800000"/>
          </a:xfrm>
        </p:grpSpPr>
        <p:sp>
          <p:nvSpPr>
            <p:cNvPr id="339" name=""/>
            <p:cNvSpPr/>
            <p:nvPr/>
          </p:nvSpPr>
          <p:spPr>
            <a:xfrm>
              <a:off x="4500720" y="2708280"/>
              <a:ext cx="15840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00720" y="1700280"/>
              <a:ext cx="158400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979640" y="2708280"/>
            <a:ext cx="1008000" cy="2808360"/>
            <a:chOff x="1979640" y="2708280"/>
            <a:chExt cx="1008000" cy="2808360"/>
          </a:xfrm>
        </p:grpSpPr>
        <p:sp>
          <p:nvSpPr>
            <p:cNvPr id="342" name=""/>
            <p:cNvSpPr/>
            <p:nvPr/>
          </p:nvSpPr>
          <p:spPr>
            <a:xfrm flipH="1">
              <a:off x="1979640" y="2708280"/>
              <a:ext cx="100800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1979640" y="2708280"/>
              <a:ext cx="100800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979640" y="2708280"/>
              <a:ext cx="1008000" cy="28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979640" y="3933720"/>
            <a:ext cx="1297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62000" y="549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356000" y="458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356000" y="5516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77080" y="508464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7000" y="189000"/>
            <a:ext cx="85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роцесс создания информационной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826920" y="1197000"/>
            <a:ext cx="1224000" cy="1152360"/>
            <a:chOff x="826920" y="1197000"/>
            <a:chExt cx="1224000" cy="1152360"/>
          </a:xfrm>
        </p:grpSpPr>
        <p:sp>
          <p:nvSpPr>
            <p:cNvPr id="352" name=""/>
            <p:cNvSpPr/>
            <p:nvPr/>
          </p:nvSpPr>
          <p:spPr>
            <a:xfrm>
              <a:off x="826920" y="1197000"/>
              <a:ext cx="1224000" cy="11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6920" y="15573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Объект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987640" y="1413000"/>
            <a:ext cx="1513080" cy="647640"/>
            <a:chOff x="2987640" y="1413000"/>
            <a:chExt cx="1513080" cy="647640"/>
          </a:xfrm>
        </p:grpSpPr>
        <p:sp>
          <p:nvSpPr>
            <p:cNvPr id="355" name=""/>
            <p:cNvSpPr/>
            <p:nvPr/>
          </p:nvSpPr>
          <p:spPr>
            <a:xfrm>
              <a:off x="2987640" y="1413000"/>
              <a:ext cx="151308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59280" y="1557360"/>
              <a:ext cx="12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Субъект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987640" y="2492280"/>
            <a:ext cx="1513080" cy="432000"/>
            <a:chOff x="2987640" y="2492280"/>
            <a:chExt cx="1513080" cy="432000"/>
          </a:xfrm>
        </p:grpSpPr>
        <p:sp>
          <p:nvSpPr>
            <p:cNvPr id="358" name=""/>
            <p:cNvSpPr/>
            <p:nvPr/>
          </p:nvSpPr>
          <p:spPr>
            <a:xfrm>
              <a:off x="2987640" y="2492280"/>
              <a:ext cx="1513080" cy="43200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32000" y="249228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Цель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826920" y="3141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войств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836640" y="3789360"/>
            <a:ext cx="1295280" cy="337320"/>
            <a:chOff x="836640" y="3789360"/>
            <a:chExt cx="1295280" cy="337320"/>
          </a:xfrm>
        </p:grpSpPr>
        <p:sp>
          <p:nvSpPr>
            <p:cNvPr id="362" name=""/>
            <p:cNvSpPr/>
            <p:nvPr/>
          </p:nvSpPr>
          <p:spPr>
            <a:xfrm>
              <a:off x="900000" y="3789360"/>
              <a:ext cx="1081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6640" y="37893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Свойство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792000" y="4419720"/>
            <a:ext cx="1295640" cy="337320"/>
            <a:chOff x="792000" y="4419720"/>
            <a:chExt cx="1295640" cy="337320"/>
          </a:xfrm>
        </p:grpSpPr>
        <p:sp>
          <p:nvSpPr>
            <p:cNvPr id="365" name=""/>
            <p:cNvSpPr/>
            <p:nvPr/>
          </p:nvSpPr>
          <p:spPr>
            <a:xfrm>
              <a:off x="900000" y="4437000"/>
              <a:ext cx="1081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2000" y="44197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Свойство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92000" y="5364000"/>
            <a:ext cx="1295640" cy="337320"/>
            <a:chOff x="792000" y="5364000"/>
            <a:chExt cx="1295640" cy="337320"/>
          </a:xfrm>
        </p:grpSpPr>
        <p:sp>
          <p:nvSpPr>
            <p:cNvPr id="368" name=""/>
            <p:cNvSpPr/>
            <p:nvPr/>
          </p:nvSpPr>
          <p:spPr>
            <a:xfrm>
              <a:off x="900000" y="5373720"/>
              <a:ext cx="10810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2000" y="536400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Свойство</a:t>
              </a:r>
              <a:r>
                <a:rPr b="0" lang="ru-RU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176640" y="4419720"/>
            <a:ext cx="1295280" cy="337320"/>
            <a:chOff x="3176640" y="4419720"/>
            <a:chExt cx="1295280" cy="337320"/>
          </a:xfrm>
        </p:grpSpPr>
        <p:sp>
          <p:nvSpPr>
            <p:cNvPr id="371" name=""/>
            <p:cNvSpPr/>
            <p:nvPr/>
          </p:nvSpPr>
          <p:spPr>
            <a:xfrm>
              <a:off x="3276720" y="4437000"/>
              <a:ext cx="108108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76640" y="44197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Свойство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472000" y="4238640"/>
            <a:ext cx="1295640" cy="622440"/>
            <a:chOff x="5472000" y="4238640"/>
            <a:chExt cx="1295640" cy="622440"/>
          </a:xfrm>
        </p:grpSpPr>
        <p:sp>
          <p:nvSpPr>
            <p:cNvPr id="374" name=""/>
            <p:cNvSpPr/>
            <p:nvPr/>
          </p:nvSpPr>
          <p:spPr>
            <a:xfrm>
              <a:off x="5516640" y="4238640"/>
              <a:ext cx="1150920" cy="622440"/>
            </a:xfrm>
            <a:prstGeom prst="flowChartPunchedCar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72000" y="4284720"/>
              <a:ext cx="1295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Информация о свойстве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472000" y="5138640"/>
            <a:ext cx="1295640" cy="611280"/>
            <a:chOff x="5472000" y="5138640"/>
            <a:chExt cx="1295640" cy="611280"/>
          </a:xfrm>
        </p:grpSpPr>
        <p:sp>
          <p:nvSpPr>
            <p:cNvPr id="377" name=""/>
            <p:cNvSpPr/>
            <p:nvPr/>
          </p:nvSpPr>
          <p:spPr>
            <a:xfrm>
              <a:off x="5516640" y="5138640"/>
              <a:ext cx="1150920" cy="611280"/>
            </a:xfrm>
            <a:prstGeom prst="flowChartPunchedCar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72000" y="5184720"/>
              <a:ext cx="1295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Информация о свойстве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402000" y="4778280"/>
            <a:ext cx="7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62000" y="4778280"/>
            <a:ext cx="7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97360" y="4689360"/>
            <a:ext cx="7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7451640" y="4734000"/>
            <a:ext cx="1297080" cy="720720"/>
            <a:chOff x="7451640" y="4734000"/>
            <a:chExt cx="1297080" cy="720720"/>
          </a:xfrm>
        </p:grpSpPr>
        <p:sp>
          <p:nvSpPr>
            <p:cNvPr id="383" name=""/>
            <p:cNvSpPr/>
            <p:nvPr/>
          </p:nvSpPr>
          <p:spPr>
            <a:xfrm>
              <a:off x="7451640" y="4734000"/>
              <a:ext cx="1297080" cy="720720"/>
            </a:xfrm>
            <a:prstGeom prst="flowChartPreparat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51640" y="477828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Arial"/>
                </a:rPr>
                <a:t>Инф. модель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3176640" y="5364000"/>
            <a:ext cx="1295280" cy="337320"/>
            <a:chOff x="3176640" y="5364000"/>
            <a:chExt cx="1295280" cy="337320"/>
          </a:xfrm>
        </p:grpSpPr>
        <p:sp>
          <p:nvSpPr>
            <p:cNvPr id="386" name=""/>
            <p:cNvSpPr/>
            <p:nvPr/>
          </p:nvSpPr>
          <p:spPr>
            <a:xfrm>
              <a:off x="3276720" y="5373720"/>
              <a:ext cx="10810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76640" y="53640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Свойство</a:t>
              </a:r>
              <a:r>
                <a:rPr b="0" lang="ru-RU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94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940"/>
                            </p:stCondLst>
                            <p:childTnLst>
                              <p:par>
                                <p:cTn id="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7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375" autoRev="1" fill="hold"/>
                                        <p:tgtEl>
                                          <p:spTgt spid="3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69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690"/>
                            </p:stCondLst>
                            <p:childTnLst>
                              <p:par>
                                <p:cTn id="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3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19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19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69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190"/>
                            </p:stCondLst>
                            <p:childTnLst>
                              <p:par>
                                <p:cTn id="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" autoRev="1" fill="hold"/>
                                        <p:tgtEl>
                                          <p:spTgt spid="3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69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75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5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44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194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8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8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80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68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83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93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13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23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28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38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8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8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63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78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88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980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13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2299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38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1187280" y="1268280"/>
            <a:ext cx="5740200" cy="860400"/>
            <a:chOff x="1187280" y="1268280"/>
            <a:chExt cx="5740200" cy="860400"/>
          </a:xfrm>
        </p:grpSpPr>
        <p:cxnSp>
          <p:nvCxnSpPr>
            <p:cNvPr id="389" name="_s36886"/>
            <p:cNvCxnSpPr>
              <a:stCxn id="390" idx="0"/>
              <a:endCxn id="391" idx="2"/>
            </p:cNvCxnSpPr>
            <p:nvPr/>
          </p:nvCxnSpPr>
          <p:spPr>
            <a:xfrm flipV="1" rot="16200000">
              <a:off x="5087520" y="581760"/>
              <a:ext cx="171360" cy="223236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2" name="_s36885"/>
            <p:cNvCxnSpPr>
              <a:stCxn id="393" idx="0"/>
              <a:endCxn id="391" idx="2"/>
            </p:cNvCxnSpPr>
            <p:nvPr/>
          </p:nvCxnSpPr>
          <p:spPr>
            <a:xfrm flipV="1" rot="16200000">
              <a:off x="4344120" y="1325160"/>
              <a:ext cx="171360" cy="74520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4" name="_s36884"/>
            <p:cNvCxnSpPr>
              <a:stCxn id="395" idx="0"/>
              <a:endCxn id="391" idx="2"/>
            </p:cNvCxnSpPr>
            <p:nvPr/>
          </p:nvCxnSpPr>
          <p:spPr>
            <a:xfrm flipH="1" flipV="1" rot="5400000">
              <a:off x="3599280" y="1325520"/>
              <a:ext cx="171360" cy="74520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6" name="_s36883"/>
            <p:cNvCxnSpPr>
              <a:stCxn id="397" idx="0"/>
              <a:endCxn id="391" idx="2"/>
            </p:cNvCxnSpPr>
            <p:nvPr/>
          </p:nvCxnSpPr>
          <p:spPr>
            <a:xfrm flipH="1" flipV="1" rot="5400000">
              <a:off x="2855880" y="581760"/>
              <a:ext cx="171360" cy="223272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91" name="_s36882"/>
            <p:cNvSpPr/>
            <p:nvPr/>
          </p:nvSpPr>
          <p:spPr>
            <a:xfrm>
              <a:off x="3419640" y="1268280"/>
              <a:ext cx="1275480" cy="344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  <a:ea typeface="Times New Roman"/>
                </a:rPr>
                <a:t>По области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  <a:ea typeface="Times New Roman"/>
                </a:rPr>
                <a:t>использования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_s36881"/>
            <p:cNvSpPr/>
            <p:nvPr/>
          </p:nvSpPr>
          <p:spPr>
            <a:xfrm>
              <a:off x="1187280" y="1784520"/>
              <a:ext cx="1275480" cy="344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_s36880"/>
            <p:cNvSpPr/>
            <p:nvPr/>
          </p:nvSpPr>
          <p:spPr>
            <a:xfrm>
              <a:off x="2675520" y="1784520"/>
              <a:ext cx="1275480" cy="344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_s36879"/>
            <p:cNvSpPr/>
            <p:nvPr/>
          </p:nvSpPr>
          <p:spPr>
            <a:xfrm>
              <a:off x="4163760" y="1784520"/>
              <a:ext cx="1275480" cy="344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_s36878"/>
            <p:cNvSpPr/>
            <p:nvPr/>
          </p:nvSpPr>
          <p:spPr>
            <a:xfrm>
              <a:off x="5652000" y="1784520"/>
              <a:ext cx="1275480" cy="343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826920" y="3213000"/>
            <a:ext cx="3229200" cy="717480"/>
            <a:chOff x="826920" y="3213000"/>
            <a:chExt cx="3229200" cy="717480"/>
          </a:xfrm>
        </p:grpSpPr>
        <p:cxnSp>
          <p:nvCxnSpPr>
            <p:cNvPr id="399" name="_s36893"/>
            <p:cNvCxnSpPr>
              <a:stCxn id="400" idx="0"/>
              <a:endCxn id="401" idx="2"/>
            </p:cNvCxnSpPr>
            <p:nvPr/>
          </p:nvCxnSpPr>
          <p:spPr>
            <a:xfrm flipV="1" rot="16200000">
              <a:off x="2803680" y="3136320"/>
              <a:ext cx="144720" cy="870120"/>
            </a:xfrm>
            <a:prstGeom prst="bentConnector3">
              <a:avLst>
                <a:gd name="adj1" fmla="val 498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2" name="_s36892"/>
            <p:cNvCxnSpPr>
              <a:stCxn id="403" idx="0"/>
              <a:endCxn id="401" idx="2"/>
            </p:cNvCxnSpPr>
            <p:nvPr/>
          </p:nvCxnSpPr>
          <p:spPr>
            <a:xfrm flipH="1" flipV="1" rot="5400000">
              <a:off x="1935000" y="3136680"/>
              <a:ext cx="143280" cy="869400"/>
            </a:xfrm>
            <a:prstGeom prst="bentConnector3">
              <a:avLst>
                <a:gd name="adj1" fmla="val 498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01" name="_s36891"/>
            <p:cNvSpPr/>
            <p:nvPr/>
          </p:nvSpPr>
          <p:spPr>
            <a:xfrm>
              <a:off x="1696320" y="3213000"/>
              <a:ext cx="1490400" cy="286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  <a:ea typeface="Times New Roman"/>
                </a:rPr>
                <a:t>По учету фактора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  <a:ea typeface="Times New Roman"/>
                </a:rPr>
                <a:t> </a:t>
              </a:r>
              <a:r>
                <a:rPr b="0" lang="en-US" sz="1000" spc="-1" strike="noStrike">
                  <a:solidFill>
                    <a:srgbClr val="003366"/>
                  </a:solidFill>
                  <a:latin typeface="Arial"/>
                  <a:ea typeface="Times New Roman"/>
                </a:rPr>
                <a:t>времени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_s36890"/>
            <p:cNvSpPr/>
            <p:nvPr/>
          </p:nvSpPr>
          <p:spPr>
            <a:xfrm>
              <a:off x="826920" y="3643560"/>
              <a:ext cx="1490400" cy="286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_s36889"/>
            <p:cNvSpPr/>
            <p:nvPr/>
          </p:nvSpPr>
          <p:spPr>
            <a:xfrm>
              <a:off x="2565720" y="3643560"/>
              <a:ext cx="1490400" cy="286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1187280" y="2205000"/>
            <a:ext cx="5740200" cy="860400"/>
            <a:chOff x="1187280" y="2205000"/>
            <a:chExt cx="5740200" cy="860400"/>
          </a:xfrm>
        </p:grpSpPr>
        <p:cxnSp>
          <p:nvCxnSpPr>
            <p:cNvPr id="405" name="_s36904"/>
            <p:cNvCxnSpPr>
              <a:stCxn id="406" idx="0"/>
              <a:endCxn id="407" idx="2"/>
            </p:cNvCxnSpPr>
            <p:nvPr/>
          </p:nvCxnSpPr>
          <p:spPr>
            <a:xfrm flipV="1" rot="16200000">
              <a:off x="5087520" y="1518480"/>
              <a:ext cx="171360" cy="223236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8" name="_s36903"/>
            <p:cNvCxnSpPr>
              <a:stCxn id="409" idx="0"/>
              <a:endCxn id="407" idx="2"/>
            </p:cNvCxnSpPr>
            <p:nvPr/>
          </p:nvCxnSpPr>
          <p:spPr>
            <a:xfrm flipV="1" rot="16200000">
              <a:off x="4344120" y="2261880"/>
              <a:ext cx="171360" cy="74520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0" name="_s36902"/>
            <p:cNvCxnSpPr>
              <a:stCxn id="411" idx="0"/>
              <a:endCxn id="407" idx="2"/>
            </p:cNvCxnSpPr>
            <p:nvPr/>
          </p:nvCxnSpPr>
          <p:spPr>
            <a:xfrm flipH="1" flipV="1" rot="5400000">
              <a:off x="3599280" y="2262240"/>
              <a:ext cx="171360" cy="74520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2" name="_s36901"/>
            <p:cNvCxnSpPr>
              <a:stCxn id="413" idx="0"/>
              <a:endCxn id="407" idx="2"/>
            </p:cNvCxnSpPr>
            <p:nvPr/>
          </p:nvCxnSpPr>
          <p:spPr>
            <a:xfrm flipH="1" flipV="1" rot="5400000">
              <a:off x="2855880" y="1518480"/>
              <a:ext cx="171360" cy="223272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07" name="_s36900"/>
            <p:cNvSpPr/>
            <p:nvPr/>
          </p:nvSpPr>
          <p:spPr>
            <a:xfrm>
              <a:off x="3419640" y="2205000"/>
              <a:ext cx="1275480" cy="344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  <a:ea typeface="Times New Roman"/>
                </a:rPr>
                <a:t>По отрасли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  <a:ea typeface="Times New Roman"/>
                </a:rPr>
                <a:t> </a:t>
              </a:r>
              <a:r>
                <a:rPr b="0" lang="en-US" sz="1000" spc="-1" strike="noStrike">
                  <a:solidFill>
                    <a:srgbClr val="003366"/>
                  </a:solidFill>
                  <a:latin typeface="Arial"/>
                  <a:ea typeface="Times New Roman"/>
                </a:rPr>
                <a:t>знания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_s36899"/>
            <p:cNvSpPr/>
            <p:nvPr/>
          </p:nvSpPr>
          <p:spPr>
            <a:xfrm>
              <a:off x="1187280" y="2721240"/>
              <a:ext cx="1275480" cy="344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_s36898"/>
            <p:cNvSpPr/>
            <p:nvPr/>
          </p:nvSpPr>
          <p:spPr>
            <a:xfrm>
              <a:off x="2675520" y="2721240"/>
              <a:ext cx="1275480" cy="344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_s36897"/>
            <p:cNvSpPr/>
            <p:nvPr/>
          </p:nvSpPr>
          <p:spPr>
            <a:xfrm>
              <a:off x="4163760" y="2721240"/>
              <a:ext cx="1275480" cy="344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_s36896"/>
            <p:cNvSpPr/>
            <p:nvPr/>
          </p:nvSpPr>
          <p:spPr>
            <a:xfrm>
              <a:off x="5652000" y="2721240"/>
              <a:ext cx="1275480" cy="343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4500720" y="3213000"/>
            <a:ext cx="3228480" cy="717480"/>
            <a:chOff x="4500720" y="3213000"/>
            <a:chExt cx="3228480" cy="717480"/>
          </a:xfrm>
        </p:grpSpPr>
        <p:cxnSp>
          <p:nvCxnSpPr>
            <p:cNvPr id="415" name="_s36911"/>
            <p:cNvCxnSpPr>
              <a:stCxn id="416" idx="0"/>
              <a:endCxn id="417" idx="2"/>
            </p:cNvCxnSpPr>
            <p:nvPr/>
          </p:nvCxnSpPr>
          <p:spPr>
            <a:xfrm flipV="1" rot="16200000">
              <a:off x="6477120" y="3136320"/>
              <a:ext cx="144720" cy="870120"/>
            </a:xfrm>
            <a:prstGeom prst="bentConnector3">
              <a:avLst>
                <a:gd name="adj1" fmla="val 498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8" name="_s36910"/>
            <p:cNvCxnSpPr>
              <a:stCxn id="419" idx="0"/>
              <a:endCxn id="417" idx="2"/>
            </p:cNvCxnSpPr>
            <p:nvPr/>
          </p:nvCxnSpPr>
          <p:spPr>
            <a:xfrm flipH="1" flipV="1" rot="5400000">
              <a:off x="5608800" y="3136680"/>
              <a:ext cx="143280" cy="869400"/>
            </a:xfrm>
            <a:prstGeom prst="bentConnector3">
              <a:avLst>
                <a:gd name="adj1" fmla="val 498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17" name="_s36909"/>
            <p:cNvSpPr/>
            <p:nvPr/>
          </p:nvSpPr>
          <p:spPr>
            <a:xfrm>
              <a:off x="5369760" y="3213000"/>
              <a:ext cx="1490040" cy="286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  <a:ea typeface="Times New Roman"/>
                </a:rPr>
                <a:t>По способу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  <a:ea typeface="Times New Roman"/>
                </a:rPr>
                <a:t> </a:t>
              </a:r>
              <a:r>
                <a:rPr b="0" lang="en-US" sz="1000" spc="-1" strike="noStrike">
                  <a:solidFill>
                    <a:srgbClr val="003366"/>
                  </a:solidFill>
                  <a:latin typeface="Arial"/>
                  <a:ea typeface="Times New Roman"/>
                </a:rPr>
                <a:t>представления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_s36908"/>
            <p:cNvSpPr/>
            <p:nvPr/>
          </p:nvSpPr>
          <p:spPr>
            <a:xfrm>
              <a:off x="4500720" y="3643560"/>
              <a:ext cx="1490040" cy="286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_s36907"/>
            <p:cNvSpPr/>
            <p:nvPr/>
          </p:nvSpPr>
          <p:spPr>
            <a:xfrm>
              <a:off x="6239160" y="3643560"/>
              <a:ext cx="1490040" cy="286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921840" y="4723920"/>
            <a:ext cx="4879440" cy="1721880"/>
            <a:chOff x="3921840" y="4723920"/>
            <a:chExt cx="4879440" cy="1721880"/>
          </a:xfrm>
        </p:grpSpPr>
        <p:sp>
          <p:nvSpPr>
            <p:cNvPr id="421" name=""/>
            <p:cNvSpPr/>
            <p:nvPr/>
          </p:nvSpPr>
          <p:spPr>
            <a:xfrm>
              <a:off x="4065840" y="4723920"/>
              <a:ext cx="717120" cy="716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28440" y="4866840"/>
              <a:ext cx="789120" cy="35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28440" y="5369760"/>
              <a:ext cx="789120" cy="28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21840" y="5943960"/>
              <a:ext cx="9331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57520" y="5943960"/>
              <a:ext cx="93204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20480" y="5943960"/>
              <a:ext cx="93204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084160" y="6015240"/>
              <a:ext cx="717120" cy="358200"/>
            </a:xfrm>
            <a:prstGeom prst="flowChartPrepa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900000" y="-53640"/>
            <a:ext cx="74883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Опорный конспек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_____________________ – это метод познания, состоящий в создании и изучении модели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Модель  ‑ это _______________________________________________________________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6240" y="4503960"/>
            <a:ext cx="2434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Информационные модел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_______________________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_______________________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_______________________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_______________________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03440" y="35964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00720" y="4149720"/>
            <a:ext cx="3600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Схема создания информационной модел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68360" y="90792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Классификация моделе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Табличные информационные модели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042920" y="2421000"/>
          <a:ext cx="5545080" cy="2089080"/>
        </p:xfrm>
        <a:graphic>
          <a:graphicData uri="http://schemas.openxmlformats.org/drawingml/2006/table">
            <a:tbl>
              <a:tblPr/>
              <a:tblGrid>
                <a:gridCol w="1293480"/>
                <a:gridCol w="1290960"/>
                <a:gridCol w="1290600"/>
                <a:gridCol w="1292040"/>
                <a:gridCol w="378000"/>
              </a:tblGrid>
              <a:tr h="248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ервы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ъектов па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 класса вторых объектов па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 2-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ъекта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з 1-й па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 2-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ъект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з 2-й па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 2-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ъекта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з 3-й па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войст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ары объек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войст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ары объек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войст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ары объек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ервы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ъек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начения свойств пары объек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2484360" y="4508640"/>
          <a:ext cx="6050160" cy="2193840"/>
        </p:xfrm>
        <a:graphic>
          <a:graphicData uri="http://schemas.openxmlformats.org/drawingml/2006/table">
            <a:tbl>
              <a:tblPr/>
              <a:tblGrid>
                <a:gridCol w="1069920"/>
                <a:gridCol w="1224000"/>
                <a:gridCol w="1015920"/>
                <a:gridCol w="997200"/>
                <a:gridCol w="996840"/>
                <a:gridCol w="746280"/>
              </a:tblGrid>
              <a:tr h="398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ласса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ъектов,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ля которы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сть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ндивиду-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льные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войств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ндивидуаль-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ых свойст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 класса объектов, для которых есть только парные свойств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ъекта из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-й па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ъекта из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-й па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ъекта из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-й па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войст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а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ъек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войст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а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ъек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войст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а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ъек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ъек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начения свойст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>
            <a:off x="7236000" y="292428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ОБЪЕКТЫ – ОБЪЕКТЫ – МНОГО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55640" y="5229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ОБЪЕКТЫ – СВОЙСТВА - ОБЪЕКТЫ 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139680" y="292680"/>
            <a:ext cx="8947440" cy="6361920"/>
            <a:chOff x="139680" y="292680"/>
            <a:chExt cx="8947440" cy="6361920"/>
          </a:xfrm>
        </p:grpSpPr>
        <p:sp>
          <p:nvSpPr>
            <p:cNvPr id="439" name=""/>
            <p:cNvSpPr/>
            <p:nvPr/>
          </p:nvSpPr>
          <p:spPr>
            <a:xfrm>
              <a:off x="139680" y="292680"/>
              <a:ext cx="8947440" cy="6361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13760" y="3591360"/>
              <a:ext cx="1524240" cy="518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0600" y="5464440"/>
              <a:ext cx="1523880" cy="51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24040" y="5984280"/>
              <a:ext cx="1523880" cy="51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66200" y="881640"/>
              <a:ext cx="1447920" cy="311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Зынджыбардуаг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74760" y="881640"/>
              <a:ext cx="1219680" cy="311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Хуыцау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63400" y="1506600"/>
              <a:ext cx="1219680" cy="311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Сæуæссæ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38080" y="2446200"/>
              <a:ext cx="1016640" cy="310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Бор</a:t>
              </a: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æ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63400" y="2446200"/>
              <a:ext cx="1219680" cy="310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Дзылæу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92200" y="2446200"/>
              <a:ext cx="1220760" cy="3092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Болатбæрзæй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22160" y="3278160"/>
              <a:ext cx="812880" cy="311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Уæрхæг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39960" y="3278160"/>
              <a:ext cx="1118520" cy="313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Уæрхтæнæг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840" y="4215240"/>
              <a:ext cx="812880" cy="311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Æхсар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73160" y="4215240"/>
              <a:ext cx="1015200" cy="311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Æхсæртæг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55080" y="4215240"/>
              <a:ext cx="914760" cy="311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Дзерассæ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7040" y="4944240"/>
              <a:ext cx="1017720" cy="3092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3366"/>
                  </a:solidFill>
                  <a:latin typeface="Times New Roman"/>
                </a:rPr>
                <a:t>Уырызмæг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59280" y="1194840"/>
              <a:ext cx="71244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4976280" y="1194840"/>
              <a:ext cx="50796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72520" y="1821240"/>
              <a:ext cx="0" cy="6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3146040" y="1821240"/>
              <a:ext cx="1525320" cy="6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74760" y="1821240"/>
              <a:ext cx="1525320" cy="6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44520" y="2758320"/>
              <a:ext cx="203760" cy="51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028240" y="2758320"/>
              <a:ext cx="813240" cy="51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687240" y="3591360"/>
              <a:ext cx="1036440" cy="6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1620720" y="3591360"/>
              <a:ext cx="20376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1418040" y="4527360"/>
              <a:ext cx="101880" cy="41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1519920" y="4527360"/>
              <a:ext cx="2134440" cy="41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199240" y="3588840"/>
              <a:ext cx="1759680" cy="135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55080" y="4944240"/>
              <a:ext cx="813960" cy="3092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Хæмыц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61160" y="4527360"/>
              <a:ext cx="0" cy="41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671720" y="4215240"/>
              <a:ext cx="1117440" cy="311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Уастырджи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63400" y="4527360"/>
              <a:ext cx="711360" cy="41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71720" y="4944240"/>
              <a:ext cx="814320" cy="3092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Сатана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078160" y="4527360"/>
              <a:ext cx="100440" cy="41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91400" y="4215240"/>
              <a:ext cx="914760" cy="311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Гæтæг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89520" y="4944240"/>
              <a:ext cx="814320" cy="3092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Сырдон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65280" y="4527360"/>
              <a:ext cx="1828800" cy="41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196320" y="4527360"/>
              <a:ext cx="203760" cy="41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78960" y="5360400"/>
              <a:ext cx="814320" cy="3092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Фыййау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71720" y="5984280"/>
              <a:ext cx="814320" cy="309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Сослан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76640" y="5256360"/>
              <a:ext cx="101880" cy="72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178600" y="5672160"/>
              <a:ext cx="40644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52840" y="5984280"/>
              <a:ext cx="813960" cy="309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Батрадз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74600" y="3588840"/>
              <a:ext cx="460440" cy="135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2537280" y="4527360"/>
              <a:ext cx="1219680" cy="41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24840" y="4944240"/>
              <a:ext cx="915120" cy="3092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Фæрнæг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41840" y="4944240"/>
              <a:ext cx="712080" cy="3092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Уæн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71800" y="3588840"/>
              <a:ext cx="972360" cy="135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3247920" y="4527360"/>
              <a:ext cx="610200" cy="41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841200" y="5237640"/>
              <a:ext cx="101880" cy="72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58800" y="356760"/>
              <a:ext cx="2742480" cy="395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3366"/>
                  </a:solidFill>
                  <a:uFillTx/>
                  <a:latin typeface="Arial"/>
                </a:rPr>
                <a:t>«Дерево» нартов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418720" y="1513080"/>
              <a:ext cx="1545120" cy="3117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+ </a:t>
              </a: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Донбеттыры</a:t>
              </a: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чызг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09080" y="2303640"/>
              <a:ext cx="1526760" cy="5198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Арвычызг-Хуыцауы</a:t>
              </a: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 + </a:t>
              </a: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хæрæфыр</a:t>
              </a: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т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67960" y="2758320"/>
              <a:ext cx="1401480" cy="336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+ </a:t>
              </a: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Гуымирыты хо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94440" y="2758320"/>
              <a:ext cx="1321200" cy="3117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+ </a:t>
              </a: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Зæрисары чызг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65280" y="3695400"/>
              <a:ext cx="913680" cy="312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Алæг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76400" y="3588840"/>
              <a:ext cx="48852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415640" y="3695400"/>
              <a:ext cx="132156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Times New Roman"/>
                </a:rPr>
                <a:t>Алæгатæ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0600" y="5568480"/>
              <a:ext cx="15238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Times New Roman"/>
                </a:rPr>
                <a:t>Æхсæртæккатæ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24040" y="6089760"/>
              <a:ext cx="15238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Times New Roman"/>
                </a:rPr>
                <a:t>Борæтæ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499" name=""/>
            <p:cNvCxnSpPr>
              <a:stCxn id="494" idx="3"/>
              <a:endCxn id="440" idx="1"/>
            </p:cNvCxnSpPr>
            <p:nvPr/>
          </p:nvCxnSpPr>
          <p:spPr>
            <a:xfrm flipV="1">
              <a:off x="5178960" y="3667320"/>
              <a:ext cx="2358720" cy="184680"/>
            </a:xfrm>
            <a:prstGeom prst="curvedConnector5">
              <a:avLst>
                <a:gd name="adj1" fmla="val 45260"/>
                <a:gd name="adj2" fmla="val 126562"/>
                <a:gd name="adj3" fmla="val 45260"/>
              </a:avLst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00" name=""/>
            <p:cNvCxnSpPr>
              <a:stCxn id="464" idx="0"/>
              <a:endCxn id="441" idx="1"/>
            </p:cNvCxnSpPr>
            <p:nvPr/>
          </p:nvCxnSpPr>
          <p:spPr>
            <a:xfrm rot="5400000">
              <a:off x="514080" y="4534200"/>
              <a:ext cx="1013760" cy="997920"/>
            </a:xfrm>
            <a:prstGeom prst="curvedConnector5">
              <a:avLst>
                <a:gd name="adj1" fmla="val 15914"/>
                <a:gd name="adj2" fmla="val 49981"/>
                <a:gd name="adj3" fmla="val 15914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 rot="5400000">
              <a:off x="2534400" y="4582080"/>
              <a:ext cx="264240" cy="1705680"/>
            </a:xfrm>
            <a:custGeom>
              <a:avLst/>
              <a:gdLst>
                <a:gd name="textAreaLeft" fmla="*/ 0 w 264240"/>
                <a:gd name="textAreaRight" fmla="*/ 95400 w 264240"/>
                <a:gd name="textAreaTop" fmla="*/ 37440 h 1705680"/>
                <a:gd name="textAreaBottom" fmla="*/ 1668240 h 170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59"/>
                    <a:pt x="10800" y="1518"/>
                  </a:cubicBezTo>
                  <a:lnTo>
                    <a:pt x="10800" y="9282"/>
                  </a:lnTo>
                  <a:cubicBezTo>
                    <a:pt x="10800" y="10041"/>
                    <a:pt x="16200" y="10800"/>
                    <a:pt x="21600" y="10800"/>
                  </a:cubicBezTo>
                  <a:cubicBezTo>
                    <a:pt x="16200" y="10800"/>
                    <a:pt x="10800" y="11559"/>
                    <a:pt x="10800" y="12318"/>
                  </a:cubicBezTo>
                  <a:lnTo>
                    <a:pt x="10800" y="20082"/>
                  </a:lnTo>
                  <a:cubicBezTo>
                    <a:pt x="10800" y="20841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2" name=""/>
            <p:cNvCxnSpPr>
              <a:stCxn id="501" idx="1"/>
              <a:endCxn id="442" idx="0"/>
            </p:cNvCxnSpPr>
            <p:nvPr/>
          </p:nvCxnSpPr>
          <p:spPr>
            <a:xfrm rot="5400000">
              <a:off x="2372400" y="5689800"/>
              <a:ext cx="407520" cy="182160"/>
            </a:xfrm>
            <a:prstGeom prst="curvedConnector5">
              <a:avLst>
                <a:gd name="adj1" fmla="val 48717"/>
                <a:gd name="adj2" fmla="val 49900"/>
                <a:gd name="adj3" fmla="val 48717"/>
              </a:avLst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4002480" y="5270400"/>
              <a:ext cx="933120" cy="3117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+</a:t>
              </a:r>
              <a:r>
                <a:rPr b="0" lang="ru-RU" sz="1300" spc="-1" strike="noStrike">
                  <a:solidFill>
                    <a:srgbClr val="003366"/>
                  </a:solidFill>
                  <a:latin typeface="Times New Roman"/>
                </a:rPr>
                <a:t>Быценон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79200" y="3622680"/>
              <a:ext cx="965160" cy="428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+ </a:t>
              </a: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Сыбæлц (хуры чызг</a:t>
              </a: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377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строение и исследование физической модел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692240" y="2955600"/>
            <a:ext cx="3601080" cy="2163960"/>
            <a:chOff x="4692240" y="2955600"/>
            <a:chExt cx="3601080" cy="2163960"/>
          </a:xfrm>
        </p:grpSpPr>
        <p:sp>
          <p:nvSpPr>
            <p:cNvPr id="507" name=""/>
            <p:cNvSpPr/>
            <p:nvPr/>
          </p:nvSpPr>
          <p:spPr>
            <a:xfrm>
              <a:off x="4692240" y="2955600"/>
              <a:ext cx="2851200" cy="1422360"/>
            </a:xfrm>
            <a:custGeom>
              <a:avLst/>
              <a:gdLst/>
              <a:ahLst/>
              <a:rect l="l" t="t" r="r" b="b"/>
              <a:pathLst>
                <a:path w="3420" h="1380">
                  <a:moveTo>
                    <a:pt x="0" y="1380"/>
                  </a:moveTo>
                  <a:cubicBezTo>
                    <a:pt x="615" y="810"/>
                    <a:pt x="1230" y="240"/>
                    <a:pt x="1800" y="120"/>
                  </a:cubicBezTo>
                  <a:cubicBezTo>
                    <a:pt x="2370" y="0"/>
                    <a:pt x="2895" y="330"/>
                    <a:pt x="3420" y="6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92240" y="4378320"/>
              <a:ext cx="285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43440" y="3264480"/>
              <a:ext cx="149760" cy="1113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93200" y="3264480"/>
              <a:ext cx="29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93200" y="4378320"/>
              <a:ext cx="29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842960" y="3264480"/>
              <a:ext cx="1080" cy="11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93680" y="3635640"/>
              <a:ext cx="1080" cy="74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42480" y="3635640"/>
              <a:ext cx="300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92240" y="43783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92240" y="4378320"/>
              <a:ext cx="72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43440" y="4378320"/>
              <a:ext cx="72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240" y="4563360"/>
              <a:ext cx="285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93200" y="4563360"/>
              <a:ext cx="44928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3366"/>
                  </a:solidFill>
                  <a:latin typeface="Comic Sans MS"/>
                </a:rPr>
                <a:t>   </a:t>
              </a:r>
              <a:r>
                <a:rPr b="1" i="1" lang="en-US" sz="2800" spc="-1" strike="noStrike">
                  <a:solidFill>
                    <a:srgbClr val="003366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2960" y="3822120"/>
              <a:ext cx="45036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3366"/>
                  </a:solidFill>
                  <a:latin typeface="Comic Sans MS"/>
                </a:rPr>
                <a:t> </a:t>
              </a:r>
              <a:r>
                <a:rPr b="1" i="1" lang="en-US" sz="2400" spc="-1" strike="noStrike">
                  <a:solidFill>
                    <a:srgbClr val="003366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42960" y="3450960"/>
              <a:ext cx="45036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268360" y="5157720"/>
            <a:ext cx="61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L – </a:t>
            </a:r>
            <a:r>
              <a:rPr b="0" lang="ru-RU" sz="3200" spc="-1" strike="noStrike">
                <a:solidFill>
                  <a:srgbClr val="003366"/>
                </a:solidFill>
                <a:latin typeface="Comic Sans MS"/>
              </a:rPr>
              <a:t>высота мячика над землей на растоянии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71640" y="2565360"/>
            <a:ext cx="338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Пусть мишень высотой Н размещается на расстоянии S от автома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116000" y="2637000"/>
            <a:ext cx="7129440" cy="3313080"/>
            <a:chOff x="1116000" y="2637000"/>
            <a:chExt cx="7129440" cy="3313080"/>
          </a:xfrm>
        </p:grpSpPr>
        <p:pic>
          <p:nvPicPr>
            <p:cNvPr id="525" name="" descr=""/>
            <p:cNvPicPr/>
            <p:nvPr/>
          </p:nvPicPr>
          <p:blipFill>
            <a:blip r:embed="rId1"/>
            <a:stretch/>
          </p:blipFill>
          <p:spPr>
            <a:xfrm>
              <a:off x="1116000" y="2637000"/>
              <a:ext cx="7127640" cy="33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8245440" y="2637000"/>
              <a:ext cx="0" cy="3313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16000" y="5950080"/>
              <a:ext cx="71294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2556000" y="4149720"/>
            <a:ext cx="41767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2:15:17Z</dcterms:created>
  <dc:creator>-</dc:creator>
  <dc:description/>
  <dc:language>en-US</dc:language>
  <cp:lastModifiedBy>-</cp:lastModifiedBy>
  <dcterms:modified xsi:type="dcterms:W3CDTF">2007-02-15T20:27:33Z</dcterms:modified>
  <cp:revision>16</cp:revision>
  <dc:subject/>
  <dc:title>Методическая разработка по теме «Моделирование и формализация»</dc:title>
</cp:coreProperties>
</file>