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1835E-EF32-4205-8D25-EA5D66DEF99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185A0-728B-4CCD-B858-5956B6D3CF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5520" cy="34243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A96F2-B03D-4D90-8A19-59550D2AB7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4BDE4-5F44-44C7-A5CE-508CFE5C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A050E-01F3-46D5-AB38-4422F9E4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5391D-98BB-4323-BD36-4DAF418EDF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C8775-8F16-40E5-BA13-55980483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C9F2F-C064-401F-81CC-BDE28A86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C3AF8-404B-4406-B61D-F67E623A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19C43-A6E8-4385-9465-52AF0F3D0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F9D00-8ACA-4935-93C2-D074ED77F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07DB3-5FE6-4B25-B221-25D84071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19484-8A43-4B34-B692-EA66A74D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1C845-24ED-4367-B66E-C31F717B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FC279-3C62-4D35-8DA2-63837DD6329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4200" y="260280"/>
            <a:ext cx="8715600" cy="626436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cap="sq" w="9360">
            <a:solidFill>
              <a:srgbClr val="6325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7120" y="1571760"/>
            <a:ext cx="8501040" cy="3000240"/>
          </a:xfrm>
          <a:custGeom>
            <a:avLst/>
            <a:gdLst>
              <a:gd name="textAreaLeft" fmla="*/ 2125080 w 8501040"/>
              <a:gd name="textAreaRight" fmla="*/ 6375960 w 8501040"/>
              <a:gd name="textAreaTop" fmla="*/ 0 h 3000240"/>
              <a:gd name="textAreaBottom" fmla="*/ 2500200 h 300024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b3a2c7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ектная деятельность в условиях обновления образовательных стандар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274680" y="549360"/>
            <a:ext cx="9693360" cy="1200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32080" y="5610240"/>
            <a:ext cx="28242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2421000"/>
            <a:ext cx="8713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54061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Обсуждение стартовой презентац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Работа в группах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Консультац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Представление результатов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Самооце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07880" y="755640"/>
            <a:ext cx="8388360" cy="1890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03320" y="2567160"/>
            <a:ext cx="8802720" cy="1803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82520" y="4359240"/>
            <a:ext cx="85406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81160" y="480960"/>
            <a:ext cx="8654760" cy="1652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52280" y="2487600"/>
            <a:ext cx="8820360" cy="39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7120" y="22860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Стратегии оценивания проекта по географ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5840" y="954000"/>
            <a:ext cx="85723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самостоятельности и взаимо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трольный л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пределяем цели и задачи изучения данной темы, её актуаль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Обсуждаем новые идеи по углублению знаний по данной т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оиск новых фактов и информации по глобальному процессу урбаниз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Обсуждение разных мнений о заселенности территории плане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Анализируем работу груп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85840" y="231840"/>
            <a:ext cx="86439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блюдение процес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формальные наблюдения и интересные случа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писи интересных случаев делаются время от времени в ходе рабо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меры интересных фактов собираются в личной или групповой пап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ие по группам собранных материалов, выбор интересных фактов, соответствие фактов основным вопросам проек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и  позволяют определить, какие вопросы  нуждаются в уточнени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ильна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сть записей может служить отражением продвижения по проекту и развития знаний уче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14200" y="154080"/>
            <a:ext cx="8929800" cy="62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роверка поним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сказки и наводящи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одящие вопросы помогают выявить специальные навыки мышления, важные для проект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приведенные подсказки, ученики обдумывают  новые знания. Анализируют, разбираются в новом материале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: (для учеников старшей школ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ом проекте я узнал..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колько хорошо вам работалось в группе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омогает или мешает вам в обучении географии сегодня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м выражались ваши усилия, сильные и слабые стороны, приведите конкретные примеры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их областях знаний  по географии вы действительно преуспели  за последние две недел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ызывает затруднения именно сейчас? Почему? Как Вы думаете это преодолеть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задачивает вас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 вопросы, которые у вас остались невыясненными…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ы думаете о проекте ...   Почему Вы так считает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ы узнали о себе, работая над этим проектом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ы по-прежнему хотите узнать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14200" y="276480"/>
            <a:ext cx="8929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казательства пониманий и ум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исты критериев и оце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представляют свою итоговую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представитель от группы выступает  с кратким устным комментарием, который  должен отражать все основные  мысли в отношении основополагающего вопроса. Оценку выступления осуществляют другие групп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 итогового результата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пятибалльной системе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и количество использованной информ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сть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жение собственной позиции группы (самооценка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решения пробл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ка рассуждений и культура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953735"/>
                </a:solidFill>
                <a:uFillTx/>
                <a:latin typeface="Arial"/>
              </a:rPr>
              <a:t>Учебный проект с точки зрения учителя</a:t>
            </a:r>
            <a:r>
              <a:rPr b="1" lang="ru-RU" sz="2000" spc="-1" strike="noStrike">
                <a:solidFill>
                  <a:srgbClr val="953735"/>
                </a:solidFill>
                <a:latin typeface="Arial"/>
              </a:rPr>
              <a:t> – это дидактическое средство развития, обучения и воспитания учащихся, которое позволяет развивать умения и навыки проектирования, а именно учи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9440" y="1262160"/>
            <a:ext cx="8875800" cy="53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60480" y="189000"/>
            <a:ext cx="9259920" cy="652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85840" y="285840"/>
            <a:ext cx="45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Arial"/>
              </a:rPr>
              <a:t>Учебный проект с точки зрения учащегося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Этапы работы над проектом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19080" y="1122480"/>
            <a:ext cx="9182160" cy="54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280" y="-6480"/>
            <a:ext cx="8839440" cy="687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95280" y="3067200"/>
            <a:ext cx="1679760" cy="1172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46040" y="3408480"/>
            <a:ext cx="1495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Т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логия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ро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378160" y="695160"/>
            <a:ext cx="2790720" cy="736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428920" y="843120"/>
            <a:ext cx="2609640" cy="5209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402000"/>
                </a:solidFill>
                <a:latin typeface="Arial"/>
              </a:rPr>
              <a:t>По характеру </a:t>
            </a:r>
            <a:br>
              <a:rPr sz="1800"/>
            </a:br>
            <a:r>
              <a:rPr b="1" i="1" lang="en-US" sz="1800" spc="-1" strike="noStrike">
                <a:solidFill>
                  <a:srgbClr val="402000"/>
                </a:solidFill>
                <a:latin typeface="Arial"/>
              </a:rPr>
              <a:t>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378160" y="2638440"/>
            <a:ext cx="2790720" cy="735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428920" y="2787480"/>
            <a:ext cx="2609640" cy="5209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402000"/>
                </a:solidFill>
                <a:latin typeface="Arial"/>
              </a:rPr>
              <a:t>По количеству </a:t>
            </a:r>
            <a:br>
              <a:rPr sz="1800"/>
            </a:br>
            <a:r>
              <a:rPr b="1" i="1" lang="en-US" sz="1800" spc="-1" strike="noStrike">
                <a:solidFill>
                  <a:srgbClr val="402000"/>
                </a:solidFill>
                <a:latin typeface="Arial"/>
              </a:rPr>
              <a:t>участников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378160" y="4010040"/>
            <a:ext cx="2790720" cy="735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428920" y="4156200"/>
            <a:ext cx="2609640" cy="5209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402000"/>
                </a:solidFill>
                <a:latin typeface="Arial"/>
              </a:rPr>
              <a:t>По продолжитель-</a:t>
            </a:r>
            <a:br>
              <a:rPr sz="1800"/>
            </a:br>
            <a:r>
              <a:rPr b="1" i="1" lang="en-US" sz="1800" spc="-1" strike="noStrike">
                <a:solidFill>
                  <a:srgbClr val="402000"/>
                </a:solidFill>
                <a:latin typeface="Arial"/>
              </a:rPr>
              <a:t>ности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2378160" y="5373720"/>
            <a:ext cx="2790720" cy="743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428920" y="5522760"/>
            <a:ext cx="2609640" cy="5209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402000"/>
                </a:solidFill>
                <a:latin typeface="Arial"/>
              </a:rPr>
              <a:t>По предметно-содер-</a:t>
            </a:r>
            <a:br>
              <a:rPr sz="1800"/>
            </a:br>
            <a:r>
              <a:rPr b="1" i="1" lang="en-US" sz="1800" spc="-1" strike="noStrike">
                <a:solidFill>
                  <a:srgbClr val="402000"/>
                </a:solidFill>
                <a:latin typeface="Arial"/>
              </a:rPr>
              <a:t>жательн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1149480" y="1049400"/>
            <a:ext cx="1239840" cy="2116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1978200" y="3038400"/>
            <a:ext cx="411120" cy="698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1978200" y="3659040"/>
            <a:ext cx="411120" cy="763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9"/>
          <a:stretch/>
        </p:blipFill>
        <p:spPr>
          <a:xfrm>
            <a:off x="1149480" y="4230720"/>
            <a:ext cx="1239840" cy="1628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0"/>
          <a:stretch/>
        </p:blipFill>
        <p:spPr>
          <a:xfrm>
            <a:off x="5048280" y="401760"/>
            <a:ext cx="3741840" cy="1969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929200" y="730080"/>
            <a:ext cx="292896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cd3333"/>
              </a:buClr>
              <a:buFont typeface="Wingdings" charset="2"/>
              <a:buChar char="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Исследователь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cd3333"/>
              </a:buClr>
              <a:buFont typeface="Wingdings" charset="2"/>
              <a:buChar char="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Ролевые, игров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cd3333"/>
              </a:buClr>
              <a:buFont typeface="Wingdings" charset="2"/>
              <a:buChar char="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Информацио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cd3333"/>
              </a:buClr>
              <a:buFont typeface="Wingdings" charset="2"/>
              <a:buChar char="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Интернет-про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cd3333"/>
              </a:buClr>
              <a:buFont typeface="Wingdings" charset="2"/>
              <a:buChar char="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Творчес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1"/>
          <a:stretch/>
        </p:blipFill>
        <p:spPr>
          <a:xfrm>
            <a:off x="5059440" y="2567160"/>
            <a:ext cx="3730680" cy="1035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00840" y="2714760"/>
            <a:ext cx="23572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cd3333"/>
              </a:buClr>
              <a:buFont typeface="Wingdings" charset="2"/>
              <a:buChar char="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Индивидуаль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cd3333"/>
              </a:buClr>
              <a:buFont typeface="Wingdings" charset="2"/>
              <a:buChar char="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Пар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cd3333"/>
              </a:buClr>
              <a:buFont typeface="Wingdings" charset="2"/>
              <a:buChar char="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Группов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2"/>
          <a:stretch/>
        </p:blipFill>
        <p:spPr>
          <a:xfrm>
            <a:off x="5059440" y="4005360"/>
            <a:ext cx="3730680" cy="931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072120" y="4214880"/>
            <a:ext cx="214308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cd3333"/>
              </a:buClr>
              <a:buFont typeface="Wingdings" charset="2"/>
              <a:buChar char="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Краткосроч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cd3333"/>
              </a:buClr>
              <a:buFont typeface="Wingdings" charset="2"/>
              <a:buChar char="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Долгосроч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3"/>
          <a:stretch/>
        </p:blipFill>
        <p:spPr>
          <a:xfrm>
            <a:off x="5065560" y="5230800"/>
            <a:ext cx="3724560" cy="13460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762520" y="5429160"/>
            <a:ext cx="39531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cd3333"/>
              </a:buClr>
              <a:buFont typeface="Wingdings" charset="2"/>
              <a:buChar char="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Моно-проект (в рам-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ках одной обла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cd3333"/>
              </a:buClr>
              <a:buFont typeface="Wingdings" charset="2"/>
              <a:buChar char="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предме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cd3333"/>
              </a:buClr>
              <a:buFont typeface="Wingdings" charset="2"/>
              <a:buChar char="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Межпредметны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прое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14200" y="1571760"/>
            <a:ext cx="8715600" cy="48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Значимость и актуальность выдвинутых проблем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корректность используемых методов исследования и методов обработки получаемых результатов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активность каждого участника проекта в соответствии с его индивидуальными возможностями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коллективный характер принимаемых решений (при групповом проекте)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характер общения и взаимопомощи, взаимодополняемости участников проекта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необходимая и достаточная глубина раскрытия проблемы; привлечение знаний из других областей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доказательность принимаемых решений, умение аргументировать свои заключения, выводы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эстетика оформления результатов проведенного проекта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умение отвечать на вопросы оппонентов, аргументированность ответов каждого члена групп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43080" y="285840"/>
            <a:ext cx="570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Параметры оценки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71640" y="950760"/>
            <a:ext cx="7924680" cy="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4200" y="1714680"/>
            <a:ext cx="8748720" cy="48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80000"/>
              </a:lnSpc>
              <a:spcBef>
                <a:spcPts val="550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льбом, фотоальбо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550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нализ опрос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550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изнес-план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550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идеоклип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550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идеофильм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550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ставк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550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азет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550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журнал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550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конопроект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550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книжка-раскладушка»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550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ллаж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1714680"/>
            <a:ext cx="4701960" cy="48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80000"/>
              </a:lnSpc>
              <a:spcBef>
                <a:spcPts val="550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ллекци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550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нцер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550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кет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550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россворд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550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амятка, инструк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550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зент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550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казка, былин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550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увенир-поделк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550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ценар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550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ебное пособие, карточ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550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нциклопедия, книг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34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34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43040" y="357120"/>
            <a:ext cx="721512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Возможные результаты проект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71640" y="1260360"/>
            <a:ext cx="7924680" cy="4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549360"/>
            <a:ext cx="82296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Arial"/>
              </a:rPr>
              <a:t>Учебный проект по географии для учащихся 10 класса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000240"/>
            <a:ext cx="8229600" cy="3324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632523"/>
                </a:solidFill>
                <a:latin typeface="Calibri"/>
              </a:rPr>
              <a:t>Городская среда жизн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удряшова</dc:creator>
  <dc:description/>
  <dc:language>en-US</dc:language>
  <cp:lastModifiedBy>Наташа</cp:lastModifiedBy>
  <dcterms:modified xsi:type="dcterms:W3CDTF">2015-11-06T15:31:55Z</dcterms:modified>
  <cp:revision>271</cp:revision>
  <dc:subject/>
  <dc:title>Слайд 1</dc:title>
</cp:coreProperties>
</file>