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FB4F-0726-4551-868B-E89A325A7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6DAA-7494-4240-A8F0-F403898C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D4D8-1C30-45DB-93CE-777C82E0C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C367-1018-4761-B814-01C7A1942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F433-68F7-4F0A-AC56-7FE52FB15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7D00-A278-4985-8BA8-9BA61F07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4B6C-3112-40DA-8CD1-AEDDEA25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0A12-F302-4B62-9063-D8129134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3C4A3-D667-4BE8-B7FB-5C0FF82D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38A9-6396-47D2-AC5E-6F379D5C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AD3CB-A83A-4D60-BC70-6561D9C6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279F-E6E2-4C7C-94F4-D05D37EC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EE76D-87EB-4C11-A15D-F8A146E3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DC9C-454A-4F7F-9F38-78F91E75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EBB7-9805-42F1-80BD-55C8D1BF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E1B64-3370-4344-935C-5292C7E4A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609EE-F6ED-46D4-AA16-B1F99F40A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585D-9AB1-49C0-B37E-EE47A245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BE30-41E2-430C-A794-DF84C91E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245F-5BDF-4390-852A-FBBA2C7C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3A03-20A7-4FCA-A50F-4717FD92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23FC-CD2B-4D3E-B90B-85470A00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1373-7744-4248-BBEB-DE38BEE7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D931-5FFF-4BD2-8BD5-0B5BE497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29AD-6791-4A47-8071-5419B7200F3F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5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1087-F236-4AE6-A41F-7C2A6B6CC544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7772400" cy="4114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8f8f8"/>
                </a:solidFill>
                <a:latin typeface="Tahoma"/>
              </a:rPr>
              <a:t>Урок развития речи, посвящённый работе над сочинением на свободную тему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8f8f8"/>
                </a:solidFill>
                <a:latin typeface="Tahoma"/>
              </a:rPr>
              <a:t>                    </a:t>
            </a: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Учитель русского языка и литературы:</a:t>
            </a:r>
            <a:br>
              <a:rPr sz="2000"/>
            </a:b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                                    МБОУ Елизаровская СОШ</a:t>
            </a:r>
            <a:br>
              <a:rPr sz="2000"/>
            </a:b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                                    Жирнова С. 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8f8f8"/>
                </a:solidFill>
                <a:latin typeface="Tahoma"/>
              </a:rPr>
              <a:t>«</a:t>
            </a:r>
            <a:r>
              <a:rPr b="0" lang="ru-RU" sz="4400" spc="-1" strike="noStrike">
                <a:solidFill>
                  <a:srgbClr val="f8f8f8"/>
                </a:solidFill>
                <a:latin typeface="Tahoma"/>
              </a:rPr>
              <a:t>Моя шпаргалка»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« И скучно, и грустно, и некому руку подать…» Но неужели некому в нашем мире руку подать?! Вот и Ф.М. Достоевский голосом Мармеладова плачет: «Некуда пойти человеку…». И В. Маяковский надрывается: « Где для меня уготовано логово?» М. Цветаева тоже об этом - об окне, «где опять не спят»; о том, что «всяк на Руси бездомный»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стскриптум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Задача написания сочинения -это задача понимания своей «главной темы», которая может сопровождать человека всю жизнь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О чём более всего болит душа?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Что кажется наиболее значимым в своём личностном развитии? Любовь? Дружба? Духовность?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Нравственность? Смысл жизни? Конфликтность? Человек? …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000"/>
                            </p:stCondLst>
                            <p:childTnLst>
                              <p:par>
                                <p:cTn id="3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000"/>
                            </p:stCondLst>
                            <p:childTnLst>
                              <p:par>
                                <p:cTn id="3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Цель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поиск возможности свободного выбора материала, точки зрения, стиля в условиях навязанной извне темы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выявление уровня собственной подготовленности к написанию сочинения и осмыслению связанных с ним проблем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обнаружение факторов, стимулирующих процесс индивидуального художественного творчества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этап работы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ад сочинением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Что говорит то или иное сочинение об его авторе?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8f8f8"/>
                </a:solidFill>
                <a:latin typeface="Tahoma"/>
              </a:rPr>
              <a:t>Сочинение является не только показателем эрудиции , грамотности и литературных знаний ученика, но и измерителем его личности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Сочинение характеризует: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8f8f8"/>
                </a:solidFill>
                <a:latin typeface="Tahoma"/>
              </a:rPr>
              <a:t>-владение логикой;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8f8f8"/>
                </a:solidFill>
                <a:latin typeface="Tahoma"/>
              </a:rPr>
              <a:t>-механическую и ассоциативную память;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8f8f8"/>
                </a:solidFill>
                <a:latin typeface="Tahoma"/>
              </a:rPr>
              <a:t>-уровень мышления;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8f8f8"/>
                </a:solidFill>
                <a:latin typeface="Tahoma"/>
              </a:rPr>
              <a:t>-способность заинтересоваться темой;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8f8f8"/>
                </a:solidFill>
                <a:latin typeface="Tahoma"/>
              </a:rPr>
              <a:t>-умение вести диалог с вымышленным адресатом;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8f8f8"/>
                </a:solidFill>
                <a:latin typeface="Tahoma"/>
              </a:rPr>
              <a:t>-стабильность нервной системы;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8f8f8"/>
                </a:solidFill>
                <a:latin typeface="Tahoma"/>
              </a:rPr>
              <a:t>-физическую выносливость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7000"/>
                            </p:stCondLst>
                            <p:childTnLst>
                              <p:par>
                                <p:cTn id="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000"/>
                            </p:stCondLst>
                            <p:childTnLst>
                              <p:par>
                                <p:cTn id="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9000"/>
                            </p:stCondLst>
                            <p:childTnLst>
                              <p:par>
                                <p:cTn id="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1000"/>
                            </p:stCondLst>
                            <p:childTnLst>
                              <p:par>
                                <p:cTn id="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этап работы над сочинением:</a:t>
            </a:r>
            <a:br>
              <a:rPr sz="32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бота в групп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Задание:        Составить круг вопросов по предложенным темам: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«Человек есть тайна» (Ф. М. Достоевский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8f8f8"/>
                </a:solidFill>
                <a:latin typeface="Tahoma"/>
              </a:rPr>
              <a:t>«Красота спасёт мир» (Ф. М. Достоевский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«Любовь к родному пепелищу, любовь к отеческим гробам» (А. С. Пушкин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8f8f8"/>
                </a:solidFill>
                <a:latin typeface="Tahoma"/>
              </a:rPr>
              <a:t>«Спокойствие-это душевная подлость»(Л.Толстой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8f8f8"/>
                </a:solidFill>
                <a:latin typeface="Tahoma"/>
              </a:rPr>
              <a:t>«Умом Россию не понять» (Ф. М. Тютчев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7000"/>
                            </p:stCondLst>
                            <p:childTnLst>
                              <p:par>
                                <p:cTn id="1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II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этап  работы над сочинением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Обсуждение и экспертиза сочинений, написанных разными группами по данной  теме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Обратим внимание на то, что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8f8f8"/>
                </a:solidFill>
                <a:latin typeface="Tahoma"/>
              </a:rPr>
              <a:t>Знание и точка зрения каждого влияют на качество коллективного знания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8f8f8"/>
                </a:solidFill>
                <a:latin typeface="Tahoma"/>
              </a:rPr>
              <a:t>Неважно, каким качеством информации обладал ученик, -важнее было то, что в ней нуждались другие и что она в определённом смысле была «единственной»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V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этап работы над сочинением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Тема сочинения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Tahoma"/>
              </a:rPr>
              <a:t>« Учуся в истине блаженство находить»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Tahoma"/>
              </a:rPr>
              <a:t>                                      </a:t>
            </a:r>
            <a:r>
              <a:rPr b="1" i="1" lang="ru-RU" sz="2800" spc="-1" strike="noStrike">
                <a:solidFill>
                  <a:srgbClr val="f8f8f8"/>
                </a:solidFill>
                <a:latin typeface="Tahoma"/>
              </a:rPr>
              <a:t>А. С. Пушкин.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8f8f8"/>
                </a:solidFill>
                <a:latin typeface="Tahoma"/>
              </a:rPr>
              <a:t>Логика изложения материала сочинения выстраивается с акцентом на ключевом слове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1" i="1" lang="ru-RU" sz="2800" spc="-1" strike="noStrike">
                <a:solidFill>
                  <a:srgbClr val="f8f8f8"/>
                </a:solidFill>
                <a:latin typeface="Tahoma"/>
              </a:rPr>
              <a:t>учуся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Tahoma"/>
              </a:rPr>
              <a:t>-истина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Tahoma"/>
              </a:rPr>
              <a:t>-блаженство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Tahoma"/>
              </a:rPr>
              <a:t>-находить(искать)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Tahoma"/>
              </a:rPr>
              <a:t>                    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7000"/>
                            </p:stCondLst>
                            <p:childTnLst>
                              <p:par>
                                <p:cTn id="2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9000"/>
                            </p:stCondLst>
                            <p:childTnLst>
                              <p:par>
                                <p:cTn id="2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V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этап работы над сочинением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Помещение в сочинение дополнительного материала: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«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Как сказал М. М. Бахтин , « наша жизнь совершается между двумя пределами :отношением к вещи и отношением к личности» У Сергея Довлатова есть повесть «Чемодан», состоящая из восьми новелл. Восемь вещей -восемь историй. Довлатов пишет о выборе, который делает уезжающий в эмиграцию человек. Ему разрешено взять с собой только три чемодана. Что может поместиться туда? Как в три чемодана вместить всю жизнь на родине?»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« Ощущение полноты жизни может открыться, наверное, только любящей душе, только человеку, способному научиться добру у другого человека. Об этом пишет Б. Пастернак: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Не потрясенья и перевороты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Для новой жизни очищают путь,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А откровенья, бури и щедроты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души воспламенённой чьей-нибудь»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«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Время великих открытий и больших изменений. Время скоростей и темпов. В наш электронно-информационный век мы многое не успеваем. Я соглашаюсь с Р. Рождественским: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      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Мир из бетона. Мир из железа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      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Аэродромный разбойничий рокот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      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Не успеваю довериться лесу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      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Птицу послушать. Ветку потрогать»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16:16:42Z</dcterms:created>
  <dc:creator>COMP</dc:creator>
  <dc:description/>
  <dc:language>en-US</dc:language>
  <cp:lastModifiedBy>User</cp:lastModifiedBy>
  <dcterms:modified xsi:type="dcterms:W3CDTF">2013-10-17T15:58:57Z</dcterms:modified>
  <cp:revision>9</cp:revision>
  <dc:subject/>
  <dc:title>Слайд 1</dc:title>
</cp:coreProperties>
</file>